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3748-A344-497A-BBD0-8004E4993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CA67-D0B4-46EA-BFCF-136BA4C9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302-EEB4-4F53-9E07-BD85E304E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74A2-804B-48D3-A3FB-9727ABAA4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302-B938-423F-87B9-55083D43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3C3-692F-45A5-93BC-19F355D6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EA45-6159-49FD-B60E-1ADC956B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030-3DE0-4C6A-A90A-41710990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C19-F977-49A4-8291-5FBB0373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0FB-D20C-4967-99C5-F2F4E211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1E7F-9C5B-466B-838D-6DE248B1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2F7-FD4E-4341-A9B7-79E89E50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1446-14D2-4359-B7C3-560B9E5E3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12280" y="76320"/>
            <a:ext cx="4522680" cy="58140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"/>
              </a:rPr>
              <a:t>POLYPHASE CIRCU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0240" y="873000"/>
            <a:ext cx="2864520" cy="4597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"/>
              </a:rPr>
              <a:t>LEARNING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02640" y="1506600"/>
            <a:ext cx="443556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dvantages of poly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14880" y="2344680"/>
            <a:ext cx="556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ree Phase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sic configurations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02920" y="3182760"/>
            <a:ext cx="3109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Y conne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14880" y="4097160"/>
            <a:ext cx="57250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tudy power delivered by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09480" y="4935600"/>
            <a:ext cx="592020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Improving power factor for three phase circ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85760" y="95400"/>
            <a:ext cx="30780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 CONNECTED 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F10.009A_W1068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733920" cy="3171960"/>
          </a:xfrm>
          <a:prstGeom prst="rect">
            <a:avLst/>
          </a:prstGeom>
          <a:ln w="0">
            <a:noFill/>
          </a:ln>
        </p:spPr>
      </p:pic>
      <p:grpSp>
        <p:nvGrpSpPr>
          <p:cNvPr id="222" name=""/>
          <p:cNvGrpSpPr/>
          <p:nvPr/>
        </p:nvGrpSpPr>
        <p:grpSpPr>
          <a:xfrm>
            <a:off x="4493880" y="135000"/>
            <a:ext cx="4056120" cy="3570120"/>
            <a:chOff x="4493880" y="135000"/>
            <a:chExt cx="4056120" cy="3570120"/>
          </a:xfrm>
        </p:grpSpPr>
        <p:sp>
          <p:nvSpPr>
            <p:cNvPr id="223" name=""/>
            <p:cNvSpPr/>
            <p:nvPr/>
          </p:nvSpPr>
          <p:spPr>
            <a:xfrm>
              <a:off x="4493880" y="135000"/>
              <a:ext cx="40561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an equivalent Y conne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F10.009B_W1068" descr=""/>
            <p:cNvPicPr/>
            <p:nvPr/>
          </p:nvPicPr>
          <p:blipFill>
            <a:blip r:embed="rId2"/>
            <a:stretch/>
          </p:blipFill>
          <p:spPr>
            <a:xfrm>
              <a:off x="4952880" y="609480"/>
              <a:ext cx="3429000" cy="30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5" name=""/>
          <p:cNvGrpSpPr/>
          <p:nvPr/>
        </p:nvGrpSpPr>
        <p:grpSpPr>
          <a:xfrm>
            <a:off x="457200" y="3733920"/>
            <a:ext cx="4076640" cy="2849040"/>
            <a:chOff x="457200" y="3733920"/>
            <a:chExt cx="4076640" cy="2849040"/>
          </a:xfrm>
        </p:grpSpPr>
        <p:grpSp>
          <p:nvGrpSpPr>
            <p:cNvPr id="226" name=""/>
            <p:cNvGrpSpPr/>
            <p:nvPr/>
          </p:nvGrpSpPr>
          <p:grpSpPr>
            <a:xfrm>
              <a:off x="457200" y="3733920"/>
              <a:ext cx="2901960" cy="2849040"/>
              <a:chOff x="457200" y="3733920"/>
              <a:chExt cx="2901960" cy="2849040"/>
            </a:xfrm>
          </p:grpSpPr>
          <p:pic>
            <p:nvPicPr>
              <p:cNvPr id="227" name="F10.007B_W1066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" y="3733920"/>
                <a:ext cx="2390760" cy="264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792000" y="6002280"/>
                <a:ext cx="256716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Relationship betwe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and lin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616120" y="4678200"/>
              <a:ext cx="1917720" cy="766080"/>
              <a:chOff x="2616120" y="4678200"/>
              <a:chExt cx="1917720" cy="766080"/>
            </a:xfrm>
          </p:grpSpPr>
          <mc:AlternateContent>
            <mc:Choice xmlns:a14="http://schemas.microsoft.com/office/drawing/2010/main" Requires="a14">
              <p:sp>
                <p:nvSpPr>
                  <p:cNvPr id="230" name=""/>
                  <p:cNvSpPr txBox="1"/>
                  <p:nvPr/>
                </p:nvSpPr>
                <p:spPr>
                  <a:xfrm>
                    <a:off x="2666880" y="4678200"/>
                    <a:ext cx="1803240" cy="367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31" name=""/>
                  <p:cNvSpPr txBox="1"/>
                  <p:nvPr/>
                </p:nvSpPr>
                <p:spPr>
                  <a:xfrm>
                    <a:off x="2616120" y="5154120"/>
                    <a:ext cx="191772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lags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by 30</m:t>
                        </m:r>
                        <m:r>
                          <m:t xml:space="preserve">°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4724280" y="3429000"/>
                <a:ext cx="19558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705720" y="3429000"/>
                <a:ext cx="1790640" cy="18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610320" y="5524560"/>
                <a:ext cx="170172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  <m:r>
                              <m:t xml:space="preserve">°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35" name=""/>
          <p:cNvGrpSpPr/>
          <p:nvPr/>
        </p:nvGrpSpPr>
        <p:grpSpPr>
          <a:xfrm>
            <a:off x="4572000" y="5202360"/>
            <a:ext cx="1981080" cy="1350360"/>
            <a:chOff x="4572000" y="5202360"/>
            <a:chExt cx="1981080" cy="1350360"/>
          </a:xfrm>
        </p:grpSpPr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4572000" y="5524560"/>
                  <a:ext cx="1981080" cy="102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8</m:t>
                              </m:r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4594680" y="5202360"/>
              <a:ext cx="10432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00640" y="76320"/>
            <a:ext cx="5644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ine voltages at the loa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F10.010A_W1069" descr=""/>
          <p:cNvPicPr/>
          <p:nvPr/>
        </p:nvPicPr>
        <p:blipFill>
          <a:blip r:embed="rId1"/>
          <a:stretch/>
        </p:blipFill>
        <p:spPr>
          <a:xfrm>
            <a:off x="0" y="685800"/>
            <a:ext cx="54482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244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45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8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F10.010B_W1069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3343320" cy="2666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038480" y="3429000"/>
                <a:ext cx="4483080" cy="63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)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81280" y="4052880"/>
                <a:ext cx="552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799080" y="4991040"/>
            <a:ext cx="4877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other phases using the bal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581280" y="5448240"/>
                <a:ext cx="2756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81280" y="441972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562720" y="4419720"/>
                <a:ext cx="2349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6388200" y="5410080"/>
                <a:ext cx="275580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57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83240" y="1522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53080" y="135000"/>
            <a:ext cx="57128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ute the magnitude of the line voltage at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E10.004_W1070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5283360" y="592200"/>
            <a:ext cx="3784320" cy="2455920"/>
            <a:chOff x="5283360" y="592200"/>
            <a:chExt cx="3784320" cy="2455920"/>
          </a:xfrm>
        </p:grpSpPr>
        <p:sp>
          <p:nvSpPr>
            <p:cNvPr id="264" name=""/>
            <p:cNvSpPr/>
            <p:nvPr/>
          </p:nvSpPr>
          <p:spPr>
            <a:xfrm>
              <a:off x="5833080" y="59220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5283360" y="1219320"/>
                  <a:ext cx="1955520" cy="102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c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2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7277040" y="1181160"/>
                  <a:ext cx="1790640" cy="1866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  <m:d>
                            <m:dPr>
                              <m:begChr m:val="{"/>
                              <m:endChr m:val=""/>
                            </m:dPr>
                            <m:e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bn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t xml:space="preserve">L</m:t>
                                      </m:r>
                                    </m:sub>
                                  </m:sSub>
                                </m:num>
                                <m:den>
                                  <m:rad>
                                    <m:radPr>
                                      <m:degHide m:val="1"/>
                                    </m:radPr>
                                    <m:deg/>
                                    <m:e>
                                      <m:r>
                                        <m:t xml:space="preserve">3</m:t>
                                      </m:r>
                                    </m:e>
                                  </m:rad>
                                </m:den>
                              </m:f>
                              <m:r>
                                <m:t xml:space="preserve">∠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50</m:t>
                              </m:r>
                              <m:r>
                                <m:t xml:space="preserve">°</m:t>
                              </m:r>
                            </m:e>
                            <m:e/>
                          </m:d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7" name=""/>
          <p:cNvSpPr/>
          <p:nvPr/>
        </p:nvSpPr>
        <p:spPr>
          <a:xfrm>
            <a:off x="5365800" y="3016080"/>
            <a:ext cx="211464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alyze one pha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962520" y="342900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9" name=""/>
          <p:cNvGrpSpPr/>
          <p:nvPr/>
        </p:nvGrpSpPr>
        <p:grpSpPr>
          <a:xfrm>
            <a:off x="76320" y="3505320"/>
            <a:ext cx="3343320" cy="2666880"/>
            <a:chOff x="76320" y="3505320"/>
            <a:chExt cx="3343320" cy="2666880"/>
          </a:xfrm>
        </p:grpSpPr>
        <p:grpSp>
          <p:nvGrpSpPr>
            <p:cNvPr id="270" name=""/>
            <p:cNvGrpSpPr/>
            <p:nvPr/>
          </p:nvGrpSpPr>
          <p:grpSpPr>
            <a:xfrm>
              <a:off x="76320" y="3505320"/>
              <a:ext cx="3343320" cy="2666880"/>
              <a:chOff x="76320" y="3505320"/>
              <a:chExt cx="3343320" cy="2666880"/>
            </a:xfrm>
          </p:grpSpPr>
          <p:pic>
            <p:nvPicPr>
              <p:cNvPr id="271" name="F10.010B_W1069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0" y="3505320"/>
                <a:ext cx="3343320" cy="26668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272" name=""/>
                  <p:cNvSpPr txBox="1"/>
                  <p:nvPr/>
                </p:nvSpPr>
                <p:spPr>
                  <a:xfrm>
                    <a:off x="2819520" y="4191120"/>
                    <a:ext cx="419400" cy="228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73" name=""/>
                <p:cNvSpPr txBox="1"/>
                <p:nvPr/>
              </p:nvSpPr>
              <p:spPr>
                <a:xfrm>
                  <a:off x="2514600" y="3505320"/>
                  <a:ext cx="6094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1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4" name=""/>
          <p:cNvSpPr/>
          <p:nvPr/>
        </p:nvSpPr>
        <p:spPr>
          <a:xfrm>
            <a:off x="3985920" y="4097160"/>
            <a:ext cx="33339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nly interested in magnitude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038480" y="44197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3733920" y="5029200"/>
                <a:ext cx="18032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943600" y="5105520"/>
                <a:ext cx="1955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73160" y="76320"/>
            <a:ext cx="27410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F10.011_W107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52360" y="3564000"/>
            <a:ext cx="26067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1: Solve direct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29880" y="4038480"/>
            <a:ext cx="4224600" cy="1706040"/>
            <a:chOff x="29880" y="4038480"/>
            <a:chExt cx="4224600" cy="1706040"/>
          </a:xfrm>
        </p:grpSpPr>
        <p:grpSp>
          <p:nvGrpSpPr>
            <p:cNvPr id="285" name=""/>
            <p:cNvGrpSpPr/>
            <p:nvPr/>
          </p:nvGrpSpPr>
          <p:grpSpPr>
            <a:xfrm>
              <a:off x="29880" y="4038480"/>
              <a:ext cx="1995840" cy="1706040"/>
              <a:chOff x="29880" y="4038480"/>
              <a:chExt cx="1995840" cy="1706040"/>
            </a:xfrm>
          </p:grpSpPr>
          <mc:AlternateContent>
            <mc:Choice xmlns:a14="http://schemas.microsoft.com/office/drawing/2010/main" Requires="a14">
              <p:sp>
                <p:nvSpPr>
                  <p:cNvPr id="286" name=""/>
                  <p:cNvSpPr txBox="1"/>
                  <p:nvPr/>
                </p:nvSpPr>
                <p:spPr>
                  <a:xfrm>
                    <a:off x="152640" y="4038480"/>
                    <a:ext cx="1752480" cy="1092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87" name=""/>
              <p:cNvSpPr/>
              <p:nvPr/>
            </p:nvSpPr>
            <p:spPr>
              <a:xfrm>
                <a:off x="29880" y="5163840"/>
                <a:ext cx="1995840" cy="5806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hase voltag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88" name=""/>
                <p:cNvSpPr txBox="1"/>
                <p:nvPr/>
              </p:nvSpPr>
              <p:spPr>
                <a:xfrm>
                  <a:off x="2133720" y="4076640"/>
                  <a:ext cx="212076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c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9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sub>
                          </m:sSub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21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572000" y="0"/>
                <a:ext cx="2666880" cy="22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4572000" y="2324160"/>
                <a:ext cx="14986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in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4647240" y="3809880"/>
            <a:ext cx="429084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thod 2: We can also convert the del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nected load into a Y connected on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same formulas derived for resistiv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ircuits are applicable to imped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4572000" y="4952880"/>
                <a:ext cx="2400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alanced case 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4572000" y="5549760"/>
                <a:ext cx="403848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|</m:t>
                              </m:r>
                              <m:sSub>
                                <m:e>
                                  <m:r>
                                    <m:t xml:space="preserve">I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A</m:t>
                                  </m:r>
                                </m:sub>
                              </m:sSub>
                              <m:r>
                                <m:t xml:space="preserve">|</m:t>
                              </m:r>
                              <m:r>
                                <m:t xml:space="preserve">=</m:t>
                              </m:r>
                              <m:f>
                                <m:num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V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B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ad>
                                        <m:radPr>
                                          <m:degHide m:val="1"/>
                                        </m:radPr>
                                        <m:deg/>
                                        <m:e>
                                          <m:r>
                                            <m:t xml:space="preserve">3</m:t>
                                          </m:r>
                                        </m:e>
                                      </m:rad>
                                    </m:den>
                                  </m:f>
                                </m:num>
                                <m:den>
                                  <m:r>
                                    <m:t xml:space="preserve">|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Δ</m:t>
                                      </m:r>
                                    </m:sub>
                                  </m:sSub>
                                  <m:f>
                                    <m:fPr>
                                      <m:type m:val="lin"/>
                                    </m:fPr>
                                    <m:num>
                                      <m:r>
                                        <m:t xml:space="preserve">|</m:t>
                                      </m:r>
                                    </m:num>
                                    <m:den>
                                      <m:r>
                                        <m:t xml:space="preserve">3</m:t>
                                      </m:r>
                                    </m:den>
                                  </m:f>
                                </m:den>
                              </m:f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t xml:space="preserve">Z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819520" y="2209680"/>
                <a:ext cx="140976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7467480" y="457200"/>
                <a:ext cx="13716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6" name=""/>
          <p:cNvGrpSpPr/>
          <p:nvPr/>
        </p:nvGrpSpPr>
        <p:grpSpPr>
          <a:xfrm>
            <a:off x="2232360" y="5410080"/>
            <a:ext cx="2093400" cy="1266480"/>
            <a:chOff x="2232360" y="541008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297" name=""/>
                <p:cNvSpPr txBox="1"/>
                <p:nvPr/>
              </p:nvSpPr>
              <p:spPr>
                <a:xfrm>
                  <a:off x="2438280" y="541008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8" name=""/>
            <p:cNvSpPr/>
            <p:nvPr/>
          </p:nvSpPr>
          <p:spPr>
            <a:xfrm>
              <a:off x="2232360" y="609588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"/>
          <p:cNvGraphicFramePr/>
          <p:nvPr/>
        </p:nvGraphicFramePr>
        <p:xfrm>
          <a:off x="990720" y="457200"/>
          <a:ext cx="6781680" cy="24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6781680" cy="24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04" name=""/>
          <p:cNvGrpSpPr/>
          <p:nvPr/>
        </p:nvGrpSpPr>
        <p:grpSpPr>
          <a:xfrm>
            <a:off x="4191120" y="228600"/>
            <a:ext cx="1052280" cy="714240"/>
            <a:chOff x="4191120" y="228600"/>
            <a:chExt cx="1052280" cy="714240"/>
          </a:xfrm>
        </p:grpSpPr>
        <mc:AlternateContent>
          <mc:Choice xmlns:a14="http://schemas.microsoft.com/office/drawing/2010/main" Requires="a14">
            <p:sp>
              <p:nvSpPr>
                <p:cNvPr id="305" name=""/>
                <p:cNvSpPr txBox="1"/>
                <p:nvPr/>
              </p:nvSpPr>
              <p:spPr>
                <a:xfrm>
                  <a:off x="4191120" y="228600"/>
                  <a:ext cx="91440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→</m:t>
                      </m:r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6" name=""/>
            <p:cNvSpPr/>
            <p:nvPr/>
          </p:nvSpPr>
          <p:spPr>
            <a:xfrm>
              <a:off x="4267080" y="4572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114800" y="1143000"/>
            <a:ext cx="976320" cy="790560"/>
            <a:chOff x="4114800" y="1143000"/>
            <a:chExt cx="976320" cy="790560"/>
          </a:xfrm>
        </p:grpSpPr>
        <p:sp>
          <p:nvSpPr>
            <p:cNvPr id="308" name=""/>
            <p:cNvSpPr/>
            <p:nvPr/>
          </p:nvSpPr>
          <p:spPr>
            <a:xfrm>
              <a:off x="4114800" y="144792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cce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9" name=""/>
                <p:cNvSpPr txBox="1"/>
                <p:nvPr/>
              </p:nvSpPr>
              <p:spPr>
                <a:xfrm rot="10800000">
                  <a:off x="4267080" y="1143000"/>
                  <a:ext cx="787680" cy="3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→</m:t>
                      </m:r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0" name=""/>
          <p:cNvGrpSpPr/>
          <p:nvPr/>
        </p:nvGrpSpPr>
        <p:grpSpPr>
          <a:xfrm>
            <a:off x="6933960" y="762120"/>
            <a:ext cx="1981440" cy="838080"/>
            <a:chOff x="6933960" y="762120"/>
            <a:chExt cx="1981440" cy="838080"/>
          </a:xfrm>
        </p:grpSpPr>
        <p:sp>
          <p:nvSpPr>
            <p:cNvPr id="311" name=""/>
            <p:cNvSpPr/>
            <p:nvPr/>
          </p:nvSpPr>
          <p:spPr>
            <a:xfrm flipH="1">
              <a:off x="6933960" y="990720"/>
              <a:ext cx="990360" cy="6094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2" name=""/>
                <p:cNvSpPr txBox="1"/>
                <p:nvPr/>
              </p:nvSpPr>
              <p:spPr>
                <a:xfrm>
                  <a:off x="7620120" y="762120"/>
                  <a:ext cx="129528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b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13" name=""/>
          <p:cNvGrpSpPr/>
          <p:nvPr/>
        </p:nvGrpSpPr>
        <p:grpSpPr>
          <a:xfrm>
            <a:off x="1987560" y="228600"/>
            <a:ext cx="1854360" cy="1143000"/>
            <a:chOff x="1987560" y="228600"/>
            <a:chExt cx="1854360" cy="1143000"/>
          </a:xfrm>
        </p:grpSpPr>
        <p:sp>
          <p:nvSpPr>
            <p:cNvPr id="314" name=""/>
            <p:cNvSpPr/>
            <p:nvPr/>
          </p:nvSpPr>
          <p:spPr>
            <a:xfrm flipH="1">
              <a:off x="3276360" y="533520"/>
              <a:ext cx="152280" cy="8380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5" name=""/>
                <p:cNvSpPr txBox="1"/>
                <p:nvPr/>
              </p:nvSpPr>
              <p:spPr>
                <a:xfrm>
                  <a:off x="1987560" y="228600"/>
                  <a:ext cx="18543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|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76320" y="31240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82440" y="3962520"/>
                <a:ext cx="242424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76320" y="4952880"/>
                <a:ext cx="24382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95400" y="5791320"/>
            <a:ext cx="3960360" cy="580680"/>
          </a:xfrm>
          <a:prstGeom prst="rect">
            <a:avLst/>
          </a:prstGeom>
          <a:solidFill>
            <a:srgbClr val="ccffcc"/>
          </a:solidFill>
          <a:ln w="255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SUBTRACT THE FIRST TWO THEN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Console"/>
              </a:rPr>
              <a:t>TO THE THIRD TO GET 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343400" y="2819520"/>
            <a:ext cx="4712040" cy="965880"/>
            <a:chOff x="4343400" y="2819520"/>
            <a:chExt cx="4712040" cy="965880"/>
          </a:xfrm>
        </p:grpSpPr>
        <mc:AlternateContent>
          <mc:Choice xmlns:a14="http://schemas.microsoft.com/office/drawing/2010/main" Requires="a14">
            <p:sp>
              <p:nvSpPr>
                <p:cNvPr id="321" name=""/>
                <p:cNvSpPr txBox="1"/>
                <p:nvPr/>
              </p:nvSpPr>
              <p:spPr>
                <a:xfrm>
                  <a:off x="4343400" y="2819520"/>
                  <a:ext cx="20955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2" name=""/>
                <p:cNvSpPr txBox="1"/>
                <p:nvPr/>
              </p:nvSpPr>
              <p:spPr>
                <a:xfrm>
                  <a:off x="6705720" y="2819520"/>
                  <a:ext cx="21081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⇒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3" name=""/>
            <p:cNvSpPr/>
            <p:nvPr/>
          </p:nvSpPr>
          <p:spPr>
            <a:xfrm>
              <a:off x="4363560" y="3448080"/>
              <a:ext cx="4691880" cy="337320"/>
            </a:xfrm>
            <a:prstGeom prst="rect">
              <a:avLst/>
            </a:prstGeom>
            <a:solidFill>
              <a:srgbClr val="ccffcc"/>
            </a:solidFill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REPLACE IN THE THIRD AND SOLVE FOR R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590920" y="2895480"/>
            <a:ext cx="5194080" cy="3289320"/>
            <a:chOff x="2590920" y="2895480"/>
            <a:chExt cx="5194080" cy="3289320"/>
          </a:xfrm>
        </p:grpSpPr>
        <mc:AlternateContent>
          <mc:Choice xmlns:a14="http://schemas.microsoft.com/office/drawing/2010/main" Requires="a14">
            <p:sp>
              <p:nvSpPr>
                <p:cNvPr id="325" name=""/>
                <p:cNvSpPr txBox="1"/>
                <p:nvPr/>
              </p:nvSpPr>
              <p:spPr>
                <a:xfrm>
                  <a:off x="2590920" y="2895480"/>
                  <a:ext cx="1689120" cy="2298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b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  <m:r>
                            <m:t xml:space="preserve">→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6" name=""/>
                <p:cNvSpPr txBox="1"/>
                <p:nvPr/>
              </p:nvSpPr>
              <p:spPr>
                <a:xfrm>
                  <a:off x="5334120" y="3886200"/>
                  <a:ext cx="2450880" cy="229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=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c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a</m:t>
                                  </m:r>
                                </m:sub>
                              </m:sSub>
                            </m:den>
                          </m:f>
                        </m:e>
                        <m:e>
                          <m:r>
                            <m:t xml:space="preserve"> </m:t>
                          </m:r>
                          <m:r>
                            <m:t xml:space="preserve">Y</m:t>
                          </m:r>
                          <m:r>
                            <m:t xml:space="preserve"> </m:t>
                          </m:r>
                          <m:r>
                            <m:t xml:space="preserve">−</m:t>
                          </m:r>
                          <m:r>
                            <m:t xml:space="preserve"> </m:t>
                          </m:r>
                          <m:r>
                            <m:t xml:space="preserve">Δ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327" name="geaux" descr=""/>
          <p:cNvPicPr/>
          <p:nvPr/>
        </p:nvPicPr>
        <p:blipFill>
          <a:blip r:embed="rId3"/>
          <a:stretch/>
        </p:blipFill>
        <p:spPr>
          <a:xfrm>
            <a:off x="84088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4660920" y="662004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3794"/>
                </a:moveTo>
                <a:lnTo>
                  <a:pt x="24242" y="10800"/>
                </a:lnTo>
                <a:lnTo>
                  <a:pt x="1022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previousslide"/>
          </p:cNvPr>
          <p:cNvSpPr/>
          <p:nvPr/>
        </p:nvSpPr>
        <p:spPr>
          <a:xfrm>
            <a:off x="4127400" y="662472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10800"/>
                </a:moveTo>
                <a:lnTo>
                  <a:pt x="24259" y="3794"/>
                </a:lnTo>
                <a:lnTo>
                  <a:pt x="24259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52280" y="228600"/>
                <a:ext cx="170208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VIEW OF </m:t>
                        </m:r>
                      </m:e>
                      <m:e>
                        <m:r>
                          <m:t xml:space="preserve">Δ</m:t>
                        </m:r>
                        <m:r>
                          <m:t xml:space="preserve">↔</m:t>
                        </m:r>
                        <m:r>
                          <m:t xml:space="preserve">Y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nsformation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5257800" y="6248520"/>
                <a:ext cx="284472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F10.012A_W1072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4343400" cy="326700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0" y="3486240"/>
            <a:ext cx="5715000" cy="3143160"/>
            <a:chOff x="0" y="3486240"/>
            <a:chExt cx="5715000" cy="3143160"/>
          </a:xfrm>
        </p:grpSpPr>
        <p:pic>
          <p:nvPicPr>
            <p:cNvPr id="334" name="F10.012B_W1072" descr=""/>
            <p:cNvPicPr/>
            <p:nvPr/>
          </p:nvPicPr>
          <p:blipFill>
            <a:blip r:embed="rId2"/>
            <a:stretch/>
          </p:blipFill>
          <p:spPr>
            <a:xfrm>
              <a:off x="0" y="3486240"/>
              <a:ext cx="5715000" cy="3143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736800" y="4711320"/>
                  <a:ext cx="136440" cy="21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6" name=""/>
          <p:cNvGrpSpPr/>
          <p:nvPr/>
        </p:nvGrpSpPr>
        <p:grpSpPr>
          <a:xfrm>
            <a:off x="4589640" y="3276720"/>
            <a:ext cx="2093400" cy="1266480"/>
            <a:chOff x="4589640" y="32767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37" name=""/>
                <p:cNvSpPr txBox="1"/>
                <p:nvPr/>
              </p:nvSpPr>
              <p:spPr>
                <a:xfrm>
                  <a:off x="4795560" y="32767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38" name=""/>
            <p:cNvSpPr/>
            <p:nvPr/>
          </p:nvSpPr>
          <p:spPr>
            <a:xfrm>
              <a:off x="4589640" y="39625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4876920" y="152280"/>
            <a:ext cx="3657600" cy="2648160"/>
            <a:chOff x="4876920" y="152280"/>
            <a:chExt cx="3657600" cy="2648160"/>
          </a:xfrm>
        </p:grpSpPr>
        <p:pic>
          <p:nvPicPr>
            <p:cNvPr id="340" name="F10.007B_W1066" descr=""/>
            <p:cNvPicPr/>
            <p:nvPr/>
          </p:nvPicPr>
          <p:blipFill>
            <a:blip r:embed="rId3"/>
            <a:stretch/>
          </p:blipFill>
          <p:spPr>
            <a:xfrm>
              <a:off x="4876920" y="152280"/>
              <a:ext cx="2390760" cy="264816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41" name=""/>
                <p:cNvSpPr txBox="1"/>
                <p:nvPr/>
              </p:nvSpPr>
              <p:spPr>
                <a:xfrm>
                  <a:off x="6553080" y="1295280"/>
                  <a:ext cx="1981440" cy="145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Line-phase voltage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relationship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2" name=""/>
          <p:cNvGrpSpPr/>
          <p:nvPr/>
        </p:nvGrpSpPr>
        <p:grpSpPr>
          <a:xfrm>
            <a:off x="6034680" y="4630680"/>
            <a:ext cx="2449800" cy="1019160"/>
            <a:chOff x="6034680" y="4630680"/>
            <a:chExt cx="2449800" cy="1019160"/>
          </a:xfrm>
        </p:grpSpPr>
        <p:sp>
          <p:nvSpPr>
            <p:cNvPr id="343" name=""/>
            <p:cNvSpPr/>
            <p:nvPr/>
          </p:nvSpPr>
          <p:spPr>
            <a:xfrm>
              <a:off x="6034680" y="4630680"/>
              <a:ext cx="244980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TEN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4" name=""/>
                <p:cNvSpPr txBox="1"/>
                <p:nvPr/>
              </p:nvSpPr>
              <p:spPr>
                <a:xfrm>
                  <a:off x="6095880" y="5029200"/>
                  <a:ext cx="23749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A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°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ind the phase currents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6172200" y="5638680"/>
                <a:ext cx="1701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9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46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F10.011_W1071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292752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048120" y="1905120"/>
                <a:ext cx="3149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594160" y="58680"/>
            <a:ext cx="636984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lta-connected load consists of 10-Ohm resistance in se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th 20-mH inductance. Source is Y-connected, abc sequen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120-V rms, 60Hz. Determine all line and phase curr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3276720" y="914400"/>
                <a:ext cx="20826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3429000" y="1295280"/>
                <a:ext cx="33400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ductan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0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3651120" y="2362320"/>
                <a:ext cx="45342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6" name=""/>
          <p:cNvGrpSpPr/>
          <p:nvPr/>
        </p:nvGrpSpPr>
        <p:grpSpPr>
          <a:xfrm>
            <a:off x="17640" y="5029200"/>
            <a:ext cx="2093400" cy="1266480"/>
            <a:chOff x="17640" y="50292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57" name=""/>
                <p:cNvSpPr txBox="1"/>
                <p:nvPr/>
              </p:nvSpPr>
              <p:spPr>
                <a:xfrm>
                  <a:off x="223560" y="50292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58" name=""/>
            <p:cNvSpPr/>
            <p:nvPr/>
          </p:nvSpPr>
          <p:spPr>
            <a:xfrm>
              <a:off x="17640" y="57150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152280" y="3429000"/>
                <a:ext cx="198144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3352680" y="3886200"/>
                <a:ext cx="26542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3638520" y="3048120"/>
                <a:ext cx="2793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4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3397320" y="4343400"/>
                <a:ext cx="2870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63" name=""/>
          <p:cNvGrpSpPr/>
          <p:nvPr/>
        </p:nvGrpSpPr>
        <p:grpSpPr>
          <a:xfrm>
            <a:off x="4089960" y="1905120"/>
            <a:ext cx="4892760" cy="3781080"/>
            <a:chOff x="4089960" y="1905120"/>
            <a:chExt cx="4892760" cy="3781080"/>
          </a:xfrm>
        </p:grpSpPr>
        <mc:AlternateContent>
          <mc:Choice xmlns:a14="http://schemas.microsoft.com/office/drawing/2010/main" Requires="a14">
            <p:sp>
              <p:nvSpPr>
                <p:cNvPr id="364" name=""/>
                <p:cNvSpPr txBox="1"/>
                <p:nvPr/>
              </p:nvSpPr>
              <p:spPr>
                <a:xfrm>
                  <a:off x="6324480" y="1905120"/>
                  <a:ext cx="20066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5" name=""/>
            <p:cNvSpPr/>
            <p:nvPr/>
          </p:nvSpPr>
          <p:spPr>
            <a:xfrm>
              <a:off x="4089960" y="5105520"/>
              <a:ext cx="48927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lternatively, determine first the line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d then the delta curre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6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F10.012A_W1072" descr=""/>
          <p:cNvPicPr/>
          <p:nvPr/>
        </p:nvPicPr>
        <p:blipFill>
          <a:blip r:embed="rId1"/>
          <a:stretch/>
        </p:blipFill>
        <p:spPr>
          <a:xfrm>
            <a:off x="0" y="457200"/>
            <a:ext cx="4343400" cy="3267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011400" y="76320"/>
            <a:ext cx="318600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POWER RELATIONSH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0" y="3809880"/>
            <a:ext cx="4572000" cy="2762280"/>
            <a:chOff x="0" y="3809880"/>
            <a:chExt cx="4572000" cy="2762280"/>
          </a:xfrm>
        </p:grpSpPr>
        <p:pic>
          <p:nvPicPr>
            <p:cNvPr id="372" name="F10.012B_W1072" descr=""/>
            <p:cNvPicPr/>
            <p:nvPr/>
          </p:nvPicPr>
          <p:blipFill>
            <a:blip r:embed="rId2"/>
            <a:stretch/>
          </p:blipFill>
          <p:spPr>
            <a:xfrm>
              <a:off x="0" y="3809880"/>
              <a:ext cx="4572000" cy="27622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373" name=""/>
                <p:cNvSpPr txBox="1"/>
                <p:nvPr/>
              </p:nvSpPr>
              <p:spPr>
                <a:xfrm>
                  <a:off x="2989440" y="4886640"/>
                  <a:ext cx="109080" cy="18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θ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3809880" y="609480"/>
                <a:ext cx="198144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75" name=""/>
          <p:cNvGrpSpPr/>
          <p:nvPr/>
        </p:nvGrpSpPr>
        <p:grpSpPr>
          <a:xfrm>
            <a:off x="3751560" y="3429000"/>
            <a:ext cx="2093400" cy="1266480"/>
            <a:chOff x="3751560" y="342900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3957480" y="342900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"/>
            <p:cNvSpPr/>
            <p:nvPr/>
          </p:nvSpPr>
          <p:spPr>
            <a:xfrm>
              <a:off x="3751560" y="411480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3962520" y="21337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4038480" y="281952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4114800" y="4724280"/>
                <a:ext cx="162576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4114800" y="5526000"/>
                <a:ext cx="17654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382" name=""/>
          <p:cNvGrpSpPr/>
          <p:nvPr/>
        </p:nvGrpSpPr>
        <p:grpSpPr>
          <a:xfrm>
            <a:off x="5791320" y="1980720"/>
            <a:ext cx="3108600" cy="1586520"/>
            <a:chOff x="5791320" y="1980720"/>
            <a:chExt cx="3108600" cy="1586520"/>
          </a:xfrm>
        </p:grpSpPr>
        <p:grpSp>
          <p:nvGrpSpPr>
            <p:cNvPr id="383" name=""/>
            <p:cNvGrpSpPr/>
            <p:nvPr/>
          </p:nvGrpSpPr>
          <p:grpSpPr>
            <a:xfrm>
              <a:off x="5791320" y="1980720"/>
              <a:ext cx="3108600" cy="1586520"/>
              <a:chOff x="5791320" y="1980720"/>
              <a:chExt cx="3108600" cy="1586520"/>
            </a:xfrm>
          </p:grpSpPr>
          <p:sp>
            <p:nvSpPr>
              <p:cNvPr id="384" name=""/>
              <p:cNvSpPr/>
              <p:nvPr/>
            </p:nvSpPr>
            <p:spPr>
              <a:xfrm flipV="1">
                <a:off x="5791320" y="1980720"/>
                <a:ext cx="2438280" cy="129564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5791320" y="3200400"/>
                <a:ext cx="1905120" cy="76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86" name=""/>
                  <p:cNvSpPr txBox="1"/>
                  <p:nvPr/>
                </p:nvSpPr>
                <p:spPr>
                  <a:xfrm>
                    <a:off x="8305920" y="1981080"/>
                    <a:ext cx="419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87" name=""/>
                  <p:cNvSpPr txBox="1"/>
                  <p:nvPr/>
                </p:nvSpPr>
                <p:spPr>
                  <a:xfrm>
                    <a:off x="7239240" y="3276720"/>
                    <a:ext cx="4046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88" name=""/>
              <p:cNvSpPr/>
              <p:nvPr/>
            </p:nvSpPr>
            <p:spPr>
              <a:xfrm>
                <a:off x="6553440" y="2895480"/>
                <a:ext cx="164880" cy="38124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800400" y="272556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6324120" y="2946240"/>
                  <a:ext cx="317160" cy="33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6248520" y="40384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92" name=""/>
          <p:cNvGrpSpPr/>
          <p:nvPr/>
        </p:nvGrpSpPr>
        <p:grpSpPr>
          <a:xfrm>
            <a:off x="6222960" y="820800"/>
            <a:ext cx="2545560" cy="2297160"/>
            <a:chOff x="6222960" y="820800"/>
            <a:chExt cx="2545560" cy="2297160"/>
          </a:xfrm>
        </p:grpSpPr>
        <p:sp>
          <p:nvSpPr>
            <p:cNvPr id="393" name=""/>
            <p:cNvSpPr/>
            <p:nvPr/>
          </p:nvSpPr>
          <p:spPr>
            <a:xfrm>
              <a:off x="6222960" y="1125360"/>
              <a:ext cx="2065320" cy="199260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716160" y="820800"/>
              <a:ext cx="205236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- 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95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07640" y="5868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28600" y="6811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11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581280" y="763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0</m:t>
                        </m:r>
                        <m:r>
                          <m:t xml:space="preserve">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ower factor angle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2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 lagg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4621680" y="1278000"/>
            <a:ext cx="43959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nd the value of load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r phase in the de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52280" y="3048120"/>
                <a:ext cx="265428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228600" y="4114800"/>
                <a:ext cx="2425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666880" y="4267080"/>
                <a:ext cx="20703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6" name=""/>
          <p:cNvGrpSpPr/>
          <p:nvPr/>
        </p:nvGrpSpPr>
        <p:grpSpPr>
          <a:xfrm>
            <a:off x="169920" y="4876920"/>
            <a:ext cx="2093400" cy="1266480"/>
            <a:chOff x="169920" y="4876920"/>
            <a:chExt cx="2093400" cy="1266480"/>
          </a:xfrm>
        </p:grpSpPr>
        <mc:AlternateContent>
          <mc:Choice xmlns:a14="http://schemas.microsoft.com/office/drawing/2010/main" Requires="a14">
            <p:sp>
              <p:nvSpPr>
                <p:cNvPr id="407" name=""/>
                <p:cNvSpPr txBox="1"/>
                <p:nvPr/>
              </p:nvSpPr>
              <p:spPr>
                <a:xfrm>
                  <a:off x="375840" y="4876920"/>
                  <a:ext cx="14479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|</m:t>
                          </m:r>
                        </m:e>
                        <m:e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Δ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408" name=""/>
            <p:cNvSpPr/>
            <p:nvPr/>
          </p:nvSpPr>
          <p:spPr>
            <a:xfrm>
              <a:off x="169920" y="5562720"/>
              <a:ext cx="20934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-phas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362320" y="5486400"/>
                <a:ext cx="19303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419720" y="5257800"/>
                <a:ext cx="2450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11" name=""/>
          <p:cNvGrpSpPr/>
          <p:nvPr/>
        </p:nvGrpSpPr>
        <p:grpSpPr>
          <a:xfrm>
            <a:off x="4343400" y="609480"/>
            <a:ext cx="2817720" cy="4713480"/>
            <a:chOff x="4343400" y="609480"/>
            <a:chExt cx="2817720" cy="4713480"/>
          </a:xfrm>
        </p:grpSpPr>
        <p:sp>
          <p:nvSpPr>
            <p:cNvPr id="412" name=""/>
            <p:cNvSpPr/>
            <p:nvPr/>
          </p:nvSpPr>
          <p:spPr>
            <a:xfrm>
              <a:off x="4343400" y="609480"/>
              <a:ext cx="2817720" cy="4713480"/>
            </a:xfrm>
            <a:custGeom>
              <a:avLst/>
              <a:gdLst/>
              <a:ahLst/>
              <a:rect l="l" t="t" r="r" b="b"/>
              <a:pathLst>
                <a:path w="1775" h="2969">
                  <a:moveTo>
                    <a:pt x="743" y="0"/>
                  </a:moveTo>
                  <a:cubicBezTo>
                    <a:pt x="1069" y="6"/>
                    <a:pt x="1381" y="14"/>
                    <a:pt x="1702" y="55"/>
                  </a:cubicBezTo>
                  <a:cubicBezTo>
                    <a:pt x="1715" y="156"/>
                    <a:pt x="1775" y="285"/>
                    <a:pt x="1631" y="327"/>
                  </a:cubicBezTo>
                  <a:cubicBezTo>
                    <a:pt x="1566" y="346"/>
                    <a:pt x="1496" y="332"/>
                    <a:pt x="1429" y="335"/>
                  </a:cubicBezTo>
                  <a:cubicBezTo>
                    <a:pt x="988" y="391"/>
                    <a:pt x="526" y="389"/>
                    <a:pt x="88" y="413"/>
                  </a:cubicBezTo>
                  <a:cubicBezTo>
                    <a:pt x="0" y="531"/>
                    <a:pt x="21" y="495"/>
                    <a:pt x="3" y="631"/>
                  </a:cubicBezTo>
                  <a:cubicBezTo>
                    <a:pt x="12" y="743"/>
                    <a:pt x="19" y="858"/>
                    <a:pt x="88" y="951"/>
                  </a:cubicBezTo>
                  <a:cubicBezTo>
                    <a:pt x="104" y="1048"/>
                    <a:pt x="78" y="948"/>
                    <a:pt x="143" y="1044"/>
                  </a:cubicBezTo>
                  <a:cubicBezTo>
                    <a:pt x="166" y="1078"/>
                    <a:pt x="169" y="1148"/>
                    <a:pt x="174" y="1185"/>
                  </a:cubicBezTo>
                  <a:cubicBezTo>
                    <a:pt x="177" y="1258"/>
                    <a:pt x="134" y="1401"/>
                    <a:pt x="229" y="1426"/>
                  </a:cubicBezTo>
                  <a:cubicBezTo>
                    <a:pt x="264" y="1473"/>
                    <a:pt x="284" y="1530"/>
                    <a:pt x="314" y="1582"/>
                  </a:cubicBezTo>
                  <a:cubicBezTo>
                    <a:pt x="351" y="1872"/>
                    <a:pt x="352" y="2165"/>
                    <a:pt x="392" y="2455"/>
                  </a:cubicBezTo>
                  <a:cubicBezTo>
                    <a:pt x="400" y="2651"/>
                    <a:pt x="408" y="2760"/>
                    <a:pt x="408" y="2969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3" name=""/>
                <p:cNvSpPr txBox="1"/>
                <p:nvPr/>
              </p:nvSpPr>
              <p:spPr>
                <a:xfrm>
                  <a:off x="5010120" y="3292560"/>
                  <a:ext cx="165096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Z</m:t>
                          </m:r>
                        </m:e>
                        <m:sub>
                          <m:r>
                            <m:t xml:space="preserve">Δ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6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14" name=""/>
          <p:cNvGrpSpPr/>
          <p:nvPr/>
        </p:nvGrpSpPr>
        <p:grpSpPr>
          <a:xfrm>
            <a:off x="5715000" y="2438280"/>
            <a:ext cx="3155040" cy="2957760"/>
            <a:chOff x="5715000" y="2438280"/>
            <a:chExt cx="3155040" cy="2957760"/>
          </a:xfrm>
        </p:grpSpPr>
        <p:grpSp>
          <p:nvGrpSpPr>
            <p:cNvPr id="415" name=""/>
            <p:cNvGrpSpPr/>
            <p:nvPr/>
          </p:nvGrpSpPr>
          <p:grpSpPr>
            <a:xfrm>
              <a:off x="5715000" y="3809520"/>
              <a:ext cx="3108600" cy="1586520"/>
              <a:chOff x="5715000" y="3809520"/>
              <a:chExt cx="3108600" cy="158652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5715000" y="3809520"/>
                <a:ext cx="3108600" cy="1586520"/>
                <a:chOff x="5715000" y="3809520"/>
                <a:chExt cx="3108600" cy="1586520"/>
              </a:xfrm>
            </p:grpSpPr>
            <p:sp>
              <p:nvSpPr>
                <p:cNvPr id="417" name=""/>
                <p:cNvSpPr/>
                <p:nvPr/>
              </p:nvSpPr>
              <p:spPr>
                <a:xfrm flipV="1">
                  <a:off x="5715000" y="3809520"/>
                  <a:ext cx="2438280" cy="1295640"/>
                </a:xfrm>
                <a:prstGeom prst="line">
                  <a:avLst/>
                </a:prstGeom>
                <a:ln w="25560">
                  <a:solidFill>
                    <a:srgbClr val="3333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5715000" y="5029200"/>
                  <a:ext cx="1905120" cy="76320"/>
                </a:xfrm>
                <a:prstGeom prst="line">
                  <a:avLst/>
                </a:prstGeom>
                <a:ln w="25560">
                  <a:solidFill>
                    <a:srgbClr val="ff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19" name=""/>
                    <p:cNvSpPr txBox="1"/>
                    <p:nvPr/>
                  </p:nvSpPr>
                  <p:spPr>
                    <a:xfrm>
                      <a:off x="8229600" y="3809880"/>
                      <a:ext cx="4190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420" name=""/>
                    <p:cNvSpPr txBox="1"/>
                    <p:nvPr/>
                  </p:nvSpPr>
                  <p:spPr>
                    <a:xfrm>
                      <a:off x="7162920" y="5105520"/>
                      <a:ext cx="404640" cy="290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21" name=""/>
                <p:cNvSpPr/>
                <p:nvPr/>
              </p:nvSpPr>
              <p:spPr>
                <a:xfrm>
                  <a:off x="6477120" y="4724280"/>
                  <a:ext cx="164880" cy="381240"/>
                </a:xfrm>
                <a:custGeom>
                  <a:avLst/>
                  <a:gdLst/>
                  <a:ahLst/>
                  <a:rect l="l" t="t" r="r" b="b"/>
                  <a:pathLst>
                    <a:path w="104" h="240">
                      <a:moveTo>
                        <a:pt x="0" y="0"/>
                      </a:moveTo>
                      <a:cubicBezTo>
                        <a:pt x="44" y="4"/>
                        <a:pt x="88" y="8"/>
                        <a:pt x="96" y="48"/>
                      </a:cubicBezTo>
                      <a:cubicBezTo>
                        <a:pt x="104" y="88"/>
                        <a:pt x="76" y="164"/>
                        <a:pt x="48" y="240"/>
                      </a:cubicBezTo>
                    </a:path>
                  </a:pathLst>
                </a:custGeom>
                <a:noFill/>
                <a:ln w="25560">
                  <a:solidFill>
                    <a:srgbClr val="3399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724080" y="4554360"/>
                  <a:ext cx="2099520" cy="337320"/>
                </a:xfrm>
                <a:prstGeom prst="rect">
                  <a:avLst/>
                </a:prstGeom>
                <a:noFill/>
                <a:ln w="25560">
                  <a:solidFill>
                    <a:srgbClr val="3399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Power factor angl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423" name=""/>
                  <p:cNvSpPr txBox="1"/>
                  <p:nvPr/>
                </p:nvSpPr>
                <p:spPr>
                  <a:xfrm>
                    <a:off x="6247800" y="4775040"/>
                    <a:ext cx="317160" cy="330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424" name=""/>
            <p:cNvGrpSpPr/>
            <p:nvPr/>
          </p:nvGrpSpPr>
          <p:grpSpPr>
            <a:xfrm>
              <a:off x="6324480" y="2438280"/>
              <a:ext cx="2545560" cy="2297160"/>
              <a:chOff x="6324480" y="2438280"/>
              <a:chExt cx="2545560" cy="2297160"/>
            </a:xfrm>
          </p:grpSpPr>
          <p:sp>
            <p:nvSpPr>
              <p:cNvPr id="425" name=""/>
              <p:cNvSpPr/>
              <p:nvPr/>
            </p:nvSpPr>
            <p:spPr>
              <a:xfrm>
                <a:off x="6324480" y="2742840"/>
                <a:ext cx="2065320" cy="1992600"/>
              </a:xfrm>
              <a:custGeom>
                <a:avLst/>
                <a:gdLst/>
                <a:ahLst/>
                <a:rect l="l" t="t" r="r" b="b"/>
                <a:pathLst>
                  <a:path w="1301" h="1255">
                    <a:moveTo>
                      <a:pt x="0" y="1255"/>
                    </a:moveTo>
                    <a:cubicBezTo>
                      <a:pt x="105" y="1013"/>
                      <a:pt x="34" y="1171"/>
                      <a:pt x="226" y="787"/>
                    </a:cubicBezTo>
                    <a:cubicBezTo>
                      <a:pt x="293" y="654"/>
                      <a:pt x="331" y="514"/>
                      <a:pt x="397" y="382"/>
                    </a:cubicBezTo>
                    <a:cubicBezTo>
                      <a:pt x="409" y="290"/>
                      <a:pt x="424" y="199"/>
                      <a:pt x="444" y="109"/>
                    </a:cubicBezTo>
                    <a:cubicBezTo>
                      <a:pt x="447" y="94"/>
                      <a:pt x="443" y="76"/>
                      <a:pt x="452" y="63"/>
                    </a:cubicBezTo>
                    <a:cubicBezTo>
                      <a:pt x="458" y="54"/>
                      <a:pt x="472" y="56"/>
                      <a:pt x="483" y="55"/>
                    </a:cubicBezTo>
                    <a:cubicBezTo>
                      <a:pt x="558" y="44"/>
                      <a:pt x="640" y="33"/>
                      <a:pt x="717" y="24"/>
                    </a:cubicBezTo>
                    <a:cubicBezTo>
                      <a:pt x="925" y="0"/>
                      <a:pt x="1025" y="16"/>
                      <a:pt x="1301" y="16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817680" y="2438280"/>
                <a:ext cx="2052360" cy="337320"/>
              </a:xfrm>
              <a:prstGeom prst="rect">
                <a:avLst/>
              </a:prstGeom>
              <a:noFill/>
              <a:ln w="255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- Impedance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762120" y="1219320"/>
                <a:ext cx="430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28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34" name=""/>
          <p:cNvGrpSpPr/>
          <p:nvPr/>
        </p:nvGrpSpPr>
        <p:grpSpPr>
          <a:xfrm>
            <a:off x="152280" y="1492200"/>
            <a:ext cx="4628880" cy="4161600"/>
            <a:chOff x="152280" y="1492200"/>
            <a:chExt cx="4628880" cy="4161600"/>
          </a:xfrm>
        </p:grpSpPr>
        <p:sp>
          <p:nvSpPr>
            <p:cNvPr id="435" name=""/>
            <p:cNvSpPr/>
            <p:nvPr/>
          </p:nvSpPr>
          <p:spPr>
            <a:xfrm>
              <a:off x="1878480" y="4495680"/>
              <a:ext cx="29026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ecause circuit is balanc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ata on any one phase 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uffici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152280" y="1492200"/>
              <a:ext cx="3657600" cy="2774880"/>
              <a:chOff x="152280" y="1492200"/>
              <a:chExt cx="3657600" cy="2774880"/>
            </a:xfrm>
          </p:grpSpPr>
          <p:pic>
            <p:nvPicPr>
              <p:cNvPr id="437" name="F10.008_W1067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1492200"/>
                <a:ext cx="3429000" cy="2774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8" name=""/>
              <p:cNvGrpSpPr/>
              <p:nvPr/>
            </p:nvGrpSpPr>
            <p:grpSpPr>
              <a:xfrm>
                <a:off x="152280" y="3244680"/>
                <a:ext cx="2365920" cy="656640"/>
                <a:chOff x="152280" y="3244680"/>
                <a:chExt cx="2365920" cy="65664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439" name=""/>
                    <p:cNvSpPr txBox="1"/>
                    <p:nvPr/>
                  </p:nvSpPr>
                  <p:spPr>
                    <a:xfrm>
                      <a:off x="152280" y="3244680"/>
                      <a:ext cx="73656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440" name=""/>
                <p:cNvSpPr/>
                <p:nvPr/>
              </p:nvSpPr>
              <p:spPr>
                <a:xfrm>
                  <a:off x="1083240" y="3320640"/>
                  <a:ext cx="1434960" cy="58068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Chose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"/>
                    </a:rPr>
                    <a:t>as referen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250560" y="4267080"/>
              <a:ext cx="1676160" cy="1386720"/>
              <a:chOff x="250560" y="4267080"/>
              <a:chExt cx="1676160" cy="1386720"/>
            </a:xfrm>
          </p:grpSpPr>
          <mc:AlternateContent>
            <mc:Choice xmlns:a14="http://schemas.microsoft.com/office/drawing/2010/main" Requires="a14">
              <p:sp>
                <p:nvSpPr>
                  <p:cNvPr id="442" name=""/>
                  <p:cNvSpPr txBox="1"/>
                  <p:nvPr/>
                </p:nvSpPr>
                <p:spPr>
                  <a:xfrm>
                    <a:off x="250560" y="4267080"/>
                    <a:ext cx="1676160" cy="1001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°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43" name=""/>
              <p:cNvSpPr/>
              <p:nvPr/>
            </p:nvSpPr>
            <p:spPr>
              <a:xfrm>
                <a:off x="257400" y="5316480"/>
                <a:ext cx="1564560" cy="3373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bc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228600" y="57150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244440" y="896760"/>
            <a:ext cx="87166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 and reactive power per phase at the load and total real, reactive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mplex power at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229280" y="15238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4229280" y="19051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4267080" y="2209680"/>
                <a:ext cx="4546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4267080" y="2666880"/>
                <a:ext cx="4559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7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rPr>
                        <m:lit/>
                        <m:nor/>
                      </m:rPr>
                      <m:t xml:space="preserve">°=</m:t>
                    </m:r>
                    <m:r>
                      <m:rPr>
                        <m:lit/>
                        <m:nor/>
                      </m:rPr>
                      <m:t xml:space="preserve">512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50" name=""/>
          <p:cNvGrpSpPr/>
          <p:nvPr/>
        </p:nvGrpSpPr>
        <p:grpSpPr>
          <a:xfrm>
            <a:off x="6222960" y="2295360"/>
            <a:ext cx="2646360" cy="1289160"/>
            <a:chOff x="6222960" y="2295360"/>
            <a:chExt cx="2646360" cy="1289160"/>
          </a:xfrm>
        </p:grpSpPr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 rot="10800000">
                  <a:off x="6343560" y="2971800"/>
                  <a:ext cx="97164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2" name=""/>
                <p:cNvSpPr txBox="1"/>
                <p:nvPr/>
              </p:nvSpPr>
              <p:spPr>
                <a:xfrm rot="10800000">
                  <a:off x="7605720" y="3048120"/>
                  <a:ext cx="10000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per phase 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453" name=""/>
            <p:cNvSpPr/>
            <p:nvPr/>
          </p:nvSpPr>
          <p:spPr>
            <a:xfrm>
              <a:off x="6222960" y="2533680"/>
              <a:ext cx="1198440" cy="917640"/>
            </a:xfrm>
            <a:custGeom>
              <a:avLst/>
              <a:gdLst/>
              <a:ahLst/>
              <a:rect l="l" t="t" r="r" b="b"/>
              <a:pathLst>
                <a:path w="755" h="578">
                  <a:moveTo>
                    <a:pt x="662" y="578"/>
                  </a:moveTo>
                  <a:cubicBezTo>
                    <a:pt x="680" y="570"/>
                    <a:pt x="705" y="571"/>
                    <a:pt x="717" y="555"/>
                  </a:cubicBezTo>
                  <a:cubicBezTo>
                    <a:pt x="755" y="503"/>
                    <a:pt x="669" y="363"/>
                    <a:pt x="662" y="352"/>
                  </a:cubicBezTo>
                  <a:cubicBezTo>
                    <a:pt x="653" y="340"/>
                    <a:pt x="570" y="330"/>
                    <a:pt x="561" y="329"/>
                  </a:cubicBezTo>
                  <a:cubicBezTo>
                    <a:pt x="471" y="200"/>
                    <a:pt x="630" y="54"/>
                    <a:pt x="459" y="25"/>
                  </a:cubicBezTo>
                  <a:cubicBezTo>
                    <a:pt x="411" y="0"/>
                    <a:pt x="370" y="16"/>
                    <a:pt x="319" y="25"/>
                  </a:cubicBezTo>
                  <a:cubicBezTo>
                    <a:pt x="298" y="76"/>
                    <a:pt x="278" y="110"/>
                    <a:pt x="272" y="165"/>
                  </a:cubicBezTo>
                  <a:cubicBezTo>
                    <a:pt x="269" y="191"/>
                    <a:pt x="269" y="217"/>
                    <a:pt x="265" y="243"/>
                  </a:cubicBezTo>
                  <a:cubicBezTo>
                    <a:pt x="264" y="251"/>
                    <a:pt x="265" y="265"/>
                    <a:pt x="257" y="267"/>
                  </a:cubicBezTo>
                  <a:cubicBezTo>
                    <a:pt x="201" y="279"/>
                    <a:pt x="142" y="277"/>
                    <a:pt x="85" y="282"/>
                  </a:cubicBezTo>
                  <a:cubicBezTo>
                    <a:pt x="3" y="303"/>
                    <a:pt x="12" y="296"/>
                    <a:pt x="0" y="376"/>
                  </a:cubicBezTo>
                  <a:cubicBezTo>
                    <a:pt x="5" y="412"/>
                    <a:pt x="3" y="450"/>
                    <a:pt x="15" y="485"/>
                  </a:cubicBezTo>
                  <a:cubicBezTo>
                    <a:pt x="22" y="506"/>
                    <a:pt x="48" y="523"/>
                    <a:pt x="70" y="524"/>
                  </a:cubicBezTo>
                  <a:cubicBezTo>
                    <a:pt x="215" y="532"/>
                    <a:pt x="361" y="529"/>
                    <a:pt x="506" y="532"/>
                  </a:cubicBezTo>
                  <a:cubicBezTo>
                    <a:pt x="567" y="540"/>
                    <a:pt x="609" y="547"/>
                    <a:pt x="662" y="578"/>
                  </a:cubicBezTo>
                  <a:close/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48680" y="2295360"/>
              <a:ext cx="1520640" cy="1289160"/>
            </a:xfrm>
            <a:custGeom>
              <a:avLst/>
              <a:gdLst/>
              <a:ahLst/>
              <a:rect l="l" t="t" r="r" b="b"/>
              <a:pathLst>
                <a:path w="958" h="812">
                  <a:moveTo>
                    <a:pt x="834" y="650"/>
                  </a:moveTo>
                  <a:cubicBezTo>
                    <a:pt x="834" y="648"/>
                    <a:pt x="846" y="524"/>
                    <a:pt x="849" y="518"/>
                  </a:cubicBezTo>
                  <a:cubicBezTo>
                    <a:pt x="855" y="506"/>
                    <a:pt x="901" y="497"/>
                    <a:pt x="912" y="494"/>
                  </a:cubicBezTo>
                  <a:cubicBezTo>
                    <a:pt x="944" y="462"/>
                    <a:pt x="944" y="427"/>
                    <a:pt x="958" y="385"/>
                  </a:cubicBezTo>
                  <a:cubicBezTo>
                    <a:pt x="914" y="0"/>
                    <a:pt x="796" y="236"/>
                    <a:pt x="156" y="230"/>
                  </a:cubicBezTo>
                  <a:cubicBezTo>
                    <a:pt x="143" y="227"/>
                    <a:pt x="130" y="222"/>
                    <a:pt x="117" y="222"/>
                  </a:cubicBezTo>
                  <a:cubicBezTo>
                    <a:pt x="88" y="222"/>
                    <a:pt x="56" y="217"/>
                    <a:pt x="31" y="230"/>
                  </a:cubicBezTo>
                  <a:cubicBezTo>
                    <a:pt x="21" y="235"/>
                    <a:pt x="3" y="335"/>
                    <a:pt x="0" y="346"/>
                  </a:cubicBezTo>
                  <a:cubicBezTo>
                    <a:pt x="3" y="393"/>
                    <a:pt x="1" y="440"/>
                    <a:pt x="8" y="487"/>
                  </a:cubicBezTo>
                  <a:cubicBezTo>
                    <a:pt x="10" y="502"/>
                    <a:pt x="45" y="568"/>
                    <a:pt x="54" y="588"/>
                  </a:cubicBezTo>
                  <a:cubicBezTo>
                    <a:pt x="74" y="635"/>
                    <a:pt x="83" y="688"/>
                    <a:pt x="101" y="736"/>
                  </a:cubicBezTo>
                  <a:cubicBezTo>
                    <a:pt x="114" y="812"/>
                    <a:pt x="126" y="796"/>
                    <a:pt x="202" y="806"/>
                  </a:cubicBezTo>
                  <a:cubicBezTo>
                    <a:pt x="233" y="804"/>
                    <a:pt x="430" y="804"/>
                    <a:pt x="522" y="783"/>
                  </a:cubicBezTo>
                  <a:cubicBezTo>
                    <a:pt x="564" y="774"/>
                    <a:pt x="647" y="752"/>
                    <a:pt x="647" y="752"/>
                  </a:cubicBezTo>
                  <a:cubicBezTo>
                    <a:pt x="685" y="725"/>
                    <a:pt x="708" y="728"/>
                    <a:pt x="756" y="7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343400" y="3657600"/>
                <a:ext cx="439416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phas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4863960" y="4357800"/>
                <a:ext cx="31752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 phas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5168880" y="5181480"/>
                <a:ext cx="25909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28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016600" y="5867280"/>
                <a:ext cx="32893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4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 sourc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45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6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15000" y="85680"/>
            <a:ext cx="309168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 PHASE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F10.001A_W1060" descr=""/>
          <p:cNvPicPr/>
          <p:nvPr/>
        </p:nvPicPr>
        <p:blipFill>
          <a:blip r:embed="rId1"/>
          <a:stretch/>
        </p:blipFill>
        <p:spPr>
          <a:xfrm>
            <a:off x="0" y="609480"/>
            <a:ext cx="5353200" cy="2905200"/>
          </a:xfrm>
          <a:prstGeom prst="rect">
            <a:avLst/>
          </a:prstGeom>
          <a:ln w="0">
            <a:noFill/>
          </a:ln>
        </p:spPr>
      </p:pic>
      <p:pic>
        <p:nvPicPr>
          <p:cNvPr id="52" name="F10.001B_W1060" descr=""/>
          <p:cNvPicPr/>
          <p:nvPr/>
        </p:nvPicPr>
        <p:blipFill>
          <a:blip r:embed="rId2"/>
          <a:stretch/>
        </p:blipFill>
        <p:spPr>
          <a:xfrm>
            <a:off x="5486400" y="762120"/>
            <a:ext cx="3247920" cy="1695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954760" y="2286000"/>
                <a:ext cx="29480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hase Voltage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4" name=""/>
          <p:cNvGrpSpPr/>
          <p:nvPr/>
        </p:nvGrpSpPr>
        <p:grpSpPr>
          <a:xfrm>
            <a:off x="1219320" y="547560"/>
            <a:ext cx="3124080" cy="1266840"/>
            <a:chOff x="1219320" y="547560"/>
            <a:chExt cx="3124080" cy="1266840"/>
          </a:xfrm>
        </p:grpSpPr>
        <p:grpSp>
          <p:nvGrpSpPr>
            <p:cNvPr id="55" name=""/>
            <p:cNvGrpSpPr/>
            <p:nvPr/>
          </p:nvGrpSpPr>
          <p:grpSpPr>
            <a:xfrm>
              <a:off x="1219320" y="547560"/>
              <a:ext cx="914400" cy="290520"/>
              <a:chOff x="1219320" y="547560"/>
              <a:chExt cx="914400" cy="290520"/>
            </a:xfrm>
          </p:grpSpPr>
          <p:sp>
            <p:nvSpPr>
              <p:cNvPr id="56" name=""/>
              <p:cNvSpPr/>
              <p:nvPr/>
            </p:nvSpPr>
            <p:spPr>
              <a:xfrm>
                <a:off x="1219320" y="83808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7" name=""/>
                  <p:cNvSpPr txBox="1"/>
                  <p:nvPr/>
                </p:nvSpPr>
                <p:spPr>
                  <a:xfrm>
                    <a:off x="1600200" y="54756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58" name=""/>
            <p:cNvGrpSpPr/>
            <p:nvPr/>
          </p:nvGrpSpPr>
          <p:grpSpPr>
            <a:xfrm>
              <a:off x="2362320" y="1066680"/>
              <a:ext cx="914400" cy="290520"/>
              <a:chOff x="2362320" y="1066680"/>
              <a:chExt cx="914400" cy="290520"/>
            </a:xfrm>
          </p:grpSpPr>
          <p:sp>
            <p:nvSpPr>
              <p:cNvPr id="59" name=""/>
              <p:cNvSpPr/>
              <p:nvPr/>
            </p:nvSpPr>
            <p:spPr>
              <a:xfrm>
                <a:off x="2362320" y="13572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0" name=""/>
                  <p:cNvSpPr txBox="1"/>
                  <p:nvPr/>
                </p:nvSpPr>
                <p:spPr>
                  <a:xfrm>
                    <a:off x="2743200" y="1066680"/>
                    <a:ext cx="1904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1" name=""/>
            <p:cNvGrpSpPr/>
            <p:nvPr/>
          </p:nvGrpSpPr>
          <p:grpSpPr>
            <a:xfrm>
              <a:off x="3429000" y="1523880"/>
              <a:ext cx="914400" cy="290520"/>
              <a:chOff x="3429000" y="1523880"/>
              <a:chExt cx="914400" cy="290520"/>
            </a:xfrm>
          </p:grpSpPr>
          <p:sp>
            <p:nvSpPr>
              <p:cNvPr id="62" name=""/>
              <p:cNvSpPr/>
              <p:nvPr/>
            </p:nvSpPr>
            <p:spPr>
              <a:xfrm>
                <a:off x="3429000" y="1814400"/>
                <a:ext cx="914400" cy="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3" name=""/>
                  <p:cNvSpPr txBox="1"/>
                  <p:nvPr/>
                </p:nvSpPr>
                <p:spPr>
                  <a:xfrm>
                    <a:off x="3816360" y="1523880"/>
                    <a:ext cx="17604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8600" y="3200400"/>
                <a:ext cx="265428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Balanced Phase Current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85800" y="1371600"/>
                <a:ext cx="11430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971800" y="3809880"/>
                <a:ext cx="38098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7" name=""/>
          <p:cNvGrpSpPr/>
          <p:nvPr/>
        </p:nvGrpSpPr>
        <p:grpSpPr>
          <a:xfrm>
            <a:off x="477000" y="4707000"/>
            <a:ext cx="7380000" cy="1247760"/>
            <a:chOff x="477000" y="4707000"/>
            <a:chExt cx="7380000" cy="1247760"/>
          </a:xfrm>
        </p:grpSpPr>
        <p:sp>
          <p:nvSpPr>
            <p:cNvPr id="68" name=""/>
            <p:cNvSpPr/>
            <p:nvPr/>
          </p:nvSpPr>
          <p:spPr>
            <a:xfrm>
              <a:off x="477000" y="4707000"/>
              <a:ext cx="738000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" name=""/>
                <p:cNvSpPr txBox="1"/>
                <p:nvPr/>
              </p:nvSpPr>
              <p:spPr>
                <a:xfrm>
                  <a:off x="1676520" y="541008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70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228600" y="533520"/>
          <a:ext cx="434340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434340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27080" y="1071720"/>
                <a:ext cx="170172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4876920" y="457200"/>
                <a:ext cx="327636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ircuit is balance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1: 24kW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 lagging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2: 10kW at pf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oad 3: 12kVA at pf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 leadin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7" name=""/>
          <p:cNvSpPr/>
          <p:nvPr/>
        </p:nvSpPr>
        <p:spPr>
          <a:xfrm>
            <a:off x="2579040" y="58680"/>
            <a:ext cx="62431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line currents and the combined 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228600" y="2743200"/>
                <a:ext cx="3149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4699080" y="209556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216000" y="3429000"/>
                <a:ext cx="2755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203040" y="3881520"/>
                <a:ext cx="3835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induc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152280" y="4191120"/>
                <a:ext cx="303552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2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65240" y="5246640"/>
                <a:ext cx="303516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ad 3</m:t>
                        </m:r>
                      </m:e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r>
                                  <m:t xml:space="preserve">=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VA</m:t>
                                </m:r>
                              </m:e>
                              <m:e/>
                            </m:d>
                          </m:e>
                        </m:eqArr>
                        <m:r>
                          <m:t xml:space="preserve">⇒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52280" y="6262560"/>
                <a:ext cx="4343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eading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capacitive</m:t>
                    </m:r>
                    <m:r>
                      <m:t xml:space="preserve">∴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−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3225960" y="4419720"/>
                <a:ext cx="584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3200400" y="4724280"/>
                <a:ext cx="265428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5892840" y="4789440"/>
                <a:ext cx="27939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6019920" y="5638680"/>
                <a:ext cx="18414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69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79" name=""/>
          <p:cNvGrpSpPr/>
          <p:nvPr/>
        </p:nvGrpSpPr>
        <p:grpSpPr>
          <a:xfrm>
            <a:off x="6248520" y="1981080"/>
            <a:ext cx="2739960" cy="2300400"/>
            <a:chOff x="6248520" y="1981080"/>
            <a:chExt cx="2739960" cy="2300400"/>
          </a:xfrm>
        </p:grpSpPr>
        <p:grpSp>
          <p:nvGrpSpPr>
            <p:cNvPr id="480" name=""/>
            <p:cNvGrpSpPr/>
            <p:nvPr/>
          </p:nvGrpSpPr>
          <p:grpSpPr>
            <a:xfrm>
              <a:off x="6248520" y="1981080"/>
              <a:ext cx="2739960" cy="2300400"/>
              <a:chOff x="6248520" y="1981080"/>
              <a:chExt cx="2739960" cy="2300400"/>
            </a:xfrm>
          </p:grpSpPr>
          <p:graphicFrame>
            <p:nvGraphicFramePr>
              <p:cNvPr id="481" name=""/>
              <p:cNvGraphicFramePr/>
              <p:nvPr/>
            </p:nvGraphicFramePr>
            <p:xfrm>
              <a:off x="6248520" y="1981080"/>
              <a:ext cx="2427480" cy="2300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8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6248520" y="1981080"/>
                        <a:ext cx="2427480" cy="2300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83" name=""/>
              <p:cNvSpPr/>
              <p:nvPr/>
            </p:nvSpPr>
            <p:spPr>
              <a:xfrm>
                <a:off x="7764480" y="199332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778880" y="386964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6934320" y="2870280"/>
                  <a:ext cx="45720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5791320" y="5943600"/>
                <a:ext cx="2044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4343400" y="3505320"/>
                <a:ext cx="1816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5632920" y="6307200"/>
            <a:ext cx="1459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438280" y="76320"/>
                <a:ext cx="55119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line impedances are 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Ω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termine line voltages and power factor at the sour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3" name=""/>
          <p:cNvSpPr/>
          <p:nvPr/>
        </p:nvSpPr>
        <p:spPr>
          <a:xfrm>
            <a:off x="107640" y="76320"/>
            <a:ext cx="2224440" cy="5806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ontinued 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685800" y="327672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95" name=""/>
          <p:cNvGraphicFramePr/>
          <p:nvPr/>
        </p:nvGraphicFramePr>
        <p:xfrm>
          <a:off x="228600" y="838080"/>
          <a:ext cx="434340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38080"/>
                    <a:ext cx="434340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177840" y="3733920"/>
                <a:ext cx="3898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685800" y="4267080"/>
                <a:ext cx="23241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9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163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12600" y="4648320"/>
                <a:ext cx="4635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0" y="5105520"/>
                <a:ext cx="48387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 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63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4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438120" y="5715000"/>
                <a:ext cx="25272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otal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=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×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line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02" name=""/>
          <p:cNvGrpSpPr/>
          <p:nvPr/>
        </p:nvGrpSpPr>
        <p:grpSpPr>
          <a:xfrm>
            <a:off x="5562720" y="990720"/>
            <a:ext cx="2739960" cy="2300040"/>
            <a:chOff x="5562720" y="990720"/>
            <a:chExt cx="2739960" cy="2300040"/>
          </a:xfrm>
        </p:grpSpPr>
        <p:grpSp>
          <p:nvGrpSpPr>
            <p:cNvPr id="503" name=""/>
            <p:cNvGrpSpPr/>
            <p:nvPr/>
          </p:nvGrpSpPr>
          <p:grpSpPr>
            <a:xfrm>
              <a:off x="5562720" y="990720"/>
              <a:ext cx="2739960" cy="2300040"/>
              <a:chOff x="5562720" y="990720"/>
              <a:chExt cx="2739960" cy="2300040"/>
            </a:xfrm>
          </p:grpSpPr>
          <p:graphicFrame>
            <p:nvGraphicFramePr>
              <p:cNvPr id="504" name=""/>
              <p:cNvGraphicFramePr/>
              <p:nvPr/>
            </p:nvGraphicFramePr>
            <p:xfrm>
              <a:off x="5562720" y="990720"/>
              <a:ext cx="2427480" cy="23000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50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562720" y="990720"/>
                        <a:ext cx="2427480" cy="2300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506" name=""/>
              <p:cNvSpPr/>
              <p:nvPr/>
            </p:nvSpPr>
            <p:spPr>
              <a:xfrm>
                <a:off x="7078680" y="1002600"/>
                <a:ext cx="112716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induc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093080" y="2878920"/>
                <a:ext cx="1209600" cy="33732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capacitiv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08" name=""/>
                <p:cNvSpPr txBox="1"/>
                <p:nvPr/>
              </p:nvSpPr>
              <p:spPr>
                <a:xfrm>
                  <a:off x="6248520" y="1879560"/>
                  <a:ext cx="457200" cy="32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5486400" y="3581280"/>
                <a:ext cx="3289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64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5105520" y="4495680"/>
                <a:ext cx="38862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°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1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1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060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738520" y="-17640"/>
            <a:ext cx="628128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Y -Y balanced three-phase circuit has a line voltage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208-Vrms. The total real power absorbed by the load is 12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t pf=0.8 lagging. Determine the per-phase imped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the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F10.012A_W1072" descr=""/>
          <p:cNvPicPr/>
          <p:nvPr/>
        </p:nvPicPr>
        <p:blipFill>
          <a:blip r:embed="rId1"/>
          <a:stretch/>
        </p:blipFill>
        <p:spPr>
          <a:xfrm>
            <a:off x="0" y="1066680"/>
            <a:ext cx="4343400" cy="3267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3962520" y="1295280"/>
                <a:ext cx="1981080" cy="145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ine-phase voltag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lationshi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4191120" y="2819520"/>
                <a:ext cx="2286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80880" y="3886200"/>
                <a:ext cx="27432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228600" y="4660920"/>
                <a:ext cx="37846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hase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/>
                    </m:s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21" name=""/>
          <p:cNvGrpSpPr/>
          <p:nvPr/>
        </p:nvGrpSpPr>
        <p:grpSpPr>
          <a:xfrm>
            <a:off x="5924520" y="2452680"/>
            <a:ext cx="3108600" cy="1585440"/>
            <a:chOff x="5924520" y="2452680"/>
            <a:chExt cx="3108600" cy="1585440"/>
          </a:xfrm>
        </p:grpSpPr>
        <p:grpSp>
          <p:nvGrpSpPr>
            <p:cNvPr id="522" name=""/>
            <p:cNvGrpSpPr/>
            <p:nvPr/>
          </p:nvGrpSpPr>
          <p:grpSpPr>
            <a:xfrm>
              <a:off x="5924520" y="2452680"/>
              <a:ext cx="3108600" cy="1585440"/>
              <a:chOff x="5924520" y="2452680"/>
              <a:chExt cx="3108600" cy="1585440"/>
            </a:xfrm>
          </p:grpSpPr>
          <p:sp>
            <p:nvSpPr>
              <p:cNvPr id="523" name=""/>
              <p:cNvSpPr/>
              <p:nvPr/>
            </p:nvSpPr>
            <p:spPr>
              <a:xfrm flipV="1">
                <a:off x="5924520" y="2452680"/>
                <a:ext cx="2438280" cy="129528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5924520" y="3671280"/>
                <a:ext cx="1905120" cy="75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25" name=""/>
                  <p:cNvSpPr txBox="1"/>
                  <p:nvPr/>
                </p:nvSpPr>
                <p:spPr>
                  <a:xfrm>
                    <a:off x="8439120" y="2452680"/>
                    <a:ext cx="4190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26" name=""/>
                  <p:cNvSpPr txBox="1"/>
                  <p:nvPr/>
                </p:nvSpPr>
                <p:spPr>
                  <a:xfrm>
                    <a:off x="7372440" y="3747960"/>
                    <a:ext cx="404640" cy="290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27" name=""/>
              <p:cNvSpPr/>
              <p:nvPr/>
            </p:nvSpPr>
            <p:spPr>
              <a:xfrm>
                <a:off x="6686640" y="3366720"/>
                <a:ext cx="164880" cy="38088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0"/>
                    </a:moveTo>
                    <a:cubicBezTo>
                      <a:pt x="44" y="4"/>
                      <a:pt x="88" y="8"/>
                      <a:pt x="96" y="48"/>
                    </a:cubicBezTo>
                    <a:cubicBezTo>
                      <a:pt x="104" y="88"/>
                      <a:pt x="76" y="164"/>
                      <a:pt x="48" y="240"/>
                    </a:cubicBezTo>
                  </a:path>
                </a:pathLst>
              </a:custGeom>
              <a:noFill/>
              <a:ln w="25560">
                <a:solidFill>
                  <a:srgbClr val="33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33600" y="3196800"/>
                <a:ext cx="2099520" cy="337320"/>
              </a:xfrm>
              <a:prstGeom prst="rect">
                <a:avLst/>
              </a:prstGeom>
              <a:noFill/>
              <a:ln w="255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wer factor ang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529" name=""/>
                <p:cNvSpPr txBox="1"/>
                <p:nvPr/>
              </p:nvSpPr>
              <p:spPr>
                <a:xfrm>
                  <a:off x="6457320" y="3417480"/>
                  <a:ext cx="317160" cy="330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0" name=""/>
          <p:cNvGrpSpPr/>
          <p:nvPr/>
        </p:nvGrpSpPr>
        <p:grpSpPr>
          <a:xfrm>
            <a:off x="6356520" y="1292400"/>
            <a:ext cx="2481120" cy="2296440"/>
            <a:chOff x="6356520" y="1292400"/>
            <a:chExt cx="2481120" cy="2296440"/>
          </a:xfrm>
        </p:grpSpPr>
        <p:sp>
          <p:nvSpPr>
            <p:cNvPr id="531" name=""/>
            <p:cNvSpPr/>
            <p:nvPr/>
          </p:nvSpPr>
          <p:spPr>
            <a:xfrm>
              <a:off x="6356520" y="1596600"/>
              <a:ext cx="2064960" cy="1992240"/>
            </a:xfrm>
            <a:custGeom>
              <a:avLst/>
              <a:gdLst/>
              <a:ahLst/>
              <a:rect l="l" t="t" r="r" b="b"/>
              <a:pathLst>
                <a:path w="1301" h="1255">
                  <a:moveTo>
                    <a:pt x="0" y="1255"/>
                  </a:moveTo>
                  <a:cubicBezTo>
                    <a:pt x="105" y="1013"/>
                    <a:pt x="34" y="1171"/>
                    <a:pt x="226" y="787"/>
                  </a:cubicBezTo>
                  <a:cubicBezTo>
                    <a:pt x="293" y="654"/>
                    <a:pt x="331" y="514"/>
                    <a:pt x="397" y="382"/>
                  </a:cubicBezTo>
                  <a:cubicBezTo>
                    <a:pt x="409" y="290"/>
                    <a:pt x="424" y="199"/>
                    <a:pt x="444" y="109"/>
                  </a:cubicBezTo>
                  <a:cubicBezTo>
                    <a:pt x="447" y="94"/>
                    <a:pt x="443" y="76"/>
                    <a:pt x="452" y="63"/>
                  </a:cubicBezTo>
                  <a:cubicBezTo>
                    <a:pt x="458" y="54"/>
                    <a:pt x="472" y="56"/>
                    <a:pt x="483" y="55"/>
                  </a:cubicBezTo>
                  <a:cubicBezTo>
                    <a:pt x="558" y="44"/>
                    <a:pt x="640" y="33"/>
                    <a:pt x="717" y="24"/>
                  </a:cubicBezTo>
                  <a:cubicBezTo>
                    <a:pt x="925" y="0"/>
                    <a:pt x="1025" y="16"/>
                    <a:pt x="1301" y="16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1160" y="1292400"/>
              <a:ext cx="1986480" cy="3373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Impedance ang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28600" y="5575320"/>
                <a:ext cx="3009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4470480" y="327672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533520" y="5943600"/>
                <a:ext cx="21333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2697120" y="5048280"/>
            <a:ext cx="1866960" cy="1192320"/>
          </a:xfrm>
          <a:custGeom>
            <a:avLst/>
            <a:gdLst/>
            <a:ahLst/>
            <a:rect l="l" t="t" r="r" b="b"/>
            <a:pathLst>
              <a:path w="1176" h="751">
                <a:moveTo>
                  <a:pt x="802" y="0"/>
                </a:moveTo>
                <a:cubicBezTo>
                  <a:pt x="861" y="9"/>
                  <a:pt x="915" y="38"/>
                  <a:pt x="974" y="46"/>
                </a:cubicBezTo>
                <a:cubicBezTo>
                  <a:pt x="1025" y="52"/>
                  <a:pt x="1131" y="59"/>
                  <a:pt x="1176" y="62"/>
                </a:cubicBezTo>
                <a:cubicBezTo>
                  <a:pt x="1078" y="67"/>
                  <a:pt x="1027" y="37"/>
                  <a:pt x="982" y="109"/>
                </a:cubicBezTo>
                <a:cubicBezTo>
                  <a:pt x="965" y="175"/>
                  <a:pt x="953" y="256"/>
                  <a:pt x="912" y="311"/>
                </a:cubicBezTo>
                <a:cubicBezTo>
                  <a:pt x="891" y="383"/>
                  <a:pt x="872" y="429"/>
                  <a:pt x="818" y="483"/>
                </a:cubicBezTo>
                <a:cubicBezTo>
                  <a:pt x="782" y="592"/>
                  <a:pt x="818" y="565"/>
                  <a:pt x="740" y="592"/>
                </a:cubicBezTo>
                <a:cubicBezTo>
                  <a:pt x="622" y="751"/>
                  <a:pt x="496" y="673"/>
                  <a:pt x="273" y="678"/>
                </a:cubicBezTo>
                <a:cubicBezTo>
                  <a:pt x="182" y="683"/>
                  <a:pt x="91" y="693"/>
                  <a:pt x="0" y="693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"/>
              <p:cNvSpPr txBox="1"/>
              <p:nvPr/>
            </p:nvSpPr>
            <p:spPr>
              <a:xfrm>
                <a:off x="4495680" y="4800600"/>
                <a:ext cx="27306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Z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8" name=""/>
          <p:cNvSpPr/>
          <p:nvPr/>
        </p:nvSpPr>
        <p:spPr>
          <a:xfrm>
            <a:off x="2041560" y="5430960"/>
            <a:ext cx="5664240" cy="520560"/>
          </a:xfrm>
          <a:custGeom>
            <a:avLst/>
            <a:gdLst/>
            <a:ahLst/>
            <a:rect l="l" t="t" r="r" b="b"/>
            <a:pathLst>
              <a:path w="3568" h="328">
                <a:moveTo>
                  <a:pt x="0" y="304"/>
                </a:moveTo>
                <a:cubicBezTo>
                  <a:pt x="659" y="328"/>
                  <a:pt x="291" y="318"/>
                  <a:pt x="1106" y="328"/>
                </a:cubicBezTo>
                <a:cubicBezTo>
                  <a:pt x="1769" y="322"/>
                  <a:pt x="2425" y="304"/>
                  <a:pt x="3086" y="281"/>
                </a:cubicBezTo>
                <a:cubicBezTo>
                  <a:pt x="3101" y="278"/>
                  <a:pt x="3116" y="274"/>
                  <a:pt x="3132" y="273"/>
                </a:cubicBezTo>
                <a:cubicBezTo>
                  <a:pt x="3194" y="269"/>
                  <a:pt x="3257" y="269"/>
                  <a:pt x="3319" y="265"/>
                </a:cubicBezTo>
                <a:cubicBezTo>
                  <a:pt x="3335" y="264"/>
                  <a:pt x="3350" y="259"/>
                  <a:pt x="3366" y="257"/>
                </a:cubicBezTo>
                <a:cubicBezTo>
                  <a:pt x="3402" y="254"/>
                  <a:pt x="3439" y="253"/>
                  <a:pt x="3475" y="250"/>
                </a:cubicBezTo>
                <a:cubicBezTo>
                  <a:pt x="3498" y="248"/>
                  <a:pt x="3568" y="242"/>
                  <a:pt x="3545" y="242"/>
                </a:cubicBezTo>
                <a:cubicBezTo>
                  <a:pt x="3449" y="242"/>
                  <a:pt x="3353" y="247"/>
                  <a:pt x="3257" y="250"/>
                </a:cubicBezTo>
                <a:cubicBezTo>
                  <a:pt x="3190" y="259"/>
                  <a:pt x="3129" y="281"/>
                  <a:pt x="3062" y="289"/>
                </a:cubicBezTo>
                <a:cubicBezTo>
                  <a:pt x="3021" y="177"/>
                  <a:pt x="3041" y="248"/>
                  <a:pt x="3023" y="70"/>
                </a:cubicBezTo>
                <a:cubicBezTo>
                  <a:pt x="3016" y="3"/>
                  <a:pt x="3024" y="13"/>
                  <a:pt x="2984" y="0"/>
                </a:cubicBezTo>
                <a:cubicBezTo>
                  <a:pt x="2896" y="59"/>
                  <a:pt x="2902" y="40"/>
                  <a:pt x="2758" y="47"/>
                </a:cubicBezTo>
                <a:cubicBezTo>
                  <a:pt x="2611" y="77"/>
                  <a:pt x="2497" y="65"/>
                  <a:pt x="2330" y="70"/>
                </a:cubicBezTo>
                <a:cubicBezTo>
                  <a:pt x="2184" y="74"/>
                  <a:pt x="2039" y="81"/>
                  <a:pt x="1893" y="86"/>
                </a:cubicBezTo>
                <a:cubicBezTo>
                  <a:pt x="1318" y="63"/>
                  <a:pt x="1378" y="63"/>
                  <a:pt x="1550" y="63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6858000" y="5943600"/>
                <a:ext cx="21970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h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8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7</m:t>
                    </m:r>
                    <m:r>
                      <m:t xml:space="preserve">°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40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E10.004_W1070" descr=""/>
          <p:cNvPicPr/>
          <p:nvPr/>
        </p:nvPicPr>
        <p:blipFill>
          <a:blip r:embed="rId1"/>
          <a:stretch/>
        </p:blipFill>
        <p:spPr>
          <a:xfrm>
            <a:off x="0" y="609480"/>
            <a:ext cx="5429160" cy="2476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228600" y="4724280"/>
                <a:ext cx="26668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5" name=""/>
          <p:cNvGrpSpPr/>
          <p:nvPr/>
        </p:nvGrpSpPr>
        <p:grpSpPr>
          <a:xfrm>
            <a:off x="5648400" y="609480"/>
            <a:ext cx="3343320" cy="3657600"/>
            <a:chOff x="5648400" y="609480"/>
            <a:chExt cx="3343320" cy="3657600"/>
          </a:xfrm>
        </p:grpSpPr>
        <p:sp>
          <p:nvSpPr>
            <p:cNvPr id="546" name=""/>
            <p:cNvSpPr/>
            <p:nvPr/>
          </p:nvSpPr>
          <p:spPr>
            <a:xfrm>
              <a:off x="5807880" y="609480"/>
              <a:ext cx="284328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Source is Delta connec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onvert to equivalent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372000" y="1219320"/>
              <a:ext cx="211464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nalyze one pha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648400" y="1600200"/>
              <a:ext cx="3343320" cy="2666880"/>
              <a:chOff x="5648400" y="1600200"/>
              <a:chExt cx="3343320" cy="266688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5648400" y="1600200"/>
                <a:ext cx="3343320" cy="2666880"/>
                <a:chOff x="5648400" y="1600200"/>
                <a:chExt cx="3343320" cy="2666880"/>
              </a:xfrm>
            </p:grpSpPr>
            <p:pic>
              <p:nvPicPr>
                <p:cNvPr id="550" name="F10.010B_W1069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648400" y="1600200"/>
                  <a:ext cx="3343320" cy="2666880"/>
                </a:xfrm>
                <a:prstGeom prst="rect">
                  <a:avLst/>
                </a:prstGeom>
                <a:ln w="0">
                  <a:noFill/>
                </a:ln>
              </p:spPr>
            </p:pic>
            <mc:AlternateContent>
              <mc:Choice xmlns:a14="http://schemas.microsoft.com/office/drawing/2010/main" Requires="a14">
                <p:sp>
                  <p:nvSpPr>
                    <p:cNvPr id="551" name=""/>
                    <p:cNvSpPr txBox="1"/>
                    <p:nvPr/>
                  </p:nvSpPr>
                  <p:spPr>
                    <a:xfrm>
                      <a:off x="8391600" y="2286000"/>
                      <a:ext cx="419400" cy="228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t xml:space="preserve">Ω</m:t>
                          </m:r>
                        </m:oMath>
                      </a14:m>
                    </a:p>
                  </p:txBody>
                </p:sp>
              </mc:Choice>
              <mc:Fallback/>
            </mc:AlternateContent>
          </p:grpSp>
          <mc:AlternateContent>
            <mc:Choice xmlns:a14="http://schemas.microsoft.com/office/drawing/2010/main" Requires="a14">
              <p:sp>
                <p:nvSpPr>
                  <p:cNvPr id="552" name=""/>
                  <p:cNvSpPr txBox="1"/>
                  <p:nvPr/>
                </p:nvSpPr>
                <p:spPr>
                  <a:xfrm>
                    <a:off x="8086680" y="1600200"/>
                    <a:ext cx="609480" cy="264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Ω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28600" y="5334120"/>
                <a:ext cx="31496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4" name=""/>
          <p:cNvSpPr/>
          <p:nvPr/>
        </p:nvSpPr>
        <p:spPr>
          <a:xfrm>
            <a:off x="106920" y="5868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664720" y="0"/>
            <a:ext cx="597024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real, reactive and complex power at both 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nd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"/>
              <p:cNvSpPr txBox="1"/>
              <p:nvPr/>
            </p:nvSpPr>
            <p:spPr>
              <a:xfrm>
                <a:off x="380880" y="3124080"/>
                <a:ext cx="287028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a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228600" y="4038480"/>
                <a:ext cx="3162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urc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hase</m:t>
                            </m:r>
                          </m:sub>
                          <m:sup/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3276720" y="3124080"/>
                <a:ext cx="3581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3422520" y="4038480"/>
                <a:ext cx="34290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sSup>
                          <m:e>
                            <m:r>
                              <m:t xml:space="preserve">|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3886200" y="5029200"/>
                <a:ext cx="264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a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8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urc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9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561" name="geaux" descr=""/>
          <p:cNvPicPr/>
          <p:nvPr/>
        </p:nvPicPr>
        <p:blipFill>
          <a:blip r:embed="rId3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865240" y="58680"/>
            <a:ext cx="534852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A 480-V rms line feeds two balanced 3-phase loa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loads are r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1: 5kVA at 0.8 pf 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 2: 10kVA at 0.9 pf lagg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1200" y="1201680"/>
            <a:ext cx="74350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magnitude of the line current from the 408-V rms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6953400" y="1676520"/>
            <a:ext cx="1454040" cy="1699920"/>
            <a:chOff x="6953400" y="1676520"/>
            <a:chExt cx="1454040" cy="1699920"/>
          </a:xfrm>
        </p:grpSpPr>
        <mc:AlternateContent>
          <mc:Choice xmlns:a14="http://schemas.microsoft.com/office/drawing/2010/main" Requires="a14">
            <p:sp>
              <p:nvSpPr>
                <p:cNvPr id="568" name=""/>
                <p:cNvSpPr txBox="1"/>
                <p:nvPr/>
              </p:nvSpPr>
              <p:spPr>
                <a:xfrm>
                  <a:off x="7086600" y="167652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6953400" y="3086280"/>
                  <a:ext cx="1371600" cy="29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184320" y="1600200"/>
                <a:ext cx="284472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152280" y="2666880"/>
                <a:ext cx="2819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2" name=""/>
              <p:cNvSpPr txBox="1"/>
              <p:nvPr/>
            </p:nvSpPr>
            <p:spPr>
              <a:xfrm>
                <a:off x="247680" y="3048120"/>
                <a:ext cx="294624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74760" y="4495680"/>
                <a:ext cx="20700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6324480" y="3505320"/>
                <a:ext cx="2667240" cy="115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|</m:t>
                            </m:r>
                          </m:e>
                        </m:rad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298600" y="4952880"/>
                <a:ext cx="41277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q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  <m:r>
                          <m:t xml:space="preserve">|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9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0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76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5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167400" y="76320"/>
            <a:ext cx="313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 COR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F10.013_W1073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5362560" cy="23050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4482360" y="1125360"/>
            <a:ext cx="1107360" cy="1067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ow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ag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8960" y="210960"/>
            <a:ext cx="322416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imilar to single phase c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Use capacitors to increas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 fa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02200" y="1201680"/>
            <a:ext cx="31129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Keep clear about total/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ower, line/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0" y="3505320"/>
            <a:ext cx="1409760" cy="1509480"/>
            <a:chOff x="0" y="3505320"/>
            <a:chExt cx="1409760" cy="1509480"/>
          </a:xfrm>
        </p:grpSpPr>
        <mc:AlternateContent>
          <mc:Choice xmlns:a14="http://schemas.microsoft.com/office/drawing/2010/main" Requires="a14">
            <p:sp>
              <p:nvSpPr>
                <p:cNvPr id="585" name=""/>
                <p:cNvSpPr txBox="1"/>
                <p:nvPr/>
              </p:nvSpPr>
              <p:spPr>
                <a:xfrm>
                  <a:off x="0" y="3505320"/>
                  <a:ext cx="130824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6" name=""/>
                <p:cNvSpPr txBox="1"/>
                <p:nvPr/>
              </p:nvSpPr>
              <p:spPr>
                <a:xfrm>
                  <a:off x="0" y="4343400"/>
                  <a:ext cx="1409760" cy="67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  <m:e>
                          <m:m>
                            <m:m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ld</m:t>
                                    </m:r>
                                  </m:sub>
                                </m:sSub>
                              </m:e>
                            </m:mr>
                            <m:m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f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ew</m:t>
                                    </m:r>
                                  </m:sub>
                                </m:sSub>
                              </m:e>
                            </m:mr>
                          </m:m>
                        </m:e>
                      </m:d>
                      <m:r>
                        <m:t xml:space="preserve">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371600" y="3962520"/>
                <a:ext cx="2793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active Power to be add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1516320" y="4572000"/>
            <a:ext cx="297432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o use capacitors this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uld be neg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0" y="5257800"/>
                <a:ext cx="293364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depends on ho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apacitors are connect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2971800" y="5257800"/>
                <a:ext cx="132084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591" name=""/>
          <p:cNvGrpSpPr/>
          <p:nvPr/>
        </p:nvGrpSpPr>
        <p:grpSpPr>
          <a:xfrm>
            <a:off x="4343400" y="5334120"/>
            <a:ext cx="4724280" cy="660240"/>
            <a:chOff x="4343400" y="5334120"/>
            <a:chExt cx="4724280" cy="660240"/>
          </a:xfrm>
        </p:grpSpPr>
        <mc:AlternateContent>
          <mc:Choice xmlns:a14="http://schemas.microsoft.com/office/drawing/2010/main" Requires="a14">
            <p:sp>
              <p:nvSpPr>
                <p:cNvPr id="592" name=""/>
                <p:cNvSpPr txBox="1"/>
                <p:nvPr/>
              </p:nvSpPr>
              <p:spPr>
                <a:xfrm>
                  <a:off x="4343400" y="5334120"/>
                  <a:ext cx="3022560" cy="40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pf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⇒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f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3" name=""/>
                <p:cNvSpPr txBox="1"/>
                <p:nvPr/>
              </p:nvSpPr>
              <p:spPr>
                <a:xfrm>
                  <a:off x="7391520" y="5334120"/>
                  <a:ext cx="1676160" cy="66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4" name=""/>
          <p:cNvGrpSpPr/>
          <p:nvPr/>
        </p:nvGrpSpPr>
        <p:grpSpPr>
          <a:xfrm>
            <a:off x="4246560" y="5603760"/>
            <a:ext cx="1836720" cy="833400"/>
            <a:chOff x="4246560" y="5603760"/>
            <a:chExt cx="1836720" cy="833400"/>
          </a:xfrm>
        </p:grpSpPr>
        <mc:AlternateContent>
          <mc:Choice xmlns:a14="http://schemas.microsoft.com/office/drawing/2010/main" Requires="a14">
            <p:sp>
              <p:nvSpPr>
                <p:cNvPr id="595" name=""/>
                <p:cNvSpPr txBox="1"/>
                <p:nvPr/>
              </p:nvSpPr>
              <p:spPr>
                <a:xfrm>
                  <a:off x="4495680" y="6172200"/>
                  <a:ext cx="15876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r>
                        <m:t xml:space="preserve">Q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596" name=""/>
            <p:cNvGrpSpPr/>
            <p:nvPr/>
          </p:nvGrpSpPr>
          <p:grpSpPr>
            <a:xfrm>
              <a:off x="4246560" y="5603760"/>
              <a:ext cx="1417680" cy="669960"/>
              <a:chOff x="4246560" y="5603760"/>
              <a:chExt cx="1417680" cy="669960"/>
            </a:xfrm>
          </p:grpSpPr>
          <p:sp>
            <p:nvSpPr>
              <p:cNvPr id="597" name=""/>
              <p:cNvSpPr/>
              <p:nvPr/>
            </p:nvSpPr>
            <p:spPr>
              <a:xfrm>
                <a:off x="4246560" y="5603760"/>
                <a:ext cx="244440" cy="669960"/>
              </a:xfrm>
              <a:custGeom>
                <a:avLst/>
                <a:gdLst/>
                <a:ahLst/>
                <a:rect l="l" t="t" r="r" b="b"/>
                <a:pathLst>
                  <a:path w="154" h="422">
                    <a:moveTo>
                      <a:pt x="13" y="0"/>
                    </a:moveTo>
                    <a:cubicBezTo>
                      <a:pt x="16" y="47"/>
                      <a:pt x="15" y="94"/>
                      <a:pt x="21" y="141"/>
                    </a:cubicBezTo>
                    <a:cubicBezTo>
                      <a:pt x="24" y="162"/>
                      <a:pt x="18" y="193"/>
                      <a:pt x="37" y="203"/>
                    </a:cubicBezTo>
                    <a:cubicBezTo>
                      <a:pt x="72" y="221"/>
                      <a:pt x="115" y="208"/>
                      <a:pt x="154" y="211"/>
                    </a:cubicBezTo>
                    <a:cubicBezTo>
                      <a:pt x="131" y="218"/>
                      <a:pt x="108" y="227"/>
                      <a:pt x="84" y="234"/>
                    </a:cubicBezTo>
                    <a:cubicBezTo>
                      <a:pt x="63" y="240"/>
                      <a:pt x="21" y="250"/>
                      <a:pt x="21" y="250"/>
                    </a:cubicBezTo>
                    <a:cubicBezTo>
                      <a:pt x="15" y="310"/>
                      <a:pt x="11" y="343"/>
                      <a:pt x="29" y="398"/>
                    </a:cubicBezTo>
                    <a:cubicBezTo>
                      <a:pt x="0" y="417"/>
                      <a:pt x="6" y="422"/>
                      <a:pt x="6" y="390"/>
                    </a:cubicBezTo>
                  </a:path>
                </a:pathLst>
              </a:custGeom>
              <a:noFill/>
              <a:ln w="255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98" name=""/>
                  <p:cNvSpPr txBox="1"/>
                  <p:nvPr/>
                </p:nvSpPr>
                <p:spPr>
                  <a:xfrm>
                    <a:off x="4495680" y="5791320"/>
                    <a:ext cx="1168560" cy="330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599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0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 rot="10800000">
                <a:off x="2400480" y="75600"/>
                <a:ext cx="567828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ead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4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06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07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8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09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10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11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13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14" name="F10.013_W107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15" name=""/>
          <p:cNvGrpSpPr/>
          <p:nvPr/>
        </p:nvGrpSpPr>
        <p:grpSpPr>
          <a:xfrm>
            <a:off x="2882880" y="2895480"/>
            <a:ext cx="5753160" cy="1087560"/>
            <a:chOff x="2882880" y="2895480"/>
            <a:chExt cx="5753160" cy="1087560"/>
          </a:xfrm>
        </p:grpSpPr>
        <mc:AlternateContent>
          <mc:Choice xmlns:a14="http://schemas.microsoft.com/office/drawing/2010/main" Requires="a14">
            <p:sp>
              <p:nvSpPr>
                <p:cNvPr id="616" name=""/>
                <p:cNvSpPr txBox="1"/>
                <p:nvPr/>
              </p:nvSpPr>
              <p:spPr>
                <a:xfrm>
                  <a:off x="4699080" y="2895480"/>
                  <a:ext cx="393696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8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7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724280" y="3619440"/>
                <a:ext cx="3060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"/>
              <p:cNvSpPr txBox="1"/>
              <p:nvPr/>
            </p:nvSpPr>
            <p:spPr>
              <a:xfrm>
                <a:off x="4648320" y="4952880"/>
                <a:ext cx="39495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943600" y="5791320"/>
                <a:ext cx="12063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22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 rot="10800000">
                <a:off x="2394000" y="75600"/>
                <a:ext cx="56912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rPr>
                        <m:lit/>
                        <m:nor/>
                      </m:rPr>
                      <m:t xml:space="preserve">H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equired: </m:t>
                    </m:r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aggin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52280" y="5334120"/>
                <a:ext cx="37594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228600" y="5867280"/>
                <a:ext cx="17654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"/>
          <p:cNvGrpSpPr/>
          <p:nvPr/>
        </p:nvGrpSpPr>
        <p:grpSpPr>
          <a:xfrm>
            <a:off x="152280" y="3352680"/>
            <a:ext cx="3175200" cy="1890720"/>
            <a:chOff x="152280" y="3352680"/>
            <a:chExt cx="3175200" cy="1890720"/>
          </a:xfrm>
        </p:grpSpPr>
        <mc:AlternateContent>
          <mc:Choice xmlns:a14="http://schemas.microsoft.com/office/drawing/2010/main" Requires="a14">
            <p:sp>
              <p:nvSpPr>
                <p:cNvPr id="630" name=""/>
                <p:cNvSpPr txBox="1"/>
                <p:nvPr/>
              </p:nvSpPr>
              <p:spPr>
                <a:xfrm>
                  <a:off x="1600200" y="4267080"/>
                  <a:ext cx="1676520" cy="66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an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31" name=""/>
                <p:cNvSpPr txBox="1"/>
                <p:nvPr/>
              </p:nvSpPr>
              <p:spPr>
                <a:xfrm>
                  <a:off x="1523880" y="4952880"/>
                  <a:ext cx="180360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agging</m:t>
                      </m: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old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632" name=""/>
            <p:cNvGrpSpPr/>
            <p:nvPr/>
          </p:nvGrpSpPr>
          <p:grpSpPr>
            <a:xfrm>
              <a:off x="152280" y="3352680"/>
              <a:ext cx="2692440" cy="1409760"/>
              <a:chOff x="152280" y="3352680"/>
              <a:chExt cx="2692440" cy="1409760"/>
            </a:xfrm>
          </p:grpSpPr>
          <mc:AlternateContent>
            <mc:Choice xmlns:a14="http://schemas.microsoft.com/office/drawing/2010/main" Requires="a14">
              <p:sp>
                <p:nvSpPr>
                  <p:cNvPr id="633" name=""/>
                  <p:cNvSpPr txBox="1"/>
                  <p:nvPr/>
                </p:nvSpPr>
                <p:spPr>
                  <a:xfrm>
                    <a:off x="152280" y="3352680"/>
                    <a:ext cx="1320840" cy="1409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e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|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f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sSub>
                              <m:e>
                                <m:r>
                                  <m:t xml:space="preserve">θ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634" name=""/>
              <p:cNvGrpSpPr/>
              <p:nvPr/>
            </p:nvGrpSpPr>
            <p:grpSpPr>
              <a:xfrm>
                <a:off x="1427040" y="3699000"/>
                <a:ext cx="1417680" cy="669960"/>
                <a:chOff x="1427040" y="3699000"/>
                <a:chExt cx="1417680" cy="6699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1427040" y="3699000"/>
                  <a:ext cx="244440" cy="669960"/>
                </a:xfrm>
                <a:custGeom>
                  <a:avLst/>
                  <a:gdLst/>
                  <a:ahLst/>
                  <a:rect l="l" t="t" r="r" b="b"/>
                  <a:pathLst>
                    <a:path w="154" h="422">
                      <a:moveTo>
                        <a:pt x="13" y="0"/>
                      </a:moveTo>
                      <a:cubicBezTo>
                        <a:pt x="16" y="47"/>
                        <a:pt x="15" y="94"/>
                        <a:pt x="21" y="141"/>
                      </a:cubicBezTo>
                      <a:cubicBezTo>
                        <a:pt x="24" y="162"/>
                        <a:pt x="18" y="193"/>
                        <a:pt x="37" y="203"/>
                      </a:cubicBezTo>
                      <a:cubicBezTo>
                        <a:pt x="72" y="221"/>
                        <a:pt x="115" y="208"/>
                        <a:pt x="154" y="211"/>
                      </a:cubicBezTo>
                      <a:cubicBezTo>
                        <a:pt x="131" y="218"/>
                        <a:pt x="108" y="227"/>
                        <a:pt x="84" y="234"/>
                      </a:cubicBezTo>
                      <a:cubicBezTo>
                        <a:pt x="63" y="240"/>
                        <a:pt x="21" y="250"/>
                        <a:pt x="21" y="250"/>
                      </a:cubicBezTo>
                      <a:cubicBezTo>
                        <a:pt x="15" y="310"/>
                        <a:pt x="11" y="343"/>
                        <a:pt x="29" y="398"/>
                      </a:cubicBezTo>
                      <a:cubicBezTo>
                        <a:pt x="0" y="417"/>
                        <a:pt x="6" y="422"/>
                        <a:pt x="6" y="390"/>
                      </a:cubicBezTo>
                    </a:path>
                  </a:pathLst>
                </a:custGeom>
                <a:noFill/>
                <a:ln w="2556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636" name=""/>
                    <p:cNvSpPr txBox="1"/>
                    <p:nvPr/>
                  </p:nvSpPr>
                  <p:spPr>
                    <a:xfrm>
                      <a:off x="1676160" y="3886560"/>
                      <a:ext cx="1168560" cy="3301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rPr>
                              <m:lit/>
                              <m:nor/>
                            </m:rPr>
                            <m:t xml:space="preserve">ta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</p:grpSp>
      <p:pic>
        <p:nvPicPr>
          <p:cNvPr id="637" name="F10.013_W1073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5362560" cy="2305080"/>
          </a:xfrm>
          <a:prstGeom prst="rect">
            <a:avLst/>
          </a:prstGeom>
          <a:ln w="0">
            <a:noFill/>
          </a:ln>
        </p:spPr>
      </p:pic>
      <p:grpSp>
        <p:nvGrpSpPr>
          <p:cNvPr id="638" name=""/>
          <p:cNvGrpSpPr/>
          <p:nvPr/>
        </p:nvGrpSpPr>
        <p:grpSpPr>
          <a:xfrm>
            <a:off x="2882880" y="2895480"/>
            <a:ext cx="5880240" cy="1087560"/>
            <a:chOff x="2882880" y="2895480"/>
            <a:chExt cx="5880240" cy="1087560"/>
          </a:xfrm>
        </p:grpSpPr>
        <mc:AlternateContent>
          <mc:Choice xmlns:a14="http://schemas.microsoft.com/office/drawing/2010/main" Requires="a14">
            <p:sp>
              <p:nvSpPr>
                <p:cNvPr id="639" name=""/>
                <p:cNvSpPr txBox="1"/>
                <p:nvPr/>
              </p:nvSpPr>
              <p:spPr>
                <a:xfrm>
                  <a:off x="4572000" y="2895480"/>
                  <a:ext cx="4191120" cy="67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"/>
                              <m:endChr m:val="}"/>
                            </m:dP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MW</m:t>
                              </m:r>
                            </m:e>
                            <m:e/>
                          </m:d>
                        </m:e>
                      </m:eqArr>
                      <m:r>
                        <m:t xml:space="preserve">⇒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ew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67</m:t>
                      </m:r>
                      <m:r>
                        <m:rPr>
                          <m:lit/>
                          <m:nor/>
                        </m:rPr>
                        <m:t xml:space="preserve">MV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40" name=""/>
            <p:cNvSpPr/>
            <p:nvPr/>
          </p:nvSpPr>
          <p:spPr>
            <a:xfrm>
              <a:off x="2882880" y="3203640"/>
              <a:ext cx="1805040" cy="779400"/>
            </a:xfrm>
            <a:custGeom>
              <a:avLst/>
              <a:gdLst/>
              <a:ahLst/>
              <a:rect l="l" t="t" r="r" b="b"/>
              <a:pathLst>
                <a:path w="1137" h="491">
                  <a:moveTo>
                    <a:pt x="0" y="491"/>
                  </a:moveTo>
                  <a:cubicBezTo>
                    <a:pt x="138" y="463"/>
                    <a:pt x="176" y="446"/>
                    <a:pt x="296" y="398"/>
                  </a:cubicBezTo>
                  <a:cubicBezTo>
                    <a:pt x="361" y="372"/>
                    <a:pt x="374" y="340"/>
                    <a:pt x="452" y="320"/>
                  </a:cubicBezTo>
                  <a:cubicBezTo>
                    <a:pt x="538" y="254"/>
                    <a:pt x="533" y="278"/>
                    <a:pt x="623" y="242"/>
                  </a:cubicBezTo>
                  <a:cubicBezTo>
                    <a:pt x="655" y="229"/>
                    <a:pt x="687" y="213"/>
                    <a:pt x="717" y="195"/>
                  </a:cubicBezTo>
                  <a:cubicBezTo>
                    <a:pt x="739" y="182"/>
                    <a:pt x="756" y="160"/>
                    <a:pt x="779" y="148"/>
                  </a:cubicBezTo>
                  <a:cubicBezTo>
                    <a:pt x="975" y="49"/>
                    <a:pt x="791" y="167"/>
                    <a:pt x="927" y="94"/>
                  </a:cubicBezTo>
                  <a:cubicBezTo>
                    <a:pt x="971" y="70"/>
                    <a:pt x="957" y="53"/>
                    <a:pt x="1020" y="39"/>
                  </a:cubicBezTo>
                  <a:cubicBezTo>
                    <a:pt x="1060" y="30"/>
                    <a:pt x="1101" y="19"/>
                    <a:pt x="1137" y="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4673520" y="3619440"/>
                <a:ext cx="31622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Q</m:t>
                        </m:r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7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3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4</m:t>
                        </m:r>
                        <m:r>
                          <m:rPr>
                            <m:lit/>
                            <m:nor/>
                          </m:rPr>
                          <m:t xml:space="preserve">M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4648320" y="4343400"/>
                <a:ext cx="39369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nnection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pacito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3" name=""/>
              <p:cNvSpPr txBox="1"/>
              <p:nvPr/>
            </p:nvSpPr>
            <p:spPr>
              <a:xfrm>
                <a:off x="4654440" y="4952880"/>
                <a:ext cx="393696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4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5899320" y="5791320"/>
                <a:ext cx="1295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4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4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8" name=""/>
          <p:cNvGraphicFramePr/>
          <p:nvPr/>
        </p:nvGraphicFramePr>
        <p:xfrm>
          <a:off x="76320" y="685800"/>
          <a:ext cx="63244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85800"/>
                    <a:ext cx="63244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0" name=""/>
          <p:cNvGrpSpPr/>
          <p:nvPr/>
        </p:nvGrpSpPr>
        <p:grpSpPr>
          <a:xfrm>
            <a:off x="6222960" y="1752480"/>
            <a:ext cx="2882880" cy="2590920"/>
            <a:chOff x="6222960" y="1752480"/>
            <a:chExt cx="2882880" cy="2590920"/>
          </a:xfrm>
        </p:grpSpPr>
        <p:sp>
          <p:nvSpPr>
            <p:cNvPr id="651" name=""/>
            <p:cNvSpPr/>
            <p:nvPr/>
          </p:nvSpPr>
          <p:spPr>
            <a:xfrm>
              <a:off x="6222960" y="1752480"/>
              <a:ext cx="2882880" cy="8240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termine the curr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lowing. Convert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voltages to 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2" name="F10.007B_W1066" descr=""/>
            <p:cNvPicPr/>
            <p:nvPr/>
          </p:nvPicPr>
          <p:blipFill>
            <a:blip r:embed="rId3"/>
            <a:stretch/>
          </p:blipFill>
          <p:spPr>
            <a:xfrm>
              <a:off x="6477120" y="2590920"/>
              <a:ext cx="2270160" cy="175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3" name=""/>
          <p:cNvSpPr/>
          <p:nvPr/>
        </p:nvSpPr>
        <p:spPr>
          <a:xfrm>
            <a:off x="3132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79600" y="76320"/>
            <a:ext cx="283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MEASURING POWER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600200" y="1295280"/>
            <a:ext cx="4813200" cy="304920"/>
            <a:chOff x="1600200" y="1295280"/>
            <a:chExt cx="4813200" cy="304920"/>
          </a:xfrm>
        </p:grpSpPr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1600200" y="132084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4952880" y="1295280"/>
                  <a:ext cx="1460520" cy="27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∠</m:t>
                      </m:r>
                      <m:r>
                        <m:t xml:space="preserve">5</m:t>
                      </m:r>
                      <m:r>
                        <m:t xml:space="preserve">°</m:t>
                      </m:r>
                      <m:r>
                        <m:rPr>
                          <m:lit/>
                          <m:nor/>
                        </m:rPr>
                        <m:t xml:space="preserve">kV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8" name=""/>
          <p:cNvSpPr/>
          <p:nvPr/>
        </p:nvSpPr>
        <p:spPr>
          <a:xfrm>
            <a:off x="5246280" y="76320"/>
            <a:ext cx="3885480" cy="580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ich circuit is the source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hat is the average power suppli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76320" y="3352680"/>
            <a:ext cx="6324480" cy="1691280"/>
            <a:chOff x="76320" y="3352680"/>
            <a:chExt cx="6324480" cy="1691280"/>
          </a:xfrm>
        </p:grpSpPr>
        <p:graphicFrame>
          <p:nvGraphicFramePr>
            <p:cNvPr id="660" name=""/>
            <p:cNvGraphicFramePr/>
            <p:nvPr/>
          </p:nvGraphicFramePr>
          <p:xfrm>
            <a:off x="76320" y="3352680"/>
            <a:ext cx="6324480" cy="1500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6320" y="3352680"/>
                      <a:ext cx="6324480" cy="150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2" name=""/>
            <p:cNvSpPr/>
            <p:nvPr/>
          </p:nvSpPr>
          <p:spPr>
            <a:xfrm>
              <a:off x="1552320" y="4706640"/>
              <a:ext cx="279432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Equivalent 1-phase circ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63" name=""/>
              <p:cNvSpPr txBox="1"/>
              <p:nvPr/>
            </p:nvSpPr>
            <p:spPr>
              <a:xfrm>
                <a:off x="0" y="5029200"/>
                <a:ext cx="4533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00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°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"/>
              <p:cNvSpPr txBox="1"/>
              <p:nvPr/>
            </p:nvSpPr>
            <p:spPr>
              <a:xfrm>
                <a:off x="152280" y="6019920"/>
                <a:ext cx="29084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"/>
              <p:cNvSpPr txBox="1"/>
              <p:nvPr/>
            </p:nvSpPr>
            <p:spPr>
              <a:xfrm>
                <a:off x="6864480" y="4002120"/>
                <a:ext cx="1650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×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  <m:sup/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4705200" y="4800600"/>
                <a:ext cx="41148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7" name=""/>
              <p:cNvSpPr txBox="1"/>
              <p:nvPr/>
            </p:nvSpPr>
            <p:spPr>
              <a:xfrm>
                <a:off x="4724280" y="5524560"/>
                <a:ext cx="1498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  <m:r>
                          <m:rPr>
                            <m:lit/>
                            <m:nor/>
                          </m:rPr>
                          <m:t xml:space="preserve">MW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"/>
              <p:cNvSpPr txBox="1"/>
              <p:nvPr/>
            </p:nvSpPr>
            <p:spPr>
              <a:xfrm>
                <a:off x="7772400" y="5638680"/>
                <a:ext cx="12952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9" name=""/>
          <p:cNvSpPr/>
          <p:nvPr/>
        </p:nvSpPr>
        <p:spPr>
          <a:xfrm>
            <a:off x="4779360" y="6216480"/>
            <a:ext cx="24346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ystem Y is the 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"/>
              <p:cNvSpPr txBox="1"/>
              <p:nvPr/>
            </p:nvSpPr>
            <p:spPr>
              <a:xfrm>
                <a:off x="4724280" y="5156280"/>
                <a:ext cx="4254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03</m:t>
                    </m:r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8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  <m:r>
                      <m:t xml:space="preserve">)</m:t>
                    </m:r>
                    <m:r>
                      <m:t xml:space="preserve">°</m:t>
                    </m:r>
                    <m:r>
                      <m:rPr>
                        <m:lit/>
                        <m:nor/>
                      </m:rPr>
                      <m:t xml:space="preserve">M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2971800" y="6400800"/>
                <a:ext cx="1701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2" name=""/>
          <p:cNvSpPr/>
          <p:nvPr/>
        </p:nvSpPr>
        <p:spPr>
          <a:xfrm>
            <a:off x="6630480" y="820800"/>
            <a:ext cx="2212200" cy="8240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hase differe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dir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of power flow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3" name="geaux" descr=""/>
          <p:cNvPicPr/>
          <p:nvPr/>
        </p:nvPicPr>
        <p:blipFill>
          <a:blip r:embed="rId6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74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150480" y="76320"/>
            <a:ext cx="30488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SPEC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2280" y="592200"/>
            <a:ext cx="71683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s for power factor correction are normally specified in V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353880" y="939960"/>
                <a:ext cx="749484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er capacitor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voltage and frequency must be given in order to know the capacitanc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ssume 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rPr>
                            <m:lit/>
                            <m:nor/>
                          </m:rPr>
                          <m:t xml:space="preserve">Hz</m:t>
                        </m:r>
                        <m:r>
                          <m:rPr>
                            <m:lit/>
                            <m:nor/>
                          </m:rPr>
                          <m:t xml:space="preserve"> unless other value is giv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181480" y="4419720"/>
                <a:ext cx="346716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0" name=""/>
              <p:cNvSpPr txBox="1"/>
              <p:nvPr/>
            </p:nvSpPr>
            <p:spPr>
              <a:xfrm>
                <a:off x="5181480" y="5181480"/>
                <a:ext cx="335304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1" name=""/>
              <p:cNvSpPr txBox="1"/>
              <p:nvPr/>
            </p:nvSpPr>
            <p:spPr>
              <a:xfrm>
                <a:off x="5105520" y="3657600"/>
                <a:ext cx="337824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609480" y="5105520"/>
                <a:ext cx="311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  <m:r>
                      <m:t xml:space="preserve">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kV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83" name=""/>
          <p:cNvGrpSpPr/>
          <p:nvPr/>
        </p:nvGrpSpPr>
        <p:grpSpPr>
          <a:xfrm>
            <a:off x="0" y="2039760"/>
            <a:ext cx="4419360" cy="2984400"/>
            <a:chOff x="0" y="2039760"/>
            <a:chExt cx="4419360" cy="2984400"/>
          </a:xfrm>
        </p:grpSpPr>
        <p:sp>
          <p:nvSpPr>
            <p:cNvPr id="684" name=""/>
            <p:cNvSpPr/>
            <p:nvPr/>
          </p:nvSpPr>
          <p:spPr>
            <a:xfrm>
              <a:off x="183960" y="2039760"/>
              <a:ext cx="222444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EARNING 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5" name=""/>
            <p:cNvGrpSpPr/>
            <p:nvPr/>
          </p:nvGrpSpPr>
          <p:grpSpPr>
            <a:xfrm>
              <a:off x="0" y="2438280"/>
              <a:ext cx="4419360" cy="2585880"/>
              <a:chOff x="0" y="2438280"/>
              <a:chExt cx="4419360" cy="2585880"/>
            </a:xfrm>
          </p:grpSpPr>
          <p:pic>
            <p:nvPicPr>
              <p:cNvPr id="686" name="F10.013_W1073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3124080"/>
                <a:ext cx="4419360" cy="19000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87" name=""/>
                  <p:cNvSpPr txBox="1"/>
                  <p:nvPr/>
                </p:nvSpPr>
                <p:spPr>
                  <a:xfrm>
                    <a:off x="838080" y="2438280"/>
                    <a:ext cx="3149640" cy="620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pf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4 leading one needs</m:t>
                            </m:r>
                          </m:e>
                          <m:e>
                            <m:r>
                              <m:t xml:space="preserve">C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6</m:t>
                            </m:r>
                            <m:r>
                              <m:t xml:space="preserve">μ</m:t>
                            </m:r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688" name=""/>
          <p:cNvGrpSpPr/>
          <p:nvPr/>
        </p:nvGrpSpPr>
        <p:grpSpPr>
          <a:xfrm>
            <a:off x="4495680" y="2192400"/>
            <a:ext cx="4648320" cy="1324080"/>
            <a:chOff x="4495680" y="2192400"/>
            <a:chExt cx="4648320" cy="1324080"/>
          </a:xfrm>
        </p:grpSpPr>
        <p:graphicFrame>
          <p:nvGraphicFramePr>
            <p:cNvPr id="689" name=""/>
            <p:cNvGraphicFramePr/>
            <p:nvPr/>
          </p:nvGraphicFramePr>
          <p:xfrm>
            <a:off x="4495680" y="2514600"/>
            <a:ext cx="4648320" cy="100188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69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95680" y="2514600"/>
                      <a:ext cx="4648320" cy="10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1" name=""/>
            <p:cNvSpPr/>
            <p:nvPr/>
          </p:nvSpPr>
          <p:spPr>
            <a:xfrm>
              <a:off x="5582520" y="2192400"/>
              <a:ext cx="19256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ices avail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305640" y="5562720"/>
            <a:ext cx="4138560" cy="5806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1 is not rated at high en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692600" y="6002280"/>
            <a:ext cx="36036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apacitor 3 is the best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4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69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492840" y="76320"/>
            <a:ext cx="7380000" cy="1247760"/>
            <a:chOff x="492840" y="76320"/>
            <a:chExt cx="7380000" cy="1247760"/>
          </a:xfrm>
        </p:grpSpPr>
        <p:sp>
          <p:nvSpPr>
            <p:cNvPr id="74" name=""/>
            <p:cNvSpPr/>
            <p:nvPr/>
          </p:nvSpPr>
          <p:spPr>
            <a:xfrm>
              <a:off x="492840" y="76320"/>
              <a:ext cx="73800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roof of Theor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For a balanced three phase circuit the instantaneous power is consta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" name=""/>
                <p:cNvSpPr txBox="1"/>
                <p:nvPr/>
              </p:nvSpPr>
              <p:spPr>
                <a:xfrm>
                  <a:off x="1692360" y="779400"/>
                  <a:ext cx="2222280" cy="544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θ</m:t>
                      </m:r>
                      <m:r>
                        <m:t xml:space="preserve"> </m:t>
                      </m:r>
                      <m:r>
                        <m:t xml:space="preserve">(</m:t>
                      </m:r>
                      <m:r>
                        <m:t xml:space="preserve">W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0" y="1447920"/>
                <a:ext cx="435600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nstantaneous power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  <m:e/>
                    </m:eqAr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04920" y="3124080"/>
                <a:ext cx="36957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β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33520" y="3809880"/>
                <a:ext cx="335268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θ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0</m:t>
                            </m:r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724280" y="914400"/>
                <a:ext cx="4025880" cy="199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mm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o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φ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467480" y="685800"/>
                <a:ext cx="1447920" cy="2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" name=""/>
          <p:cNvGrpSpPr/>
          <p:nvPr/>
        </p:nvGrpSpPr>
        <p:grpSpPr>
          <a:xfrm>
            <a:off x="4572000" y="2895480"/>
            <a:ext cx="4267080" cy="341280"/>
            <a:chOff x="4572000" y="2895480"/>
            <a:chExt cx="4267080" cy="341280"/>
          </a:xfrm>
        </p:grpSpPr>
        <p:sp>
          <p:nvSpPr>
            <p:cNvPr id="82" name=""/>
            <p:cNvSpPr/>
            <p:nvPr/>
          </p:nvSpPr>
          <p:spPr>
            <a:xfrm>
              <a:off x="4572000" y="2895480"/>
              <a:ext cx="4267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952880" y="2971800"/>
                  <a:ext cx="346716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(</m:t>
                      </m:r>
                      <m:r>
                        <m:t xml:space="preserve">φ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43000" y="4876920"/>
                <a:ext cx="2514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ω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θ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80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5" name="geaux" descr=""/>
          <p:cNvPicPr/>
          <p:nvPr/>
        </p:nvPicPr>
        <p:blipFill>
          <a:blip r:embed="rId1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110880" y="58680"/>
            <a:ext cx="236916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B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F10.015_W1075" descr=""/>
          <p:cNvPicPr/>
          <p:nvPr/>
        </p:nvPicPr>
        <p:blipFill>
          <a:blip r:embed="rId1"/>
          <a:stretch/>
        </p:blipFill>
        <p:spPr>
          <a:xfrm>
            <a:off x="152280" y="550800"/>
            <a:ext cx="6658200" cy="24955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5659920" y="457200"/>
            <a:ext cx="21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roposed new st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1371600" y="550800"/>
                <a:ext cx="3251160" cy="2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#4ACSR wire rated at 170 A rm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01" name=""/>
          <p:cNvGrpSpPr/>
          <p:nvPr/>
        </p:nvGrpSpPr>
        <p:grpSpPr>
          <a:xfrm>
            <a:off x="6670440" y="896760"/>
            <a:ext cx="2449800" cy="2104920"/>
            <a:chOff x="6670440" y="896760"/>
            <a:chExt cx="2449800" cy="2104920"/>
          </a:xfrm>
        </p:grpSpPr>
        <p:grpSp>
          <p:nvGrpSpPr>
            <p:cNvPr id="702" name=""/>
            <p:cNvGrpSpPr/>
            <p:nvPr/>
          </p:nvGrpSpPr>
          <p:grpSpPr>
            <a:xfrm>
              <a:off x="6670440" y="896760"/>
              <a:ext cx="2449800" cy="1524600"/>
              <a:chOff x="6670440" y="896760"/>
              <a:chExt cx="2449800" cy="1524600"/>
            </a:xfrm>
          </p:grpSpPr>
          <p:sp>
            <p:nvSpPr>
              <p:cNvPr id="703" name=""/>
              <p:cNvSpPr/>
              <p:nvPr/>
            </p:nvSpPr>
            <p:spPr>
              <a:xfrm>
                <a:off x="6670440" y="896760"/>
                <a:ext cx="2449800" cy="3373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1. Is the wire suitable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729120" y="1353960"/>
                <a:ext cx="2298960" cy="10674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2. What capacita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would be required 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have a composit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f =0.92 lagg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6820920" y="2421000"/>
              <a:ext cx="220932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apacitors are to 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 - 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858000" y="3048120"/>
            <a:ext cx="2286000" cy="2525760"/>
            <a:chOff x="6858000" y="3048120"/>
            <a:chExt cx="2286000" cy="2525760"/>
          </a:xfrm>
        </p:grpSpPr>
        <mc:AlternateContent>
          <mc:Choice xmlns:a14="http://schemas.microsoft.com/office/drawing/2010/main" Requires="a14">
            <p:sp>
              <p:nvSpPr>
                <p:cNvPr id="707" name=""/>
                <p:cNvSpPr txBox="1"/>
                <p:nvPr/>
              </p:nvSpPr>
              <p:spPr>
                <a:xfrm>
                  <a:off x="7696080" y="3352680"/>
                  <a:ext cx="1320840" cy="14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S</m:t>
                          </m:r>
                          <m:r>
                            <m:t xml:space="preserve">=</m:t>
                          </m:r>
                          <m:r>
                            <m:t xml:space="preserve">P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jQ</m:t>
                          </m:r>
                        </m:e>
                        <m:e>
                          <m:r>
                            <m:t xml:space="preserve">P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t xml:space="preserve">Q</m:t>
                          </m:r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r>
                            <m:t xml:space="preserve">S</m:t>
                          </m:r>
                          <m:r>
                            <m:t xml:space="preserve">|</m:t>
                          </m:r>
                          <m:r>
                            <m:rPr>
                              <m:lit/>
                              <m:nor/>
                            </m:rPr>
                            <m:t xml:space="preserve">sin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pf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cos</m:t>
                          </m:r>
                          <m:sSub>
                            <m:e>
                              <m:r>
                                <m:t xml:space="preserve">θ</m:t>
                              </m:r>
                            </m:e>
                            <m:sub>
                              <m:r>
                                <m:t xml:space="preserve">f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8" name=""/>
                <p:cNvSpPr txBox="1"/>
                <p:nvPr/>
              </p:nvSpPr>
              <p:spPr>
                <a:xfrm>
                  <a:off x="6858000" y="4800600"/>
                  <a:ext cx="228600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Total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hase</m:t>
                              </m:r>
                            </m:sub>
                            <m:sup/>
                          </m:sSubSup>
                        </m:e>
                        <m:e>
                          <m:r>
                            <m:t xml:space="preserve"> </m:t>
                          </m:r>
                          <m:r>
                            <m:t xml:space="preserve">=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</m:sSub>
                          <m:r>
                            <m:t xml:space="preserve">×</m:t>
                          </m:r>
                          <m:sSubSup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line</m:t>
                              </m:r>
                            </m:sub>
                            <m:sup/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09" name=""/>
                <p:cNvSpPr txBox="1"/>
                <p:nvPr/>
              </p:nvSpPr>
              <p:spPr>
                <a:xfrm>
                  <a:off x="7162920" y="3048120"/>
                  <a:ext cx="181584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otal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838080" y="3048120"/>
                <a:ext cx="189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6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42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2819520" y="3048120"/>
                <a:ext cx="18540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866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4876920" y="3048120"/>
                <a:ext cx="1917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°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0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rPr>
                            <m:lit/>
                            <m:nor/>
                          </m:rPr>
                          <m:t xml:space="preserve">349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kV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838080" y="3733920"/>
                <a:ext cx="42544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8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63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17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838080" y="4114800"/>
                <a:ext cx="443232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otal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ine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7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5496120" y="4249800"/>
            <a:ext cx="1217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Wire is 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76320" y="4800600"/>
                <a:ext cx="14097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"/>
                        <m:endChr m:val="}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old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p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new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152280" y="556272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Q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1473120" y="4952880"/>
                <a:ext cx="134640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2819520" y="4952880"/>
                <a:ext cx="125712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0" name=""/>
              <p:cNvSpPr txBox="1"/>
              <p:nvPr/>
            </p:nvSpPr>
            <p:spPr>
              <a:xfrm>
                <a:off x="1828800" y="5562720"/>
                <a:ext cx="13971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87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2</m:t>
                    </m:r>
                    <m:r>
                      <m:rPr>
                        <m:lit/>
                        <m:nor/>
                      </m:rPr>
                      <m:t xml:space="preserve">kV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101520" y="5867280"/>
                <a:ext cx="2032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 capacitor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ω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2" name=""/>
              <p:cNvSpPr txBox="1"/>
              <p:nvPr/>
            </p:nvSpPr>
            <p:spPr>
              <a:xfrm>
                <a:off x="152280" y="6248520"/>
                <a:ext cx="19558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kV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209680" y="5918040"/>
                <a:ext cx="2616480" cy="71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72</m:t>
                                </m:r>
                                <m:r>
                                  <m:t xml:space="preserve">×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num>
                      <m:den>
                        <m:r>
                          <m:t xml:space="preserve">2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  <m:r>
                              <m:t xml:space="preserve">×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8</m:t>
                                    </m:r>
                                    <m:r>
                                      <m:t xml:space="preserve">×</m:t>
                                    </m:r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0</m:t>
                                        </m:r>
                                      </m:e>
                                      <m:sup>
                                        <m:r>
                                          <m:t xml:space="preserve">3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4952880" y="6095880"/>
                <a:ext cx="965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μ</m:t>
                    </m:r>
                    <m:r>
                      <m:t xml:space="preserve"> 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7511760" y="5774760"/>
            <a:ext cx="1415160" cy="1078560"/>
            <a:chOff x="7511760" y="5774760"/>
            <a:chExt cx="1415160" cy="1078560"/>
          </a:xfrm>
        </p:grpSpPr>
        <p:pic>
          <p:nvPicPr>
            <p:cNvPr id="728" name="stop" descr=""/>
            <p:cNvPicPr/>
            <p:nvPr/>
          </p:nvPicPr>
          <p:blipFill>
            <a:blip r:embed="rId2"/>
            <a:stretch/>
          </p:blipFill>
          <p:spPr>
            <a:xfrm>
              <a:off x="8185320" y="6338880"/>
              <a:ext cx="514440" cy="5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511760" y="5774760"/>
              <a:ext cx="1415160" cy="36828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onsole"/>
                </a:rPr>
                <a:t>Polyph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670840" y="85680"/>
            <a:ext cx="38199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THREE-PHASE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F10.002_W1061" descr=""/>
          <p:cNvPicPr/>
          <p:nvPr/>
        </p:nvPicPr>
        <p:blipFill>
          <a:blip r:embed="rId1"/>
          <a:stretch/>
        </p:blipFill>
        <p:spPr>
          <a:xfrm>
            <a:off x="76320" y="539640"/>
            <a:ext cx="3352680" cy="2826000"/>
          </a:xfrm>
          <a:prstGeom prst="rect">
            <a:avLst/>
          </a:prstGeom>
          <a:ln w="0">
            <a:noFill/>
          </a:ln>
        </p:spPr>
      </p:pic>
      <p:pic>
        <p:nvPicPr>
          <p:cNvPr id="90" name="F10.003_W1062" descr=""/>
          <p:cNvPicPr/>
          <p:nvPr/>
        </p:nvPicPr>
        <p:blipFill>
          <a:blip r:embed="rId2"/>
          <a:stretch/>
        </p:blipFill>
        <p:spPr>
          <a:xfrm>
            <a:off x="3657600" y="762120"/>
            <a:ext cx="2390760" cy="251460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5896080" y="1219320"/>
            <a:ext cx="3247920" cy="2028240"/>
            <a:chOff x="5896080" y="1219320"/>
            <a:chExt cx="3247920" cy="2028240"/>
          </a:xfrm>
        </p:grpSpPr>
        <p:pic>
          <p:nvPicPr>
            <p:cNvPr id="92" name="F10.001B_W1060" descr=""/>
            <p:cNvPicPr/>
            <p:nvPr/>
          </p:nvPicPr>
          <p:blipFill>
            <a:blip r:embed="rId3"/>
            <a:stretch/>
          </p:blipFill>
          <p:spPr>
            <a:xfrm>
              <a:off x="5896080" y="1219320"/>
              <a:ext cx="324792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659280" y="266688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-b-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0" y="3429000"/>
            <a:ext cx="4991040" cy="3390840"/>
            <a:chOff x="0" y="3429000"/>
            <a:chExt cx="4991040" cy="3390840"/>
          </a:xfrm>
        </p:grpSpPr>
        <p:pic>
          <p:nvPicPr>
            <p:cNvPr id="95" name="F10.004A_W1063" descr=""/>
            <p:cNvPicPr/>
            <p:nvPr/>
          </p:nvPicPr>
          <p:blipFill>
            <a:blip r:embed="rId4"/>
            <a:stretch/>
          </p:blipFill>
          <p:spPr>
            <a:xfrm>
              <a:off x="0" y="3429000"/>
              <a:ext cx="193356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F10.004B_W1063" descr=""/>
            <p:cNvPicPr/>
            <p:nvPr/>
          </p:nvPicPr>
          <p:blipFill>
            <a:blip r:embed="rId5"/>
            <a:stretch/>
          </p:blipFill>
          <p:spPr>
            <a:xfrm>
              <a:off x="1981080" y="3429000"/>
              <a:ext cx="3009960" cy="33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78360" y="6002280"/>
              <a:ext cx="142740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Y-connec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105520" y="3657600"/>
            <a:ext cx="4038480" cy="2834280"/>
            <a:chOff x="5105520" y="3657600"/>
            <a:chExt cx="4038480" cy="2834280"/>
          </a:xfrm>
        </p:grpSpPr>
        <p:pic>
          <p:nvPicPr>
            <p:cNvPr id="99" name="F10.005A_W1064" descr=""/>
            <p:cNvPicPr/>
            <p:nvPr/>
          </p:nvPicPr>
          <p:blipFill>
            <a:blip r:embed="rId6"/>
            <a:stretch/>
          </p:blipFill>
          <p:spPr>
            <a:xfrm>
              <a:off x="5105520" y="373392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F10.005B_W1064" descr=""/>
            <p:cNvPicPr/>
            <p:nvPr/>
          </p:nvPicPr>
          <p:blipFill>
            <a:blip r:embed="rId7"/>
            <a:stretch/>
          </p:blipFill>
          <p:spPr>
            <a:xfrm>
              <a:off x="7191360" y="3657600"/>
              <a:ext cx="1952640" cy="265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193440" y="6154560"/>
              <a:ext cx="242244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Delta connected loa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2" name="geaux" descr=""/>
          <p:cNvPicPr/>
          <p:nvPr/>
        </p:nvPicPr>
        <p:blipFill>
          <a:blip r:embed="rId8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10.007A_W1066" descr=""/>
          <p:cNvPicPr/>
          <p:nvPr/>
        </p:nvPicPr>
        <p:blipFill>
          <a:blip r:embed="rId1"/>
          <a:stretch/>
        </p:blipFill>
        <p:spPr>
          <a:xfrm>
            <a:off x="7391520" y="123840"/>
            <a:ext cx="1657080" cy="20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612880" y="85680"/>
            <a:ext cx="3949560" cy="39888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ucida Sans"/>
              </a:rPr>
              <a:t>SOURCE/LOAD CONN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F10.006_W1065" descr=""/>
          <p:cNvPicPr/>
          <p:nvPr/>
        </p:nvPicPr>
        <p:blipFill>
          <a:blip r:embed="rId2"/>
          <a:stretch/>
        </p:blipFill>
        <p:spPr>
          <a:xfrm>
            <a:off x="990720" y="1523880"/>
            <a:ext cx="2066760" cy="3267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6840" y="1066680"/>
            <a:ext cx="307800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ALANCED Y-Y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306600" y="1722600"/>
            <a:ext cx="1995840" cy="1706040"/>
            <a:chOff x="3306600" y="17226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3429000" y="1722600"/>
                  <a:ext cx="175212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11" name=""/>
            <p:cNvSpPr/>
            <p:nvPr/>
          </p:nvSpPr>
          <p:spPr>
            <a:xfrm>
              <a:off x="3306600" y="2847960"/>
              <a:ext cx="19958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80880" y="1066680"/>
            <a:ext cx="6714720" cy="2684520"/>
            <a:chOff x="380880" y="1066680"/>
            <a:chExt cx="6714720" cy="2684520"/>
          </a:xfrm>
        </p:grpSpPr>
        <p:grpSp>
          <p:nvGrpSpPr>
            <p:cNvPr id="113" name=""/>
            <p:cNvGrpSpPr/>
            <p:nvPr/>
          </p:nvGrpSpPr>
          <p:grpSpPr>
            <a:xfrm>
              <a:off x="380880" y="1998360"/>
              <a:ext cx="1687680" cy="1752840"/>
              <a:chOff x="380880" y="1998360"/>
              <a:chExt cx="1687680" cy="1752840"/>
            </a:xfrm>
          </p:grpSpPr>
          <p:sp>
            <p:nvSpPr>
              <p:cNvPr id="114" name=""/>
              <p:cNvSpPr/>
              <p:nvPr/>
            </p:nvSpPr>
            <p:spPr>
              <a:xfrm>
                <a:off x="1752480" y="199836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1752480" y="222696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6" name=""/>
              <p:cNvSpPr/>
              <p:nvPr/>
            </p:nvSpPr>
            <p:spPr>
              <a:xfrm>
                <a:off x="1752480" y="2989080"/>
                <a:ext cx="0" cy="76212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7" name=""/>
                  <p:cNvSpPr txBox="1"/>
                  <p:nvPr/>
                </p:nvSpPr>
                <p:spPr>
                  <a:xfrm>
                    <a:off x="1752480" y="32176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18" name=""/>
              <p:cNvSpPr/>
              <p:nvPr/>
            </p:nvSpPr>
            <p:spPr>
              <a:xfrm>
                <a:off x="761760" y="2151000"/>
                <a:ext cx="0" cy="1600200"/>
              </a:xfrm>
              <a:prstGeom prst="line">
                <a:avLst/>
              </a:prstGeom>
              <a:ln w="25560">
                <a:solidFill>
                  <a:srgbClr val="3333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9" name=""/>
                  <p:cNvSpPr txBox="1"/>
                  <p:nvPr/>
                </p:nvSpPr>
                <p:spPr>
                  <a:xfrm>
                    <a:off x="380880" y="2760480"/>
                    <a:ext cx="316080" cy="290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20" name=""/>
            <p:cNvSpPr/>
            <p:nvPr/>
          </p:nvSpPr>
          <p:spPr>
            <a:xfrm>
              <a:off x="5569200" y="1066680"/>
              <a:ext cx="15264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562720" y="2235240"/>
                <a:ext cx="3085920" cy="21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|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f>
                              <m:num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3</m:t>
                                    </m:r>
                                  </m:e>
                                </m:rad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22" name="F10.007B_W1066" descr=""/>
          <p:cNvPicPr/>
          <p:nvPr/>
        </p:nvPicPr>
        <p:blipFill>
          <a:blip r:embed="rId3"/>
          <a:stretch/>
        </p:blipFill>
        <p:spPr>
          <a:xfrm>
            <a:off x="3124080" y="3429000"/>
            <a:ext cx="2390760" cy="264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911920" y="4648320"/>
                <a:ext cx="212076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715000" y="5486400"/>
                <a:ext cx="2692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Line Voltag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57200" y="5029200"/>
                <a:ext cx="25272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57200" y="5791320"/>
                <a:ext cx="4952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t xml:space="preserve">θ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33520" y="6172200"/>
                <a:ext cx="1879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2637360" y="6095880"/>
            <a:ext cx="604368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this balanced circuit it is enough to analyze one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"/>
          <p:cNvGrpSpPr/>
          <p:nvPr/>
        </p:nvGrpSpPr>
        <p:grpSpPr>
          <a:xfrm>
            <a:off x="4724280" y="3886200"/>
            <a:ext cx="2901960" cy="2849040"/>
            <a:chOff x="4724280" y="3886200"/>
            <a:chExt cx="2901960" cy="2849040"/>
          </a:xfrm>
        </p:grpSpPr>
        <p:pic>
          <p:nvPicPr>
            <p:cNvPr id="133" name="F10.007B_W1066" descr=""/>
            <p:cNvPicPr/>
            <p:nvPr/>
          </p:nvPicPr>
          <p:blipFill>
            <a:blip r:embed="rId1"/>
            <a:stretch/>
          </p:blipFill>
          <p:spPr>
            <a:xfrm>
              <a:off x="4724280" y="38862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059080" y="61545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107640" y="13500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3080" y="13500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4343400" y="533520"/>
                <a:ext cx="16002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2613960" y="896760"/>
            <a:ext cx="323316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th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28600" y="685800"/>
            <a:ext cx="2066760" cy="3672720"/>
            <a:chOff x="228600" y="685800"/>
            <a:chExt cx="2066760" cy="3672720"/>
          </a:xfrm>
        </p:grpSpPr>
        <p:pic>
          <p:nvPicPr>
            <p:cNvPr id="140" name="F10.006_W1065" descr=""/>
            <p:cNvPicPr/>
            <p:nvPr/>
          </p:nvPicPr>
          <p:blipFill>
            <a:blip r:embed="rId2"/>
            <a:stretch/>
          </p:blipFill>
          <p:spPr>
            <a:xfrm>
              <a:off x="228600" y="685800"/>
              <a:ext cx="2066760" cy="32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96720" y="4021200"/>
              <a:ext cx="1585800" cy="3373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Balanced Y - 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90720" y="1295280"/>
            <a:ext cx="5486400" cy="2514600"/>
            <a:chOff x="2790720" y="1295280"/>
            <a:chExt cx="5486400" cy="2514600"/>
          </a:xfrm>
        </p:grpSpPr>
        <p:pic>
          <p:nvPicPr>
            <p:cNvPr id="143" name="F10.003_W1062" descr=""/>
            <p:cNvPicPr/>
            <p:nvPr/>
          </p:nvPicPr>
          <p:blipFill>
            <a:blip r:embed="rId3"/>
            <a:stretch/>
          </p:blipFill>
          <p:spPr>
            <a:xfrm>
              <a:off x="2790720" y="129528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5029200" y="1752480"/>
              <a:ext cx="3247920" cy="2028240"/>
              <a:chOff x="5029200" y="1752480"/>
              <a:chExt cx="3247920" cy="2028240"/>
            </a:xfrm>
          </p:grpSpPr>
          <p:pic>
            <p:nvPicPr>
              <p:cNvPr id="145" name="F10.001B_W1060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175248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5792400" y="320004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137360" y="3943440"/>
                <a:ext cx="18036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" name=""/>
          <p:cNvGrpSpPr/>
          <p:nvPr/>
        </p:nvGrpSpPr>
        <p:grpSpPr>
          <a:xfrm>
            <a:off x="2773080" y="3886200"/>
            <a:ext cx="1995840" cy="1706040"/>
            <a:chOff x="2773080" y="3886200"/>
            <a:chExt cx="1995840" cy="1706040"/>
          </a:xfrm>
        </p:grpSpPr>
        <mc:AlternateContent>
          <mc:Choice xmlns:a14="http://schemas.microsoft.com/office/drawing/2010/main" Requires="a14">
            <p:sp>
              <p:nvSpPr>
                <p:cNvPr id="149" name=""/>
                <p:cNvSpPr txBox="1"/>
                <p:nvPr/>
              </p:nvSpPr>
              <p:spPr>
                <a:xfrm>
                  <a:off x="2895840" y="3886200"/>
                  <a:ext cx="175248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p</m:t>
                              </m:r>
                            </m:sub>
                          </m:sSub>
                          <m:r>
                            <m:t xml:space="preserve">|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50" name=""/>
            <p:cNvSpPr/>
            <p:nvPr/>
          </p:nvSpPr>
          <p:spPr>
            <a:xfrm>
              <a:off x="2773080" y="5011560"/>
              <a:ext cx="199584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ositive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6477120" y="5486400"/>
                <a:ext cx="253980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086600" y="4419720"/>
                <a:ext cx="19177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61040" y="4952880"/>
                <a:ext cx="16002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533520" y="4876920"/>
                <a:ext cx="167616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677760" y="1430280"/>
            <a:ext cx="527400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The phasor diagram could be rotated by any 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geaux" descr=""/>
          <p:cNvPicPr/>
          <p:nvPr/>
        </p:nvPicPr>
        <p:blipFill>
          <a:blip r:embed="rId5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7640" y="76320"/>
            <a:ext cx="222444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A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226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2680" y="457200"/>
                <a:ext cx="58309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rce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125640" y="820800"/>
            <a:ext cx="445392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line currents and load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93280" y="439560"/>
            <a:ext cx="2902680" cy="824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Because circuit is balan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ata on any one phase 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uffic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F10.008_W1067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429000" cy="277524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304920" y="3048120"/>
            <a:ext cx="2365920" cy="656640"/>
            <a:chOff x="304920" y="3048120"/>
            <a:chExt cx="2365920" cy="656640"/>
          </a:xfrm>
        </p:grpSpPr>
        <mc:AlternateContent>
          <mc:Choice xmlns:a14="http://schemas.microsoft.com/office/drawing/2010/main" Requires="a14">
            <p:sp>
              <p:nvSpPr>
                <p:cNvPr id="166" name=""/>
                <p:cNvSpPr txBox="1"/>
                <p:nvPr/>
              </p:nvSpPr>
              <p:spPr>
                <a:xfrm>
                  <a:off x="304920" y="3048120"/>
                  <a:ext cx="736560" cy="228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∠</m:t>
                      </m:r>
                      <m:r>
                        <m:t xml:space="preserve">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7" name=""/>
            <p:cNvSpPr/>
            <p:nvPr/>
          </p:nvSpPr>
          <p:spPr>
            <a:xfrm>
              <a:off x="1235880" y="3124080"/>
              <a:ext cx="14349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Chos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s refer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28600" y="4038480"/>
            <a:ext cx="1676520" cy="1386720"/>
            <a:chOff x="228600" y="4038480"/>
            <a:chExt cx="1676520" cy="1386720"/>
          </a:xfrm>
        </p:grpSpPr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228600" y="4038480"/>
                  <a:ext cx="1676520" cy="100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b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n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∠</m:t>
                          </m:r>
                          <m:r>
                            <m:rPr>
                              <m:lit/>
                              <m:nor/>
                            </m:rPr>
                            <m:t xml:space="preserve">120</m:t>
                          </m:r>
                          <m:r>
                            <m:t xml:space="preserve">°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70" name=""/>
            <p:cNvSpPr/>
            <p:nvPr/>
          </p:nvSpPr>
          <p:spPr>
            <a:xfrm>
              <a:off x="235080" y="5087880"/>
              <a:ext cx="15645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Abc sequ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57200" y="5486400"/>
                <a:ext cx="285768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n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  <m:r>
                              <m:t xml:space="preserve">+</m:t>
                            </m:r>
                            <m:r>
                              <m:t xml:space="preserve">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0</m:t>
                            </m:r>
                            <m:r>
                              <m:t xml:space="preserve">∠</m:t>
                            </m:r>
                            <m:r>
                              <m:t xml:space="preserve">0</m:t>
                            </m:r>
                            <m:r>
                              <m:t xml:space="preserve">°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1</m:t>
                            </m:r>
                            <m:r>
                              <m:t xml:space="preserve">∠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5</m:t>
                            </m:r>
                            <m:r>
                              <m:t xml:space="preserve">°</m:t>
                            </m:r>
                          </m:den>
                        </m:f>
                      </m:e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81480" y="1371600"/>
                <a:ext cx="31878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800600" y="2438280"/>
                <a:ext cx="40766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A</m:t>
                        </m:r>
                      </m:sub>
                    </m:sSub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4800600" y="2819520"/>
                <a:ext cx="2806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156280" y="3429000"/>
                <a:ext cx="30225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8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  <m:r>
                          <m:t xml:space="preserve">°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6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9720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8160" y="685800"/>
                <a:ext cx="4305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Find the line voltage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2" name=""/>
          <p:cNvGrpSpPr/>
          <p:nvPr/>
        </p:nvGrpSpPr>
        <p:grpSpPr>
          <a:xfrm>
            <a:off x="4876920" y="579600"/>
            <a:ext cx="2901960" cy="2849040"/>
            <a:chOff x="4876920" y="579600"/>
            <a:chExt cx="2901960" cy="2849040"/>
          </a:xfrm>
        </p:grpSpPr>
        <p:pic>
          <p:nvPicPr>
            <p:cNvPr id="183" name="F10.007B_W1066" descr=""/>
            <p:cNvPicPr/>
            <p:nvPr/>
          </p:nvPicPr>
          <p:blipFill>
            <a:blip r:embed="rId1"/>
            <a:stretch/>
          </p:blipFill>
          <p:spPr>
            <a:xfrm>
              <a:off x="4876920" y="579600"/>
              <a:ext cx="239076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5211720" y="2847960"/>
              <a:ext cx="2567160" cy="5806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Relationship betwe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Sans"/>
                </a:rPr>
                <a:t>phase and line volt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35840" y="1523880"/>
            <a:ext cx="1917720" cy="766800"/>
            <a:chOff x="7035840" y="1523880"/>
            <a:chExt cx="1917720" cy="766800"/>
          </a:xfrm>
        </p:grpSpPr>
        <mc:AlternateContent>
          <mc:Choice xmlns:a14="http://schemas.microsoft.com/office/drawing/2010/main" Requires="a14">
            <p:sp>
              <p:nvSpPr>
                <p:cNvPr id="186" name=""/>
                <p:cNvSpPr txBox="1"/>
                <p:nvPr/>
              </p:nvSpPr>
              <p:spPr>
                <a:xfrm>
                  <a:off x="7086600" y="1523880"/>
                  <a:ext cx="180324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  <m:r>
                        <m:t xml:space="preserve">|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  <m:r>
                        <m:t xml:space="preserve">|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7035840" y="2000160"/>
                  <a:ext cx="1917720" cy="29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n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lags 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ab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by 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95480" y="1143000"/>
                <a:ext cx="20448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ead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33520" y="1752480"/>
                <a:ext cx="26413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066680" y="2438280"/>
                <a:ext cx="2667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14480" y="3733920"/>
                <a:ext cx="445752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t xml:space="preserve">∠</m:t>
                    </m:r>
                    <m:r>
                      <m:t xml:space="preserve">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ind the phase voltag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3200400" y="4191120"/>
                <a:ext cx="184140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lags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by 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4495680"/>
                <a:ext cx="24127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∠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rm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3174840" y="5029200"/>
                <a:ext cx="246384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den>
                        </m:f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95" name="geaux" descr=""/>
          <p:cNvPicPr/>
          <p:nvPr/>
        </p:nvPicPr>
        <p:blipFill>
          <a:blip r:embed="rId2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06920" y="76320"/>
            <a:ext cx="244980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LEARNING EXT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4880" y="76320"/>
            <a:ext cx="570528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For an abc sequence, balanced Y - Y three phase circ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44280" y="457200"/>
                <a:ext cx="6364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ad, 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°</m:t>
                    </m:r>
                    <m:r>
                      <m:t xml:space="preserve">(</m:t>
                    </m:r>
                    <m:r>
                      <m:t xml:space="preserve">V</m:t>
                    </m:r>
                    <m:sSub>
                      <m:e>
                        <m:r>
                          <m:t xml:space="preserve">)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in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1</m:t>
                    </m:r>
                    <m:r>
                      <m:t xml:space="preserve">Ω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j</m:t>
                    </m:r>
                    <m:r>
                      <m:t xml:space="preserve">3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14480" y="820800"/>
            <a:ext cx="3565440" cy="3373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Determine source phase volt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04920" y="1295280"/>
            <a:ext cx="4254480" cy="2775240"/>
            <a:chOff x="304920" y="1295280"/>
            <a:chExt cx="4254480" cy="2775240"/>
          </a:xfrm>
        </p:grpSpPr>
        <p:pic>
          <p:nvPicPr>
            <p:cNvPr id="203" name="F10.008_W1067" descr=""/>
            <p:cNvPicPr/>
            <p:nvPr/>
          </p:nvPicPr>
          <p:blipFill>
            <a:blip r:embed="rId1"/>
            <a:stretch/>
          </p:blipFill>
          <p:spPr>
            <a:xfrm>
              <a:off x="304920" y="1295280"/>
              <a:ext cx="3429000" cy="27752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2362320" y="2630520"/>
                  <a:ext cx="219708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4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02</m:t>
                      </m:r>
                      <m:r>
                        <m:t xml:space="preserve">∠</m:t>
                      </m:r>
                      <m:r>
                        <m:rPr>
                          <m:lit/>
                          <m:nor/>
                        </m:rPr>
                        <m:t xml:space="preserve">26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6</m:t>
                      </m:r>
                      <m:r>
                        <m:t xml:space="preserve">°</m:t>
                      </m:r>
                      <m:r>
                        <m:t xml:space="preserve">(</m:t>
                      </m:r>
                      <m:r>
                        <m:t xml:space="preserve">V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rms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3352680" y="2057400"/>
                  <a:ext cx="381240" cy="276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3276720" y="3164040"/>
                  <a:ext cx="442800" cy="26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j</m:t>
                      </m:r>
                      <m:r>
                        <m:t xml:space="preserve">3</m:t>
                      </m:r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7" name=""/>
          <p:cNvSpPr/>
          <p:nvPr/>
        </p:nvSpPr>
        <p:spPr>
          <a:xfrm>
            <a:off x="4693320" y="914400"/>
            <a:ext cx="4065480" cy="580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Currents are not required. Use inver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voltage di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5334120" y="1523880"/>
                <a:ext cx="25146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105520" y="2133720"/>
                <a:ext cx="35049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1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095880" y="2819520"/>
                <a:ext cx="138456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n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0</m:t>
                    </m:r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228600" y="4114800"/>
            <a:ext cx="5486400" cy="2514600"/>
            <a:chOff x="228600" y="4114800"/>
            <a:chExt cx="5486400" cy="2514600"/>
          </a:xfrm>
        </p:grpSpPr>
        <p:pic>
          <p:nvPicPr>
            <p:cNvPr id="212" name="F10.003_W1062" descr=""/>
            <p:cNvPicPr/>
            <p:nvPr/>
          </p:nvPicPr>
          <p:blipFill>
            <a:blip r:embed="rId2"/>
            <a:stretch/>
          </p:blipFill>
          <p:spPr>
            <a:xfrm>
              <a:off x="228600" y="4114800"/>
              <a:ext cx="2390760" cy="2514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3" name=""/>
            <p:cNvGrpSpPr/>
            <p:nvPr/>
          </p:nvGrpSpPr>
          <p:grpSpPr>
            <a:xfrm>
              <a:off x="2467080" y="4572000"/>
              <a:ext cx="3247920" cy="2028240"/>
              <a:chOff x="2467080" y="4572000"/>
              <a:chExt cx="3247920" cy="2028240"/>
            </a:xfrm>
          </p:grpSpPr>
          <p:pic>
            <p:nvPicPr>
              <p:cNvPr id="214" name="F10.001B_W106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67080" y="4572000"/>
                <a:ext cx="3247920" cy="169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230280" y="6019560"/>
                <a:ext cx="19958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Positive sequenc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Lucida Sans"/>
                  </a:rPr>
                  <a:t>a-b-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6019920" y="3124080"/>
                <a:ext cx="15872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°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17" name="geaux" descr=""/>
          <p:cNvPicPr/>
          <p:nvPr/>
        </p:nvPicPr>
        <p:blipFill>
          <a:blip r:embed="rId4"/>
          <a:stretch/>
        </p:blipFill>
        <p:spPr>
          <a:xfrm>
            <a:off x="8410680" y="6481800"/>
            <a:ext cx="731880" cy="366840"/>
          </a:xfrm>
          <a:prstGeom prst="rect">
            <a:avLst/>
          </a:prstGeom>
          <a:ln w="0">
            <a:noFill/>
          </a:ln>
        </p:spPr>
      </p:pic>
      <p:sp>
        <p:nvSpPr>
          <p:cNvPr id="218" name="">
            <a:hlinkClick r:id="" action="ppaction://hlinkshowjump?jump=nextslide"/>
          </p:cNvPr>
          <p:cNvSpPr/>
          <p:nvPr/>
        </p:nvSpPr>
        <p:spPr>
          <a:xfrm>
            <a:off x="4662360" y="6620040"/>
            <a:ext cx="365400" cy="228600"/>
          </a:xfrm>
          <a:custGeom>
            <a:avLst/>
            <a:gdLst>
              <a:gd name="textAreaLeft" fmla="*/ 14760 w 365400"/>
              <a:gd name="textAreaRight" fmla="*/ 350640 w 3654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506" h="21600">
                <a:moveTo>
                  <a:pt x="0" y="0"/>
                </a:moveTo>
                <a:lnTo>
                  <a:pt x="34506" y="0"/>
                </a:lnTo>
                <a:lnTo>
                  <a:pt x="34506" y="21600"/>
                </a:lnTo>
                <a:lnTo>
                  <a:pt x="0" y="21600"/>
                </a:lnTo>
                <a:close/>
              </a:path>
              <a:path fill="lightenLess" w="34506" h="21600">
                <a:moveTo>
                  <a:pt x="0" y="0"/>
                </a:moveTo>
                <a:lnTo>
                  <a:pt x="34506" y="0"/>
                </a:lnTo>
                <a:lnTo>
                  <a:pt x="33106" y="1400"/>
                </a:lnTo>
                <a:lnTo>
                  <a:pt x="1400" y="1400"/>
                </a:lnTo>
                <a:close/>
              </a:path>
              <a:path fill="darken" w="34506" h="21600">
                <a:moveTo>
                  <a:pt x="34506" y="0"/>
                </a:moveTo>
                <a:lnTo>
                  <a:pt x="34506" y="21600"/>
                </a:lnTo>
                <a:lnTo>
                  <a:pt x="33106" y="20200"/>
                </a:lnTo>
                <a:lnTo>
                  <a:pt x="33106" y="1400"/>
                </a:lnTo>
                <a:close/>
              </a:path>
              <a:path fill="darkenLess" w="34506" h="21600">
                <a:moveTo>
                  <a:pt x="34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06" y="20200"/>
                </a:lnTo>
                <a:close/>
              </a:path>
              <a:path fill="lighten" w="34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06" h="21600">
                <a:moveTo>
                  <a:pt x="10246" y="3794"/>
                </a:moveTo>
                <a:lnTo>
                  <a:pt x="24259" y="10800"/>
                </a:lnTo>
                <a:lnTo>
                  <a:pt x="10246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4129200" y="6624720"/>
            <a:ext cx="365040" cy="228600"/>
          </a:xfrm>
          <a:custGeom>
            <a:avLst/>
            <a:gdLst>
              <a:gd name="textAreaLeft" fmla="*/ 14760 w 365040"/>
              <a:gd name="textAreaRight" fmla="*/ 350280 w 3650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4472" h="21600">
                <a:moveTo>
                  <a:pt x="0" y="0"/>
                </a:moveTo>
                <a:lnTo>
                  <a:pt x="34472" y="0"/>
                </a:lnTo>
                <a:lnTo>
                  <a:pt x="34472" y="21600"/>
                </a:lnTo>
                <a:lnTo>
                  <a:pt x="0" y="21600"/>
                </a:lnTo>
                <a:close/>
              </a:path>
              <a:path fill="lightenLess" w="34472" h="21600">
                <a:moveTo>
                  <a:pt x="0" y="0"/>
                </a:moveTo>
                <a:lnTo>
                  <a:pt x="34472" y="0"/>
                </a:lnTo>
                <a:lnTo>
                  <a:pt x="33072" y="1400"/>
                </a:lnTo>
                <a:lnTo>
                  <a:pt x="1400" y="1400"/>
                </a:lnTo>
                <a:close/>
              </a:path>
              <a:path fill="darken" w="34472" h="21600">
                <a:moveTo>
                  <a:pt x="34472" y="0"/>
                </a:moveTo>
                <a:lnTo>
                  <a:pt x="34472" y="21600"/>
                </a:lnTo>
                <a:lnTo>
                  <a:pt x="33072" y="20200"/>
                </a:lnTo>
                <a:lnTo>
                  <a:pt x="33072" y="1400"/>
                </a:lnTo>
                <a:close/>
              </a:path>
              <a:path fill="darkenLess" w="34472" h="21600">
                <a:moveTo>
                  <a:pt x="344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72" y="20200"/>
                </a:lnTo>
                <a:close/>
              </a:path>
              <a:path fill="lighten" w="344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72" h="21600">
                <a:moveTo>
                  <a:pt x="10229" y="10800"/>
                </a:moveTo>
                <a:lnTo>
                  <a:pt x="24242" y="3794"/>
                </a:lnTo>
                <a:lnTo>
                  <a:pt x="24242" y="17806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19:30:43Z</dcterms:created>
  <dc:creator>Jorge Aravena</dc:creator>
  <dc:description/>
  <dc:language>en-US</dc:language>
  <cp:lastModifiedBy>student</cp:lastModifiedBy>
  <dcterms:modified xsi:type="dcterms:W3CDTF">2001-08-29T18:03:22Z</dcterms:modified>
  <cp:revision>23</cp:revision>
  <dc:subject/>
  <dc:title>No Slide Title</dc:title>
</cp:coreProperties>
</file>