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16.jpeg" ContentType="image/jpeg"/>
  <Override PartName="/ppt/media/image21.png" ContentType="image/png"/>
  <Override PartName="/ppt/media/image5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8.jpeg" ContentType="image/jpe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091-C202-474D-93C2-6A833016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FF0-A6A0-46CD-A3B9-57DF642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0D5-5AED-47E5-A8AE-0E68217A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35A-D649-4EF6-8A8C-881A8DB6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4A9-4E3C-4FA8-B739-53961A67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26C-F3A5-460B-9923-E56C689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026-9356-4F08-9AD9-5A2876D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254-DAEB-4243-AD96-B983373D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64F-EDC7-4AC7-8114-BBD3633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0D0-CC5C-4833-9807-0578957C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653-2052-4148-8404-8E3F7A6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F77-007A-4474-B95F-92BD58E1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2D03-D1C8-4AE8-B85A-9BCAFE075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38720" y="76320"/>
            <a:ext cx="591876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OURIER ANALYSIS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880" y="2603520"/>
            <a:ext cx="8157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permit the extension of steady state analysis to general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9480" y="2178000"/>
            <a:ext cx="178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12536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960" y="3473280"/>
            <a:ext cx="238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3886200"/>
            <a:ext cx="783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allows us  to extend the concepts of frequency domai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 non-periodic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14.004A_W1315" descr=""/>
          <p:cNvPicPr/>
          <p:nvPr/>
        </p:nvPicPr>
        <p:blipFill>
          <a:blip r:embed="rId1"/>
          <a:stretch/>
        </p:blipFill>
        <p:spPr>
          <a:xfrm>
            <a:off x="0" y="5013360"/>
            <a:ext cx="3733920" cy="158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57600" y="1905120"/>
                <a:ext cx="3708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57600" y="685800"/>
                <a:ext cx="3365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514600" y="1371600"/>
                <a:ext cx="800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30320" y="228600"/>
            <a:ext cx="6670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EVE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60948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38960" y="4395960"/>
            <a:ext cx="6608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 FOR FUNCTIONS WITH ODD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235560" y="1447920"/>
                <a:ext cx="2908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3505320" y="4724280"/>
            <a:ext cx="5638680" cy="2005200"/>
            <a:chOff x="3505320" y="4724280"/>
            <a:chExt cx="5638680" cy="200520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3505320" y="4724280"/>
                  <a:ext cx="3746520" cy="10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,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505320" y="5867280"/>
                  <a:ext cx="332712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718320" y="5486400"/>
                  <a:ext cx="24256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b>
                            <m:sup/>
                          </m:sSubSup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j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,2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47520" y="2971800"/>
            <a:ext cx="8537760" cy="1333440"/>
            <a:chOff x="47520" y="2971800"/>
            <a:chExt cx="8537760" cy="1333440"/>
          </a:xfrm>
        </p:grpSpPr>
        <p:pic>
          <p:nvPicPr>
            <p:cNvPr id="253" name="E14.002_W1314" descr=""/>
            <p:cNvPicPr/>
            <p:nvPr/>
          </p:nvPicPr>
          <p:blipFill>
            <a:blip r:embed="rId2"/>
            <a:stretch/>
          </p:blipFill>
          <p:spPr>
            <a:xfrm>
              <a:off x="47520" y="2971800"/>
              <a:ext cx="4295880" cy="13334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4419720" y="3429000"/>
                  <a:ext cx="2679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nπ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t xml:space="preserve">πn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7162920" y="358128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4419720" y="30481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238880" y="533520"/>
                <a:ext cx="15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5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440" y="76320"/>
            <a:ext cx="4359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76720" y="457200"/>
                <a:ext cx="208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F14.004A_W1315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876840" cy="1647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60800" y="3168720"/>
            <a:ext cx="6212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half cycle is an inverted copy of the adjacent half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14.004C_W1315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43440" cy="170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9920" y="2801880"/>
            <a:ext cx="480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s of signals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066680" y="2133720"/>
            <a:ext cx="5486400" cy="380880"/>
            <a:chOff x="1066680" y="2133720"/>
            <a:chExt cx="5486400" cy="380880"/>
          </a:xfrm>
        </p:grpSpPr>
        <p:sp>
          <p:nvSpPr>
            <p:cNvPr id="268" name=""/>
            <p:cNvSpPr/>
            <p:nvPr/>
          </p:nvSpPr>
          <p:spPr>
            <a:xfrm>
              <a:off x="1066680" y="2133720"/>
              <a:ext cx="83844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lnTo>
                    <a:pt x="528" y="0"/>
                  </a:lnTo>
                  <a:lnTo>
                    <a:pt x="288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2133720"/>
              <a:ext cx="457200" cy="2286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3733920"/>
                <a:ext cx="378468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        for n even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282200" y="3716280"/>
            <a:ext cx="4707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further simplification if th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odd  or even 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4.003_W1312" descr=""/>
          <p:cNvPicPr/>
          <p:nvPr/>
        </p:nvPicPr>
        <p:blipFill>
          <a:blip r:embed="rId1"/>
          <a:stretch/>
        </p:blipFill>
        <p:spPr>
          <a:xfrm>
            <a:off x="0" y="533520"/>
            <a:ext cx="3828960" cy="2609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533520"/>
            <a:ext cx="5209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even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00600" y="1066680"/>
                <a:ext cx="2362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e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2971800"/>
                <a:ext cx="61736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eve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4267080"/>
                <a:ext cx="725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5410080"/>
                <a:ext cx="5538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629400" y="3352680"/>
                <a:ext cx="1994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F14.004A_W131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19076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677760" y="457200"/>
            <a:ext cx="510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n odd function with half-wave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029200" y="9144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77840" y="213372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0" y="3429000"/>
                <a:ext cx="6554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6622560" y="3352680"/>
            <a:ext cx="2481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hange of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how that th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grals hav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0" y="4495680"/>
                <a:ext cx="3200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121440" y="4495680"/>
                <a:ext cx="2946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-19080" y="5327640"/>
                <a:ext cx="4851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V</m:t>
                        </m:r>
                      </m:num>
                      <m:den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114800" y="4648320"/>
                <a:ext cx="901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29200" y="5486400"/>
                <a:ext cx="298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F14.004B_W1315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038760" cy="22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5520" y="76320"/>
            <a:ext cx="514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igonometric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2280" y="762120"/>
            <a:ext cx="7391520" cy="544320"/>
            <a:chOff x="152280" y="762120"/>
            <a:chExt cx="7391520" cy="544320"/>
          </a:xfrm>
        </p:grpSpPr>
        <p:sp>
          <p:nvSpPr>
            <p:cNvPr id="307" name=""/>
            <p:cNvSpPr/>
            <p:nvPr/>
          </p:nvSpPr>
          <p:spPr>
            <a:xfrm>
              <a:off x="152280" y="1295280"/>
              <a:ext cx="3962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3429000" y="762120"/>
                  <a:ext cx="41148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is odd with half-wave symmetr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09" name="F14.004C_W1315" descr=""/>
          <p:cNvPicPr/>
          <p:nvPr/>
        </p:nvPicPr>
        <p:blipFill>
          <a:blip r:embed="rId2"/>
          <a:stretch/>
        </p:blipFill>
        <p:spPr>
          <a:xfrm>
            <a:off x="0" y="2590920"/>
            <a:ext cx="3943440" cy="170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21120" y="1828800"/>
                <a:ext cx="61228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alf-wave symmetry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for n od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n od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8600" y="3962520"/>
                <a:ext cx="6249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28600" y="4876920"/>
                <a:ext cx="4406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048120" y="5562720"/>
                <a:ext cx="3632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95680" y="14479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d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5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E14.002_W131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95880" cy="1333440"/>
          </a:xfrm>
          <a:prstGeom prst="rect">
            <a:avLst/>
          </a:prstGeom>
          <a:ln w="0">
            <a:noFill/>
          </a:ln>
        </p:spPr>
      </p:pic>
      <p:pic>
        <p:nvPicPr>
          <p:cNvPr id="319" name="E14.003_W1316" descr=""/>
          <p:cNvPicPr/>
          <p:nvPr/>
        </p:nvPicPr>
        <p:blipFill>
          <a:blip r:embed="rId2"/>
          <a:stretch/>
        </p:blipFill>
        <p:spPr>
          <a:xfrm>
            <a:off x="4572000" y="1362240"/>
            <a:ext cx="4048200" cy="1685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9280" y="135000"/>
            <a:ext cx="492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ype of symmetry of the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E14.002_W131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95880" cy="1333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267080" y="433440"/>
            <a:ext cx="4203720" cy="1724040"/>
            <a:chOff x="4267080" y="433440"/>
            <a:chExt cx="4203720" cy="1724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4267080" y="609480"/>
                  <a:ext cx="2260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en function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5105520" y="1295280"/>
                  <a:ext cx="3365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n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6781680" y="433440"/>
                  <a:ext cx="151128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f>
                            <m:num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838080" y="2057400"/>
            <a:ext cx="1676520" cy="290520"/>
            <a:chOff x="838080" y="2057400"/>
            <a:chExt cx="1676520" cy="290520"/>
          </a:xfrm>
        </p:grpSpPr>
        <p:sp>
          <p:nvSpPr>
            <p:cNvPr id="333" name=""/>
            <p:cNvSpPr/>
            <p:nvPr/>
          </p:nvSpPr>
          <p:spPr>
            <a:xfrm>
              <a:off x="838080" y="2057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1371600" y="205740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2280" y="2438280"/>
                <a:ext cx="1714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52280" y="3048120"/>
                <a:ext cx="355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819520" y="1981080"/>
                <a:ext cx="685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419720" y="31240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03320" y="58680"/>
            <a:ext cx="566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E14.003_W1316" descr=""/>
          <p:cNvPicPr/>
          <p:nvPr/>
        </p:nvPicPr>
        <p:blipFill>
          <a:blip r:embed="rId1"/>
          <a:stretch/>
        </p:blipFill>
        <p:spPr>
          <a:xfrm>
            <a:off x="142920" y="609480"/>
            <a:ext cx="4048200" cy="16858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5130720" y="515880"/>
            <a:ext cx="3784680" cy="2874960"/>
            <a:chOff x="5130720" y="515880"/>
            <a:chExt cx="3784680" cy="2874960"/>
          </a:xfrm>
        </p:grpSpPr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130720" y="914400"/>
                  <a:ext cx="3784680" cy="24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for n even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 for n odd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f>
                                <m:num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n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      for n odd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5207040" y="515880"/>
              <a:ext cx="228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alf-wave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66680" y="2286000"/>
            <a:ext cx="2210040" cy="544680"/>
            <a:chOff x="1066680" y="2286000"/>
            <a:chExt cx="2210040" cy="544680"/>
          </a:xfrm>
        </p:grpSpPr>
        <p:sp>
          <p:nvSpPr>
            <p:cNvPr id="349" name=""/>
            <p:cNvSpPr/>
            <p:nvPr/>
          </p:nvSpPr>
          <p:spPr>
            <a:xfrm>
              <a:off x="1066680" y="2362320"/>
              <a:ext cx="12956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371600" y="236232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2590920" y="2286000"/>
                  <a:ext cx="6858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0880" y="3581280"/>
                <a:ext cx="3962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0880" y="4419720"/>
                <a:ext cx="3886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n o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3657600"/>
                <a:ext cx="276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800600" y="4419720"/>
                <a:ext cx="3213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0120" y="76320"/>
            <a:ext cx="3838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Via PSPIC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240" y="515880"/>
            <a:ext cx="3954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reate a suitable PSPICE sche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reate the waveform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et up simulat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View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811160"/>
            <a:ext cx="4089240" cy="4589640"/>
            <a:chOff x="0" y="1811160"/>
            <a:chExt cx="4089240" cy="4589640"/>
          </a:xfrm>
        </p:grpSpPr>
        <p:pic>
          <p:nvPicPr>
            <p:cNvPr id="362" name="F14.005A_W1317" descr="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0892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960" y="2209680"/>
              <a:ext cx="3855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Fourier Series of th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357440" y="0"/>
            <a:ext cx="4405680" cy="2664000"/>
            <a:chOff x="4357440" y="0"/>
            <a:chExt cx="4405680" cy="2664000"/>
          </a:xfrm>
        </p:grpSpPr>
        <p:pic>
          <p:nvPicPr>
            <p:cNvPr id="366" name="F14.005B_W1317" descr=""/>
            <p:cNvPicPr/>
            <p:nvPr/>
          </p:nvPicPr>
          <p:blipFill>
            <a:blip r:embed="rId2"/>
            <a:stretch/>
          </p:blipFill>
          <p:spPr>
            <a:xfrm>
              <a:off x="4419720" y="0"/>
              <a:ext cx="43434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357440" y="76320"/>
              <a:ext cx="2183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 PSPICE schem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267080" y="457200"/>
            <a:ext cx="4309560" cy="2104560"/>
            <a:chOff x="4267080" y="457200"/>
            <a:chExt cx="4309560" cy="2104560"/>
          </a:xfrm>
        </p:grpSpPr>
        <p:sp>
          <p:nvSpPr>
            <p:cNvPr id="369" name=""/>
            <p:cNvSpPr/>
            <p:nvPr/>
          </p:nvSpPr>
          <p:spPr>
            <a:xfrm>
              <a:off x="4267080" y="457200"/>
              <a:ext cx="3078360" cy="1752480"/>
            </a:xfrm>
            <a:custGeom>
              <a:avLst/>
              <a:gdLst/>
              <a:ahLst/>
              <a:rect l="l" t="t" r="r" b="b"/>
              <a:pathLst>
                <a:path w="1939" h="1257">
                  <a:moveTo>
                    <a:pt x="1828" y="414"/>
                  </a:moveTo>
                  <a:cubicBezTo>
                    <a:pt x="1801" y="365"/>
                    <a:pt x="1782" y="312"/>
                    <a:pt x="1747" y="268"/>
                  </a:cubicBezTo>
                  <a:cubicBezTo>
                    <a:pt x="1736" y="255"/>
                    <a:pt x="1711" y="264"/>
                    <a:pt x="1699" y="252"/>
                  </a:cubicBezTo>
                  <a:cubicBezTo>
                    <a:pt x="1687" y="240"/>
                    <a:pt x="1692" y="217"/>
                    <a:pt x="1682" y="203"/>
                  </a:cubicBezTo>
                  <a:lnTo>
                    <a:pt x="1609" y="130"/>
                  </a:lnTo>
                  <a:cubicBezTo>
                    <a:pt x="1609" y="130"/>
                    <a:pt x="1609" y="130"/>
                    <a:pt x="1609" y="130"/>
                  </a:cubicBezTo>
                  <a:cubicBezTo>
                    <a:pt x="1529" y="70"/>
                    <a:pt x="1398" y="48"/>
                    <a:pt x="1301" y="33"/>
                  </a:cubicBezTo>
                  <a:cubicBezTo>
                    <a:pt x="1258" y="26"/>
                    <a:pt x="1215" y="19"/>
                    <a:pt x="1171" y="16"/>
                  </a:cubicBezTo>
                  <a:cubicBezTo>
                    <a:pt x="1074" y="8"/>
                    <a:pt x="880" y="0"/>
                    <a:pt x="880" y="0"/>
                  </a:cubicBezTo>
                  <a:cubicBezTo>
                    <a:pt x="682" y="5"/>
                    <a:pt x="578" y="5"/>
                    <a:pt x="401" y="41"/>
                  </a:cubicBezTo>
                  <a:cubicBezTo>
                    <a:pt x="221" y="175"/>
                    <a:pt x="304" y="145"/>
                    <a:pt x="174" y="179"/>
                  </a:cubicBezTo>
                  <a:cubicBezTo>
                    <a:pt x="114" y="238"/>
                    <a:pt x="121" y="264"/>
                    <a:pt x="61" y="324"/>
                  </a:cubicBezTo>
                  <a:cubicBezTo>
                    <a:pt x="43" y="375"/>
                    <a:pt x="25" y="417"/>
                    <a:pt x="12" y="470"/>
                  </a:cubicBezTo>
                  <a:cubicBezTo>
                    <a:pt x="9" y="540"/>
                    <a:pt x="4" y="611"/>
                    <a:pt x="4" y="681"/>
                  </a:cubicBezTo>
                  <a:cubicBezTo>
                    <a:pt x="4" y="813"/>
                    <a:pt x="0" y="1021"/>
                    <a:pt x="150" y="1070"/>
                  </a:cubicBezTo>
                  <a:cubicBezTo>
                    <a:pt x="316" y="1246"/>
                    <a:pt x="511" y="1245"/>
                    <a:pt x="734" y="1257"/>
                  </a:cubicBezTo>
                  <a:cubicBezTo>
                    <a:pt x="1017" y="1250"/>
                    <a:pt x="1273" y="1254"/>
                    <a:pt x="1545" y="1224"/>
                  </a:cubicBezTo>
                  <a:cubicBezTo>
                    <a:pt x="1582" y="1212"/>
                    <a:pt x="1622" y="1208"/>
                    <a:pt x="1658" y="1192"/>
                  </a:cubicBezTo>
                  <a:cubicBezTo>
                    <a:pt x="1733" y="1159"/>
                    <a:pt x="1796" y="1103"/>
                    <a:pt x="1853" y="1046"/>
                  </a:cubicBezTo>
                  <a:cubicBezTo>
                    <a:pt x="1893" y="946"/>
                    <a:pt x="1909" y="844"/>
                    <a:pt x="1926" y="738"/>
                  </a:cubicBezTo>
                  <a:cubicBezTo>
                    <a:pt x="1926" y="726"/>
                    <a:pt x="1939" y="525"/>
                    <a:pt x="1893" y="470"/>
                  </a:cubicBezTo>
                  <a:cubicBezTo>
                    <a:pt x="1807" y="368"/>
                    <a:pt x="1851" y="484"/>
                    <a:pt x="1828" y="41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1960" y="1981080"/>
              <a:ext cx="42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PWL_FILE  in PSPICE libr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periodic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" name="F14.005C_W1318" descr=""/>
          <p:cNvPicPr/>
          <p:nvPr/>
        </p:nvPicPr>
        <p:blipFill>
          <a:blip r:embed="rId3"/>
          <a:stretch/>
        </p:blipFill>
        <p:spPr>
          <a:xfrm>
            <a:off x="4191120" y="2743200"/>
            <a:ext cx="5119560" cy="42782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437000" y="4684680"/>
            <a:ext cx="4803480" cy="376920"/>
            <a:chOff x="4437000" y="4684680"/>
            <a:chExt cx="4803480" cy="376920"/>
          </a:xfrm>
        </p:grpSpPr>
        <p:sp>
          <p:nvSpPr>
            <p:cNvPr id="373" name=""/>
            <p:cNvSpPr/>
            <p:nvPr/>
          </p:nvSpPr>
          <p:spPr>
            <a:xfrm>
              <a:off x="6539040" y="4724280"/>
              <a:ext cx="2701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e specifying wave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37000" y="4684680"/>
              <a:ext cx="2462400" cy="254160"/>
            </a:xfrm>
            <a:custGeom>
              <a:avLst/>
              <a:gdLst/>
              <a:ahLst/>
              <a:rect l="l" t="t" r="r" b="b"/>
              <a:pathLst>
                <a:path w="1551" h="160">
                  <a:moveTo>
                    <a:pt x="35" y="0"/>
                  </a:moveTo>
                  <a:cubicBezTo>
                    <a:pt x="0" y="53"/>
                    <a:pt x="32" y="52"/>
                    <a:pt x="84" y="81"/>
                  </a:cubicBezTo>
                  <a:cubicBezTo>
                    <a:pt x="109" y="160"/>
                    <a:pt x="80" y="25"/>
                    <a:pt x="76" y="8"/>
                  </a:cubicBezTo>
                  <a:cubicBezTo>
                    <a:pt x="582" y="3"/>
                    <a:pt x="1053" y="24"/>
                    <a:pt x="1551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30040" y="13500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xt file defining corners of piece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F14.005D_W1318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47800" cy="3257280"/>
          </a:xfrm>
          <a:prstGeom prst="rect">
            <a:avLst/>
          </a:prstGeom>
          <a:ln w="0">
            <a:noFill/>
          </a:ln>
        </p:spPr>
      </p:pic>
      <p:pic>
        <p:nvPicPr>
          <p:cNvPr id="380" name="F14.005A_W1317" descr=""/>
          <p:cNvPicPr/>
          <p:nvPr/>
        </p:nvPicPr>
        <p:blipFill>
          <a:blip r:embed="rId2"/>
          <a:stretch/>
        </p:blipFill>
        <p:spPr>
          <a:xfrm>
            <a:off x="76320" y="3505320"/>
            <a:ext cx="4495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81" name=""/>
          <p:cNvGrpSpPr/>
          <p:nvPr/>
        </p:nvGrpSpPr>
        <p:grpSpPr>
          <a:xfrm>
            <a:off x="380880" y="1981080"/>
            <a:ext cx="1524240" cy="2819520"/>
            <a:chOff x="380880" y="1981080"/>
            <a:chExt cx="1524240" cy="2819520"/>
          </a:xfrm>
        </p:grpSpPr>
        <p:sp>
          <p:nvSpPr>
            <p:cNvPr id="382" name=""/>
            <p:cNvSpPr/>
            <p:nvPr/>
          </p:nvSpPr>
          <p:spPr>
            <a:xfrm>
              <a:off x="1905120" y="403848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1981080"/>
              <a:ext cx="914400" cy="228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7200" y="3124080"/>
            <a:ext cx="3048120" cy="2514600"/>
            <a:chOff x="457200" y="3124080"/>
            <a:chExt cx="3048120" cy="2514600"/>
          </a:xfrm>
        </p:grpSpPr>
        <p:sp>
          <p:nvSpPr>
            <p:cNvPr id="385" name=""/>
            <p:cNvSpPr/>
            <p:nvPr/>
          </p:nvSpPr>
          <p:spPr>
            <a:xfrm>
              <a:off x="3505320" y="48006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" y="3124080"/>
              <a:ext cx="762120" cy="152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7040" y="577800"/>
            <a:ext cx="3051360" cy="1266120"/>
            <a:chOff x="527040" y="577800"/>
            <a:chExt cx="3051360" cy="1266120"/>
          </a:xfrm>
        </p:grpSpPr>
        <p:sp>
          <p:nvSpPr>
            <p:cNvPr id="388" name=""/>
            <p:cNvSpPr/>
            <p:nvPr/>
          </p:nvSpPr>
          <p:spPr>
            <a:xfrm>
              <a:off x="527040" y="577800"/>
              <a:ext cx="3051360" cy="960480"/>
            </a:xfrm>
            <a:custGeom>
              <a:avLst/>
              <a:gdLst/>
              <a:ahLst/>
              <a:rect l="l" t="t" r="r" b="b"/>
              <a:pathLst>
                <a:path w="1922" h="605">
                  <a:moveTo>
                    <a:pt x="1922" y="204"/>
                  </a:moveTo>
                  <a:cubicBezTo>
                    <a:pt x="1879" y="185"/>
                    <a:pt x="1835" y="167"/>
                    <a:pt x="1793" y="147"/>
                  </a:cubicBezTo>
                  <a:cubicBezTo>
                    <a:pt x="1773" y="138"/>
                    <a:pt x="1758" y="120"/>
                    <a:pt x="1736" y="114"/>
                  </a:cubicBezTo>
                  <a:cubicBezTo>
                    <a:pt x="1659" y="94"/>
                    <a:pt x="1571" y="88"/>
                    <a:pt x="1492" y="82"/>
                  </a:cubicBezTo>
                  <a:cubicBezTo>
                    <a:pt x="1195" y="33"/>
                    <a:pt x="901" y="22"/>
                    <a:pt x="601" y="1"/>
                  </a:cubicBezTo>
                  <a:cubicBezTo>
                    <a:pt x="351" y="7"/>
                    <a:pt x="278" y="0"/>
                    <a:pt x="82" y="49"/>
                  </a:cubicBezTo>
                  <a:cubicBezTo>
                    <a:pt x="15" y="116"/>
                    <a:pt x="25" y="254"/>
                    <a:pt x="0" y="341"/>
                  </a:cubicBezTo>
                  <a:cubicBezTo>
                    <a:pt x="16" y="387"/>
                    <a:pt x="22" y="438"/>
                    <a:pt x="49" y="479"/>
                  </a:cubicBezTo>
                  <a:cubicBezTo>
                    <a:pt x="89" y="539"/>
                    <a:pt x="313" y="551"/>
                    <a:pt x="325" y="552"/>
                  </a:cubicBezTo>
                  <a:cubicBezTo>
                    <a:pt x="490" y="562"/>
                    <a:pt x="653" y="580"/>
                    <a:pt x="819" y="585"/>
                  </a:cubicBezTo>
                  <a:cubicBezTo>
                    <a:pt x="922" y="588"/>
                    <a:pt x="1025" y="590"/>
                    <a:pt x="1128" y="593"/>
                  </a:cubicBezTo>
                  <a:cubicBezTo>
                    <a:pt x="1409" y="587"/>
                    <a:pt x="1558" y="605"/>
                    <a:pt x="1793" y="487"/>
                  </a:cubicBezTo>
                  <a:cubicBezTo>
                    <a:pt x="1814" y="460"/>
                    <a:pt x="1837" y="434"/>
                    <a:pt x="1857" y="406"/>
                  </a:cubicBezTo>
                  <a:cubicBezTo>
                    <a:pt x="1864" y="396"/>
                    <a:pt x="1874" y="374"/>
                    <a:pt x="1874" y="37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2440" y="1506600"/>
              <a:ext cx="1250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572000" y="58680"/>
            <a:ext cx="4521240" cy="6966000"/>
            <a:chOff x="4572000" y="58680"/>
            <a:chExt cx="4521240" cy="6966000"/>
          </a:xfrm>
        </p:grpSpPr>
        <p:pic>
          <p:nvPicPr>
            <p:cNvPr id="391" name="F14.005E_W1318" descr=""/>
            <p:cNvPicPr/>
            <p:nvPr/>
          </p:nvPicPr>
          <p:blipFill>
            <a:blip r:embed="rId3"/>
            <a:stretch/>
          </p:blipFill>
          <p:spPr>
            <a:xfrm>
              <a:off x="4572000" y="380880"/>
              <a:ext cx="4521240" cy="66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744800" y="5868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ransient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299360" y="3716280"/>
              <a:ext cx="1759320" cy="1238400"/>
              <a:chOff x="7299360" y="3716280"/>
              <a:chExt cx="1759320" cy="1238400"/>
            </a:xfrm>
          </p:grpSpPr>
          <p:sp>
            <p:nvSpPr>
              <p:cNvPr id="394" name=""/>
              <p:cNvSpPr/>
              <p:nvPr/>
            </p:nvSpPr>
            <p:spPr>
              <a:xfrm>
                <a:off x="7410240" y="3716280"/>
                <a:ext cx="16484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undament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equency (H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99360" y="4299120"/>
                <a:ext cx="784080" cy="655560"/>
              </a:xfrm>
              <a:custGeom>
                <a:avLst/>
                <a:gdLst/>
                <a:ahLst/>
                <a:rect l="l" t="t" r="r" b="b"/>
                <a:pathLst>
                  <a:path w="494" h="413">
                    <a:moveTo>
                      <a:pt x="0" y="316"/>
                    </a:moveTo>
                    <a:cubicBezTo>
                      <a:pt x="494" y="261"/>
                      <a:pt x="436" y="413"/>
                      <a:pt x="446" y="73"/>
                    </a:cubicBezTo>
                    <a:cubicBezTo>
                      <a:pt x="447" y="49"/>
                      <a:pt x="446" y="24"/>
                      <a:pt x="446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6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8200" y="85680"/>
            <a:ext cx="2192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9760" y="533520"/>
            <a:ext cx="820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permits the representation of an arbitrary periodic signa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m of sinusoid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" y="1143000"/>
            <a:ext cx="166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1541520"/>
                <a:ext cx="5627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ignal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 iff there exists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such tha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29640" y="2209680"/>
            <a:ext cx="8116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smallest 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t satisfies the previous condition is called the (fundamen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of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2895480"/>
            <a:ext cx="3934080" cy="2086200"/>
            <a:chOff x="152280" y="2895480"/>
            <a:chExt cx="3934080" cy="2086200"/>
          </a:xfrm>
        </p:grpSpPr>
        <p:pic>
          <p:nvPicPr>
            <p:cNvPr id="55" name="F14.001A_W1310" descr=""/>
            <p:cNvPicPr/>
            <p:nvPr/>
          </p:nvPicPr>
          <p:blipFill>
            <a:blip r:embed="rId1"/>
            <a:stretch/>
          </p:blipFill>
          <p:spPr>
            <a:xfrm>
              <a:off x="152280" y="2895480"/>
              <a:ext cx="39340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38080" y="3276720"/>
              <a:ext cx="990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2819520"/>
            <a:ext cx="3943440" cy="2104920"/>
            <a:chOff x="5029200" y="2819520"/>
            <a:chExt cx="3943440" cy="2104920"/>
          </a:xfrm>
        </p:grpSpPr>
        <p:pic>
          <p:nvPicPr>
            <p:cNvPr id="58" name="F14.001B_W1310" descr=""/>
            <p:cNvPicPr/>
            <p:nvPr/>
          </p:nvPicPr>
          <p:blipFill>
            <a:blip r:embed="rId2"/>
            <a:stretch/>
          </p:blipFill>
          <p:spPr>
            <a:xfrm>
              <a:off x="5029200" y="2819520"/>
              <a:ext cx="394344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63868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90920" y="4724280"/>
            <a:ext cx="3952800" cy="1933560"/>
            <a:chOff x="2590920" y="4724280"/>
            <a:chExt cx="3952800" cy="1933560"/>
          </a:xfrm>
        </p:grpSpPr>
        <p:pic>
          <p:nvPicPr>
            <p:cNvPr id="61" name="F14.001C_W1310" descr=""/>
            <p:cNvPicPr/>
            <p:nvPr/>
          </p:nvPicPr>
          <p:blipFill>
            <a:blip r:embed="rId3"/>
            <a:stretch/>
          </p:blipFill>
          <p:spPr>
            <a:xfrm>
              <a:off x="2590920" y="4724280"/>
              <a:ext cx="39528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0400" y="52578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400960" cy="4324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93640" y="210960"/>
            <a:ext cx="446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hematic used for Fourier series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600" y="5087880"/>
            <a:ext cx="309456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view resu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om PROBE menu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ew/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earch until you fi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analysi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81400" y="5105520"/>
            <a:ext cx="44082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uracy of simulation is affect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tup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s with number of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s with number of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52280" y="152280"/>
            <a:ext cx="8763120" cy="6487560"/>
            <a:chOff x="152280" y="152280"/>
            <a:chExt cx="8763120" cy="6487560"/>
          </a:xfrm>
        </p:grpSpPr>
        <p:sp>
          <p:nvSpPr>
            <p:cNvPr id="407" name=""/>
            <p:cNvSpPr/>
            <p:nvPr/>
          </p:nvSpPr>
          <p:spPr>
            <a:xfrm>
              <a:off x="152280" y="152280"/>
              <a:ext cx="8763120" cy="64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URIER COMPONENTS OF TRANSIENT RESPONSE V(V_V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C COMPONENT =  -1.353267E-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ARMONIC   FREQUENCY    FOURIER    NORMALIZED    PHASE        NORMALIZ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                    (HZ)     COMPONENT    COMPONENT    (DEG)       PHASE (DE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.000E+00    4.222E+00    1.000E+00    2.969E-07    0.000E+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     2.000E+00    1.283E+00    3.039E-01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3     3.000E+00    4.378E-01    1.037E-01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     4.000E+00    3.838E-01    9.090E-02    4.620E-07   -7.254E-0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5     5.000E+00    1.079E-04    2.556E-05    1.712E-03    1.711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6     6.000E+00    1.703E-01    4.034E-02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7     7.000E+00    8.012E-02    1.898E-02   -9.548E-06   -1.163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     8.000E+00    8.016E-02    1.899E-02    5.191E-06    2.816E-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9     9.000E+00    5.144E-02    1.218E-02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0     1.000E+01    1.397E-04    3.310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1     1.100E+01    3.440E-02    8.149E-03   -1.112E-04   -1.145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2     1.200E+01    3.531E-02    8.364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3     1.300E+01    2.343E-02    5.549E-03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4     1.400E+01    3.068E-02    7.267E-03   -3.545E-05   -3.960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5     1.500E+01    3.379E-04    8.003E-05   -3.208E-03   -3.212E-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6     1.600E+01    2.355E-02    5.57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7     1.700E+01    1.309E-02    3.101E-03    2.905E-04    2.854E-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8     1.800E+01    1.596E-02    3.781E-03   -5.322E-05   -5.856E-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9     1.900E+01    1.085E-02    2.569E-03   -1.800E+02   -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20     2.000E+01    2.994E-04    7.092E-05    1.800E+02    1.800E+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TAL HARMONIC DISTORTION =   3.378352E+01 PERC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52320" y="2209680"/>
              <a:ext cx="1843560" cy="3987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file pwl1.t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example 14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ECA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ORCAD 9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* By J.L. Arav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1,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2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3,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,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5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6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7,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8,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9,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,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902920" y="236520"/>
            <a:ext cx="22626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RELEVANT SEG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UTPUT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8640" y="135000"/>
            <a:ext cx="1710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040" y="58680"/>
            <a:ext cx="6636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asier to study the effect of time-shift with the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28600" y="7621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22640" y="762120"/>
                <a:ext cx="4609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1023480" y="1523880"/>
            <a:ext cx="7136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the function only changes the phase of 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244680" y="1905120"/>
                <a:ext cx="2794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me shift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hase shift for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705720" y="2819520"/>
                <a:ext cx="246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629400" y="20574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183960" y="2209680"/>
            <a:ext cx="4026240" cy="4105440"/>
            <a:chOff x="183960" y="2209680"/>
            <a:chExt cx="4026240" cy="4105440"/>
          </a:xfrm>
        </p:grpSpPr>
        <p:grpSp>
          <p:nvGrpSpPr>
            <p:cNvPr id="422" name=""/>
            <p:cNvGrpSpPr/>
            <p:nvPr/>
          </p:nvGrpSpPr>
          <p:grpSpPr>
            <a:xfrm>
              <a:off x="183960" y="2209680"/>
              <a:ext cx="4026240" cy="4105440"/>
              <a:chOff x="183960" y="2209680"/>
              <a:chExt cx="4026240" cy="4105440"/>
            </a:xfrm>
          </p:grpSpPr>
          <p:pic>
            <p:nvPicPr>
              <p:cNvPr id="423" name="F14.003_W1312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819520"/>
                <a:ext cx="382932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F14.006_W131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648320"/>
                <a:ext cx="3400200" cy="16668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425" name=""/>
                  <p:cNvSpPr txBox="1"/>
                  <p:nvPr/>
                </p:nvSpPr>
                <p:spPr>
                  <a:xfrm>
                    <a:off x="533520" y="4419720"/>
                    <a:ext cx="1485720" cy="544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26" name=""/>
                  <p:cNvSpPr txBox="1"/>
                  <p:nvPr/>
                </p:nvSpPr>
                <p:spPr>
                  <a:xfrm>
                    <a:off x="1676520" y="2743200"/>
                    <a:ext cx="45720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27" name=""/>
              <p:cNvSpPr/>
              <p:nvPr/>
            </p:nvSpPr>
            <p:spPr>
              <a:xfrm>
                <a:off x="183960" y="22096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2819520" y="44956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038480" y="2666880"/>
                <a:ext cx="26035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38480" y="3962520"/>
                <a:ext cx="1714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867280" y="3962520"/>
                <a:ext cx="3213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nπ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72000" y="4952880"/>
                <a:ext cx="237492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n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315200" y="525780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0520" y="0"/>
            <a:ext cx="4636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hifting and half-wave periodic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-28440" y="685800"/>
            <a:ext cx="4752360" cy="3648240"/>
            <a:chOff x="-28440" y="685800"/>
            <a:chExt cx="4752360" cy="3648240"/>
          </a:xfrm>
        </p:grpSpPr>
        <p:pic>
          <p:nvPicPr>
            <p:cNvPr id="439" name="F14.007A_W1320" descr=""/>
            <p:cNvPicPr/>
            <p:nvPr/>
          </p:nvPicPr>
          <p:blipFill>
            <a:blip r:embed="rId1"/>
            <a:stretch/>
          </p:blipFill>
          <p:spPr>
            <a:xfrm>
              <a:off x="304560" y="685800"/>
              <a:ext cx="44193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F14.007B_W1320" descr=""/>
            <p:cNvPicPr/>
            <p:nvPr/>
          </p:nvPicPr>
          <p:blipFill>
            <a:blip r:embed="rId2"/>
            <a:stretch/>
          </p:blipFill>
          <p:spPr>
            <a:xfrm>
              <a:off x="-28440" y="2362320"/>
              <a:ext cx="4066920" cy="197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F14.007C_W1320" descr=""/>
          <p:cNvPicPr/>
          <p:nvPr/>
        </p:nvPicPr>
        <p:blipFill>
          <a:blip r:embed="rId3"/>
          <a:stretch/>
        </p:blipFill>
        <p:spPr>
          <a:xfrm>
            <a:off x="495360" y="4572000"/>
            <a:ext cx="40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730760" y="380880"/>
                <a:ext cx="4305240" cy="24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ery half-wave periodic sign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iod,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n be expressed a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724280" y="2971800"/>
                <a:ext cx="260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15000" y="3570120"/>
                <a:ext cx="3390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620120" y="31384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781680" y="4419720"/>
                <a:ext cx="1638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257800" y="4876920"/>
                <a:ext cx="320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677480" y="5791320"/>
            <a:ext cx="4131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the odd coefficient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92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E14.001_W131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E14.006_W1321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374328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1981080"/>
                <a:ext cx="671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6" name=""/>
          <p:cNvGrpSpPr/>
          <p:nvPr/>
        </p:nvGrpSpPr>
        <p:grpSpPr>
          <a:xfrm>
            <a:off x="4682880" y="76320"/>
            <a:ext cx="4171680" cy="1257120"/>
            <a:chOff x="4682880" y="76320"/>
            <a:chExt cx="4171680" cy="1257120"/>
          </a:xfrm>
        </p:grpSpPr>
        <p:sp>
          <p:nvSpPr>
            <p:cNvPr id="457" name=""/>
            <p:cNvSpPr/>
            <p:nvPr/>
          </p:nvSpPr>
          <p:spPr>
            <a:xfrm>
              <a:off x="4682880" y="152280"/>
              <a:ext cx="223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t was shown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t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v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026120" y="76320"/>
                  <a:ext cx="1828440" cy="12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n</m:t>
                                  </m:r>
                                  <m:r>
                                    <m:t xml:space="preserve">π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πn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1981080"/>
                <a:ext cx="4889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ute the coefficients for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show tha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y differ by a </m:t>
                        </m:r>
                        <m:r>
                          <m:rPr>
                            <m:lit/>
                            <m:nor/>
                          </m:rPr>
                          <m:t xml:space="preserve">πn</m:t>
                        </m:r>
                        <m:r>
                          <m:rPr>
                            <m:lit/>
                            <m:nor/>
                          </m:rPr>
                          <m:t xml:space="preserve"> angle from those of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4920" y="3429000"/>
                <a:ext cx="2450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delayed function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540160" y="457200"/>
                <a:ext cx="203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124080" y="5846760"/>
                <a:ext cx="1447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943600" y="4932360"/>
                <a:ext cx="161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4648320"/>
            <a:ext cx="5549760" cy="955440"/>
            <a:chOff x="304920" y="4648320"/>
            <a:chExt cx="5549760" cy="95544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304920" y="4932360"/>
                  <a:ext cx="33908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733920" y="4932360"/>
                  <a:ext cx="21207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π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r>
                                <m:t xml:space="preserve">π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  <m:r>
                                <m:t xml:space="preserve">nπ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920" y="4648320"/>
                  <a:ext cx="888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</m:t>
                      </m:r>
                      <m:r>
                        <m:t xml:space="preserve">n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8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7440" y="76320"/>
            <a:ext cx="2745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VEFORM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7360" y="1752480"/>
            <a:ext cx="5548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Fourier series for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known then one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sily  determine the expansion for any time-shif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ime-scaled version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971800" y="457200"/>
                <a:ext cx="2219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6320" y="457200"/>
                <a:ext cx="256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5327640" y="457200"/>
            <a:ext cx="355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the series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76320" y="1143000"/>
                <a:ext cx="4432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5108040" y="1143000"/>
            <a:ext cx="3768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-shifting modifies the 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01520" y="1817640"/>
                <a:ext cx="3175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79" name="F14.008A_W1324" descr=""/>
          <p:cNvPicPr/>
          <p:nvPr/>
        </p:nvPicPr>
        <p:blipFill>
          <a:blip r:embed="rId1"/>
          <a:stretch/>
        </p:blipFill>
        <p:spPr>
          <a:xfrm>
            <a:off x="0" y="3200400"/>
            <a:ext cx="3514680" cy="1666800"/>
          </a:xfrm>
          <a:prstGeom prst="rect">
            <a:avLst/>
          </a:prstGeom>
          <a:ln w="0">
            <a:noFill/>
          </a:ln>
        </p:spPr>
      </p:pic>
      <p:pic>
        <p:nvPicPr>
          <p:cNvPr id="480" name="F14.008B_W1324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657600" cy="1685880"/>
          </a:xfrm>
          <a:prstGeom prst="rect">
            <a:avLst/>
          </a:prstGeom>
          <a:ln w="0">
            <a:noFill/>
          </a:ln>
        </p:spPr>
      </p:pic>
      <p:pic>
        <p:nvPicPr>
          <p:cNvPr id="481" name="F14.008C_W1324" descr=""/>
          <p:cNvPicPr/>
          <p:nvPr/>
        </p:nvPicPr>
        <p:blipFill>
          <a:blip r:embed="rId3"/>
          <a:stretch/>
        </p:blipFill>
        <p:spPr>
          <a:xfrm>
            <a:off x="2666880" y="42670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95560" y="2573280"/>
            <a:ext cx="822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 of a linear combination of signals are the linear combin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6629400" y="510552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96480" y="6095880"/>
            <a:ext cx="9030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tabulate the expansions for some basic waveforms and use them to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xpansions or other signa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14.002_W1322" descr=""/>
          <p:cNvPicPr/>
          <p:nvPr/>
        </p:nvPicPr>
        <p:blipFill>
          <a:blip r:embed="rId1"/>
          <a:stretch/>
        </p:blipFill>
        <p:spPr>
          <a:xfrm>
            <a:off x="142920" y="0"/>
            <a:ext cx="420048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T14.002_W1323" descr=""/>
          <p:cNvPicPr/>
          <p:nvPr/>
        </p:nvPicPr>
        <p:blipFill>
          <a:blip r:embed="rId2"/>
          <a:stretch/>
        </p:blipFill>
        <p:spPr>
          <a:xfrm>
            <a:off x="5410080" y="0"/>
            <a:ext cx="3552840" cy="66294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992760" y="304920"/>
            <a:ext cx="1564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ulated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E14.007_W1325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296040" cy="108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3733920"/>
                <a:ext cx="1841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4800600"/>
                <a:ext cx="251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8" name=""/>
          <p:cNvGrpSpPr/>
          <p:nvPr/>
        </p:nvGrpSpPr>
        <p:grpSpPr>
          <a:xfrm>
            <a:off x="520560" y="1905120"/>
            <a:ext cx="8367840" cy="1712880"/>
            <a:chOff x="520560" y="1905120"/>
            <a:chExt cx="8367840" cy="1712880"/>
          </a:xfrm>
        </p:grpSpPr>
        <p:grpSp>
          <p:nvGrpSpPr>
            <p:cNvPr id="499" name=""/>
            <p:cNvGrpSpPr/>
            <p:nvPr/>
          </p:nvGrpSpPr>
          <p:grpSpPr>
            <a:xfrm>
              <a:off x="520560" y="1905120"/>
              <a:ext cx="7328160" cy="1712880"/>
              <a:chOff x="520560" y="1905120"/>
              <a:chExt cx="7328160" cy="1712880"/>
            </a:xfrm>
          </p:grpSpPr>
          <p:graphicFrame>
            <p:nvGraphicFramePr>
              <p:cNvPr id="500" name=""/>
              <p:cNvGraphicFramePr/>
              <p:nvPr/>
            </p:nvGraphicFramePr>
            <p:xfrm>
              <a:off x="520560" y="1905120"/>
              <a:ext cx="4267440" cy="1712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20560" y="1905120"/>
                        <a:ext cx="4267440" cy="1712880"/>
                      </a:xfrm>
                      <a:prstGeom prst="rect">
                        <a:avLst/>
                      </a:prstGeom>
                      <a:ln w="38160">
                        <a:solidFill>
                          <a:srgbClr val="cc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4788000" y="2478240"/>
                    <a:ext cx="3060720" cy="72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03" name=""/>
              <p:cNvSpPr/>
              <p:nvPr/>
            </p:nvSpPr>
            <p:spPr>
              <a:xfrm>
                <a:off x="2658960" y="1981080"/>
                <a:ext cx="3370320" cy="33732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 Fourier 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8077320" y="2514600"/>
                  <a:ext cx="811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A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48769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3960" y="5638680"/>
            <a:ext cx="4217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the value for n=0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separat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876920" y="3276720"/>
                <a:ext cx="2577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391520" y="762120"/>
                <a:ext cx="60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4876920" y="4876920"/>
                <a:ext cx="32893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876920" y="5791320"/>
                <a:ext cx="3098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340080" y="6324480"/>
                <a:ext cx="1231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2588400" y="58680"/>
            <a:ext cx="6191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table of Fourier series to determine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se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0840" y="34920"/>
            <a:ext cx="3114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REQUENCY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760" y="533520"/>
            <a:ext cx="776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pectrum is a graphical display of the coefficients of the Fourier s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ne-sided spectrum is based on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219320" y="1143000"/>
                <a:ext cx="543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851040" y="1887480"/>
            <a:ext cx="7347960" cy="824040"/>
            <a:chOff x="851040" y="1887480"/>
            <a:chExt cx="7347960" cy="824040"/>
          </a:xfrm>
        </p:grpSpPr>
        <p:sp>
          <p:nvSpPr>
            <p:cNvPr id="520" name=""/>
            <p:cNvSpPr/>
            <p:nvPr/>
          </p:nvSpPr>
          <p:spPr>
            <a:xfrm>
              <a:off x="851040" y="1887480"/>
              <a:ext cx="73479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amplitude spectrum display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Dn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the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e spectrum displays the angle      as function of the frequenc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requency axis is usually drawn in units of fundamental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4968720" y="214776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2" name=""/>
          <p:cNvGrpSpPr/>
          <p:nvPr/>
        </p:nvGrpSpPr>
        <p:grpSpPr>
          <a:xfrm>
            <a:off x="1082520" y="2878200"/>
            <a:ext cx="7031160" cy="1019160"/>
            <a:chOff x="1082520" y="2878200"/>
            <a:chExt cx="7031160" cy="101916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3733920" y="3276720"/>
                  <a:ext cx="17143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1082520" y="2878200"/>
              <a:ext cx="703116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sided spectrum is based on the exponential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8560" y="4021200"/>
            <a:ext cx="8628120" cy="580680"/>
            <a:chOff x="358560" y="4021200"/>
            <a:chExt cx="8628120" cy="580680"/>
          </a:xfrm>
        </p:grpSpPr>
        <p:sp>
          <p:nvSpPr>
            <p:cNvPr id="526" name=""/>
            <p:cNvSpPr/>
            <p:nvPr/>
          </p:nvSpPr>
          <p:spPr>
            <a:xfrm>
              <a:off x="358560" y="4021200"/>
              <a:ext cx="86281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two-sided case, the amplitude spectrum plo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|cn|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ile the 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s         versus frequency (in units of fundamental frequenc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990720" y="426708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2270520" y="4800600"/>
            <a:ext cx="4653720" cy="1251720"/>
            <a:chOff x="2270520" y="4800600"/>
            <a:chExt cx="4653720" cy="125172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3276720" y="4800600"/>
                  <a:ext cx="2666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4191120" y="5181480"/>
                  <a:ext cx="761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"/>
            <p:cNvSpPr/>
            <p:nvPr/>
          </p:nvSpPr>
          <p:spPr>
            <a:xfrm>
              <a:off x="2270520" y="5715000"/>
              <a:ext cx="465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th spectra display equivalent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2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779400"/>
                <a:ext cx="37083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F14.008C_W132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81440" cy="20764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572360" y="152280"/>
            <a:ext cx="423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ourier series expansion, when A=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given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2120" y="1658880"/>
            <a:ext cx="4161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nd plot the first fou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276720" y="236232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2743200"/>
                <a:ext cx="3187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276720" y="2743200"/>
                <a:ext cx="2971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133720" y="34290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57200" y="3886200"/>
            <a:ext cx="3228840" cy="2471040"/>
            <a:chOff x="457200" y="3886200"/>
            <a:chExt cx="3228840" cy="2471040"/>
          </a:xfrm>
        </p:grpSpPr>
        <p:pic>
          <p:nvPicPr>
            <p:cNvPr id="545" name="F14.009A_W1327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322884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69640" y="6019920"/>
              <a:ext cx="226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litud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29200" y="3886200"/>
            <a:ext cx="3228840" cy="2166120"/>
            <a:chOff x="5029200" y="3886200"/>
            <a:chExt cx="3228840" cy="2166120"/>
          </a:xfrm>
        </p:grpSpPr>
        <p:pic>
          <p:nvPicPr>
            <p:cNvPr id="548" name="F14.009B_W1327" descr=""/>
            <p:cNvPicPr/>
            <p:nvPr/>
          </p:nvPicPr>
          <p:blipFill>
            <a:blip r:embed="rId3"/>
            <a:stretch/>
          </p:blipFill>
          <p:spPr>
            <a:xfrm>
              <a:off x="5029200" y="3886200"/>
              <a:ext cx="32288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887080" y="5715000"/>
              <a:ext cx="18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spect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4920" y="3684600"/>
            <a:ext cx="5779800" cy="1027080"/>
            <a:chOff x="304920" y="3684600"/>
            <a:chExt cx="5779800" cy="102708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304920" y="4370400"/>
                  <a:ext cx="577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80880" y="3684600"/>
                  <a:ext cx="889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114480" y="171360"/>
            <a:ext cx="2690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SERIES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7080" y="533520"/>
                <a:ext cx="828180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periodic, with perio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an be expressed in one of the follow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ivalent forms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273680" y="1238400"/>
            <a:ext cx="1945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sine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5280" y="2363760"/>
            <a:ext cx="3422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exponential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0" y="3049560"/>
            <a:ext cx="22777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32160" y="1068480"/>
            <a:ext cx="2788560" cy="1092240"/>
            <a:chOff x="4232160" y="1068480"/>
            <a:chExt cx="2788560" cy="1092240"/>
          </a:xfrm>
        </p:grpSpPr>
        <p:sp>
          <p:nvSpPr>
            <p:cNvPr id="75" name=""/>
            <p:cNvSpPr/>
            <p:nvPr/>
          </p:nvSpPr>
          <p:spPr>
            <a:xfrm>
              <a:off x="4232160" y="1395360"/>
              <a:ext cx="841320" cy="765360"/>
            </a:xfrm>
            <a:custGeom>
              <a:avLst/>
              <a:gdLst/>
              <a:ahLst/>
              <a:rect l="l" t="t" r="r" b="b"/>
              <a:pathLst>
                <a:path w="530" h="482">
                  <a:moveTo>
                    <a:pt x="513" y="149"/>
                  </a:moveTo>
                  <a:cubicBezTo>
                    <a:pt x="497" y="130"/>
                    <a:pt x="486" y="105"/>
                    <a:pt x="465" y="92"/>
                  </a:cubicBezTo>
                  <a:cubicBezTo>
                    <a:pt x="415" y="62"/>
                    <a:pt x="330" y="46"/>
                    <a:pt x="270" y="36"/>
                  </a:cubicBezTo>
                  <a:cubicBezTo>
                    <a:pt x="198" y="0"/>
                    <a:pt x="180" y="13"/>
                    <a:pt x="84" y="20"/>
                  </a:cubicBezTo>
                  <a:cubicBezTo>
                    <a:pt x="62" y="27"/>
                    <a:pt x="12" y="40"/>
                    <a:pt x="11" y="52"/>
                  </a:cubicBezTo>
                  <a:cubicBezTo>
                    <a:pt x="0" y="204"/>
                    <a:pt x="6" y="311"/>
                    <a:pt x="92" y="425"/>
                  </a:cubicBezTo>
                  <a:cubicBezTo>
                    <a:pt x="104" y="441"/>
                    <a:pt x="129" y="436"/>
                    <a:pt x="148" y="441"/>
                  </a:cubicBezTo>
                  <a:cubicBezTo>
                    <a:pt x="189" y="467"/>
                    <a:pt x="232" y="470"/>
                    <a:pt x="278" y="482"/>
                  </a:cubicBezTo>
                  <a:cubicBezTo>
                    <a:pt x="362" y="474"/>
                    <a:pt x="453" y="461"/>
                    <a:pt x="530" y="4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8040" y="1068480"/>
              <a:ext cx="27226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for n-th harm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238880" y="914400"/>
                <a:ext cx="914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943600" y="220968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2357280" y="4219560"/>
            <a:ext cx="914400" cy="914400"/>
            <a:chOff x="2357280" y="4219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666880" y="4827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2357280" y="4219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91120" y="4065480"/>
            <a:ext cx="1066680" cy="1143000"/>
            <a:chOff x="4191120" y="406548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72000" y="490356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191120" y="406548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823760" y="366696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248520" y="437040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34120" y="5132520"/>
                <a:ext cx="36446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560" y="5483160"/>
            <a:ext cx="84056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pproximate a periodic signal using a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Analyze the network for each harmonic using phasors or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Use the superposition principle to determine the response to the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251840" y="262908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E14.008_W132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2804400" y="135000"/>
            <a:ext cx="585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igonometric Fourier series and plo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four terms of the amplitude and phase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1828800"/>
            <a:ext cx="8726040" cy="1838160"/>
            <a:chOff x="0" y="1828800"/>
            <a:chExt cx="8726040" cy="1838160"/>
          </a:xfrm>
        </p:grpSpPr>
        <p:graphicFrame>
          <p:nvGraphicFramePr>
            <p:cNvPr id="557" name=""/>
            <p:cNvGraphicFramePr/>
            <p:nvPr/>
          </p:nvGraphicFramePr>
          <p:xfrm>
            <a:off x="0" y="1828800"/>
            <a:ext cx="3809880" cy="1838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38098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9" name=""/>
            <p:cNvGrpSpPr/>
            <p:nvPr/>
          </p:nvGrpSpPr>
          <p:grpSpPr>
            <a:xfrm>
              <a:off x="3962520" y="2133360"/>
              <a:ext cx="4763520" cy="932040"/>
              <a:chOff x="3962520" y="2133360"/>
              <a:chExt cx="4763520" cy="932040"/>
            </a:xfrm>
          </p:grpSpPr>
          <mc:AlternateContent>
            <mc:Choice xmlns:a14="http://schemas.microsoft.com/office/drawing/2010/main" Requires="a14">
              <p:sp>
                <p:nvSpPr>
                  <p:cNvPr id="560" name=""/>
                  <p:cNvSpPr txBox="1"/>
                  <p:nvPr/>
                </p:nvSpPr>
                <p:spPr>
                  <a:xfrm>
                    <a:off x="3962520" y="2444760"/>
                    <a:ext cx="23745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π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61" name=""/>
              <p:cNvSpPr/>
              <p:nvPr/>
            </p:nvSpPr>
            <p:spPr>
              <a:xfrm>
                <a:off x="6792840" y="2133360"/>
                <a:ext cx="19332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rom the table o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er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6477120" y="3079800"/>
                <a:ext cx="2666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572000" y="990720"/>
                <a:ext cx="2374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0" y="3429000"/>
                <a:ext cx="2438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5" name=""/>
          <p:cNvGraphicFramePr/>
          <p:nvPr/>
        </p:nvGraphicFramePr>
        <p:xfrm>
          <a:off x="2514600" y="3809880"/>
          <a:ext cx="6100920" cy="260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3809880"/>
                    <a:ext cx="6100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53280" y="50760"/>
            <a:ext cx="7221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NETWOK RESPONSE TO PERIODIC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5960" y="533520"/>
            <a:ext cx="598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Replace the periodic signal by its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etermine the steady state response to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dd the steady state harmonic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48120" y="2209680"/>
            <a:ext cx="3047760" cy="685800"/>
            <a:chOff x="3048120" y="2209680"/>
            <a:chExt cx="3047760" cy="685800"/>
          </a:xfrm>
        </p:grpSpPr>
        <p:grpSp>
          <p:nvGrpSpPr>
            <p:cNvPr id="573" name=""/>
            <p:cNvGrpSpPr/>
            <p:nvPr/>
          </p:nvGrpSpPr>
          <p:grpSpPr>
            <a:xfrm>
              <a:off x="3048120" y="2209680"/>
              <a:ext cx="3047760" cy="685800"/>
              <a:chOff x="3048120" y="2209680"/>
              <a:chExt cx="3047760" cy="685800"/>
            </a:xfrm>
          </p:grpSpPr>
          <p:sp>
            <p:nvSpPr>
              <p:cNvPr id="574" name=""/>
              <p:cNvSpPr/>
              <p:nvPr/>
            </p:nvSpPr>
            <p:spPr>
              <a:xfrm>
                <a:off x="3886200" y="2209680"/>
                <a:ext cx="137160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4812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57800" y="2514600"/>
                <a:ext cx="8380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4191120" y="2401920"/>
                  <a:ext cx="698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8" name=""/>
          <p:cNvGrpSpPr/>
          <p:nvPr/>
        </p:nvGrpSpPr>
        <p:grpSpPr>
          <a:xfrm>
            <a:off x="2514600" y="3076560"/>
            <a:ext cx="5410080" cy="428760"/>
            <a:chOff x="2514600" y="3076560"/>
            <a:chExt cx="5410080" cy="428760"/>
          </a:xfrm>
        </p:grpSpPr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514600" y="3076560"/>
                  <a:ext cx="134604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>
              <a:off x="3962520" y="3276720"/>
              <a:ext cx="1218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257800" y="3083040"/>
                  <a:ext cx="266688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c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1981080" y="3711600"/>
            <a:ext cx="6782040" cy="403200"/>
            <a:chOff x="1981080" y="3711600"/>
            <a:chExt cx="6782040" cy="403200"/>
          </a:xfrm>
        </p:grpSpPr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1981080" y="3747960"/>
                  <a:ext cx="19051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257800" y="3711600"/>
                  <a:ext cx="35053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3886200" y="38862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362320" y="1676520"/>
                <a:ext cx="47559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7" name=""/>
          <p:cNvGrpSpPr/>
          <p:nvPr/>
        </p:nvGrpSpPr>
        <p:grpSpPr>
          <a:xfrm>
            <a:off x="1676520" y="4267080"/>
            <a:ext cx="7238880" cy="432000"/>
            <a:chOff x="1676520" y="4267080"/>
            <a:chExt cx="7238880" cy="432000"/>
          </a:xfrm>
        </p:grpSpPr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1676520" y="4267080"/>
                  <a:ext cx="2066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5310360" y="4314960"/>
                  <a:ext cx="36050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|</m:t>
                          </m:r>
                          <m:r>
                            <m:t xml:space="preserve">D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θ</m:t>
                          </m:r>
                          <m:r>
                            <m:t xml:space="preserve">|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j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90" name=""/>
            <p:cNvSpPr/>
            <p:nvPr/>
          </p:nvSpPr>
          <p:spPr>
            <a:xfrm>
              <a:off x="3886200" y="451800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F14.011_W1329" descr=""/>
          <p:cNvPicPr/>
          <p:nvPr/>
        </p:nvPicPr>
        <p:blipFill>
          <a:blip r:embed="rId1"/>
          <a:stretch/>
        </p:blipFill>
        <p:spPr>
          <a:xfrm>
            <a:off x="4038480" y="68580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F14.008C_W1324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781440" cy="207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447920" y="45720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7360" y="2133720"/>
                <a:ext cx="36576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dd</m:t>
                    </m:r>
                    <m:limLow>
                      <m:e/>
                      <m:lim>
                        <m:r>
                          <m:t xml:space="preserve">∞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5029200" y="1295280"/>
                <a:ext cx="35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5334120" y="76320"/>
            <a:ext cx="152388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6000840" y="88920"/>
                <a:ext cx="78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4419720" y="380880"/>
                <a:ext cx="609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572000" y="2057400"/>
                <a:ext cx="41911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181480" y="609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934320" y="76320"/>
                <a:ext cx="927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772400" y="1219320"/>
                <a:ext cx="825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743200" y="3886200"/>
                <a:ext cx="4025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752480" y="3048120"/>
                <a:ext cx="2146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28600" y="45720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352680" y="4495680"/>
                <a:ext cx="2463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352680" y="5257800"/>
                <a:ext cx="4038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184640" y="328284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43000" y="5867280"/>
                <a:ext cx="7075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num>
                                  <m:den>
                                    <m:r>
                                      <m:t xml:space="preserve">nπ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600" y="190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514600" y="76320"/>
                <a:ext cx="5143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steady state expression for the current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9" name="E14.009_W1330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276720" cy="1401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886200" y="609480"/>
                <a:ext cx="3098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809880" y="1371600"/>
                <a:ext cx="4407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533520" y="1341360"/>
            <a:ext cx="1307880" cy="1236600"/>
            <a:chOff x="533520" y="1341360"/>
            <a:chExt cx="1307880" cy="1236600"/>
          </a:xfrm>
        </p:grpSpPr>
        <p:sp>
          <p:nvSpPr>
            <p:cNvPr id="623" name=""/>
            <p:cNvSpPr/>
            <p:nvPr/>
          </p:nvSpPr>
          <p:spPr>
            <a:xfrm>
              <a:off x="892080" y="134136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111" y="428"/>
                  </a:moveTo>
                  <a:cubicBezTo>
                    <a:pt x="129" y="0"/>
                    <a:pt x="0" y="50"/>
                    <a:pt x="289" y="39"/>
                  </a:cubicBezTo>
                  <a:cubicBezTo>
                    <a:pt x="303" y="38"/>
                    <a:pt x="316" y="39"/>
                    <a:pt x="33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533520" y="19810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j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4920" y="2590920"/>
                <a:ext cx="308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886200" y="2057400"/>
                <a:ext cx="4876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04920" y="3429000"/>
                <a:ext cx="586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phasor for n-th harmoni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11040" y="4114800"/>
                <a:ext cx="4394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(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3276720"/>
                <a:ext cx="148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673360" y="541656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63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4142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53400" y="592200"/>
            <a:ext cx="8294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network with periodic sources (of the same period) the steady stat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any element and the current through are all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048120" y="1219320"/>
                <a:ext cx="30351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933640" y="2590920"/>
                <a:ext cx="3314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82760" y="3314880"/>
                <a:ext cx="6313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80880" y="4724280"/>
                <a:ext cx="8713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76320" y="548640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4800" y="3124080"/>
                <a:ext cx="4618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 flipV="1">
            <a:off x="3657600" y="3429000"/>
            <a:ext cx="91440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6324480" y="3123720"/>
            <a:ext cx="990720" cy="762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248520" y="4419360"/>
            <a:ext cx="2057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19920" y="5105520"/>
            <a:ext cx="2768400" cy="747720"/>
            <a:chOff x="6019920" y="5105520"/>
            <a:chExt cx="2768400" cy="747720"/>
          </a:xfrm>
        </p:grpSpPr>
        <p:sp>
          <p:nvSpPr>
            <p:cNvPr id="646" name=""/>
            <p:cNvSpPr/>
            <p:nvPr/>
          </p:nvSpPr>
          <p:spPr>
            <a:xfrm>
              <a:off x="6629400" y="5105520"/>
              <a:ext cx="129528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6019920" y="5562720"/>
                  <a:ext cx="2768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or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14800" y="5867280"/>
                <a:ext cx="46735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6166080" y="1295280"/>
            <a:ext cx="2930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verage power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m of the average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harmo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0760" y="53352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5" name=""/>
          <p:cNvSpPr/>
          <p:nvPr/>
        </p:nvSpPr>
        <p:spPr>
          <a:xfrm>
            <a:off x="2753640" y="58680"/>
            <a:ext cx="322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666880" y="533520"/>
            <a:ext cx="5473800" cy="264960"/>
            <a:chOff x="2666880" y="533520"/>
            <a:chExt cx="5473800" cy="264960"/>
          </a:xfrm>
        </p:grpSpPr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6019920" y="533520"/>
                  <a:ext cx="2120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8" name=""/>
            <p:cNvSpPr/>
            <p:nvPr/>
          </p:nvSpPr>
          <p:spPr>
            <a:xfrm>
              <a:off x="2666880" y="762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58960" y="1600200"/>
                <a:ext cx="5310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282840" y="2133720"/>
                <a:ext cx="2743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F14.012_W13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02904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1280" y="838080"/>
                <a:ext cx="485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438280" y="76320"/>
                <a:ext cx="609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current,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and the average power absorb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the networ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8" name=""/>
          <p:cNvGrpSpPr/>
          <p:nvPr/>
        </p:nvGrpSpPr>
        <p:grpSpPr>
          <a:xfrm>
            <a:off x="963720" y="1569960"/>
            <a:ext cx="2376360" cy="1008000"/>
            <a:chOff x="963720" y="1569960"/>
            <a:chExt cx="2376360" cy="1008000"/>
          </a:xfrm>
        </p:grpSpPr>
        <mc:AlternateContent>
          <mc:Choice xmlns:a14="http://schemas.microsoft.com/office/drawing/2010/main" Requires="a14">
            <p:sp>
              <p:nvSpPr>
                <p:cNvPr id="669" name=""/>
                <p:cNvSpPr txBox="1"/>
                <p:nvPr/>
              </p:nvSpPr>
              <p:spPr>
                <a:xfrm>
                  <a:off x="990720" y="1981080"/>
                  <a:ext cx="2349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L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jC</m:t>
                          </m:r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0" name=""/>
            <p:cNvSpPr/>
            <p:nvPr/>
          </p:nvSpPr>
          <p:spPr>
            <a:xfrm>
              <a:off x="963720" y="1569960"/>
              <a:ext cx="195120" cy="746280"/>
            </a:xfrm>
            <a:custGeom>
              <a:avLst/>
              <a:gdLst/>
              <a:ahLst/>
              <a:rect l="l" t="t" r="r" b="b"/>
              <a:pathLst>
                <a:path w="123" h="470">
                  <a:moveTo>
                    <a:pt x="9" y="470"/>
                  </a:moveTo>
                  <a:cubicBezTo>
                    <a:pt x="0" y="81"/>
                    <a:pt x="1" y="233"/>
                    <a:pt x="1" y="16"/>
                  </a:cubicBezTo>
                  <a:cubicBezTo>
                    <a:pt x="49" y="4"/>
                    <a:pt x="69" y="0"/>
                    <a:pt x="123" y="0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505320" y="1981080"/>
                <a:ext cx="1485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52280" y="2666880"/>
                <a:ext cx="41911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52280" y="4724280"/>
                <a:ext cx="44704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4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419720" y="2590920"/>
                <a:ext cx="3695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pacitor acts as open circuit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152960" y="3657600"/>
                <a:ext cx="4991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038480" y="5029200"/>
                <a:ext cx="500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419720" y="4114800"/>
                <a:ext cx="4673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Power 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nary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06560" y="76320"/>
            <a:ext cx="349560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685800"/>
                <a:ext cx="2133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89480" y="76212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838080" y="1523880"/>
            <a:ext cx="6413760" cy="330120"/>
            <a:chOff x="838080" y="1523880"/>
            <a:chExt cx="6413760" cy="33012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838080" y="1523880"/>
                  <a:ext cx="1473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5638680" y="152388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-1</m:t>
                          </m:r>
                        </m:sup>
                      </m:sSup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7" name=""/>
          <p:cNvSpPr/>
          <p:nvPr/>
        </p:nvSpPr>
        <p:spPr>
          <a:xfrm>
            <a:off x="151200" y="1905120"/>
            <a:ext cx="431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euristic view of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04920" y="2362320"/>
            <a:ext cx="7772400" cy="1523880"/>
            <a:chOff x="304920" y="2362320"/>
            <a:chExt cx="7772400" cy="1523880"/>
          </a:xfrm>
        </p:grpSpPr>
        <p:pic>
          <p:nvPicPr>
            <p:cNvPr id="689" name="F14.013A_W1332" descr=""/>
            <p:cNvPicPr/>
            <p:nvPr/>
          </p:nvPicPr>
          <p:blipFill>
            <a:blip r:embed="rId1"/>
            <a:stretch/>
          </p:blipFill>
          <p:spPr>
            <a:xfrm>
              <a:off x="304920" y="2362320"/>
              <a:ext cx="3209760" cy="15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F14.013B_W1332" descr=""/>
            <p:cNvPicPr/>
            <p:nvPr/>
          </p:nvPicPr>
          <p:blipFill>
            <a:blip r:embed="rId2"/>
            <a:stretch/>
          </p:blipFill>
          <p:spPr>
            <a:xfrm>
              <a:off x="4572000" y="2381400"/>
              <a:ext cx="350532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"/>
          <p:cNvSpPr/>
          <p:nvPr/>
        </p:nvSpPr>
        <p:spPr>
          <a:xfrm>
            <a:off x="367200" y="3639960"/>
            <a:ext cx="8468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non-periodic function can be viewed as the limit of a periodic function w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iod approaches infi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5560" y="4267080"/>
                <a:ext cx="1841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5560" y="5029200"/>
                <a:ext cx="2260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362320" y="4267080"/>
                <a:ext cx="2171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362320" y="5029200"/>
                <a:ext cx="21970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724280" y="4648320"/>
                <a:ext cx="9525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Δω</m:t>
                        </m:r>
                      </m:e>
                      <m:e>
                        <m:r>
                          <m:t xml:space="preserve">nΔω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97" name=""/>
          <p:cNvGrpSpPr/>
          <p:nvPr/>
        </p:nvGrpSpPr>
        <p:grpSpPr>
          <a:xfrm>
            <a:off x="4572000" y="5257800"/>
            <a:ext cx="2781360" cy="671400"/>
            <a:chOff x="4572000" y="5257800"/>
            <a:chExt cx="2781360" cy="671400"/>
          </a:xfrm>
        </p:grpSpPr>
        <p:sp>
          <p:nvSpPr>
            <p:cNvPr id="698" name=""/>
            <p:cNvSpPr/>
            <p:nvPr/>
          </p:nvSpPr>
          <p:spPr>
            <a:xfrm>
              <a:off x="4572000" y="5638680"/>
              <a:ext cx="1295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9" name=""/>
                <p:cNvSpPr txBox="1"/>
                <p:nvPr/>
              </p:nvSpPr>
              <p:spPr>
                <a:xfrm>
                  <a:off x="6172200" y="5257800"/>
                  <a:ext cx="11811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0" name=""/>
          <p:cNvGrpSpPr/>
          <p:nvPr/>
        </p:nvGrpSpPr>
        <p:grpSpPr>
          <a:xfrm>
            <a:off x="4572000" y="4191120"/>
            <a:ext cx="3009960" cy="671400"/>
            <a:chOff x="4572000" y="4191120"/>
            <a:chExt cx="3009960" cy="671400"/>
          </a:xfrm>
        </p:grpSpPr>
        <p:sp>
          <p:nvSpPr>
            <p:cNvPr id="701" name=""/>
            <p:cNvSpPr/>
            <p:nvPr/>
          </p:nvSpPr>
          <p:spPr>
            <a:xfrm>
              <a:off x="4572000" y="449568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6095880" y="4191120"/>
                  <a:ext cx="14860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f>
                            <m:num>
                              <m:r>
                                <m:t xml:space="preserve">dω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4800600" y="5791320"/>
                <a:ext cx="914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33680" y="58680"/>
            <a:ext cx="353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F14.014A_W1333" descr=""/>
          <p:cNvPicPr/>
          <p:nvPr/>
        </p:nvPicPr>
        <p:blipFill>
          <a:blip r:embed="rId1"/>
          <a:stretch/>
        </p:blipFill>
        <p:spPr>
          <a:xfrm>
            <a:off x="0" y="457200"/>
            <a:ext cx="3809880" cy="194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76320" y="2133720"/>
                <a:ext cx="3263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6320" y="2819520"/>
                <a:ext cx="2463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590920" y="2895480"/>
                <a:ext cx="1879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V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ωδ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152280" y="3657600"/>
            <a:ext cx="4229280" cy="2867040"/>
            <a:chOff x="152280" y="3657600"/>
            <a:chExt cx="4229280" cy="2867040"/>
          </a:xfrm>
        </p:grpSpPr>
        <p:pic>
          <p:nvPicPr>
            <p:cNvPr id="714" name="F14.014C_W1333" descr=""/>
            <p:cNvPicPr/>
            <p:nvPr/>
          </p:nvPicPr>
          <p:blipFill>
            <a:blip r:embed="rId2"/>
            <a:stretch/>
          </p:blipFill>
          <p:spPr>
            <a:xfrm>
              <a:off x="152280" y="4419720"/>
              <a:ext cx="4229280" cy="2104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380880" y="3657600"/>
                  <a:ext cx="1689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δ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4572000" y="1114560"/>
            <a:ext cx="4210200" cy="2527200"/>
            <a:chOff x="4572000" y="1114560"/>
            <a:chExt cx="4210200" cy="2527200"/>
          </a:xfrm>
        </p:grpSpPr>
        <p:pic>
          <p:nvPicPr>
            <p:cNvPr id="717" name="F14.014B_W1333" descr=""/>
            <p:cNvPicPr/>
            <p:nvPr/>
          </p:nvPicPr>
          <p:blipFill>
            <a:blip r:embed="rId3"/>
            <a:stretch/>
          </p:blipFill>
          <p:spPr>
            <a:xfrm>
              <a:off x="4572000" y="1114560"/>
              <a:ext cx="4210200" cy="1704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791320" y="2562480"/>
                  <a:ext cx="1447560" cy="10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δ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δ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4748040" y="533520"/>
            <a:ext cx="4097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omparison we show the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a related periodic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572000" y="4238640"/>
            <a:ext cx="4229280" cy="2085840"/>
            <a:chOff x="4572000" y="4238640"/>
            <a:chExt cx="4229280" cy="2085840"/>
          </a:xfrm>
        </p:grpSpPr>
        <p:pic>
          <p:nvPicPr>
            <p:cNvPr id="721" name="F14.014D_W1333" descr=""/>
            <p:cNvPicPr/>
            <p:nvPr/>
          </p:nvPicPr>
          <p:blipFill>
            <a:blip r:embed="rId4"/>
            <a:stretch/>
          </p:blipFill>
          <p:spPr>
            <a:xfrm>
              <a:off x="4572000" y="4238640"/>
              <a:ext cx="4229280" cy="2085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87920" y="5991120"/>
                  <a:ext cx="226080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ectrum  for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3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8760" y="76320"/>
            <a:ext cx="2335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280" y="457200"/>
            <a:ext cx="418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Fourier transform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823000" y="1143000"/>
                <a:ext cx="2158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29" name=""/>
          <p:cNvGrpSpPr/>
          <p:nvPr/>
        </p:nvGrpSpPr>
        <p:grpSpPr>
          <a:xfrm>
            <a:off x="76320" y="1041480"/>
            <a:ext cx="2133360" cy="1066680"/>
            <a:chOff x="76320" y="1041480"/>
            <a:chExt cx="2133360" cy="1066680"/>
          </a:xfrm>
        </p:grpSpPr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1041480"/>
                  <a:ext cx="213336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533160" y="1828800"/>
                  <a:ext cx="14731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6320" y="3657600"/>
                <a:ext cx="3365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76320" y="2133720"/>
                <a:ext cx="3730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fting or sampling property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mpulse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4876920" y="1981080"/>
                <a:ext cx="3987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fi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function of 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283360" y="2819520"/>
                <a:ext cx="2806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6248520" y="365760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397480" y="4313160"/>
                <a:ext cx="2718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ω-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8" name=""/>
          <p:cNvGrpSpPr/>
          <p:nvPr/>
        </p:nvGrpSpPr>
        <p:grpSpPr>
          <a:xfrm>
            <a:off x="328320" y="4724280"/>
            <a:ext cx="3177000" cy="853200"/>
            <a:chOff x="328320" y="4724280"/>
            <a:chExt cx="3177000" cy="853200"/>
          </a:xfrm>
        </p:grpSpPr>
        <p:sp>
          <p:nvSpPr>
            <p:cNvPr id="739" name=""/>
            <p:cNvSpPr/>
            <p:nvPr/>
          </p:nvSpPr>
          <p:spPr>
            <a:xfrm>
              <a:off x="328320" y="47242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760" y="5240160"/>
              <a:ext cx="1265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1828800" y="5257800"/>
                  <a:ext cx="1676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0" y="5715000"/>
                <a:ext cx="2971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048120" y="5715000"/>
                <a:ext cx="331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09480" y="64008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5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48320" y="152280"/>
                <a:ext cx="4114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ermine the Fourier transform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14.002A_W13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305160" cy="161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2680" y="228600"/>
            <a:ext cx="2550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Periodic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3321000"/>
            <a:ext cx="3463920" cy="3041640"/>
            <a:chOff x="380880" y="3321000"/>
            <a:chExt cx="3463920" cy="3041640"/>
          </a:xfrm>
        </p:grpSpPr>
        <p:pic>
          <p:nvPicPr>
            <p:cNvPr id="96" name="F14.002B_W1311" descr=""/>
            <p:cNvPicPr/>
            <p:nvPr/>
          </p:nvPicPr>
          <p:blipFill>
            <a:blip r:embed="rId2"/>
            <a:stretch/>
          </p:blipFill>
          <p:spPr>
            <a:xfrm>
              <a:off x="380880" y="3733920"/>
              <a:ext cx="333396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08200" y="332100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2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152280"/>
            <a:ext cx="3539880" cy="3124080"/>
            <a:chOff x="4952880" y="152280"/>
            <a:chExt cx="3539880" cy="3124080"/>
          </a:xfrm>
        </p:grpSpPr>
        <p:pic>
          <p:nvPicPr>
            <p:cNvPr id="99" name="F14.002C_W1311" descr=""/>
            <p:cNvPicPr/>
            <p:nvPr/>
          </p:nvPicPr>
          <p:blipFill>
            <a:blip r:embed="rId3"/>
            <a:stretch/>
          </p:blipFill>
          <p:spPr>
            <a:xfrm>
              <a:off x="4952880" y="637920"/>
              <a:ext cx="33530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56160" y="152280"/>
              <a:ext cx="303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4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029200" y="3352680"/>
            <a:ext cx="3786120" cy="3019680"/>
            <a:chOff x="5029200" y="3352680"/>
            <a:chExt cx="3786120" cy="3019680"/>
          </a:xfrm>
        </p:grpSpPr>
        <p:pic>
          <p:nvPicPr>
            <p:cNvPr id="102" name="F14.002D_W1311" descr=""/>
            <p:cNvPicPr/>
            <p:nvPr/>
          </p:nvPicPr>
          <p:blipFill>
            <a:blip r:embed="rId4"/>
            <a:stretch/>
          </p:blipFill>
          <p:spPr>
            <a:xfrm>
              <a:off x="5029200" y="3733920"/>
              <a:ext cx="3228840" cy="26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46880" y="3352680"/>
              <a:ext cx="326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with 100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6095880"/>
                <a:ext cx="38736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4120" y="6095880"/>
                <a:ext cx="31748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5040" y="2286000"/>
                <a:ext cx="2171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83200" y="533520"/>
            <a:ext cx="1941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FourierTransformPairs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34400" cy="6400800"/>
          </a:xfrm>
          <a:prstGeom prst="rect">
            <a:avLst/>
          </a:prstGeom>
          <a:ln w="0">
            <a:noFill/>
          </a:ln>
        </p:spPr>
      </p:pic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FourierTransformProperties" descr=""/>
          <p:cNvPicPr/>
          <p:nvPr/>
        </p:nvPicPr>
        <p:blipFill>
          <a:blip r:embed="rId1"/>
          <a:stretch/>
        </p:blipFill>
        <p:spPr>
          <a:xfrm>
            <a:off x="1219320" y="155520"/>
            <a:ext cx="6248160" cy="61009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43000" y="4648320"/>
            <a:ext cx="6172200" cy="1600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34640" y="76320"/>
            <a:ext cx="3579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of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228600" y="457200"/>
                <a:ext cx="3835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304920" y="1523880"/>
                <a:ext cx="3593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98440" y="350532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268920" y="3030480"/>
            <a:ext cx="3525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hanging orders of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20760" y="4325760"/>
            <a:ext cx="3030480" cy="676440"/>
            <a:chOff x="320760" y="4325760"/>
            <a:chExt cx="3030480" cy="676440"/>
          </a:xfrm>
        </p:grpSpPr>
        <p:sp>
          <p:nvSpPr>
            <p:cNvPr id="764" name=""/>
            <p:cNvSpPr/>
            <p:nvPr/>
          </p:nvSpPr>
          <p:spPr>
            <a:xfrm>
              <a:off x="320760" y="4325760"/>
              <a:ext cx="303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nge integration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85800" y="4800600"/>
                  <a:ext cx="193032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6" name=""/>
          <p:cNvSpPr/>
          <p:nvPr/>
        </p:nvSpPr>
        <p:spPr>
          <a:xfrm>
            <a:off x="138240" y="5073480"/>
            <a:ext cx="444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limits of integration remain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04920" y="5562720"/>
                <a:ext cx="3695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800600" y="380880"/>
                <a:ext cx="389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4794120" y="1143000"/>
                <a:ext cx="3911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715000" y="19051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1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81080" y="76320"/>
            <a:ext cx="5252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ystems application of the convolutio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52280" y="623880"/>
            <a:ext cx="4419720" cy="900000"/>
            <a:chOff x="152280" y="623880"/>
            <a:chExt cx="4419720" cy="900000"/>
          </a:xfrm>
        </p:grpSpPr>
        <p:sp>
          <p:nvSpPr>
            <p:cNvPr id="776" name=""/>
            <p:cNvSpPr/>
            <p:nvPr/>
          </p:nvSpPr>
          <p:spPr>
            <a:xfrm>
              <a:off x="761760" y="838080"/>
              <a:ext cx="13716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1218960" y="1066680"/>
                  <a:ext cx="405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8" name=""/>
            <p:cNvSpPr/>
            <p:nvPr/>
          </p:nvSpPr>
          <p:spPr>
            <a:xfrm>
              <a:off x="152280" y="1143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360" y="11430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152280" y="762120"/>
                  <a:ext cx="469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235240" y="623880"/>
                  <a:ext cx="2336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82" name="F14.015_W1334" descr=""/>
          <p:cNvPicPr/>
          <p:nvPr/>
        </p:nvPicPr>
        <p:blipFill>
          <a:blip r:embed="rId1"/>
          <a:stretch/>
        </p:blipFill>
        <p:spPr>
          <a:xfrm>
            <a:off x="171360" y="1828800"/>
            <a:ext cx="4400640" cy="581040"/>
          </a:xfrm>
          <a:prstGeom prst="rect">
            <a:avLst/>
          </a:prstGeom>
          <a:ln w="0">
            <a:noFill/>
          </a:ln>
        </p:spPr>
      </p:pic>
      <p:grpSp>
        <p:nvGrpSpPr>
          <p:cNvPr id="783" name=""/>
          <p:cNvGrpSpPr/>
          <p:nvPr/>
        </p:nvGrpSpPr>
        <p:grpSpPr>
          <a:xfrm>
            <a:off x="99720" y="3048120"/>
            <a:ext cx="7138800" cy="1905480"/>
            <a:chOff x="99720" y="3048120"/>
            <a:chExt cx="7138800" cy="1905480"/>
          </a:xfrm>
        </p:grpSpPr>
        <p:sp>
          <p:nvSpPr>
            <p:cNvPr id="784" name=""/>
            <p:cNvSpPr/>
            <p:nvPr/>
          </p:nvSpPr>
          <p:spPr>
            <a:xfrm>
              <a:off x="99720" y="30481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E14.012_W1335" descr=""/>
            <p:cNvPicPr/>
            <p:nvPr/>
          </p:nvPicPr>
          <p:blipFill>
            <a:blip r:embed="rId2"/>
            <a:stretch/>
          </p:blipFill>
          <p:spPr>
            <a:xfrm>
              <a:off x="154440" y="3643200"/>
              <a:ext cx="3512520" cy="600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147960" y="4100400"/>
                  <a:ext cx="13698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720080" y="4253040"/>
                  <a:ext cx="139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8" name=""/>
            <p:cNvSpPr/>
            <p:nvPr/>
          </p:nvSpPr>
          <p:spPr>
            <a:xfrm>
              <a:off x="143640" y="4616280"/>
              <a:ext cx="365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nd all initial conditions are zer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2737800" y="3125880"/>
                  <a:ext cx="45007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Use Fourier transform to 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0" name=""/>
          <p:cNvGrpSpPr/>
          <p:nvPr/>
        </p:nvGrpSpPr>
        <p:grpSpPr>
          <a:xfrm>
            <a:off x="4724280" y="3564000"/>
            <a:ext cx="3505320" cy="969840"/>
            <a:chOff x="4724280" y="3564000"/>
            <a:chExt cx="3505320" cy="969840"/>
          </a:xfrm>
        </p:grpSpPr>
        <p:graphicFrame>
          <p:nvGraphicFramePr>
            <p:cNvPr id="791" name=""/>
            <p:cNvGraphicFramePr/>
            <p:nvPr/>
          </p:nvGraphicFramePr>
          <p:xfrm>
            <a:off x="4724280" y="3886200"/>
            <a:ext cx="3505320" cy="647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886200"/>
                      <a:ext cx="3505320" cy="647640"/>
                    </a:xfrm>
                    <a:prstGeom prst="rect">
                      <a:avLst/>
                    </a:prstGeom>
                    <a:ln w="507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93" name=""/>
            <p:cNvSpPr/>
            <p:nvPr/>
          </p:nvSpPr>
          <p:spPr>
            <a:xfrm>
              <a:off x="4756320" y="3564000"/>
              <a:ext cx="311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m the table of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5029200"/>
                <a:ext cx="2031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04920" y="60199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464200" y="5257800"/>
            <a:ext cx="2142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an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410080" y="4648320"/>
                <a:ext cx="240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98" name=""/>
          <p:cNvGrpSpPr/>
          <p:nvPr/>
        </p:nvGrpSpPr>
        <p:grpSpPr>
          <a:xfrm>
            <a:off x="5562720" y="4157640"/>
            <a:ext cx="3259080" cy="2254320"/>
            <a:chOff x="5562720" y="4157640"/>
            <a:chExt cx="3259080" cy="2254320"/>
          </a:xfrm>
        </p:grpSpPr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5562720" y="5410080"/>
                  <a:ext cx="223524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>
              <a:off x="7763040" y="4157640"/>
              <a:ext cx="1058760" cy="1930320"/>
            </a:xfrm>
            <a:custGeom>
              <a:avLst/>
              <a:gdLst/>
              <a:ahLst/>
              <a:rect l="l" t="t" r="r" b="b"/>
              <a:pathLst>
                <a:path w="667" h="1216">
                  <a:moveTo>
                    <a:pt x="308" y="0"/>
                  </a:moveTo>
                  <a:cubicBezTo>
                    <a:pt x="402" y="10"/>
                    <a:pt x="490" y="28"/>
                    <a:pt x="583" y="40"/>
                  </a:cubicBezTo>
                  <a:cubicBezTo>
                    <a:pt x="636" y="93"/>
                    <a:pt x="618" y="63"/>
                    <a:pt x="640" y="129"/>
                  </a:cubicBezTo>
                  <a:cubicBezTo>
                    <a:pt x="667" y="352"/>
                    <a:pt x="662" y="659"/>
                    <a:pt x="494" y="827"/>
                  </a:cubicBezTo>
                  <a:cubicBezTo>
                    <a:pt x="441" y="976"/>
                    <a:pt x="482" y="912"/>
                    <a:pt x="373" y="1021"/>
                  </a:cubicBezTo>
                  <a:cubicBezTo>
                    <a:pt x="366" y="1028"/>
                    <a:pt x="365" y="1041"/>
                    <a:pt x="356" y="1046"/>
                  </a:cubicBezTo>
                  <a:cubicBezTo>
                    <a:pt x="336" y="1056"/>
                    <a:pt x="314" y="1058"/>
                    <a:pt x="292" y="1062"/>
                  </a:cubicBezTo>
                  <a:cubicBezTo>
                    <a:pt x="260" y="1068"/>
                    <a:pt x="194" y="1078"/>
                    <a:pt x="194" y="1078"/>
                  </a:cubicBezTo>
                  <a:cubicBezTo>
                    <a:pt x="115" y="1104"/>
                    <a:pt x="163" y="1093"/>
                    <a:pt x="48" y="1102"/>
                  </a:cubicBezTo>
                  <a:cubicBezTo>
                    <a:pt x="42" y="1184"/>
                    <a:pt x="69" y="1216"/>
                    <a:pt x="0" y="12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333320" y="1219320"/>
            <a:ext cx="438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(response) of a network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computed using the Fourier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" y="76320"/>
            <a:ext cx="2386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4920" y="533520"/>
                <a:ext cx="2705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07" name=""/>
          <p:cNvGrpSpPr/>
          <p:nvPr/>
        </p:nvGrpSpPr>
        <p:grpSpPr>
          <a:xfrm>
            <a:off x="3259440" y="228600"/>
            <a:ext cx="5682600" cy="711360"/>
            <a:chOff x="3259440" y="228600"/>
            <a:chExt cx="5682600" cy="711360"/>
          </a:xfrm>
        </p:grpSpPr>
        <p:sp>
          <p:nvSpPr>
            <p:cNvPr id="808" name=""/>
            <p:cNvSpPr/>
            <p:nvPr/>
          </p:nvSpPr>
          <p:spPr>
            <a:xfrm>
              <a:off x="3259440" y="228600"/>
              <a:ext cx="5682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nk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f(t)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s a voltage applied to a one Ohm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844880" y="609480"/>
                  <a:ext cx="21718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0" name=""/>
          <p:cNvGrpSpPr/>
          <p:nvPr/>
        </p:nvGrpSpPr>
        <p:grpSpPr>
          <a:xfrm>
            <a:off x="304920" y="1353960"/>
            <a:ext cx="6146640" cy="729000"/>
            <a:chOff x="304920" y="1353960"/>
            <a:chExt cx="6146640" cy="729000"/>
          </a:xfrm>
        </p:grpSpPr>
        <p:sp>
          <p:nvSpPr>
            <p:cNvPr id="811" name=""/>
            <p:cNvSpPr/>
            <p:nvPr/>
          </p:nvSpPr>
          <p:spPr>
            <a:xfrm>
              <a:off x="400320" y="1353960"/>
              <a:ext cx="6051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definition, the left hand side is the energy of the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304920" y="1752480"/>
                  <a:ext cx="4572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ower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or energy density in tim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04920" y="2209680"/>
                <a:ext cx="541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ergy density in the frequency doma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4" name=""/>
          <p:cNvGrpSpPr/>
          <p:nvPr/>
        </p:nvGrpSpPr>
        <p:grpSpPr>
          <a:xfrm>
            <a:off x="117720" y="3305160"/>
            <a:ext cx="8490960" cy="1342440"/>
            <a:chOff x="117720" y="3305160"/>
            <a:chExt cx="8490960" cy="1342440"/>
          </a:xfrm>
        </p:grpSpPr>
        <p:sp>
          <p:nvSpPr>
            <p:cNvPr id="815" name=""/>
            <p:cNvSpPr/>
            <p:nvPr/>
          </p:nvSpPr>
          <p:spPr>
            <a:xfrm>
              <a:off x="117720" y="3305160"/>
              <a:ext cx="8490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uitively, if the Fourier transform has a large magnitude over a frequency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n the signal has significant energy over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4160" y="4066920"/>
              <a:ext cx="8096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if the magnitude of the Fourier transform is zero (or  very small) the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gnal has no significant energy in that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497880" y="2666880"/>
            <a:ext cx="7814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seval’s theorem permits the determination of the energy of a signal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F14.016A_W1336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47760" cy="19447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3425760" y="58680"/>
            <a:ext cx="49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the effect of this low-pass filter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lity of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2222640"/>
                <a:ext cx="153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81080" y="2209680"/>
                <a:ext cx="2793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09880" y="12193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098320" y="2039760"/>
            <a:ext cx="373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Bode plots to vis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of the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2280" y="3352680"/>
            <a:ext cx="7124760" cy="1866960"/>
            <a:chOff x="152280" y="3352680"/>
            <a:chExt cx="7124760" cy="1866960"/>
          </a:xfrm>
        </p:grpSpPr>
        <p:pic>
          <p:nvPicPr>
            <p:cNvPr id="829" name="F14.016B_W1336" descr=""/>
            <p:cNvPicPr/>
            <p:nvPr/>
          </p:nvPicPr>
          <p:blipFill>
            <a:blip r:embed="rId2"/>
            <a:stretch/>
          </p:blipFill>
          <p:spPr>
            <a:xfrm>
              <a:off x="152280" y="3505320"/>
              <a:ext cx="362916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F14.016C_W1336" descr=""/>
            <p:cNvPicPr/>
            <p:nvPr/>
          </p:nvPicPr>
          <p:blipFill>
            <a:blip r:embed="rId3"/>
            <a:stretch/>
          </p:blipFill>
          <p:spPr>
            <a:xfrm>
              <a:off x="3962520" y="3352680"/>
              <a:ext cx="3314520" cy="17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F14.016D_W1336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3495600" cy="174312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52560" y="5029200"/>
            <a:ext cx="5388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frequencies in the input signal are atten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137120" y="5773680"/>
            <a:ext cx="483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 is clearly visible in 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geaux" descr=""/>
          <p:cNvPicPr/>
          <p:nvPr/>
        </p:nvPicPr>
        <p:blipFill>
          <a:blip r:embed="rId5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Example14p13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17220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741240" y="5911920"/>
            <a:ext cx="723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signal is slower and with less energy than the inpu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8560" y="76320"/>
            <a:ext cx="268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 OF IDEAL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4.017A_W133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909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76320" y="2268360"/>
            <a:ext cx="4162320" cy="1846440"/>
            <a:chOff x="76320" y="2268360"/>
            <a:chExt cx="4162320" cy="1846440"/>
          </a:xfrm>
        </p:grpSpPr>
        <p:pic>
          <p:nvPicPr>
            <p:cNvPr id="845" name="F14.017B_W1337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41623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955800" y="226836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52280" y="4449600"/>
            <a:ext cx="4172040" cy="1874880"/>
            <a:chOff x="152280" y="4449600"/>
            <a:chExt cx="4172040" cy="1874880"/>
          </a:xfrm>
        </p:grpSpPr>
        <p:pic>
          <p:nvPicPr>
            <p:cNvPr id="848" name="F14.017C_W1337" descr=""/>
            <p:cNvPicPr/>
            <p:nvPr/>
          </p:nvPicPr>
          <p:blipFill>
            <a:blip r:embed="rId3"/>
            <a:stretch/>
          </p:blipFill>
          <p:spPr>
            <a:xfrm>
              <a:off x="152280" y="48481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1032480" y="4449600"/>
              <a:ext cx="2601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572000" y="287280"/>
            <a:ext cx="4172040" cy="2179800"/>
            <a:chOff x="4572000" y="287280"/>
            <a:chExt cx="4172040" cy="2179800"/>
          </a:xfrm>
        </p:grpSpPr>
        <p:pic>
          <p:nvPicPr>
            <p:cNvPr id="851" name="F14.017D_W1337" descr=""/>
            <p:cNvPicPr/>
            <p:nvPr/>
          </p:nvPicPr>
          <p:blipFill>
            <a:blip r:embed="rId4"/>
            <a:stretch/>
          </p:blipFill>
          <p:spPr>
            <a:xfrm>
              <a:off x="4572000" y="990720"/>
              <a:ext cx="41720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071320" y="28728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572000" y="3625920"/>
            <a:ext cx="4324320" cy="2089080"/>
            <a:chOff x="4572000" y="3625920"/>
            <a:chExt cx="4324320" cy="2089080"/>
          </a:xfrm>
        </p:grpSpPr>
        <p:pic>
          <p:nvPicPr>
            <p:cNvPr id="854" name="F14.017E_W1337" descr=""/>
            <p:cNvPicPr/>
            <p:nvPr/>
          </p:nvPicPr>
          <p:blipFill>
            <a:blip r:embed="rId5"/>
            <a:stretch/>
          </p:blipFill>
          <p:spPr>
            <a:xfrm>
              <a:off x="4572000" y="4191120"/>
              <a:ext cx="43243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5378400" y="3625920"/>
              <a:ext cx="2646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band-stop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geaux" descr=""/>
          <p:cNvPicPr/>
          <p:nvPr/>
        </p:nvPicPr>
        <p:blipFill>
          <a:blip r:embed="rId6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21600" y="7632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uning-out” an AM radio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F14.018_W1338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3924360" cy="15811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225000" y="257328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urier transform of signal 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two AM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809880" y="533520"/>
                <a:ext cx="4940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gnal from station 1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from station 2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simplicity assume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4307040" y="2146320"/>
                <a:ext cx="48369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both stations reach the receiv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equal strength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gnal at antenna: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66" name=""/>
          <p:cNvGrpSpPr/>
          <p:nvPr/>
        </p:nvGrpSpPr>
        <p:grpSpPr>
          <a:xfrm>
            <a:off x="0" y="4038480"/>
            <a:ext cx="4781520" cy="1843560"/>
            <a:chOff x="0" y="4038480"/>
            <a:chExt cx="4781520" cy="1843560"/>
          </a:xfrm>
        </p:grpSpPr>
        <p:pic>
          <p:nvPicPr>
            <p:cNvPr id="867" name="F14.019_W1339" descr=""/>
            <p:cNvPicPr/>
            <p:nvPr/>
          </p:nvPicPr>
          <p:blipFill>
            <a:blip r:embed="rId2"/>
            <a:stretch/>
          </p:blipFill>
          <p:spPr>
            <a:xfrm>
              <a:off x="0" y="4038480"/>
              <a:ext cx="47815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33080" y="5544720"/>
              <a:ext cx="3830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receiv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0" y="3733920"/>
            <a:ext cx="4446000" cy="1600200"/>
            <a:chOff x="0" y="3733920"/>
            <a:chExt cx="4446000" cy="1600200"/>
          </a:xfrm>
        </p:grpSpPr>
        <p:grpSp>
          <p:nvGrpSpPr>
            <p:cNvPr id="870" name=""/>
            <p:cNvGrpSpPr/>
            <p:nvPr/>
          </p:nvGrpSpPr>
          <p:grpSpPr>
            <a:xfrm>
              <a:off x="0" y="4419360"/>
              <a:ext cx="4419360" cy="914760"/>
              <a:chOff x="0" y="4419360"/>
              <a:chExt cx="4419360" cy="91476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581280" y="4419360"/>
                <a:ext cx="838080" cy="838440"/>
                <a:chOff x="3581280" y="4419360"/>
                <a:chExt cx="838080" cy="8384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3657600" y="441972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4419360" y="441936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3581280" y="441972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0" y="4495680"/>
                <a:ext cx="838080" cy="838440"/>
                <a:chOff x="0" y="4495680"/>
                <a:chExt cx="838080" cy="838440"/>
              </a:xfrm>
            </p:grpSpPr>
            <p:sp>
              <p:nvSpPr>
                <p:cNvPr id="876" name=""/>
                <p:cNvSpPr/>
                <p:nvPr/>
              </p:nvSpPr>
              <p:spPr>
                <a:xfrm flipV="1">
                  <a:off x="76320" y="4496040"/>
                  <a:ext cx="0" cy="83808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838080" y="4495680"/>
                  <a:ext cx="0" cy="7621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0" y="4496040"/>
                  <a:ext cx="838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5800" y="3733920"/>
              <a:ext cx="4030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filter to tune out one 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971960" y="3200400"/>
            <a:ext cx="2800440" cy="1646280"/>
            <a:chOff x="4971960" y="3200400"/>
            <a:chExt cx="2800440" cy="1646280"/>
          </a:xfrm>
        </p:grpSpPr>
        <p:pic>
          <p:nvPicPr>
            <p:cNvPr id="881" name="F14.020_W1340" descr=""/>
            <p:cNvPicPr/>
            <p:nvPr/>
          </p:nvPicPr>
          <p:blipFill>
            <a:blip r:embed="rId3"/>
            <a:stretch/>
          </p:blipFill>
          <p:spPr>
            <a:xfrm>
              <a:off x="4971960" y="3522600"/>
              <a:ext cx="28004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129640" y="3200400"/>
              <a:ext cx="2555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tun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257800" y="4876920"/>
                <a:ext cx="262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924680" y="4876920"/>
                <a:ext cx="749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5207040" y="576576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152640" y="6019920"/>
            <a:ext cx="4903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how to design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electing suitable R,L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geaux" descr=""/>
          <p:cNvPicPr/>
          <p:nvPr/>
        </p:nvPicPr>
        <p:blipFill>
          <a:blip r:embed="rId4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260640" y="135000"/>
            <a:ext cx="302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ing the tu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609480" y="533520"/>
                <a:ext cx="2108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2" name=""/>
          <p:cNvGrpSpPr/>
          <p:nvPr/>
        </p:nvGrpSpPr>
        <p:grpSpPr>
          <a:xfrm>
            <a:off x="304920" y="1735200"/>
            <a:ext cx="3365280" cy="1541520"/>
            <a:chOff x="304920" y="1735200"/>
            <a:chExt cx="3365280" cy="1541520"/>
          </a:xfrm>
        </p:grpSpPr>
        <mc:AlternateContent>
          <mc:Choice xmlns:a14="http://schemas.microsoft.com/office/drawing/2010/main" Requires="a14">
            <p:sp>
              <p:nvSpPr>
                <p:cNvPr id="893" name=""/>
                <p:cNvSpPr txBox="1"/>
                <p:nvPr/>
              </p:nvSpPr>
              <p:spPr>
                <a:xfrm>
                  <a:off x="304920" y="2108160"/>
                  <a:ext cx="3365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enter frequency:  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304920" y="2717640"/>
                  <a:ext cx="25398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andwidth:  </m:t>
                      </m:r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5" name=""/>
            <p:cNvSpPr/>
            <p:nvPr/>
          </p:nvSpPr>
          <p:spPr>
            <a:xfrm>
              <a:off x="340920" y="173520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80880" y="3352680"/>
            <a:ext cx="2400480" cy="1095480"/>
            <a:chOff x="380880" y="3352680"/>
            <a:chExt cx="2400480" cy="1095480"/>
          </a:xfrm>
        </p:grpSpPr>
        <p:sp>
          <p:nvSpPr>
            <p:cNvPr id="897" name=""/>
            <p:cNvSpPr/>
            <p:nvPr/>
          </p:nvSpPr>
          <p:spPr>
            <a:xfrm>
              <a:off x="419040" y="3352680"/>
              <a:ext cx="231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specif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380880" y="3827160"/>
                  <a:ext cx="24004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W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90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960</m:t>
                          </m:r>
                          <m:r>
                            <m:rPr>
                              <m:lit/>
                              <m:nor/>
                            </m:rPr>
                            <m:t xml:space="preserve">kHz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9" name=""/>
          <p:cNvGrpSpPr/>
          <p:nvPr/>
        </p:nvGrpSpPr>
        <p:grpSpPr>
          <a:xfrm>
            <a:off x="4362480" y="61920"/>
            <a:ext cx="4781520" cy="2148480"/>
            <a:chOff x="4362480" y="61920"/>
            <a:chExt cx="4781520" cy="2148480"/>
          </a:xfrm>
        </p:grpSpPr>
        <p:grpSp>
          <p:nvGrpSpPr>
            <p:cNvPr id="900" name=""/>
            <p:cNvGrpSpPr/>
            <p:nvPr/>
          </p:nvGrpSpPr>
          <p:grpSpPr>
            <a:xfrm>
              <a:off x="4362480" y="366840"/>
              <a:ext cx="4781520" cy="1843560"/>
              <a:chOff x="4362480" y="366840"/>
              <a:chExt cx="4781520" cy="1843560"/>
            </a:xfrm>
          </p:grpSpPr>
          <p:pic>
            <p:nvPicPr>
              <p:cNvPr id="901" name="F14.019_W1339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2480" y="366840"/>
                <a:ext cx="47815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4795560" y="1873080"/>
                <a:ext cx="383076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urier transform of received sig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62480" y="61920"/>
              <a:ext cx="4446000" cy="1600200"/>
              <a:chOff x="4362480" y="61920"/>
              <a:chExt cx="4446000" cy="160020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4362480" y="747360"/>
                <a:ext cx="4419360" cy="914760"/>
                <a:chOff x="4362480" y="747360"/>
                <a:chExt cx="4419360" cy="914760"/>
              </a:xfrm>
            </p:grpSpPr>
            <p:grpSp>
              <p:nvGrpSpPr>
                <p:cNvPr id="905" name=""/>
                <p:cNvGrpSpPr/>
                <p:nvPr/>
              </p:nvGrpSpPr>
              <p:grpSpPr>
                <a:xfrm>
                  <a:off x="7943760" y="747360"/>
                  <a:ext cx="838080" cy="838440"/>
                  <a:chOff x="7943760" y="747360"/>
                  <a:chExt cx="838080" cy="83844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flipV="1">
                    <a:off x="8020080" y="74772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>
                    <a:off x="8781840" y="74736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943760" y="74772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9" name=""/>
                <p:cNvGrpSpPr/>
                <p:nvPr/>
              </p:nvGrpSpPr>
              <p:grpSpPr>
                <a:xfrm>
                  <a:off x="4362480" y="823680"/>
                  <a:ext cx="838080" cy="838440"/>
                  <a:chOff x="4362480" y="823680"/>
                  <a:chExt cx="838080" cy="83844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V="1">
                    <a:off x="4438800" y="824040"/>
                    <a:ext cx="0" cy="83808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V="1">
                    <a:off x="5200560" y="823680"/>
                    <a:ext cx="0" cy="76212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4362480" y="824040"/>
                    <a:ext cx="838080" cy="0"/>
                  </a:xfrm>
                  <a:prstGeom prst="line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3" name=""/>
              <p:cNvSpPr/>
              <p:nvPr/>
            </p:nvSpPr>
            <p:spPr>
              <a:xfrm>
                <a:off x="4778280" y="61920"/>
                <a:ext cx="4030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deal filter to tune out one AM s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>
            <a:off x="150120" y="4554360"/>
            <a:ext cx="407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unknowns than equations. 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cho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152280" y="5181480"/>
                <a:ext cx="1270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1525680" y="5181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52280" y="5943600"/>
                <a:ext cx="4330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H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4572000" y="2724120"/>
            <a:ext cx="4467240" cy="3371760"/>
            <a:chOff x="4572000" y="2724120"/>
            <a:chExt cx="4467240" cy="3371760"/>
          </a:xfrm>
        </p:grpSpPr>
        <p:pic>
          <p:nvPicPr>
            <p:cNvPr id="919" name="F14.021_W1341" descr=""/>
            <p:cNvPicPr/>
            <p:nvPr/>
          </p:nvPicPr>
          <p:blipFill>
            <a:blip r:embed="rId2"/>
            <a:stretch/>
          </p:blipFill>
          <p:spPr>
            <a:xfrm>
              <a:off x="4572000" y="3028680"/>
              <a:ext cx="44672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5460840" y="2724120"/>
              <a:ext cx="32166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response of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ned to 960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geaux" descr=""/>
          <p:cNvPicPr/>
          <p:nvPr/>
        </p:nvPicPr>
        <p:blipFill>
          <a:blip r:embed="rId3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0"/>
            <a:ext cx="3504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8680" y="439560"/>
            <a:ext cx="8533800" cy="1260720"/>
            <a:chOff x="328680" y="439560"/>
            <a:chExt cx="8533800" cy="1260720"/>
          </a:xfrm>
        </p:grpSpPr>
        <p:grpSp>
          <p:nvGrpSpPr>
            <p:cNvPr id="114" name=""/>
            <p:cNvGrpSpPr/>
            <p:nvPr/>
          </p:nvGrpSpPr>
          <p:grpSpPr>
            <a:xfrm>
              <a:off x="328680" y="439560"/>
              <a:ext cx="8533800" cy="580680"/>
              <a:chOff x="328680" y="439560"/>
              <a:chExt cx="8533800" cy="580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28680" y="439560"/>
                <a:ext cx="85338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ny “physically realizable” periodic signal, with period To, can be represented o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he interval                      by the expressio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6" name=""/>
                  <p:cNvSpPr txBox="1"/>
                  <p:nvPr/>
                </p:nvSpPr>
                <p:spPr>
                  <a:xfrm>
                    <a:off x="1523880" y="685800"/>
                    <a:ext cx="1244880" cy="29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200400" y="10666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-62280" y="1825560"/>
            <a:ext cx="86493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um of exponential functions is always a continuous function. Hence, the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side is a continuous fun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cally, one requires the signal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o be at least piecewise continuous. In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, the equality does not hold at the points where the signal is dis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960" y="3048120"/>
            <a:ext cx="6096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exponential Fourier series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6680" y="3657600"/>
                <a:ext cx="1791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8200" y="3657600"/>
                <a:ext cx="380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48120" y="3809880"/>
                <a:ext cx="799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4572000"/>
                <a:ext cx="4089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3886200"/>
                <a:ext cx="2895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or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53737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600" y="6172200"/>
                <a:ext cx="601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arbitray and can be chosen to make computations simple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4896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61400" y="58680"/>
            <a:ext cx="326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09480" y="457200"/>
                <a:ext cx="670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3976920" y="838080"/>
            <a:ext cx="78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25920" y="820800"/>
            <a:ext cx="5004720" cy="354600"/>
            <a:chOff x="1825920" y="820800"/>
            <a:chExt cx="5004720" cy="354600"/>
          </a:xfrm>
        </p:grpSpPr>
        <p:sp>
          <p:nvSpPr>
            <p:cNvPr id="929" name=""/>
            <p:cNvSpPr/>
            <p:nvPr/>
          </p:nvSpPr>
          <p:spPr>
            <a:xfrm>
              <a:off x="1825920" y="82080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08840" y="838080"/>
              <a:ext cx="721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62120" y="1905120"/>
            <a:ext cx="8011080" cy="3286080"/>
            <a:chOff x="762120" y="1905120"/>
            <a:chExt cx="8011080" cy="3286080"/>
          </a:xfrm>
        </p:grpSpPr>
        <p:pic>
          <p:nvPicPr>
            <p:cNvPr id="932" name="F14.022_W1342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675324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7565400" y="2251440"/>
              <a:ext cx="1207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nt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62320" y="3200400"/>
            <a:ext cx="609480" cy="750600"/>
            <a:chOff x="2362320" y="3200400"/>
            <a:chExt cx="609480" cy="750600"/>
          </a:xfrm>
        </p:grpSpPr>
        <p:sp>
          <p:nvSpPr>
            <p:cNvPr id="935" name=""/>
            <p:cNvSpPr/>
            <p:nvPr/>
          </p:nvSpPr>
          <p:spPr>
            <a:xfrm>
              <a:off x="2362320" y="350496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95480" y="320040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2514600" y="3733560"/>
                  <a:ext cx="4572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57200" y="4724280"/>
                <a:ext cx="2362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63680" y="5638680"/>
                <a:ext cx="3784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0" name=""/>
          <p:cNvGrpSpPr/>
          <p:nvPr/>
        </p:nvGrpSpPr>
        <p:grpSpPr>
          <a:xfrm>
            <a:off x="1525680" y="2819520"/>
            <a:ext cx="1217520" cy="988920"/>
            <a:chOff x="1525680" y="2819520"/>
            <a:chExt cx="1217520" cy="988920"/>
          </a:xfrm>
        </p:grpSpPr>
        <p:sp>
          <p:nvSpPr>
            <p:cNvPr id="941" name=""/>
            <p:cNvSpPr/>
            <p:nvPr/>
          </p:nvSpPr>
          <p:spPr>
            <a:xfrm>
              <a:off x="1525680" y="3808440"/>
              <a:ext cx="53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3720" y="2819520"/>
              <a:ext cx="0" cy="685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86000" y="3200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4572000" y="5245200"/>
                <a:ext cx="39625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200400" y="464832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33520" y="2514600"/>
                <a:ext cx="121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409680" y="1278000"/>
            <a:ext cx="741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requirement: Make the signal 100 times stronger than th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04920" y="228600"/>
                <a:ext cx="3429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eral form of a band-pass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52280" y="1892160"/>
                <a:ext cx="39625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jω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57200" y="3962520"/>
                <a:ext cx="2755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94120" y="333540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ng terms one gets a se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that can be used for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2438280" y="1219320"/>
            <a:ext cx="1747800" cy="1976400"/>
            <a:chOff x="2438280" y="1219320"/>
            <a:chExt cx="1747800" cy="1976400"/>
          </a:xfrm>
        </p:grpSpPr>
        <p:sp>
          <p:nvSpPr>
            <p:cNvPr id="956" name=""/>
            <p:cNvSpPr/>
            <p:nvPr/>
          </p:nvSpPr>
          <p:spPr>
            <a:xfrm>
              <a:off x="3271680" y="2585880"/>
              <a:ext cx="9144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38280" y="1219320"/>
              <a:ext cx="38124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447920" y="1219320"/>
            <a:ext cx="1371600" cy="2133360"/>
            <a:chOff x="1447920" y="1219320"/>
            <a:chExt cx="1371600" cy="2133360"/>
          </a:xfrm>
        </p:grpSpPr>
        <p:sp>
          <p:nvSpPr>
            <p:cNvPr id="959" name=""/>
            <p:cNvSpPr/>
            <p:nvPr/>
          </p:nvSpPr>
          <p:spPr>
            <a:xfrm>
              <a:off x="2209680" y="2514600"/>
              <a:ext cx="60984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47920" y="1219320"/>
              <a:ext cx="457200" cy="761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2971800" y="5335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enter frequency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ain  at center frequenc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quality factor of the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6371640" y="228600"/>
            <a:ext cx="2550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log scale, thi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symmetric ar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enter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nce, focus on 1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7400" y="5715000"/>
            <a:ext cx="3739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kHz, 100kHz are noise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kHz is the sign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57800" y="1600200"/>
                <a:ext cx="346716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4495680" y="2895480"/>
            <a:ext cx="2768760" cy="1619280"/>
            <a:chOff x="4495680" y="2895480"/>
            <a:chExt cx="2768760" cy="161928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4495680" y="323208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Q</m:t>
                                  </m:r>
                                </m:den>
                              </m:f>
                            </m:den>
                          </m:f>
                        </m:e>
                      </m:d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0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7" name=""/>
            <p:cNvSpPr/>
            <p:nvPr/>
          </p:nvSpPr>
          <p:spPr>
            <a:xfrm>
              <a:off x="4528080" y="2895480"/>
              <a:ext cx="197460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7261920" y="3273480"/>
            <a:ext cx="18525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wo s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oise gai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0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m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84160" y="4554360"/>
            <a:ext cx="446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center frequency is 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ation constrains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19720" y="5181480"/>
                <a:ext cx="2984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Q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≥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</m:rad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≈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28600" y="4952880"/>
            <a:ext cx="17524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280" y="4267080"/>
            <a:ext cx="16765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87200" y="6307200"/>
            <a:ext cx="4322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use the requirements to constraint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7467480" y="5257800"/>
                <a:ext cx="1041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952880" y="5943600"/>
                <a:ext cx="300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icking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423040" y="6248520"/>
                <a:ext cx="257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F14.023A_W134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719760" cy="52718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2139120" y="5621400"/>
            <a:ext cx="5394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ing Bode plot obtained with PSPICE AC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F14.023B_W1343" descr=""/>
          <p:cNvPicPr/>
          <p:nvPr/>
        </p:nvPicPr>
        <p:blipFill>
          <a:blip r:embed="rId1"/>
          <a:stretch/>
        </p:blipFill>
        <p:spPr>
          <a:xfrm>
            <a:off x="1066680" y="19080"/>
            <a:ext cx="6681960" cy="3257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8200" y="363600"/>
            <a:ext cx="1598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btain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62120" y="3124080"/>
            <a:ext cx="7367400" cy="3632400"/>
            <a:chOff x="762120" y="3124080"/>
            <a:chExt cx="7367400" cy="3632400"/>
          </a:xfrm>
        </p:grpSpPr>
        <p:pic>
          <p:nvPicPr>
            <p:cNvPr id="988" name="F14.023C_W1344" descr=""/>
            <p:cNvPicPr/>
            <p:nvPr/>
          </p:nvPicPr>
          <p:blipFill>
            <a:blip r:embed="rId2"/>
            <a:stretch/>
          </p:blipFill>
          <p:spPr>
            <a:xfrm>
              <a:off x="762120" y="3124080"/>
              <a:ext cx="7367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5275800" y="3868560"/>
              <a:ext cx="24973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ier transform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ignal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PSP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93440" y="5774760"/>
            <a:ext cx="1140840" cy="1078560"/>
            <a:chOff x="7993440" y="5774760"/>
            <a:chExt cx="1140840" cy="1078560"/>
          </a:xfrm>
        </p:grpSpPr>
        <p:pic>
          <p:nvPicPr>
            <p:cNvPr id="991" name="stop" descr=""/>
            <p:cNvPicPr/>
            <p:nvPr/>
          </p:nvPicPr>
          <p:blipFill>
            <a:blip r:embed="rId3"/>
            <a:stretch/>
          </p:blipFill>
          <p:spPr>
            <a:xfrm>
              <a:off x="85312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99344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Four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14.003_W131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828960" cy="261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53480" y="5868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62640" y="380880"/>
                <a:ext cx="2781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400800" y="1066680"/>
                <a:ext cx="2184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9920" y="1905120"/>
                <a:ext cx="24256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strategy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 a convenient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o the integr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H="1">
            <a:off x="5943240" y="251460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2362320"/>
            <a:ext cx="3683160" cy="544320"/>
            <a:chOff x="1295280" y="2362320"/>
            <a:chExt cx="3683160" cy="544320"/>
          </a:xfrm>
        </p:grpSpPr>
        <p:sp>
          <p:nvSpPr>
            <p:cNvPr id="138" name=""/>
            <p:cNvSpPr/>
            <p:nvPr/>
          </p:nvSpPr>
          <p:spPr>
            <a:xfrm>
              <a:off x="1295280" y="2590920"/>
              <a:ext cx="1447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276720" y="2362320"/>
                  <a:ext cx="170172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T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 flipH="1">
            <a:off x="5867280" y="28954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14400" y="289548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H="1">
            <a:off x="5943600" y="3276720"/>
            <a:ext cx="2209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3352680"/>
                <a:ext cx="6872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0" y="4495680"/>
                <a:ext cx="4927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5181480"/>
                <a:ext cx="773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315200" y="419112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6019920"/>
                <a:ext cx="67071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nπ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568680" y="990720"/>
                <a:ext cx="26035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π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f>
                                <m:num>
                                  <m:r>
                                    <m:t xml:space="preserve">n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79960" y="445788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is is for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!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n this 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E14.001_W131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3886200" cy="11365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6357960" y="380880"/>
            <a:ext cx="2781360" cy="2756160"/>
            <a:chOff x="6357960" y="380880"/>
            <a:chExt cx="2781360" cy="2756160"/>
          </a:xfrm>
        </p:grpSpPr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00800" y="1828800"/>
                  <a:ext cx="242568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6357960" y="380880"/>
                  <a:ext cx="2781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396120" y="1066680"/>
                  <a:ext cx="21844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" name=""/>
          <p:cNvGrpSpPr/>
          <p:nvPr/>
        </p:nvGrpSpPr>
        <p:grpSpPr>
          <a:xfrm>
            <a:off x="1143000" y="533520"/>
            <a:ext cx="762120" cy="380880"/>
            <a:chOff x="1143000" y="533520"/>
            <a:chExt cx="762120" cy="380880"/>
          </a:xfrm>
        </p:grpSpPr>
        <p:sp>
          <p:nvSpPr>
            <p:cNvPr id="162" name=""/>
            <p:cNvSpPr/>
            <p:nvPr/>
          </p:nvSpPr>
          <p:spPr>
            <a:xfrm>
              <a:off x="1143000" y="9144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295280" y="533520"/>
                  <a:ext cx="58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62320" y="533520"/>
                <a:ext cx="660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38080" y="16765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0" y="2590920"/>
                <a:ext cx="5524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jπn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486400" y="3124080"/>
                <a:ext cx="888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91120" y="3352680"/>
                <a:ext cx="8888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9400" y="120600"/>
            <a:ext cx="436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xponential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357960" y="444600"/>
            <a:ext cx="2781360" cy="2755440"/>
            <a:chOff x="6357960" y="444600"/>
            <a:chExt cx="2781360" cy="275544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400800" y="1892160"/>
                  <a:ext cx="2425680" cy="13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strategy: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etermine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Select a convenient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Do the integrat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6357960" y="444600"/>
                  <a:ext cx="2781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∞</m:t>
                          </m:r>
                        </m:sup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nary>
                      <m:r>
                        <m:t xml:space="preserve">;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396120" y="1130040"/>
                  <a:ext cx="2184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jn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E14.002_W131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193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066680" y="609480"/>
            <a:ext cx="1676520" cy="533520"/>
            <a:chOff x="1066680" y="609480"/>
            <a:chExt cx="1676520" cy="533520"/>
          </a:xfrm>
        </p:grpSpPr>
        <p:sp>
          <p:nvSpPr>
            <p:cNvPr id="180" name=""/>
            <p:cNvSpPr/>
            <p:nvPr/>
          </p:nvSpPr>
          <p:spPr>
            <a:xfrm flipV="1">
              <a:off x="1066680" y="7621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43200" y="6858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9144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1905120" y="60948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53352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2120" y="198108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" y="2362320"/>
                <a:ext cx="167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3200400"/>
                <a:ext cx="5384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4114800"/>
                <a:ext cx="5753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28600" y="49528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3429000"/>
                <a:ext cx="180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760" y="76320"/>
            <a:ext cx="3564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OURIER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52480" y="533520"/>
                <a:ext cx="387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96" name=""/>
          <p:cNvGrpSpPr/>
          <p:nvPr/>
        </p:nvGrpSpPr>
        <p:grpSpPr>
          <a:xfrm>
            <a:off x="0" y="1236600"/>
            <a:ext cx="5780160" cy="1027080"/>
            <a:chOff x="0" y="1236600"/>
            <a:chExt cx="5780160" cy="102708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0" y="1922400"/>
                  <a:ext cx="57801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jn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n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t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76320" y="1236600"/>
                  <a:ext cx="888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"/>
          <p:cNvGrpSpPr/>
          <p:nvPr/>
        </p:nvGrpSpPr>
        <p:grpSpPr>
          <a:xfrm>
            <a:off x="2052720" y="1771560"/>
            <a:ext cx="914400" cy="914400"/>
            <a:chOff x="2052720" y="1771560"/>
            <a:chExt cx="914400" cy="91440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362320" y="2379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2052720" y="1771560"/>
              <a:ext cx="91440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86200" y="1617840"/>
            <a:ext cx="1066680" cy="1143000"/>
            <a:chOff x="3886200" y="1617840"/>
            <a:chExt cx="1066680" cy="11430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267080" y="24559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3886200" y="1617840"/>
              <a:ext cx="106668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518840" y="1219320"/>
            <a:ext cx="6756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lationship between exponential and trigonometric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943600" y="19224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29200" y="2684520"/>
                <a:ext cx="3645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real-valued then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05720" y="38160"/>
                <a:ext cx="18921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α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228600"/>
                <a:ext cx="800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2819520"/>
                <a:ext cx="2184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14600" y="2971800"/>
                <a:ext cx="2438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013720" y="3124080"/>
            <a:ext cx="39740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igonometric form permi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of symmetry properti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 to simplify the compu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5160" y="5392800"/>
            <a:ext cx="4110840" cy="337320"/>
            <a:chOff x="245160" y="5392800"/>
            <a:chExt cx="4110840" cy="337320"/>
          </a:xfrm>
        </p:grpSpPr>
        <p:sp>
          <p:nvSpPr>
            <p:cNvPr id="214" name=""/>
            <p:cNvSpPr/>
            <p:nvPr/>
          </p:nvSpPr>
          <p:spPr>
            <a:xfrm>
              <a:off x="245160" y="5392800"/>
              <a:ext cx="2655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n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124080" y="5410080"/>
                  <a:ext cx="12319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34320" y="4876920"/>
                <a:ext cx="200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17" name=""/>
          <p:cNvGrpSpPr/>
          <p:nvPr/>
        </p:nvGrpSpPr>
        <p:grpSpPr>
          <a:xfrm>
            <a:off x="4876920" y="4724280"/>
            <a:ext cx="1904760" cy="1090800"/>
            <a:chOff x="4876920" y="4724280"/>
            <a:chExt cx="1904760" cy="1090800"/>
          </a:xfrm>
        </p:grpSpPr>
        <p:sp>
          <p:nvSpPr>
            <p:cNvPr id="218" name=""/>
            <p:cNvSpPr/>
            <p:nvPr/>
          </p:nvSpPr>
          <p:spPr>
            <a:xfrm>
              <a:off x="4876920" y="5638680"/>
              <a:ext cx="1904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791320" y="4724280"/>
              <a:ext cx="0" cy="1067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57800" y="5028840"/>
              <a:ext cx="53352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91320" y="5029200"/>
              <a:ext cx="60948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86480" y="4992840"/>
              <a:ext cx="223920" cy="631800"/>
            </a:xfrm>
            <a:custGeom>
              <a:avLst/>
              <a:gdLst/>
              <a:ahLst/>
              <a:rect l="l" t="t" r="r" b="b"/>
              <a:pathLst>
                <a:path w="141" h="398">
                  <a:moveTo>
                    <a:pt x="130" y="390"/>
                  </a:moveTo>
                  <a:cubicBezTo>
                    <a:pt x="133" y="287"/>
                    <a:pt x="138" y="185"/>
                    <a:pt x="138" y="82"/>
                  </a:cubicBezTo>
                  <a:cubicBezTo>
                    <a:pt x="138" y="58"/>
                    <a:pt x="141" y="31"/>
                    <a:pt x="130" y="9"/>
                  </a:cubicBezTo>
                  <a:cubicBezTo>
                    <a:pt x="126" y="0"/>
                    <a:pt x="114" y="33"/>
                    <a:pt x="114" y="33"/>
                  </a:cubicBezTo>
                  <a:cubicBezTo>
                    <a:pt x="90" y="49"/>
                    <a:pt x="64" y="63"/>
                    <a:pt x="41" y="82"/>
                  </a:cubicBezTo>
                  <a:cubicBezTo>
                    <a:pt x="14" y="104"/>
                    <a:pt x="0" y="179"/>
                    <a:pt x="0" y="212"/>
                  </a:cubicBezTo>
                  <a:cubicBezTo>
                    <a:pt x="0" y="274"/>
                    <a:pt x="0" y="336"/>
                    <a:pt x="0" y="398"/>
                  </a:cubicBezTo>
                  <a:cubicBezTo>
                    <a:pt x="43" y="395"/>
                    <a:pt x="87" y="393"/>
                    <a:pt x="130" y="390"/>
                  </a:cubicBez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80160" y="499896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0" y="386"/>
                  </a:moveTo>
                  <a:cubicBezTo>
                    <a:pt x="14" y="284"/>
                    <a:pt x="66" y="119"/>
                    <a:pt x="0" y="45"/>
                  </a:cubicBezTo>
                  <a:cubicBezTo>
                    <a:pt x="10" y="7"/>
                    <a:pt x="18" y="0"/>
                    <a:pt x="49" y="29"/>
                  </a:cubicBezTo>
                  <a:cubicBezTo>
                    <a:pt x="74" y="106"/>
                    <a:pt x="100" y="113"/>
                    <a:pt x="154" y="167"/>
                  </a:cubicBezTo>
                  <a:lnTo>
                    <a:pt x="151" y="403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5334120" y="5638680"/>
                  <a:ext cx="35388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943600" y="5638680"/>
                  <a:ext cx="1904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48040" y="6002280"/>
            <a:ext cx="4101840" cy="337320"/>
            <a:chOff x="248040" y="6002280"/>
            <a:chExt cx="4101840" cy="337320"/>
          </a:xfrm>
        </p:grpSpPr>
        <p:sp>
          <p:nvSpPr>
            <p:cNvPr id="227" name=""/>
            <p:cNvSpPr/>
            <p:nvPr/>
          </p:nvSpPr>
          <p:spPr>
            <a:xfrm>
              <a:off x="248040" y="6002280"/>
              <a:ext cx="259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dd function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978280" y="6019920"/>
                  <a:ext cx="1371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4800600" y="5790960"/>
            <a:ext cx="2133720" cy="1066680"/>
            <a:chOff x="4800600" y="5790960"/>
            <a:chExt cx="2133720" cy="1066680"/>
          </a:xfrm>
        </p:grpSpPr>
        <p:sp>
          <p:nvSpPr>
            <p:cNvPr id="230" name=""/>
            <p:cNvSpPr/>
            <p:nvPr/>
          </p:nvSpPr>
          <p:spPr>
            <a:xfrm flipV="1">
              <a:off x="5867280" y="579096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00600" y="5866920"/>
              <a:ext cx="2133720" cy="762120"/>
              <a:chOff x="4800600" y="5866920"/>
              <a:chExt cx="2133720" cy="762120"/>
            </a:xfrm>
          </p:grpSpPr>
          <p:sp>
            <p:nvSpPr>
              <p:cNvPr id="232" name=""/>
              <p:cNvSpPr/>
              <p:nvPr/>
            </p:nvSpPr>
            <p:spPr>
              <a:xfrm>
                <a:off x="4800600" y="6324480"/>
                <a:ext cx="21337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5257800" y="5866920"/>
                <a:ext cx="1067040" cy="7621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10440" y="63244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43600" y="6095880"/>
                <a:ext cx="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934320" y="5867280"/>
                <a:ext cx="2209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geaux" descr=""/>
          <p:cNvPicPr/>
          <p:nvPr/>
        </p:nvPicPr>
        <p:blipFill>
          <a:blip r:embed="rId1"/>
          <a:stretch/>
        </p:blipFill>
        <p:spPr>
          <a:xfrm>
            <a:off x="840744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59480" y="66150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596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00:29:26Z</dcterms:created>
  <dc:creator>Jorge Aravena</dc:creator>
  <dc:description/>
  <dc:language>en-US</dc:language>
  <cp:lastModifiedBy>student</cp:lastModifiedBy>
  <dcterms:modified xsi:type="dcterms:W3CDTF">2001-11-01T14:38:33Z</dcterms:modified>
  <cp:revision>34</cp:revision>
  <dc:subject/>
  <dc:title>No Slide Title</dc:title>
</cp:coreProperties>
</file>