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914-190C-41E2-B807-2CE85541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ACF-B1BF-4D9F-8527-C44E8CFD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C8F-00D6-4026-AFA0-51B2F21C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9EE-9C3B-488A-A343-5FD014AA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CEA-3F59-46C7-B853-46803B92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871-8774-45F1-8715-74F6AADD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916-ECA6-4FDD-8AAB-DCAB20CD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D0E-5C43-4735-A421-EB0F7570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3D7-4D44-42AC-A7F8-C6AD964C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0BE-7CF7-4851-8D99-C997CABD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31B-91F3-4193-8181-D9F0A3D8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C61-DF06-409B-976D-97DD1AF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665A-BB97-4821-9285-DF0A93DE6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9760" y="76320"/>
            <a:ext cx="4731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WO-POR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15.001B_W1378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419360" cy="227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0880" y="2971800"/>
            <a:ext cx="791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many situations one is not interested in the internal organization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. A description relating input and output variables may be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6200" y="3657600"/>
            <a:ext cx="8440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wo-port model is a description of a network that relates voltages and 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wo pairs of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2080" y="4302000"/>
            <a:ext cx="7457040" cy="2283840"/>
            <a:chOff x="172080" y="4302000"/>
            <a:chExt cx="7457040" cy="2283840"/>
          </a:xfrm>
        </p:grpSpPr>
        <p:sp>
          <p:nvSpPr>
            <p:cNvPr id="46" name=""/>
            <p:cNvSpPr/>
            <p:nvPr/>
          </p:nvSpPr>
          <p:spPr>
            <a:xfrm>
              <a:off x="2942280" y="5105520"/>
              <a:ext cx="276552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mitt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080" y="4302000"/>
              <a:ext cx="21952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LEARNING GO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98160" y="4782960"/>
              <a:ext cx="431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udy the basic types of two-port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0" y="6248520"/>
              <a:ext cx="540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stand how to convert one model into an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geaux" descr=""/>
          <p:cNvPicPr/>
          <p:nvPr/>
        </p:nvPicPr>
        <p:blipFill>
          <a:blip r:embed="rId2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E15.003_W1383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22240" y="76320"/>
            <a:ext cx="5942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on a 4 Ohm load with a 24V inpu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320" y="546120"/>
            <a:ext cx="2614320" cy="1282680"/>
            <a:chOff x="76320" y="546120"/>
            <a:chExt cx="2614320" cy="1282680"/>
          </a:xfrm>
        </p:grpSpPr>
        <p:grpSp>
          <p:nvGrpSpPr>
            <p:cNvPr id="237" name=""/>
            <p:cNvGrpSpPr/>
            <p:nvPr/>
          </p:nvGrpSpPr>
          <p:grpSpPr>
            <a:xfrm>
              <a:off x="457200" y="546120"/>
              <a:ext cx="380880" cy="304560"/>
              <a:chOff x="457200" y="546120"/>
              <a:chExt cx="38088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" y="850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57200" y="546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6320" y="1003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41" name=""/>
            <p:cNvGrpSpPr/>
            <p:nvPr/>
          </p:nvGrpSpPr>
          <p:grpSpPr>
            <a:xfrm>
              <a:off x="1980720" y="546120"/>
              <a:ext cx="533160" cy="304560"/>
              <a:chOff x="1980720" y="546120"/>
              <a:chExt cx="533160" cy="30456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1980720" y="850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2209680" y="546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25680" y="1003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2133720"/>
                <a:ext cx="193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3048120"/>
                <a:ext cx="195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334120" y="838080"/>
            <a:ext cx="2754360" cy="1333800"/>
            <a:chOff x="5334120" y="838080"/>
            <a:chExt cx="2754360" cy="1333800"/>
          </a:xfrm>
        </p:grpSpPr>
        <p:pic>
          <p:nvPicPr>
            <p:cNvPr id="248" name="E15.003_W1383" descr=""/>
            <p:cNvPicPr/>
            <p:nvPr/>
          </p:nvPicPr>
          <p:blipFill>
            <a:blip r:embed="rId2"/>
            <a:stretch/>
          </p:blipFill>
          <p:spPr>
            <a:xfrm>
              <a:off x="5472000" y="8380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9400" y="1371600"/>
              <a:ext cx="15264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10666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05720" y="18284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758000" y="1523880"/>
                  <a:ext cx="3304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1170000"/>
                  <a:ext cx="4428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2286000"/>
                <a:ext cx="13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4876920" y="698400"/>
            <a:ext cx="2894760" cy="1359000"/>
            <a:chOff x="4876920" y="698400"/>
            <a:chExt cx="2894760" cy="1359000"/>
          </a:xfrm>
        </p:grpSpPr>
        <p:grpSp>
          <p:nvGrpSpPr>
            <p:cNvPr id="256" name=""/>
            <p:cNvGrpSpPr/>
            <p:nvPr/>
          </p:nvGrpSpPr>
          <p:grpSpPr>
            <a:xfrm>
              <a:off x="5410080" y="698400"/>
              <a:ext cx="380880" cy="304560"/>
              <a:chOff x="5410080" y="698400"/>
              <a:chExt cx="380880" cy="30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008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541008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487692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60" name=""/>
            <p:cNvGrpSpPr/>
            <p:nvPr/>
          </p:nvGrpSpPr>
          <p:grpSpPr>
            <a:xfrm>
              <a:off x="7238520" y="698400"/>
              <a:ext cx="533160" cy="304560"/>
              <a:chOff x="7238520" y="698400"/>
              <a:chExt cx="533160" cy="3045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723852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746748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162920" y="1231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30481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546360" y="3429000"/>
                <a:ext cx="3463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3886200"/>
                <a:ext cx="1397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58000" y="4267080"/>
                <a:ext cx="582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4572000" y="4572000"/>
            <a:ext cx="2209680" cy="366840"/>
            <a:chOff x="4572000" y="4572000"/>
            <a:chExt cx="2209680" cy="36684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181480" y="464832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4572000" y="4572000"/>
              <a:ext cx="2209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19920" y="51814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143880" y="60480"/>
            <a:ext cx="2885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HYBRI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20960" y="2590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3657600"/>
                <a:ext cx="51055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input impedance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reverse voltage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forward current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output admit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533960" y="5087880"/>
            <a:ext cx="624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parameters are very common in modeling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680" y="3429000"/>
            <a:ext cx="3597120" cy="1623960"/>
            <a:chOff x="220680" y="3429000"/>
            <a:chExt cx="3597120" cy="162396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28600" y="3429000"/>
                  <a:ext cx="3581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20680" y="4267080"/>
                  <a:ext cx="359712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289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50320" y="58680"/>
            <a:ext cx="444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29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0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30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E15.003_W1383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81240" cy="1333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8440" y="76320"/>
            <a:ext cx="461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09760" y="927000"/>
            <a:ext cx="2614320" cy="1282680"/>
            <a:chOff x="509760" y="927000"/>
            <a:chExt cx="2614320" cy="1282680"/>
          </a:xfrm>
        </p:grpSpPr>
        <p:grpSp>
          <p:nvGrpSpPr>
            <p:cNvPr id="319" name=""/>
            <p:cNvGrpSpPr/>
            <p:nvPr/>
          </p:nvGrpSpPr>
          <p:grpSpPr>
            <a:xfrm>
              <a:off x="890640" y="927000"/>
              <a:ext cx="380880" cy="304560"/>
              <a:chOff x="890640" y="927000"/>
              <a:chExt cx="3808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890640" y="12315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890640" y="9270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09760" y="1384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23" name=""/>
            <p:cNvGrpSpPr/>
            <p:nvPr/>
          </p:nvGrpSpPr>
          <p:grpSpPr>
            <a:xfrm>
              <a:off x="2414160" y="927000"/>
              <a:ext cx="533160" cy="304560"/>
              <a:chOff x="2414160" y="927000"/>
              <a:chExt cx="533160" cy="3045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414160" y="1231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2643120" y="927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859120" y="1384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9880" y="1447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8" name="E15.003_W1383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9520" y="3200400"/>
            <a:ext cx="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57200" y="2832120"/>
            <a:ext cx="2437560" cy="1282680"/>
            <a:chOff x="457200" y="2832120"/>
            <a:chExt cx="2437560" cy="1282680"/>
          </a:xfrm>
        </p:grpSpPr>
        <p:grpSp>
          <p:nvGrpSpPr>
            <p:cNvPr id="331" name=""/>
            <p:cNvGrpSpPr/>
            <p:nvPr/>
          </p:nvGrpSpPr>
          <p:grpSpPr>
            <a:xfrm>
              <a:off x="838080" y="2832120"/>
              <a:ext cx="380880" cy="304560"/>
              <a:chOff x="838080" y="28321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38080" y="313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"/>
                  <p:cNvSpPr txBox="1"/>
                  <p:nvPr/>
                </p:nvSpPr>
                <p:spPr>
                  <a:xfrm>
                    <a:off x="838080" y="2832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57200" y="328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35" name=""/>
            <p:cNvGrpSpPr/>
            <p:nvPr/>
          </p:nvGrpSpPr>
          <p:grpSpPr>
            <a:xfrm>
              <a:off x="2361600" y="2832120"/>
              <a:ext cx="533160" cy="304560"/>
              <a:chOff x="2361600" y="2832120"/>
              <a:chExt cx="533160" cy="304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361600" y="3136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2590560" y="2832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895480" y="3657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7200" y="441972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487692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E15.003_W1383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2181240" cy="1333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929120" y="2286000"/>
            <a:ext cx="2614680" cy="1282680"/>
            <a:chOff x="4929120" y="2286000"/>
            <a:chExt cx="2614680" cy="128268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929120" y="2743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44" name=""/>
            <p:cNvGrpSpPr/>
            <p:nvPr/>
          </p:nvGrpSpPr>
          <p:grpSpPr>
            <a:xfrm>
              <a:off x="6833880" y="2286000"/>
              <a:ext cx="533160" cy="304560"/>
              <a:chOff x="6833880" y="2286000"/>
              <a:chExt cx="533160" cy="3045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6833880" y="2590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7062840" y="2286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278840" y="2743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"/>
          <p:cNvGrpSpPr/>
          <p:nvPr/>
        </p:nvGrpSpPr>
        <p:grpSpPr>
          <a:xfrm>
            <a:off x="5257800" y="2819520"/>
            <a:ext cx="711360" cy="366480"/>
            <a:chOff x="5257800" y="2819520"/>
            <a:chExt cx="711360" cy="36648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410080" y="2895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257800" y="2819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257800" y="39625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486400" y="4724280"/>
                <a:ext cx="2006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609480"/>
            <a:ext cx="2666880" cy="1333800"/>
            <a:chOff x="457200" y="609480"/>
            <a:chExt cx="2666880" cy="1333800"/>
          </a:xfrm>
        </p:grpSpPr>
        <p:pic>
          <p:nvPicPr>
            <p:cNvPr id="358" name="E15.003_W1383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14600" y="1143000"/>
              <a:ext cx="1522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90920" y="16761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9140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43200" y="1295280"/>
                  <a:ext cx="3808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2702520" y="58680"/>
            <a:ext cx="501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input impedance of the two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657600" y="533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469800"/>
            <a:ext cx="2437920" cy="1346400"/>
            <a:chOff x="304920" y="469800"/>
            <a:chExt cx="2437920" cy="13464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469800"/>
              <a:ext cx="380880" cy="304560"/>
              <a:chOff x="685800" y="469800"/>
              <a:chExt cx="3808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800" y="7743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85800" y="469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304920" y="927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70" name=""/>
            <p:cNvGrpSpPr/>
            <p:nvPr/>
          </p:nvGrpSpPr>
          <p:grpSpPr>
            <a:xfrm>
              <a:off x="2209680" y="469800"/>
              <a:ext cx="533160" cy="304560"/>
              <a:chOff x="2209680" y="469800"/>
              <a:chExt cx="533160" cy="30456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209680" y="7743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2438640" y="469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98144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1371600"/>
                <a:ext cx="406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629400" y="457200"/>
                <a:ext cx="78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733920" y="182880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00800" y="2057400"/>
                <a:ext cx="165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86200" y="2757600"/>
                <a:ext cx="228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2247840"/>
                <a:ext cx="2210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38280" y="396252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686520" y="4782960"/>
            <a:ext cx="3606120" cy="1033560"/>
            <a:chOff x="686520" y="4782960"/>
            <a:chExt cx="3606120" cy="1033560"/>
          </a:xfrm>
        </p:grpSpPr>
        <p:sp>
          <p:nvSpPr>
            <p:cNvPr id="382" name=""/>
            <p:cNvSpPr/>
            <p:nvPr/>
          </p:nvSpPr>
          <p:spPr>
            <a:xfrm>
              <a:off x="686520" y="4782960"/>
              <a:ext cx="136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828800" y="5257800"/>
                  <a:ext cx="24638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74720" y="60480"/>
            <a:ext cx="38718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MISS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86200" y="25909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7680" y="3429000"/>
                <a:ext cx="26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2280" y="4343400"/>
                <a:ext cx="2946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05320" y="3733920"/>
                <a:ext cx="54864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 circuit voltage ratio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transfer imped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pen-circuit transfer admit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current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663240" y="60480"/>
            <a:ext cx="2296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BC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220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F15.006_W1385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5391000" y="685800"/>
            <a:ext cx="2946600" cy="2398680"/>
            <a:chOff x="5391000" y="685800"/>
            <a:chExt cx="2946600" cy="23986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095880" y="68580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447920"/>
                  <a:ext cx="2603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391000" y="2362320"/>
                  <a:ext cx="2946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105520" y="1371600"/>
            <a:ext cx="1447560" cy="99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7200" y="3886200"/>
                <a:ext cx="2590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934320" y="1447920"/>
            <a:ext cx="1295280" cy="761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7200" y="5181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57200" y="350532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486400" y="3657600"/>
                <a:ext cx="13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7010280" y="2362320"/>
            <a:ext cx="167652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72000" y="3962520"/>
                <a:ext cx="2603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543800" y="441972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105520" y="2362320"/>
            <a:ext cx="16761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5257800"/>
                <a:ext cx="4076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019920" y="601992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E15.001_W138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0032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9676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05520" y="533520"/>
            <a:ext cx="2946240" cy="2398680"/>
            <a:chOff x="5105520" y="533520"/>
            <a:chExt cx="2946240" cy="239868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0040" y="533520"/>
                  <a:ext cx="1422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5200560" y="1295640"/>
                  <a:ext cx="26031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5105520" y="2210040"/>
                  <a:ext cx="29462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80880" y="698400"/>
            <a:ext cx="2614320" cy="1282680"/>
            <a:chOff x="380880" y="698400"/>
            <a:chExt cx="2614320" cy="1282680"/>
          </a:xfrm>
        </p:grpSpPr>
        <p:grpSp>
          <p:nvGrpSpPr>
            <p:cNvPr id="428" name=""/>
            <p:cNvGrpSpPr/>
            <p:nvPr/>
          </p:nvGrpSpPr>
          <p:grpSpPr>
            <a:xfrm>
              <a:off x="761760" y="698400"/>
              <a:ext cx="380880" cy="304560"/>
              <a:chOff x="761760" y="698400"/>
              <a:chExt cx="38088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76176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76176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8088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32" name=""/>
            <p:cNvGrpSpPr/>
            <p:nvPr/>
          </p:nvGrpSpPr>
          <p:grpSpPr>
            <a:xfrm>
              <a:off x="2285280" y="698400"/>
              <a:ext cx="533160" cy="304560"/>
              <a:chOff x="2285280" y="698400"/>
              <a:chExt cx="533160" cy="30456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228528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251424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73024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85800" y="2666880"/>
                <a:ext cx="1231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4920" y="3124080"/>
                <a:ext cx="2336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1600200" y="1219320"/>
            <a:ext cx="457200" cy="290520"/>
            <a:chOff x="1600200" y="1219320"/>
            <a:chExt cx="457200" cy="290520"/>
          </a:xfrm>
        </p:grpSpPr>
        <p:sp>
          <p:nvSpPr>
            <p:cNvPr id="439" name=""/>
            <p:cNvSpPr/>
            <p:nvPr/>
          </p:nvSpPr>
          <p:spPr>
            <a:xfrm>
              <a:off x="1600200" y="12193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00200" y="12193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46160" y="37339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10080" y="342900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10080" y="3809880"/>
                <a:ext cx="2374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410080" y="4419720"/>
                <a:ext cx="3327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324480" y="5029200"/>
                <a:ext cx="914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750400" y="85680"/>
            <a:ext cx="3603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RAMETER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4680" y="668160"/>
            <a:ext cx="8735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all parameters exist, they can be related by conventional algebraic manip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n example consider the relationship between Z and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1295280"/>
                <a:ext cx="45464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934320" y="2057400"/>
                <a:ext cx="166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84480" y="2971800"/>
                <a:ext cx="2692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00760" y="2971800"/>
                <a:ext cx="2116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403440" y="404496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600" y="4408560"/>
                <a:ext cx="9064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following conversion table, the symbol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stands for the determinant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sponding matri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85880" y="5181480"/>
                <a:ext cx="6381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8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able15p1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086600" cy="6062400"/>
          </a:xfrm>
          <a:prstGeom prst="rect">
            <a:avLst/>
          </a:prstGeom>
          <a:ln w="0">
            <a:noFill/>
          </a:ln>
        </p:spPr>
      </p:pic>
      <p:pic>
        <p:nvPicPr>
          <p:cNvPr id="46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67320" y="60480"/>
            <a:ext cx="3591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MITT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04160" y="2689200"/>
            <a:ext cx="769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dmittance parameters describe the currents in terms of th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33920" y="312588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4400" y="3087720"/>
            <a:ext cx="300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rst subindex iden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port. The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put 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9280" y="3087720"/>
                <a:ext cx="35290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etermines the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owing into port 2 wh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t is short-circuited and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oltage is applied to port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79840" y="4459320"/>
            <a:ext cx="7393680" cy="2017800"/>
            <a:chOff x="879840" y="4459320"/>
            <a:chExt cx="7393680" cy="2017800"/>
          </a:xfrm>
        </p:grpSpPr>
        <p:sp>
          <p:nvSpPr>
            <p:cNvPr id="59" name=""/>
            <p:cNvSpPr/>
            <p:nvPr/>
          </p:nvSpPr>
          <p:spPr>
            <a:xfrm>
              <a:off x="879840" y="4459320"/>
              <a:ext cx="739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ation of the parameters follows directly from the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200400" y="4840200"/>
                  <a:ext cx="2692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0400" y="5754600"/>
                  <a:ext cx="2743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223000" y="34920"/>
            <a:ext cx="4656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TERCONNECTION OF TWO-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840" y="457200"/>
            <a:ext cx="827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rconnections permit the description of complex systems in terms of si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s or sub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280" y="1066680"/>
            <a:ext cx="778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interconnections to be considered are: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parallel, series and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F15.007_W1386" descr=""/>
          <p:cNvPicPr/>
          <p:nvPr/>
        </p:nvPicPr>
        <p:blipFill>
          <a:blip r:embed="rId1"/>
          <a:stretch/>
        </p:blipFill>
        <p:spPr>
          <a:xfrm>
            <a:off x="0" y="1676520"/>
            <a:ext cx="5562720" cy="2543040"/>
          </a:xfrm>
          <a:prstGeom prst="rect">
            <a:avLst/>
          </a:prstGeom>
          <a:ln w="0">
            <a:noFill/>
          </a:ln>
        </p:spPr>
      </p:pic>
      <p:pic>
        <p:nvPicPr>
          <p:cNvPr id="469" name="F15.008_W1387" descr=""/>
          <p:cNvPicPr/>
          <p:nvPr/>
        </p:nvPicPr>
        <p:blipFill>
          <a:blip r:embed="rId2"/>
          <a:stretch/>
        </p:blipFill>
        <p:spPr>
          <a:xfrm>
            <a:off x="0" y="4343400"/>
            <a:ext cx="4219560" cy="1428840"/>
          </a:xfrm>
          <a:prstGeom prst="rect">
            <a:avLst/>
          </a:prstGeom>
          <a:ln w="0">
            <a:noFill/>
          </a:ln>
        </p:spPr>
      </p:pic>
      <p:pic>
        <p:nvPicPr>
          <p:cNvPr id="470" name="F15.009_W1388" descr=""/>
          <p:cNvPicPr/>
          <p:nvPr/>
        </p:nvPicPr>
        <p:blipFill>
          <a:blip r:embed="rId3"/>
          <a:stretch/>
        </p:blipFill>
        <p:spPr>
          <a:xfrm>
            <a:off x="76320" y="5819760"/>
            <a:ext cx="6172200" cy="1038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165560" y="1523880"/>
            <a:ext cx="3603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: Voltage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f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he sum of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43920" y="4325760"/>
            <a:ext cx="3986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: Current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of interconnection is the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52760" y="5562720"/>
            <a:ext cx="2782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first 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s as input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08800" y="2421000"/>
            <a:ext cx="34635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ules used to deriv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interconnection assum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subsystem behave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manner before and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154080" y="152280"/>
            <a:ext cx="5744880" cy="2923920"/>
            <a:chOff x="154080" y="152280"/>
            <a:chExt cx="5744880" cy="2923920"/>
          </a:xfrm>
        </p:grpSpPr>
        <p:pic>
          <p:nvPicPr>
            <p:cNvPr id="479" name="F15.007_W1386" descr=""/>
            <p:cNvPicPr/>
            <p:nvPr/>
          </p:nvPicPr>
          <p:blipFill>
            <a:blip r:embed="rId1"/>
            <a:stretch/>
          </p:blipFill>
          <p:spPr>
            <a:xfrm>
              <a:off x="154080" y="533160"/>
              <a:ext cx="55623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65120" y="152280"/>
              <a:ext cx="54338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connection. Description using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7760" y="3124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5272200" y="3124080"/>
                <a:ext cx="251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a similar manner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6680" y="3886200"/>
                <a:ext cx="3149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367080" y="4038480"/>
                <a:ext cx="148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6326280" y="457200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021360" y="914400"/>
                <a:ext cx="21319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cription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30640" y="40384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2320" y="135000"/>
            <a:ext cx="4479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interconnection using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F15.008_W1387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876920" cy="165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4120" y="990720"/>
                <a:ext cx="33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cription of each subsyste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09480" y="2451240"/>
                <a:ext cx="306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209680" y="289548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867280" y="2286000"/>
                <a:ext cx="1949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0960" y="135000"/>
            <a:ext cx="54050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using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F15.009_W1388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617220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066680" y="2095560"/>
                <a:ext cx="3149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42880" y="3510000"/>
                <a:ext cx="35719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1960" y="4576680"/>
                <a:ext cx="3533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05" name=""/>
          <p:cNvGrpSpPr/>
          <p:nvPr/>
        </p:nvGrpSpPr>
        <p:grpSpPr>
          <a:xfrm>
            <a:off x="5383080" y="2209680"/>
            <a:ext cx="3532320" cy="2314800"/>
            <a:chOff x="5383080" y="2209680"/>
            <a:chExt cx="3532320" cy="2314800"/>
          </a:xfrm>
        </p:grpSpPr>
        <p:grpSp>
          <p:nvGrpSpPr>
            <p:cNvPr id="506" name=""/>
            <p:cNvGrpSpPr/>
            <p:nvPr/>
          </p:nvGrpSpPr>
          <p:grpSpPr>
            <a:xfrm>
              <a:off x="5383080" y="2209680"/>
              <a:ext cx="3532320" cy="1600200"/>
              <a:chOff x="5383080" y="2209680"/>
              <a:chExt cx="3532320" cy="1600200"/>
            </a:xfrm>
          </p:grpSpPr>
          <p:pic>
            <p:nvPicPr>
              <p:cNvPr id="507" name="F15.002_W137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3080" y="2209680"/>
                <a:ext cx="3532320" cy="10764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508" name=""/>
                  <p:cNvSpPr txBox="1"/>
                  <p:nvPr/>
                </p:nvSpPr>
                <p:spPr>
                  <a:xfrm>
                    <a:off x="6573960" y="3332160"/>
                    <a:ext cx="1170000" cy="47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6248520" y="3886200"/>
                  <a:ext cx="2114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00400" y="548640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25560" y="3538440"/>
            <a:ext cx="3762360" cy="2884680"/>
          </a:xfrm>
          <a:custGeom>
            <a:avLst/>
            <a:gdLst/>
            <a:ahLst/>
            <a:rect l="l" t="t" r="r" b="b"/>
            <a:pathLst>
              <a:path w="2370" h="1817">
                <a:moveTo>
                  <a:pt x="2352" y="1346"/>
                </a:moveTo>
                <a:cubicBezTo>
                  <a:pt x="2305" y="1494"/>
                  <a:pt x="2370" y="1606"/>
                  <a:pt x="2287" y="1736"/>
                </a:cubicBezTo>
                <a:cubicBezTo>
                  <a:pt x="2272" y="1798"/>
                  <a:pt x="2244" y="1795"/>
                  <a:pt x="2182" y="1817"/>
                </a:cubicBezTo>
                <a:cubicBezTo>
                  <a:pt x="2116" y="1810"/>
                  <a:pt x="2058" y="1797"/>
                  <a:pt x="1995" y="1776"/>
                </a:cubicBezTo>
                <a:cubicBezTo>
                  <a:pt x="1990" y="1754"/>
                  <a:pt x="1983" y="1733"/>
                  <a:pt x="1979" y="1711"/>
                </a:cubicBezTo>
                <a:cubicBezTo>
                  <a:pt x="1972" y="1668"/>
                  <a:pt x="1963" y="1582"/>
                  <a:pt x="1963" y="1582"/>
                </a:cubicBezTo>
                <a:cubicBezTo>
                  <a:pt x="1966" y="1522"/>
                  <a:pt x="2022" y="1434"/>
                  <a:pt x="1971" y="1403"/>
                </a:cubicBezTo>
                <a:cubicBezTo>
                  <a:pt x="1892" y="1355"/>
                  <a:pt x="1787" y="1413"/>
                  <a:pt x="1695" y="1419"/>
                </a:cubicBezTo>
                <a:cubicBezTo>
                  <a:pt x="1531" y="1430"/>
                  <a:pt x="1373" y="1461"/>
                  <a:pt x="1208" y="1468"/>
                </a:cubicBezTo>
                <a:cubicBezTo>
                  <a:pt x="1095" y="1482"/>
                  <a:pt x="980" y="1488"/>
                  <a:pt x="868" y="1509"/>
                </a:cubicBezTo>
                <a:cubicBezTo>
                  <a:pt x="599" y="1505"/>
                  <a:pt x="336" y="1520"/>
                  <a:pt x="73" y="1468"/>
                </a:cubicBezTo>
                <a:cubicBezTo>
                  <a:pt x="32" y="1440"/>
                  <a:pt x="25" y="1420"/>
                  <a:pt x="16" y="1371"/>
                </a:cubicBezTo>
                <a:cubicBezTo>
                  <a:pt x="0" y="1145"/>
                  <a:pt x="33" y="934"/>
                  <a:pt x="106" y="722"/>
                </a:cubicBezTo>
                <a:cubicBezTo>
                  <a:pt x="120" y="637"/>
                  <a:pt x="139" y="539"/>
                  <a:pt x="179" y="463"/>
                </a:cubicBezTo>
                <a:cubicBezTo>
                  <a:pt x="187" y="413"/>
                  <a:pt x="191" y="351"/>
                  <a:pt x="219" y="309"/>
                </a:cubicBezTo>
                <a:cubicBezTo>
                  <a:pt x="239" y="229"/>
                  <a:pt x="264" y="147"/>
                  <a:pt x="316" y="82"/>
                </a:cubicBezTo>
                <a:cubicBezTo>
                  <a:pt x="333" y="61"/>
                  <a:pt x="342" y="61"/>
                  <a:pt x="365" y="41"/>
                </a:cubicBezTo>
                <a:cubicBezTo>
                  <a:pt x="379" y="28"/>
                  <a:pt x="406" y="1"/>
                  <a:pt x="406" y="1"/>
                </a:cubicBezTo>
                <a:cubicBezTo>
                  <a:pt x="495" y="4"/>
                  <a:pt x="584" y="0"/>
                  <a:pt x="673" y="9"/>
                </a:cubicBezTo>
                <a:cubicBezTo>
                  <a:pt x="739" y="15"/>
                  <a:pt x="733" y="19"/>
                  <a:pt x="746" y="57"/>
                </a:cubicBezTo>
                <a:cubicBezTo>
                  <a:pt x="749" y="76"/>
                  <a:pt x="745" y="97"/>
                  <a:pt x="754" y="114"/>
                </a:cubicBezTo>
                <a:cubicBezTo>
                  <a:pt x="758" y="122"/>
                  <a:pt x="777" y="113"/>
                  <a:pt x="779" y="122"/>
                </a:cubicBezTo>
                <a:cubicBezTo>
                  <a:pt x="796" y="193"/>
                  <a:pt x="782" y="244"/>
                  <a:pt x="803" y="309"/>
                </a:cubicBezTo>
                <a:cubicBezTo>
                  <a:pt x="806" y="336"/>
                  <a:pt x="811" y="390"/>
                  <a:pt x="811" y="3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2040" y="3397320"/>
            <a:ext cx="3843360" cy="2151000"/>
          </a:xfrm>
          <a:custGeom>
            <a:avLst/>
            <a:gdLst/>
            <a:ahLst/>
            <a:rect l="l" t="t" r="r" b="b"/>
            <a:pathLst>
              <a:path w="2421" h="1355">
                <a:moveTo>
                  <a:pt x="1683" y="179"/>
                </a:moveTo>
                <a:cubicBezTo>
                  <a:pt x="1693" y="128"/>
                  <a:pt x="1689" y="28"/>
                  <a:pt x="1756" y="9"/>
                </a:cubicBezTo>
                <a:cubicBezTo>
                  <a:pt x="1777" y="3"/>
                  <a:pt x="1799" y="3"/>
                  <a:pt x="1821" y="0"/>
                </a:cubicBezTo>
                <a:cubicBezTo>
                  <a:pt x="1978" y="9"/>
                  <a:pt x="2134" y="31"/>
                  <a:pt x="2291" y="41"/>
                </a:cubicBezTo>
                <a:cubicBezTo>
                  <a:pt x="2318" y="49"/>
                  <a:pt x="2347" y="52"/>
                  <a:pt x="2372" y="65"/>
                </a:cubicBezTo>
                <a:cubicBezTo>
                  <a:pt x="2392" y="75"/>
                  <a:pt x="2394" y="127"/>
                  <a:pt x="2396" y="138"/>
                </a:cubicBezTo>
                <a:cubicBezTo>
                  <a:pt x="2404" y="190"/>
                  <a:pt x="2411" y="241"/>
                  <a:pt x="2421" y="292"/>
                </a:cubicBezTo>
                <a:cubicBezTo>
                  <a:pt x="2418" y="406"/>
                  <a:pt x="2418" y="519"/>
                  <a:pt x="2413" y="633"/>
                </a:cubicBezTo>
                <a:cubicBezTo>
                  <a:pt x="2413" y="645"/>
                  <a:pt x="2402" y="684"/>
                  <a:pt x="2388" y="690"/>
                </a:cubicBezTo>
                <a:cubicBezTo>
                  <a:pt x="2371" y="698"/>
                  <a:pt x="2351" y="695"/>
                  <a:pt x="2332" y="698"/>
                </a:cubicBezTo>
                <a:cubicBezTo>
                  <a:pt x="2232" y="730"/>
                  <a:pt x="2068" y="696"/>
                  <a:pt x="1959" y="690"/>
                </a:cubicBezTo>
                <a:cubicBezTo>
                  <a:pt x="1914" y="683"/>
                  <a:pt x="1873" y="672"/>
                  <a:pt x="1829" y="665"/>
                </a:cubicBezTo>
                <a:cubicBezTo>
                  <a:pt x="1802" y="646"/>
                  <a:pt x="1778" y="623"/>
                  <a:pt x="1748" y="608"/>
                </a:cubicBezTo>
                <a:cubicBezTo>
                  <a:pt x="1674" y="571"/>
                  <a:pt x="1716" y="634"/>
                  <a:pt x="1683" y="568"/>
                </a:cubicBezTo>
                <a:cubicBezTo>
                  <a:pt x="1594" y="687"/>
                  <a:pt x="1549" y="678"/>
                  <a:pt x="1399" y="690"/>
                </a:cubicBezTo>
                <a:cubicBezTo>
                  <a:pt x="1156" y="682"/>
                  <a:pt x="911" y="687"/>
                  <a:pt x="669" y="665"/>
                </a:cubicBezTo>
                <a:cubicBezTo>
                  <a:pt x="667" y="665"/>
                  <a:pt x="345" y="644"/>
                  <a:pt x="240" y="690"/>
                </a:cubicBezTo>
                <a:cubicBezTo>
                  <a:pt x="151" y="729"/>
                  <a:pt x="290" y="677"/>
                  <a:pt x="126" y="730"/>
                </a:cubicBezTo>
                <a:cubicBezTo>
                  <a:pt x="93" y="740"/>
                  <a:pt x="29" y="763"/>
                  <a:pt x="29" y="763"/>
                </a:cubicBezTo>
                <a:cubicBezTo>
                  <a:pt x="0" y="851"/>
                  <a:pt x="4" y="955"/>
                  <a:pt x="45" y="1038"/>
                </a:cubicBezTo>
                <a:cubicBezTo>
                  <a:pt x="60" y="1130"/>
                  <a:pt x="43" y="1043"/>
                  <a:pt x="77" y="1152"/>
                </a:cubicBezTo>
                <a:cubicBezTo>
                  <a:pt x="87" y="1184"/>
                  <a:pt x="87" y="1227"/>
                  <a:pt x="118" y="1249"/>
                </a:cubicBezTo>
                <a:cubicBezTo>
                  <a:pt x="138" y="1263"/>
                  <a:pt x="161" y="1270"/>
                  <a:pt x="183" y="1281"/>
                </a:cubicBezTo>
                <a:cubicBezTo>
                  <a:pt x="196" y="1295"/>
                  <a:pt x="204" y="1319"/>
                  <a:pt x="223" y="1322"/>
                </a:cubicBezTo>
                <a:cubicBezTo>
                  <a:pt x="274" y="1330"/>
                  <a:pt x="326" y="1336"/>
                  <a:pt x="377" y="1346"/>
                </a:cubicBezTo>
                <a:cubicBezTo>
                  <a:pt x="466" y="1341"/>
                  <a:pt x="502" y="1355"/>
                  <a:pt x="564" y="1314"/>
                </a:cubicBezTo>
                <a:cubicBezTo>
                  <a:pt x="606" y="1250"/>
                  <a:pt x="588" y="1261"/>
                  <a:pt x="613" y="1192"/>
                </a:cubicBezTo>
                <a:cubicBezTo>
                  <a:pt x="604" y="774"/>
                  <a:pt x="604" y="917"/>
                  <a:pt x="604" y="7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05560" y="4630680"/>
            <a:ext cx="44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multiplication does not comm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der of the interconnection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F15.010B_W1389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91080" cy="31813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55280" y="58680"/>
            <a:ext cx="407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F15.010A_W138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304920" y="2990880"/>
          <a:ext cx="213984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990880"/>
                    <a:ext cx="213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"/>
          <p:cNvGrpSpPr/>
          <p:nvPr/>
        </p:nvGrpSpPr>
        <p:grpSpPr>
          <a:xfrm>
            <a:off x="76320" y="3137040"/>
            <a:ext cx="2614320" cy="1282680"/>
            <a:chOff x="76320" y="3137040"/>
            <a:chExt cx="2614320" cy="1282680"/>
          </a:xfrm>
        </p:grpSpPr>
        <p:grpSp>
          <p:nvGrpSpPr>
            <p:cNvPr id="524" name=""/>
            <p:cNvGrpSpPr/>
            <p:nvPr/>
          </p:nvGrpSpPr>
          <p:grpSpPr>
            <a:xfrm>
              <a:off x="457200" y="3137040"/>
              <a:ext cx="380880" cy="304560"/>
              <a:chOff x="457200" y="3137040"/>
              <a:chExt cx="380880" cy="304560"/>
            </a:xfrm>
          </p:grpSpPr>
          <p:sp>
            <p:nvSpPr>
              <p:cNvPr id="525" name=""/>
              <p:cNvSpPr/>
              <p:nvPr/>
            </p:nvSpPr>
            <p:spPr>
              <a:xfrm>
                <a:off x="457200" y="34416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457200" y="313704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76320" y="35942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28" name=""/>
            <p:cNvGrpSpPr/>
            <p:nvPr/>
          </p:nvGrpSpPr>
          <p:grpSpPr>
            <a:xfrm>
              <a:off x="1980720" y="3137040"/>
              <a:ext cx="533160" cy="304560"/>
              <a:chOff x="1980720" y="3137040"/>
              <a:chExt cx="533160" cy="3045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1980720" y="34416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0" name=""/>
                  <p:cNvSpPr txBox="1"/>
                  <p:nvPr/>
                </p:nvSpPr>
                <p:spPr>
                  <a:xfrm>
                    <a:off x="2209680" y="313704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2425680" y="359424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2" name=""/>
          <p:cNvGrpSpPr/>
          <p:nvPr/>
        </p:nvGrpSpPr>
        <p:grpSpPr>
          <a:xfrm>
            <a:off x="76320" y="5029200"/>
            <a:ext cx="2614320" cy="1282680"/>
            <a:chOff x="76320" y="5029200"/>
            <a:chExt cx="2614320" cy="128268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5029200"/>
              <a:ext cx="380880" cy="304560"/>
              <a:chOff x="457200" y="5029200"/>
              <a:chExt cx="38088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53337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"/>
                  <p:cNvSpPr txBox="1"/>
                  <p:nvPr/>
                </p:nvSpPr>
                <p:spPr>
                  <a:xfrm>
                    <a:off x="457200" y="50292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320" y="54864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37" name=""/>
            <p:cNvGrpSpPr/>
            <p:nvPr/>
          </p:nvGrpSpPr>
          <p:grpSpPr>
            <a:xfrm>
              <a:off x="1980720" y="5029200"/>
              <a:ext cx="533160" cy="304560"/>
              <a:chOff x="1980720" y="5029200"/>
              <a:chExt cx="533160" cy="30456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980720" y="53337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209680" y="50292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25680" y="54864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09480" y="369576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819520" y="3505320"/>
                <a:ext cx="285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933640" y="4114800"/>
                <a:ext cx="2476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895480" y="5562720"/>
                <a:ext cx="1181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191120" y="5562720"/>
                <a:ext cx="2539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5791320" y="3733920"/>
                <a:ext cx="3124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5257800" y="380880"/>
            <a:ext cx="2514600" cy="3048120"/>
            <a:chOff x="5257800" y="380880"/>
            <a:chExt cx="2514600" cy="3048120"/>
          </a:xfrm>
        </p:grpSpPr>
        <p:sp>
          <p:nvSpPr>
            <p:cNvPr id="548" name=""/>
            <p:cNvSpPr/>
            <p:nvPr/>
          </p:nvSpPr>
          <p:spPr>
            <a:xfrm>
              <a:off x="5257800" y="380880"/>
              <a:ext cx="25146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57800" y="1905120"/>
              <a:ext cx="2362320" cy="1523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F15.010A_W1389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304920" y="990720"/>
            <a:ext cx="3200400" cy="1358640"/>
            <a:chOff x="304920" y="990720"/>
            <a:chExt cx="3200400" cy="1358640"/>
          </a:xfrm>
        </p:grpSpPr>
        <p:grpSp>
          <p:nvGrpSpPr>
            <p:cNvPr id="555" name=""/>
            <p:cNvGrpSpPr/>
            <p:nvPr/>
          </p:nvGrpSpPr>
          <p:grpSpPr>
            <a:xfrm>
              <a:off x="380880" y="990720"/>
              <a:ext cx="380880" cy="304560"/>
              <a:chOff x="380880" y="990720"/>
              <a:chExt cx="380880" cy="304560"/>
            </a:xfrm>
          </p:grpSpPr>
          <p:sp>
            <p:nvSpPr>
              <p:cNvPr id="556" name=""/>
              <p:cNvSpPr/>
              <p:nvPr/>
            </p:nvSpPr>
            <p:spPr>
              <a:xfrm>
                <a:off x="380880" y="12952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7" name=""/>
                  <p:cNvSpPr txBox="1"/>
                  <p:nvPr/>
                </p:nvSpPr>
                <p:spPr>
                  <a:xfrm>
                    <a:off x="380880" y="9907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304920" y="15238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59" name=""/>
            <p:cNvGrpSpPr/>
            <p:nvPr/>
          </p:nvGrpSpPr>
          <p:grpSpPr>
            <a:xfrm>
              <a:off x="2971440" y="990720"/>
              <a:ext cx="533160" cy="304560"/>
              <a:chOff x="2971440" y="990720"/>
              <a:chExt cx="533160" cy="30456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2971440" y="12952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1" name=""/>
                  <p:cNvSpPr txBox="1"/>
                  <p:nvPr/>
                </p:nvSpPr>
                <p:spPr>
                  <a:xfrm>
                    <a:off x="3200400" y="9907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62" name=""/>
                <p:cNvSpPr txBox="1"/>
                <p:nvPr/>
              </p:nvSpPr>
              <p:spPr>
                <a:xfrm>
                  <a:off x="3240000" y="152388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828800" y="10810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8600" y="2666880"/>
                <a:ext cx="3975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457200" y="3429000"/>
                <a:ext cx="2031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257400" y="152280"/>
            <a:ext cx="6517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 using a direct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828800" y="49528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place 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rearrange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F15.011_W1390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2895480" cy="22557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555640" y="5868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 of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F15.010A_W1389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75" name=""/>
          <p:cNvGrpSpPr/>
          <p:nvPr/>
        </p:nvGrpSpPr>
        <p:grpSpPr>
          <a:xfrm>
            <a:off x="5486400" y="439560"/>
            <a:ext cx="3478320" cy="1465560"/>
            <a:chOff x="5486400" y="439560"/>
            <a:chExt cx="3478320" cy="1465560"/>
          </a:xfrm>
        </p:grpSpPr>
        <p:sp>
          <p:nvSpPr>
            <p:cNvPr id="576" name=""/>
            <p:cNvSpPr/>
            <p:nvPr/>
          </p:nvSpPr>
          <p:spPr>
            <a:xfrm>
              <a:off x="5486400" y="457200"/>
              <a:ext cx="220968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01840" y="439560"/>
              <a:ext cx="126288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62720" y="1981080"/>
            <a:ext cx="3389400" cy="1310400"/>
            <a:chOff x="5562720" y="1981080"/>
            <a:chExt cx="3389400" cy="1310400"/>
          </a:xfrm>
        </p:grpSpPr>
        <p:sp>
          <p:nvSpPr>
            <p:cNvPr id="579" name=""/>
            <p:cNvSpPr/>
            <p:nvPr/>
          </p:nvSpPr>
          <p:spPr>
            <a:xfrm>
              <a:off x="5562720" y="1981080"/>
              <a:ext cx="213336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93920" y="2954160"/>
              <a:ext cx="125820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49400" y="2666880"/>
            <a:ext cx="4341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direct met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given the Y parameters transform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decompose the network in a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of simpl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04920" y="3809880"/>
                <a:ext cx="20955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990720" y="5410080"/>
                <a:ext cx="107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429000" y="4419720"/>
                <a:ext cx="35812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8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F15.012_W1391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4457520" cy="1495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488680" y="120600"/>
            <a:ext cx="3618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257800" y="533520"/>
            <a:ext cx="3276720" cy="2324160"/>
            <a:chOff x="5257800" y="533520"/>
            <a:chExt cx="3276720" cy="2324160"/>
          </a:xfrm>
        </p:grpSpPr>
        <p:pic>
          <p:nvPicPr>
            <p:cNvPr id="592" name="F15.006_W1385" descr=""/>
            <p:cNvPicPr/>
            <p:nvPr/>
          </p:nvPicPr>
          <p:blipFill>
            <a:blip r:embed="rId2"/>
            <a:stretch/>
          </p:blipFill>
          <p:spPr>
            <a:xfrm>
              <a:off x="5257800" y="533520"/>
              <a:ext cx="3276720" cy="1611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5562720" y="2209680"/>
                  <a:ext cx="260352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4" name=""/>
          <p:cNvSpPr/>
          <p:nvPr/>
        </p:nvSpPr>
        <p:spPr>
          <a:xfrm>
            <a:off x="347760" y="2344680"/>
            <a:ext cx="3792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plitting the 2-Ohm resist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an be viewed a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of two iden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28600" y="34290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609480" y="4419720"/>
                <a:ext cx="767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317680" y="5410080"/>
                <a:ext cx="44085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2133720" y="4572000"/>
            <a:ext cx="4038480" cy="2179800"/>
            <a:chOff x="2133720" y="4572000"/>
            <a:chExt cx="4038480" cy="2179800"/>
          </a:xfrm>
        </p:grpSpPr>
        <p:pic>
          <p:nvPicPr>
            <p:cNvPr id="603" name="F15.015_W1394" descr=""/>
            <p:cNvPicPr/>
            <p:nvPr/>
          </p:nvPicPr>
          <p:blipFill>
            <a:blip r:embed="rId1"/>
            <a:stretch/>
          </p:blipFill>
          <p:spPr>
            <a:xfrm>
              <a:off x="2133720" y="4572000"/>
              <a:ext cx="4038480" cy="2179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4572000" y="5410080"/>
                  <a:ext cx="1181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eive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n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3200400"/>
                <a:ext cx="512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ne voltag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110520" y="19080"/>
            <a:ext cx="2969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15.013_W139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5753160" cy="19526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237120" y="0"/>
            <a:ext cx="5295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demand at the receiving end,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ditions on the sending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142680" y="762120"/>
            <a:ext cx="2765520" cy="1509840"/>
            <a:chOff x="6142680" y="762120"/>
            <a:chExt cx="2765520" cy="150984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6934320" y="7621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142680" y="1447920"/>
              <a:ext cx="27655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re best suited for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47760" y="2543040"/>
            <a:ext cx="837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show how to determine the transmission parameter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. Here we assume them known and use them f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2438280" y="350532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4" name=""/>
          <p:cNvGrpSpPr/>
          <p:nvPr/>
        </p:nvGrpSpPr>
        <p:grpSpPr>
          <a:xfrm>
            <a:off x="6000840" y="3124080"/>
            <a:ext cx="3108600" cy="2499840"/>
            <a:chOff x="6000840" y="3124080"/>
            <a:chExt cx="3108600" cy="2499840"/>
          </a:xfrm>
        </p:grpSpPr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6248520" y="3124080"/>
                  <a:ext cx="26542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616" name=""/>
            <p:cNvGrpSpPr/>
            <p:nvPr/>
          </p:nvGrpSpPr>
          <p:grpSpPr>
            <a:xfrm>
              <a:off x="6000840" y="4038480"/>
              <a:ext cx="3108600" cy="1585440"/>
              <a:chOff x="6000840" y="4038480"/>
              <a:chExt cx="3108600" cy="15854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6000840" y="40384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000840" y="52570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9" name=""/>
                  <p:cNvSpPr txBox="1"/>
                  <p:nvPr/>
                </p:nvSpPr>
                <p:spPr>
                  <a:xfrm>
                    <a:off x="8515440" y="40384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0" name=""/>
                  <p:cNvSpPr txBox="1"/>
                  <p:nvPr/>
                </p:nvSpPr>
                <p:spPr>
                  <a:xfrm>
                    <a:off x="7448760" y="53337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1" name=""/>
              <p:cNvSpPr/>
              <p:nvPr/>
            </p:nvSpPr>
            <p:spPr>
              <a:xfrm>
                <a:off x="6762960" y="49525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09920" y="47826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3" name=""/>
                <p:cNvSpPr txBox="1"/>
                <p:nvPr/>
              </p:nvSpPr>
              <p:spPr>
                <a:xfrm>
                  <a:off x="6553080" y="5029200"/>
                  <a:ext cx="317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0" y="396252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4611600"/>
                <a:ext cx="21304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ing end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0" y="6019920"/>
                <a:ext cx="2209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2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F15.014_W139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047760" cy="59720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150480" y="76320"/>
            <a:ext cx="56458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mission parameters for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934320" y="76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657600" y="91440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410080" y="914400"/>
                <a:ext cx="275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6520" y="41911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1676520" y="3962520"/>
            <a:ext cx="685800" cy="290520"/>
            <a:chOff x="1676520" y="3962520"/>
            <a:chExt cx="685800" cy="290520"/>
          </a:xfrm>
        </p:grpSpPr>
        <p:sp>
          <p:nvSpPr>
            <p:cNvPr id="637" name=""/>
            <p:cNvSpPr/>
            <p:nvPr/>
          </p:nvSpPr>
          <p:spPr>
            <a:xfrm>
              <a:off x="1676520" y="39643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1910160" y="39625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603600" y="3503520"/>
                <a:ext cx="2568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10080" y="4191120"/>
                <a:ext cx="3556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200400" y="21337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00400" y="2819520"/>
                <a:ext cx="468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00400" y="5257800"/>
                <a:ext cx="171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952880" y="5257800"/>
                <a:ext cx="2921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960" y="1522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15.003A_W1380" descr=""/>
          <p:cNvPicPr/>
          <p:nvPr/>
        </p:nvPicPr>
        <p:blipFill>
          <a:blip r:embed="rId1"/>
          <a:stretch/>
        </p:blipFill>
        <p:spPr>
          <a:xfrm>
            <a:off x="85680" y="685800"/>
            <a:ext cx="448632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2600" y="135000"/>
            <a:ext cx="511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705720" y="53352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2884320"/>
                <a:ext cx="250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85840" y="2362320"/>
            <a:ext cx="4286160" cy="2019240"/>
            <a:chOff x="285840" y="2362320"/>
            <a:chExt cx="4286160" cy="2019240"/>
          </a:xfrm>
        </p:grpSpPr>
        <p:grpSp>
          <p:nvGrpSpPr>
            <p:cNvPr id="72" name=""/>
            <p:cNvGrpSpPr/>
            <p:nvPr/>
          </p:nvGrpSpPr>
          <p:grpSpPr>
            <a:xfrm>
              <a:off x="285840" y="2362320"/>
              <a:ext cx="4286160" cy="2019240"/>
              <a:chOff x="285840" y="2362320"/>
              <a:chExt cx="4286160" cy="2019240"/>
            </a:xfrm>
          </p:grpSpPr>
          <p:pic>
            <p:nvPicPr>
              <p:cNvPr id="73" name="F15.003B_W138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743200"/>
                <a:ext cx="4286160" cy="16383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33520" y="2362320"/>
                    <a:ext cx="349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ircuit used to determin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" name=""/>
            <p:cNvGrpSpPr/>
            <p:nvPr/>
          </p:nvGrpSpPr>
          <p:grpSpPr>
            <a:xfrm>
              <a:off x="2362320" y="3124080"/>
              <a:ext cx="457200" cy="304920"/>
              <a:chOff x="2362320" y="3124080"/>
              <a:chExt cx="457200" cy="30492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3124080"/>
                <a:ext cx="45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362320" y="313848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84600" y="3429000"/>
                <a:ext cx="2806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91520" y="3429000"/>
                <a:ext cx="116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76320" y="4510080"/>
            <a:ext cx="4295520" cy="1967040"/>
            <a:chOff x="76320" y="4510080"/>
            <a:chExt cx="4295520" cy="1967040"/>
          </a:xfrm>
        </p:grpSpPr>
        <p:pic>
          <p:nvPicPr>
            <p:cNvPr id="81" name="F15.003C_W1380" descr=""/>
            <p:cNvPicPr/>
            <p:nvPr/>
          </p:nvPicPr>
          <p:blipFill>
            <a:blip r:embed="rId3"/>
            <a:stretch/>
          </p:blipFill>
          <p:spPr>
            <a:xfrm>
              <a:off x="76320" y="4829040"/>
              <a:ext cx="4295520" cy="1648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6840" y="4510080"/>
                  <a:ext cx="3809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used to determine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6483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5257800"/>
                <a:ext cx="347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58200" y="6002280"/>
            <a:ext cx="38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one use of th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99720" y="7632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F15.016_W139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2497680" y="58680"/>
            <a:ext cx="5464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ffect of the load on the voltag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048120" y="457200"/>
                <a:ext cx="5638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1371600"/>
                <a:ext cx="252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3" name=""/>
          <p:cNvGrpSpPr/>
          <p:nvPr/>
        </p:nvGrpSpPr>
        <p:grpSpPr>
          <a:xfrm>
            <a:off x="39600" y="3200400"/>
            <a:ext cx="3102120" cy="969840"/>
            <a:chOff x="39600" y="3200400"/>
            <a:chExt cx="3102120" cy="96984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320760" y="3522600"/>
                  <a:ext cx="2070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"/>
            <p:cNvSpPr/>
            <p:nvPr/>
          </p:nvSpPr>
          <p:spPr>
            <a:xfrm>
              <a:off x="39600" y="3200400"/>
              <a:ext cx="31021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52280" y="4191120"/>
                <a:ext cx="3537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iminating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solving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066680" y="457200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77840" y="5257800"/>
                <a:ext cx="406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traint at output por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562720"/>
                <a:ext cx="2501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4572000" y="2057400"/>
                <a:ext cx="3567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1" name=""/>
          <p:cNvGrpSpPr/>
          <p:nvPr/>
        </p:nvGrpSpPr>
        <p:grpSpPr>
          <a:xfrm>
            <a:off x="4572000" y="3259080"/>
            <a:ext cx="4390920" cy="3218040"/>
            <a:chOff x="4572000" y="3259080"/>
            <a:chExt cx="4390920" cy="3218040"/>
          </a:xfrm>
        </p:grpSpPr>
        <p:pic>
          <p:nvPicPr>
            <p:cNvPr id="662" name="F15.017_W1396" descr=""/>
            <p:cNvPicPr/>
            <p:nvPr/>
          </p:nvPicPr>
          <p:blipFill>
            <a:blip r:embed="rId2"/>
            <a:stretch/>
          </p:blipFill>
          <p:spPr>
            <a:xfrm>
              <a:off x="4572000" y="3581640"/>
              <a:ext cx="43909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4732200" y="3259080"/>
              <a:ext cx="260532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034520" y="820800"/>
            <a:ext cx="48531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ybrid parameters are computed i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87920" y="135000"/>
            <a:ext cx="893016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hybrid parameters for non-inverting amplifier (repeat earlie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670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7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67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67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68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8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68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9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F15.016_W1395" descr=""/>
          <p:cNvPicPr/>
          <p:nvPr/>
        </p:nvPicPr>
        <p:blipFill>
          <a:blip r:embed="rId1"/>
          <a:stretch/>
        </p:blipFill>
        <p:spPr>
          <a:xfrm>
            <a:off x="0" y="53352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2775960" y="58680"/>
            <a:ext cx="445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required = 10,000 on a load of 1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3657600" y="457200"/>
                <a:ext cx="2635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fier parameter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6172200" y="533520"/>
                <a:ext cx="293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7086600" y="1219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4101480" y="2603520"/>
            <a:ext cx="4955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final solution we will need to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fiers. Henc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prove very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28600" y="3124080"/>
                <a:ext cx="38098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 the conversion tabl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03" name=""/>
          <p:cNvGrpSpPr/>
          <p:nvPr/>
        </p:nvGrpSpPr>
        <p:grpSpPr>
          <a:xfrm>
            <a:off x="228600" y="4876920"/>
            <a:ext cx="2755800" cy="647640"/>
            <a:chOff x="228600" y="4876920"/>
            <a:chExt cx="2755800" cy="64764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228600" y="48769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1905120" y="50292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04920" y="5562720"/>
                <a:ext cx="2438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iminating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67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572000" y="1828800"/>
                <a:ext cx="2793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4138920" y="3639960"/>
            <a:ext cx="4501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Even with infinite load the maximum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only 6,6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55120" y="4478400"/>
            <a:ext cx="4737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R2 is higher than input resistance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Desired gain is comparable to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, A, of the Op-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68880" y="5621400"/>
            <a:ext cx="462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Cascade two stages, each with ideal gai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. This also lowers R2 to 99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20680" y="135000"/>
            <a:ext cx="315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0040" y="592200"/>
            <a:ext cx="8669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two stages will be cascaded, the transmission parameters of the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7200" y="2209680"/>
                <a:ext cx="163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685800" y="1219320"/>
                <a:ext cx="7237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209680" y="2133720"/>
                <a:ext cx="1594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9" name=""/>
          <p:cNvGrpSpPr/>
          <p:nvPr/>
        </p:nvGrpSpPr>
        <p:grpSpPr>
          <a:xfrm>
            <a:off x="0" y="3124080"/>
            <a:ext cx="4114800" cy="3124080"/>
            <a:chOff x="0" y="3124080"/>
            <a:chExt cx="4114800" cy="3124080"/>
          </a:xfrm>
        </p:grpSpPr>
        <p:pic>
          <p:nvPicPr>
            <p:cNvPr id="720" name="F15.017_W1396" descr=""/>
            <p:cNvPicPr/>
            <p:nvPr/>
          </p:nvPicPr>
          <p:blipFill>
            <a:blip r:embed="rId1"/>
            <a:stretch/>
          </p:blipFill>
          <p:spPr>
            <a:xfrm>
              <a:off x="0" y="3436920"/>
              <a:ext cx="4114800" cy="28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179640" y="3124080"/>
              <a:ext cx="32104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962520" y="2209680"/>
            <a:ext cx="4952880" cy="3790800"/>
            <a:chOff x="3962520" y="2209680"/>
            <a:chExt cx="4952880" cy="3790800"/>
          </a:xfrm>
        </p:grpSpPr>
        <p:pic>
          <p:nvPicPr>
            <p:cNvPr id="723" name="F15.019_W1398" descr=""/>
            <p:cNvPicPr/>
            <p:nvPr/>
          </p:nvPicPr>
          <p:blipFill>
            <a:blip r:embed="rId2"/>
            <a:stretch/>
          </p:blipFill>
          <p:spPr>
            <a:xfrm>
              <a:off x="3962520" y="2438280"/>
              <a:ext cx="4952880" cy="35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4593240" y="2209680"/>
              <a:ext cx="3615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1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7850160" y="5710320"/>
            <a:ext cx="1278000" cy="1143000"/>
            <a:chOff x="7850160" y="5710320"/>
            <a:chExt cx="1278000" cy="1143000"/>
          </a:xfrm>
        </p:grpSpPr>
        <p:pic>
          <p:nvPicPr>
            <p:cNvPr id="727" name="stop" descr=""/>
            <p:cNvPicPr/>
            <p:nvPr/>
          </p:nvPicPr>
          <p:blipFill>
            <a:blip r:embed="rId3"/>
            <a:stretch/>
          </p:blipFill>
          <p:spPr>
            <a:xfrm>
              <a:off x="82594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85016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wo-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15.003D_W138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5776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9680" y="152280"/>
            <a:ext cx="4752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pplication of the admitta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114300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598760" y="528480"/>
            <a:ext cx="1828800" cy="182880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19320" y="2590920"/>
                <a:ext cx="15620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38098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9880" y="4343400"/>
            <a:ext cx="3893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plus the condition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rts are sufficient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her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5270400"/>
                <a:ext cx="200664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657600"/>
                <a:ext cx="1001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9720" y="4800600"/>
                <a:ext cx="11682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38560" y="152280"/>
            <a:ext cx="3753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urrent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Ohm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E15.001_W1381" descr=""/>
          <p:cNvPicPr/>
          <p:nvPr/>
        </p:nvPicPr>
        <p:blipFill>
          <a:blip r:embed="rId1"/>
          <a:stretch/>
        </p:blipFill>
        <p:spPr>
          <a:xfrm>
            <a:off x="771480" y="676440"/>
            <a:ext cx="220032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69120" y="135000"/>
            <a:ext cx="3785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(Y)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8320" y="2362320"/>
            <a:ext cx="2364120" cy="1533240"/>
            <a:chOff x="598320" y="2362320"/>
            <a:chExt cx="2364120" cy="1533240"/>
          </a:xfrm>
        </p:grpSpPr>
        <p:pic>
          <p:nvPicPr>
            <p:cNvPr id="107" name="E15.001_W1381" descr=""/>
            <p:cNvPicPr/>
            <p:nvPr/>
          </p:nvPicPr>
          <p:blipFill>
            <a:blip r:embed="rId2"/>
            <a:stretch/>
          </p:blipFill>
          <p:spPr>
            <a:xfrm>
              <a:off x="762120" y="25909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895480" y="281952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4400" y="2362320"/>
              <a:ext cx="380880" cy="304560"/>
              <a:chOff x="914400" y="2362320"/>
              <a:chExt cx="38088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914400" y="26668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914400" y="23623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98320" y="28954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3" name=""/>
            <p:cNvGrpSpPr/>
            <p:nvPr/>
          </p:nvGrpSpPr>
          <p:grpSpPr>
            <a:xfrm>
              <a:off x="2361960" y="2362320"/>
              <a:ext cx="533160" cy="304560"/>
              <a:chOff x="2361960" y="2362320"/>
              <a:chExt cx="533160" cy="3045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361960" y="26668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2590920" y="23623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1066680"/>
                <a:ext cx="1663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533520" y="533520"/>
            <a:ext cx="2614320" cy="1282680"/>
            <a:chOff x="533520" y="533520"/>
            <a:chExt cx="2614320" cy="1282680"/>
          </a:xfrm>
        </p:grpSpPr>
        <p:grpSp>
          <p:nvGrpSpPr>
            <p:cNvPr id="118" name=""/>
            <p:cNvGrpSpPr/>
            <p:nvPr/>
          </p:nvGrpSpPr>
          <p:grpSpPr>
            <a:xfrm>
              <a:off x="914400" y="533520"/>
              <a:ext cx="380880" cy="304560"/>
              <a:chOff x="914400" y="533520"/>
              <a:chExt cx="3808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914400" y="8380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914400" y="5335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33520" y="9907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"/>
            <p:cNvGrpSpPr/>
            <p:nvPr/>
          </p:nvGrpSpPr>
          <p:grpSpPr>
            <a:xfrm>
              <a:off x="2437920" y="533520"/>
              <a:ext cx="533160" cy="304560"/>
              <a:chOff x="2437920" y="533520"/>
              <a:chExt cx="533160" cy="3045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37920" y="8380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2666880" y="5335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8288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29000" y="2666880"/>
                <a:ext cx="2184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3276720"/>
                <a:ext cx="1486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2666880"/>
                <a:ext cx="127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85800" y="4495680"/>
            <a:ext cx="2386080" cy="1457280"/>
            <a:chOff x="685800" y="4495680"/>
            <a:chExt cx="2386080" cy="1457280"/>
          </a:xfrm>
        </p:grpSpPr>
        <p:pic>
          <p:nvPicPr>
            <p:cNvPr id="130" name="E15.001_W1381" descr=""/>
            <p:cNvPicPr/>
            <p:nvPr/>
          </p:nvPicPr>
          <p:blipFill>
            <a:blip r:embed="rId3"/>
            <a:stretch/>
          </p:blipFill>
          <p:spPr>
            <a:xfrm>
              <a:off x="685800" y="46483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2120" y="48769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38440" y="4495680"/>
              <a:ext cx="2233440" cy="1282680"/>
              <a:chOff x="838440" y="4495680"/>
              <a:chExt cx="2233440" cy="128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8440" y="4495680"/>
                <a:ext cx="380880" cy="304560"/>
                <a:chOff x="838440" y="4495680"/>
                <a:chExt cx="380880" cy="304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8440" y="4800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838440" y="4495680"/>
                      <a:ext cx="2016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6" name=""/>
              <p:cNvGrpSpPr/>
              <p:nvPr/>
            </p:nvGrpSpPr>
            <p:grpSpPr>
              <a:xfrm>
                <a:off x="2361960" y="4495680"/>
                <a:ext cx="533160" cy="304560"/>
                <a:chOff x="2361960" y="4495680"/>
                <a:chExt cx="533160" cy="30456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2361960" y="480024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2590920" y="449568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806920" y="4952880"/>
                    <a:ext cx="2649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429000" y="4800600"/>
                <a:ext cx="163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62720" y="4800600"/>
                <a:ext cx="1257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609480"/>
            <a:ext cx="3302280" cy="1508400"/>
            <a:chOff x="152280" y="609480"/>
            <a:chExt cx="3302280" cy="1508400"/>
          </a:xfrm>
        </p:grpSpPr>
        <p:pic>
          <p:nvPicPr>
            <p:cNvPr id="147" name="E15.001_W1381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22860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3520" y="1371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85800" y="144756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1295280"/>
              <a:ext cx="15264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990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cubicBezTo>
                    <a:pt x="56" y="112"/>
                    <a:pt x="16" y="3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1752480"/>
              <a:ext cx="15228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192"/>
                  </a:moveTo>
                  <a:cubicBezTo>
                    <a:pt x="0" y="192"/>
                    <a:pt x="48" y="96"/>
                    <a:pt x="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124080" y="1447920"/>
                  <a:ext cx="33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52280" y="167652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2286000" y="9144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362320" y="60948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2795040" y="58680"/>
            <a:ext cx="591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admittance (Y) parameters to find the current 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800" y="2344680"/>
            <a:ext cx="249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itions at I/O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27432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2743200"/>
                <a:ext cx="99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85800" y="609480"/>
            <a:ext cx="3084480" cy="1359000"/>
            <a:chOff x="685800" y="609480"/>
            <a:chExt cx="3084480" cy="1359000"/>
          </a:xfrm>
        </p:grpSpPr>
        <p:grpSp>
          <p:nvGrpSpPr>
            <p:cNvPr id="163" name=""/>
            <p:cNvGrpSpPr/>
            <p:nvPr/>
          </p:nvGrpSpPr>
          <p:grpSpPr>
            <a:xfrm>
              <a:off x="685800" y="609480"/>
              <a:ext cx="380880" cy="304560"/>
              <a:chOff x="685800" y="609480"/>
              <a:chExt cx="3808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" y="91404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685800" y="6094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4400" y="1143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285640" y="1066680"/>
              <a:ext cx="533160" cy="304560"/>
              <a:chOff x="2285640" y="1066680"/>
              <a:chExt cx="533160" cy="3045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285640" y="137124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2514600" y="106668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505320" y="106668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4876920" y="685800"/>
            <a:ext cx="3327120" cy="2451240"/>
            <a:chOff x="4876920" y="685800"/>
            <a:chExt cx="3327120" cy="245124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876920" y="990720"/>
                  <a:ext cx="1663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6934320" y="685800"/>
              <a:ext cx="1269720" cy="2451240"/>
              <a:chOff x="6934320" y="685800"/>
              <a:chExt cx="1269720" cy="245124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6934320" y="685800"/>
                    <a:ext cx="1269720" cy="115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6934320" y="1981080"/>
                    <a:ext cx="125712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6" name=""/>
          <p:cNvSpPr/>
          <p:nvPr/>
        </p:nvSpPr>
        <p:spPr>
          <a:xfrm>
            <a:off x="623160" y="3868560"/>
            <a:ext cx="190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2600" y="4267080"/>
                <a:ext cx="2095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4560" y="5545080"/>
            <a:ext cx="305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variabl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91120" y="548640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36720" y="60480"/>
            <a:ext cx="3423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MPED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33920" y="259092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1169640" y="3411360"/>
            <a:ext cx="7601400" cy="2283120"/>
            <a:chOff x="1169640" y="3411360"/>
            <a:chExt cx="7601400" cy="2283120"/>
          </a:xfrm>
        </p:grpSpPr>
        <p:sp>
          <p:nvSpPr>
            <p:cNvPr id="188" name=""/>
            <p:cNvSpPr/>
            <p:nvPr/>
          </p:nvSpPr>
          <p:spPr>
            <a:xfrm>
              <a:off x="1169640" y="3411360"/>
              <a:ext cx="76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‘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z paramet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derived in a manner similar to the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124080" y="3886200"/>
                  <a:ext cx="28958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193920" y="4952880"/>
                  <a:ext cx="290844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640" y="95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15.004A_W138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051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9640" y="135000"/>
            <a:ext cx="241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560" y="2496960"/>
            <a:ext cx="26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43040" y="2971800"/>
                <a:ext cx="214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76720" y="4267080"/>
                <a:ext cx="3098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24880" y="3792600"/>
            <a:ext cx="2383560" cy="1122480"/>
            <a:chOff x="524880" y="3792600"/>
            <a:chExt cx="2383560" cy="112248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914400" y="4267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524880" y="3792600"/>
              <a:ext cx="140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457200"/>
            <a:ext cx="2908440" cy="2569680"/>
            <a:chOff x="4572000" y="457200"/>
            <a:chExt cx="2908440" cy="2569680"/>
          </a:xfrm>
        </p:grpSpPr>
        <p:grpSp>
          <p:nvGrpSpPr>
            <p:cNvPr id="204" name=""/>
            <p:cNvGrpSpPr/>
            <p:nvPr/>
          </p:nvGrpSpPr>
          <p:grpSpPr>
            <a:xfrm>
              <a:off x="4572000" y="1219320"/>
              <a:ext cx="2908440" cy="1807560"/>
              <a:chOff x="4572000" y="1219320"/>
              <a:chExt cx="2908440" cy="1807560"/>
            </a:xfrm>
          </p:grpSpPr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4572000" y="1219320"/>
                    <a:ext cx="28954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72000" y="2286000"/>
                    <a:ext cx="2908440" cy="74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105520" y="457200"/>
                  <a:ext cx="15872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F15.004B_W138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004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20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560" y="135000"/>
            <a:ext cx="628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Z parameters to find the current through the 4 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137160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25560"/>
            <a:ext cx="249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313848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0800" y="3564000"/>
            <a:ext cx="232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9625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4343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360" y="3152880"/>
            <a:ext cx="1665360" cy="1711080"/>
          </a:xfrm>
          <a:custGeom>
            <a:avLst/>
            <a:gdLst/>
            <a:ahLst/>
            <a:rect l="l" t="t" r="r" b="b"/>
            <a:pathLst>
              <a:path w="1049" h="1078">
                <a:moveTo>
                  <a:pt x="1049" y="40"/>
                </a:moveTo>
                <a:cubicBezTo>
                  <a:pt x="826" y="33"/>
                  <a:pt x="606" y="26"/>
                  <a:pt x="384" y="7"/>
                </a:cubicBezTo>
                <a:cubicBezTo>
                  <a:pt x="335" y="13"/>
                  <a:pt x="281" y="0"/>
                  <a:pt x="238" y="24"/>
                </a:cubicBezTo>
                <a:cubicBezTo>
                  <a:pt x="210" y="40"/>
                  <a:pt x="193" y="185"/>
                  <a:pt x="190" y="202"/>
                </a:cubicBezTo>
                <a:cubicBezTo>
                  <a:pt x="183" y="245"/>
                  <a:pt x="174" y="332"/>
                  <a:pt x="174" y="332"/>
                </a:cubicBezTo>
                <a:cubicBezTo>
                  <a:pt x="179" y="704"/>
                  <a:pt x="0" y="951"/>
                  <a:pt x="303" y="988"/>
                </a:cubicBezTo>
                <a:cubicBezTo>
                  <a:pt x="407" y="1016"/>
                  <a:pt x="521" y="1012"/>
                  <a:pt x="628" y="1021"/>
                </a:cubicBezTo>
                <a:cubicBezTo>
                  <a:pt x="695" y="1027"/>
                  <a:pt x="830" y="1037"/>
                  <a:pt x="830" y="1037"/>
                </a:cubicBezTo>
                <a:cubicBezTo>
                  <a:pt x="846" y="1042"/>
                  <a:pt x="862" y="1049"/>
                  <a:pt x="879" y="1053"/>
                </a:cubicBezTo>
                <a:cubicBezTo>
                  <a:pt x="890" y="1056"/>
                  <a:pt x="901" y="1058"/>
                  <a:pt x="912" y="1061"/>
                </a:cubicBezTo>
                <a:cubicBezTo>
                  <a:pt x="920" y="1063"/>
                  <a:pt x="928" y="1067"/>
                  <a:pt x="936" y="1070"/>
                </a:cubicBezTo>
                <a:cubicBezTo>
                  <a:pt x="944" y="1073"/>
                  <a:pt x="960" y="1078"/>
                  <a:pt x="960" y="107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5092560"/>
                <a:ext cx="2133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33600" y="4041720"/>
            <a:ext cx="695520" cy="385920"/>
          </a:xfrm>
          <a:custGeom>
            <a:avLst/>
            <a:gdLst/>
            <a:ahLst/>
            <a:rect l="l" t="t" r="r" b="b"/>
            <a:pathLst>
              <a:path w="438" h="243">
                <a:moveTo>
                  <a:pt x="0" y="0"/>
                </a:moveTo>
                <a:cubicBezTo>
                  <a:pt x="57" y="3"/>
                  <a:pt x="114" y="1"/>
                  <a:pt x="170" y="8"/>
                </a:cubicBezTo>
                <a:cubicBezTo>
                  <a:pt x="219" y="14"/>
                  <a:pt x="267" y="32"/>
                  <a:pt x="316" y="40"/>
                </a:cubicBezTo>
                <a:cubicBezTo>
                  <a:pt x="340" y="48"/>
                  <a:pt x="365" y="57"/>
                  <a:pt x="389" y="65"/>
                </a:cubicBezTo>
                <a:cubicBezTo>
                  <a:pt x="405" y="70"/>
                  <a:pt x="438" y="81"/>
                  <a:pt x="438" y="81"/>
                </a:cubicBezTo>
                <a:cubicBezTo>
                  <a:pt x="428" y="111"/>
                  <a:pt x="412" y="132"/>
                  <a:pt x="389" y="154"/>
                </a:cubicBezTo>
                <a:cubicBezTo>
                  <a:pt x="361" y="211"/>
                  <a:pt x="337" y="209"/>
                  <a:pt x="276" y="219"/>
                </a:cubicBezTo>
                <a:cubicBezTo>
                  <a:pt x="242" y="242"/>
                  <a:pt x="210" y="243"/>
                  <a:pt x="170" y="24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548640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3962520" y="5075280"/>
            <a:ext cx="990360" cy="676080"/>
            <a:chOff x="3962520" y="5075280"/>
            <a:chExt cx="990360" cy="6760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962520" y="5075280"/>
                  <a:ext cx="9903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962520" y="5486400"/>
                  <a:ext cx="4190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85800" y="58672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5943600"/>
                <a:ext cx="335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76920" y="5956200"/>
                <a:ext cx="251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22:46Z</dcterms:created>
  <dc:creator>Jorge Aravena</dc:creator>
  <dc:description/>
  <dc:language>en-US</dc:language>
  <cp:lastModifiedBy>student</cp:lastModifiedBy>
  <dcterms:modified xsi:type="dcterms:W3CDTF">2001-11-01T14:14:11Z</dcterms:modified>
  <cp:revision>13</cp:revision>
  <dc:subject/>
  <dc:title>No Slide Title</dc:title>
</cp:coreProperties>
</file>