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28.png" ContentType="image/png"/>
  <Override PartName="/ppt/media/image29.jpeg" ContentType="image/jpeg"/>
  <Override PartName="/ppt/media/image65.png" ContentType="image/png"/>
  <Override PartName="/ppt/media/image26.png" ContentType="image/png"/>
  <Override PartName="/ppt/media/image63.png" ContentType="image/png"/>
  <Override PartName="/ppt/media/image62.wmf" ContentType="image/x-wmf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3DF-A1FA-4629-B89E-A60B65C5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16F-4BAD-4F7C-9C79-8F17C79F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869-41C8-4264-ACEF-EABF72D8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A28-DA22-4432-B382-D2B1EECA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047-4F7E-484C-8D21-A6E3C795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C17-99E9-4A81-B06B-26F59DA4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B29-9993-4772-9EED-FE09EF0F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7D3-23A8-4675-B581-FDAC5F42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1FB-0613-4199-AAF8-4ABB8671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C8E-BE06-4685-BA08-CDCF0B3A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6C8-4B4C-4D99-8BF7-03B3100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CEB-BB16-4260-BEB5-125642E7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D87C-74F7-45B4-BD8F-E25DFB860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8.png"/><Relationship Id="rId3" Type="http://schemas.openxmlformats.org/officeDocument/2006/relationships/image" Target="../media/image5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00" y="73080"/>
            <a:ext cx="771696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SEMICONDUCTOR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5040" y="1353960"/>
            <a:ext cx="696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roduction of two basic electronic elements: diode and 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240" y="211608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5560" y="2649600"/>
            <a:ext cx="5147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 and four mode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000" y="3487680"/>
            <a:ext cx="5124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and BJ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in switching and a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16.015B_W1439" descr=""/>
          <p:cNvPicPr/>
          <p:nvPr/>
        </p:nvPicPr>
        <p:blipFill>
          <a:blip r:embed="rId1"/>
          <a:stretch/>
        </p:blipFill>
        <p:spPr>
          <a:xfrm>
            <a:off x="4172040" y="457200"/>
            <a:ext cx="49719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572000" y="3505320"/>
            <a:ext cx="4125600" cy="1638360"/>
            <a:chOff x="4572000" y="3505320"/>
            <a:chExt cx="4125600" cy="1638360"/>
          </a:xfrm>
        </p:grpSpPr>
        <p:pic>
          <p:nvPicPr>
            <p:cNvPr id="185" name="F16.015C_W1439" descr=""/>
            <p:cNvPicPr/>
            <p:nvPr/>
          </p:nvPicPr>
          <p:blipFill>
            <a:blip r:embed="rId2"/>
            <a:stretch/>
          </p:blipFill>
          <p:spPr>
            <a:xfrm>
              <a:off x="4572000" y="3505320"/>
              <a:ext cx="218124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16880" y="3513240"/>
              <a:ext cx="1980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Bulk intern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nected to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70040" y="76320"/>
            <a:ext cx="22593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" y="533520"/>
            <a:ext cx="3254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RUCTURE OF MOSF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F16.015A_W1439" descr=""/>
          <p:cNvPicPr/>
          <p:nvPr/>
        </p:nvPicPr>
        <p:blipFill>
          <a:blip r:embed="rId3"/>
          <a:stretch/>
        </p:blipFill>
        <p:spPr>
          <a:xfrm>
            <a:off x="0" y="1447920"/>
            <a:ext cx="4152960" cy="2162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1800" y="990720"/>
            <a:ext cx="3592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oxide is an insulator allowing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 into the 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720" y="3276720"/>
            <a:ext cx="3483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gate voltage controls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rom source to drain (in linear 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520" y="4362480"/>
            <a:ext cx="7943760" cy="2343960"/>
            <a:chOff x="533520" y="4362480"/>
            <a:chExt cx="7943760" cy="2343960"/>
          </a:xfrm>
        </p:grpSpPr>
        <p:pic>
          <p:nvPicPr>
            <p:cNvPr id="193" name="F16.016C_W1440" descr=""/>
            <p:cNvPicPr/>
            <p:nvPr/>
          </p:nvPicPr>
          <p:blipFill>
            <a:blip r:embed="rId4"/>
            <a:stretch/>
          </p:blipFill>
          <p:spPr>
            <a:xfrm>
              <a:off x="6172200" y="4419720"/>
              <a:ext cx="2305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F16.016A_W1440" descr=""/>
            <p:cNvPicPr/>
            <p:nvPr/>
          </p:nvPicPr>
          <p:blipFill>
            <a:blip r:embed="rId5"/>
            <a:stretch/>
          </p:blipFill>
          <p:spPr>
            <a:xfrm>
              <a:off x="533520" y="4648320"/>
              <a:ext cx="203832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F16.016B_W1440" descr=""/>
            <p:cNvPicPr/>
            <p:nvPr/>
          </p:nvPicPr>
          <p:blipFill>
            <a:blip r:embed="rId6"/>
            <a:stretch/>
          </p:blipFill>
          <p:spPr>
            <a:xfrm>
              <a:off x="3505320" y="4362480"/>
              <a:ext cx="22478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79840" y="6154560"/>
              <a:ext cx="1386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600" y="6248520"/>
              <a:ext cx="116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3240" y="6369120"/>
              <a:ext cx="1317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16.017A_W1441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657520" cy="2200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2000" y="152280"/>
            <a:ext cx="411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 - channel MOSFET in the linea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0" y="152280"/>
            <a:ext cx="4381560" cy="3552840"/>
            <a:chOff x="4572000" y="152280"/>
            <a:chExt cx="4381560" cy="3552840"/>
          </a:xfrm>
        </p:grpSpPr>
        <p:pic>
          <p:nvPicPr>
            <p:cNvPr id="205" name="F16.017B_W1441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381560" cy="3400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52280"/>
                  <a:ext cx="1295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483160" y="3321000"/>
              <a:ext cx="2270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3076560"/>
            <a:ext cx="7924680" cy="3781440"/>
            <a:chOff x="0" y="3076560"/>
            <a:chExt cx="7924680" cy="3781440"/>
          </a:xfrm>
        </p:grpSpPr>
        <p:grpSp>
          <p:nvGrpSpPr>
            <p:cNvPr id="209" name=""/>
            <p:cNvGrpSpPr/>
            <p:nvPr/>
          </p:nvGrpSpPr>
          <p:grpSpPr>
            <a:xfrm>
              <a:off x="0" y="3076560"/>
              <a:ext cx="4334040" cy="3781440"/>
              <a:chOff x="0" y="3076560"/>
              <a:chExt cx="4334040" cy="3781440"/>
            </a:xfrm>
          </p:grpSpPr>
          <p:pic>
            <p:nvPicPr>
              <p:cNvPr id="210" name="F16.018_W1442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562200"/>
                <a:ext cx="4334040" cy="32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05200" y="3076560"/>
                <a:ext cx="401508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mplete characteristics of n-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SF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029200" y="3809880"/>
                  <a:ext cx="289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hreshold voltag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4572000" y="4648320"/>
                  <a:ext cx="22604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 cutoff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B   linear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   saturation reg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6160" y="76320"/>
            <a:ext cx="568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 OF BJTs (Bipolar Junction Tansis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16.019A_W144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62360" cy="3219480"/>
          </a:xfrm>
          <a:prstGeom prst="rect">
            <a:avLst/>
          </a:prstGeom>
          <a:ln w="0">
            <a:noFill/>
          </a:ln>
        </p:spPr>
      </p:pic>
      <p:pic>
        <p:nvPicPr>
          <p:cNvPr id="219" name="F16.019C_W1443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143000" cy="2266920"/>
          </a:xfrm>
          <a:prstGeom prst="rect">
            <a:avLst/>
          </a:prstGeom>
          <a:ln w="0">
            <a:noFill/>
          </a:ln>
        </p:spPr>
      </p:pic>
      <p:pic>
        <p:nvPicPr>
          <p:cNvPr id="220" name="F16.019B_W1443" descr=""/>
          <p:cNvPicPr/>
          <p:nvPr/>
        </p:nvPicPr>
        <p:blipFill>
          <a:blip r:embed="rId3"/>
          <a:stretch/>
        </p:blipFill>
        <p:spPr>
          <a:xfrm>
            <a:off x="4915080" y="2971800"/>
            <a:ext cx="4228920" cy="3666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638680" y="990720"/>
                <a:ext cx="162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N tran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67080" y="1676520"/>
                <a:ext cx="474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e mod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38880" y="12952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343400" y="228600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mmon emitter current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mmon base current ga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533880" y="3672000"/>
            <a:ext cx="3774240" cy="3034440"/>
            <a:chOff x="533880" y="3672000"/>
            <a:chExt cx="3774240" cy="3034440"/>
          </a:xfrm>
        </p:grpSpPr>
        <p:graphicFrame>
          <p:nvGraphicFramePr>
            <p:cNvPr id="226" name=""/>
            <p:cNvGraphicFramePr/>
            <p:nvPr/>
          </p:nvGraphicFramePr>
          <p:xfrm>
            <a:off x="685800" y="3672000"/>
            <a:ext cx="3467160" cy="264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" y="3672000"/>
                      <a:ext cx="3467160" cy="26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533880" y="6369120"/>
              <a:ext cx="3774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for BJT in active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8320" y="76320"/>
            <a:ext cx="4937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ING MOSFET SWITCH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6.020A_W144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400400" cy="1552680"/>
          </a:xfrm>
          <a:prstGeom prst="rect">
            <a:avLst/>
          </a:prstGeom>
          <a:ln w="0">
            <a:noFill/>
          </a:ln>
        </p:spPr>
      </p:pic>
      <p:pic>
        <p:nvPicPr>
          <p:cNvPr id="234" name="F16.020B_W1444" descr=""/>
          <p:cNvPicPr/>
          <p:nvPr/>
        </p:nvPicPr>
        <p:blipFill>
          <a:blip r:embed="rId2"/>
          <a:stretch/>
        </p:blipFill>
        <p:spPr>
          <a:xfrm>
            <a:off x="3276720" y="609480"/>
            <a:ext cx="533160" cy="156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7000" y="1963800"/>
            <a:ext cx="81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t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3320" y="1905120"/>
            <a:ext cx="88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8480" y="99072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pends on gate voltag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84920" y="1447920"/>
            <a:ext cx="496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values range from a few hundred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low-current applications to milli-ohm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the tens of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3276720"/>
            <a:ext cx="2800440" cy="2072160"/>
            <a:chOff x="0" y="3276720"/>
            <a:chExt cx="2800440" cy="2072160"/>
          </a:xfrm>
        </p:grpSpPr>
        <p:pic>
          <p:nvPicPr>
            <p:cNvPr id="240" name="F16.021A_W1445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28004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8560" y="5011560"/>
              <a:ext cx="244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switch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76720" y="3276720"/>
            <a:ext cx="1866960" cy="1858320"/>
            <a:chOff x="3276720" y="3276720"/>
            <a:chExt cx="1866960" cy="1858320"/>
          </a:xfrm>
        </p:grpSpPr>
        <p:pic>
          <p:nvPicPr>
            <p:cNvPr id="243" name="F16.021B_W1445" descr=""/>
            <p:cNvPicPr/>
            <p:nvPr/>
          </p:nvPicPr>
          <p:blipFill>
            <a:blip r:embed="rId4"/>
            <a:stretch/>
          </p:blipFill>
          <p:spPr>
            <a:xfrm>
              <a:off x="3276720" y="3276720"/>
              <a:ext cx="18669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592080" y="45543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switch op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91320" y="3276720"/>
            <a:ext cx="2828880" cy="3033720"/>
            <a:chOff x="5791320" y="3276720"/>
            <a:chExt cx="2828880" cy="3033720"/>
          </a:xfrm>
        </p:grpSpPr>
        <p:pic>
          <p:nvPicPr>
            <p:cNvPr id="246" name="F16.021C_W1445" descr=""/>
            <p:cNvPicPr/>
            <p:nvPr/>
          </p:nvPicPr>
          <p:blipFill>
            <a:blip r:embed="rId5"/>
            <a:stretch/>
          </p:blipFill>
          <p:spPr>
            <a:xfrm>
              <a:off x="5791320" y="3276720"/>
              <a:ext cx="28288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254640" y="4692600"/>
              <a:ext cx="1634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‘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close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553080" y="5105520"/>
                  <a:ext cx="1206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553080" y="601992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eally,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"/>
          <p:cNvSpPr/>
          <p:nvPr/>
        </p:nvSpPr>
        <p:spPr>
          <a:xfrm>
            <a:off x="2768040" y="5468760"/>
            <a:ext cx="3087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qua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non-ideal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F16.022_W1446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29720" cy="56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5943600"/>
                <a:ext cx="685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ratio,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is more important than the actual value of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16.023_W144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90640" cy="180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69160" y="0"/>
            <a:ext cx="6692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as switch to energize and de-energize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. Determine the output voltage with the “switch clos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60948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228600" y="3276720"/>
            <a:ext cx="3617640" cy="3251160"/>
            <a:chOff x="228600" y="3276720"/>
            <a:chExt cx="3617640" cy="325116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3276720"/>
              <a:ext cx="3617640" cy="2315520"/>
              <a:chOff x="228600" y="3276720"/>
              <a:chExt cx="3617640" cy="2315520"/>
            </a:xfrm>
          </p:grpSpPr>
          <p:pic>
            <p:nvPicPr>
              <p:cNvPr id="265" name="F16.021A_W144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276720"/>
                <a:ext cx="2800440" cy="20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04720" y="5011560"/>
                <a:ext cx="3341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ircuit after all transients ha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bsided (R=1 Oh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219320" y="5638680"/>
                  <a:ext cx="12826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8" name="F16.022_W1446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05756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5072040" y="2209680"/>
            <a:ext cx="4110120" cy="711360"/>
            <a:chOff x="5072040" y="2209680"/>
            <a:chExt cx="4110120" cy="711360"/>
          </a:xfrm>
        </p:grpSpPr>
        <p:sp>
          <p:nvSpPr>
            <p:cNvPr id="270" name=""/>
            <p:cNvSpPr/>
            <p:nvPr/>
          </p:nvSpPr>
          <p:spPr>
            <a:xfrm>
              <a:off x="5072040" y="2214720"/>
              <a:ext cx="919080" cy="706320"/>
            </a:xfrm>
            <a:custGeom>
              <a:avLst/>
              <a:gdLst/>
              <a:ahLst/>
              <a:rect l="l" t="t" r="r" b="b"/>
              <a:pathLst>
                <a:path w="579" h="445">
                  <a:moveTo>
                    <a:pt x="57" y="48"/>
                  </a:moveTo>
                  <a:cubicBezTo>
                    <a:pt x="0" y="128"/>
                    <a:pt x="34" y="293"/>
                    <a:pt x="130" y="340"/>
                  </a:cubicBezTo>
                  <a:cubicBezTo>
                    <a:pt x="146" y="348"/>
                    <a:pt x="221" y="368"/>
                    <a:pt x="235" y="372"/>
                  </a:cubicBezTo>
                  <a:cubicBezTo>
                    <a:pt x="266" y="405"/>
                    <a:pt x="323" y="411"/>
                    <a:pt x="365" y="421"/>
                  </a:cubicBezTo>
                  <a:cubicBezTo>
                    <a:pt x="520" y="406"/>
                    <a:pt x="536" y="445"/>
                    <a:pt x="568" y="324"/>
                  </a:cubicBezTo>
                  <a:cubicBezTo>
                    <a:pt x="565" y="240"/>
                    <a:pt x="579" y="154"/>
                    <a:pt x="559" y="72"/>
                  </a:cubicBezTo>
                  <a:cubicBezTo>
                    <a:pt x="554" y="53"/>
                    <a:pt x="522" y="62"/>
                    <a:pt x="503" y="56"/>
                  </a:cubicBezTo>
                  <a:cubicBezTo>
                    <a:pt x="403" y="25"/>
                    <a:pt x="308" y="9"/>
                    <a:pt x="203" y="0"/>
                  </a:cubicBezTo>
                  <a:cubicBezTo>
                    <a:pt x="162" y="3"/>
                    <a:pt x="81" y="8"/>
                    <a:pt x="81" y="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019920" y="2209680"/>
                  <a:ext cx="316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m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5105160" y="3809880"/>
            <a:ext cx="3048120" cy="1992600"/>
            <a:chOff x="5105160" y="3809880"/>
            <a:chExt cx="3048120" cy="1992600"/>
          </a:xfrm>
        </p:grpSpPr>
        <p:grpSp>
          <p:nvGrpSpPr>
            <p:cNvPr id="273" name=""/>
            <p:cNvGrpSpPr/>
            <p:nvPr/>
          </p:nvGrpSpPr>
          <p:grpSpPr>
            <a:xfrm>
              <a:off x="5105160" y="3809880"/>
              <a:ext cx="3048120" cy="990720"/>
              <a:chOff x="5105160" y="3809880"/>
              <a:chExt cx="3048120" cy="99072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5791320" y="3809880"/>
                <a:ext cx="0" cy="990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105160" y="3886200"/>
                <a:ext cx="685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019920" y="3886200"/>
                    <a:ext cx="213336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334120" y="5257800"/>
                  <a:ext cx="10285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16.024_W1448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19320" cy="195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60880" y="0"/>
            <a:ext cx="6706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to switch 10A of current. The voltage 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FET in the on state must be less than 4% of the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.  Find the maximum value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R_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3240" y="1600200"/>
                <a:ext cx="330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343400" y="1828800"/>
                <a:ext cx="2514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52880" y="236232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1160" y="76320"/>
            <a:ext cx="4958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DELING AMPLIFI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6.018_W144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743200" y="1904760"/>
            <a:ext cx="4571280" cy="761760"/>
            <a:chOff x="2743200" y="1904760"/>
            <a:chExt cx="4571280" cy="761760"/>
          </a:xfrm>
        </p:grpSpPr>
        <p:sp>
          <p:nvSpPr>
            <p:cNvPr id="293" name=""/>
            <p:cNvSpPr/>
            <p:nvPr/>
          </p:nvSpPr>
          <p:spPr>
            <a:xfrm flipV="1">
              <a:off x="2743200" y="1904760"/>
              <a:ext cx="0" cy="517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4271400" y="2249640"/>
                  <a:ext cx="3043080" cy="41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1752480"/>
                <a:ext cx="2774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near model: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0" y="4495680"/>
            <a:ext cx="4572000" cy="1920240"/>
            <a:chOff x="0" y="4495680"/>
            <a:chExt cx="4572000" cy="1920240"/>
          </a:xfrm>
        </p:grpSpPr>
        <p:pic>
          <p:nvPicPr>
            <p:cNvPr id="297" name="F16.025_W1449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4572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0920" y="6078600"/>
              <a:ext cx="421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(small signals) model for MOSF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32040" y="4097160"/>
            <a:ext cx="5362920" cy="1872000"/>
            <a:chOff x="3632040" y="4097160"/>
            <a:chExt cx="5362920" cy="1872000"/>
          </a:xfrm>
        </p:grpSpPr>
        <p:sp>
          <p:nvSpPr>
            <p:cNvPr id="300" name=""/>
            <p:cNvSpPr/>
            <p:nvPr/>
          </p:nvSpPr>
          <p:spPr>
            <a:xfrm>
              <a:off x="3632040" y="4402080"/>
              <a:ext cx="733680" cy="1567080"/>
            </a:xfrm>
            <a:custGeom>
              <a:avLst/>
              <a:gdLst/>
              <a:ahLst/>
              <a:rect l="l" t="t" r="r" b="b"/>
              <a:pathLst>
                <a:path w="462" h="987">
                  <a:moveTo>
                    <a:pt x="112" y="0"/>
                  </a:moveTo>
                  <a:cubicBezTo>
                    <a:pt x="63" y="90"/>
                    <a:pt x="53" y="143"/>
                    <a:pt x="23" y="235"/>
                  </a:cubicBezTo>
                  <a:cubicBezTo>
                    <a:pt x="0" y="424"/>
                    <a:pt x="7" y="569"/>
                    <a:pt x="15" y="778"/>
                  </a:cubicBezTo>
                  <a:cubicBezTo>
                    <a:pt x="17" y="826"/>
                    <a:pt x="33" y="891"/>
                    <a:pt x="72" y="924"/>
                  </a:cubicBezTo>
                  <a:cubicBezTo>
                    <a:pt x="88" y="938"/>
                    <a:pt x="110" y="944"/>
                    <a:pt x="128" y="956"/>
                  </a:cubicBezTo>
                  <a:cubicBezTo>
                    <a:pt x="207" y="953"/>
                    <a:pt x="308" y="987"/>
                    <a:pt x="364" y="932"/>
                  </a:cubicBezTo>
                  <a:cubicBezTo>
                    <a:pt x="383" y="914"/>
                    <a:pt x="421" y="839"/>
                    <a:pt x="428" y="819"/>
                  </a:cubicBezTo>
                  <a:cubicBezTo>
                    <a:pt x="434" y="803"/>
                    <a:pt x="439" y="786"/>
                    <a:pt x="445" y="770"/>
                  </a:cubicBezTo>
                  <a:cubicBezTo>
                    <a:pt x="448" y="762"/>
                    <a:pt x="453" y="746"/>
                    <a:pt x="453" y="746"/>
                  </a:cubicBezTo>
                  <a:cubicBezTo>
                    <a:pt x="451" y="647"/>
                    <a:pt x="462" y="486"/>
                    <a:pt x="437" y="365"/>
                  </a:cubicBezTo>
                  <a:cubicBezTo>
                    <a:pt x="430" y="329"/>
                    <a:pt x="409" y="308"/>
                    <a:pt x="396" y="275"/>
                  </a:cubicBezTo>
                  <a:cubicBezTo>
                    <a:pt x="354" y="170"/>
                    <a:pt x="281" y="76"/>
                    <a:pt x="177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33640" y="4097160"/>
              <a:ext cx="516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non-zero slope of I - V curves in sat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91000" y="2819520"/>
                <a:ext cx="4576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lied to a resistor, R, will  generat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mplific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282280" y="13500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8720" y="76320"/>
            <a:ext cx="2827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Sour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16.026A_W1450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3194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95800" y="2452680"/>
            <a:ext cx="4006080" cy="1463400"/>
            <a:chOff x="595800" y="2452680"/>
            <a:chExt cx="4006080" cy="1463400"/>
          </a:xfrm>
        </p:grpSpPr>
        <p:sp>
          <p:nvSpPr>
            <p:cNvPr id="310" name=""/>
            <p:cNvSpPr/>
            <p:nvPr/>
          </p:nvSpPr>
          <p:spPr>
            <a:xfrm>
              <a:off x="706320" y="2452680"/>
              <a:ext cx="838440" cy="84312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528" y="182"/>
                  </a:moveTo>
                  <a:cubicBezTo>
                    <a:pt x="523" y="160"/>
                    <a:pt x="520" y="138"/>
                    <a:pt x="512" y="117"/>
                  </a:cubicBezTo>
                  <a:cubicBezTo>
                    <a:pt x="492" y="61"/>
                    <a:pt x="398" y="66"/>
                    <a:pt x="350" y="60"/>
                  </a:cubicBezTo>
                  <a:cubicBezTo>
                    <a:pt x="299" y="27"/>
                    <a:pt x="229" y="33"/>
                    <a:pt x="171" y="28"/>
                  </a:cubicBezTo>
                  <a:cubicBezTo>
                    <a:pt x="141" y="23"/>
                    <a:pt x="35" y="0"/>
                    <a:pt x="25" y="36"/>
                  </a:cubicBezTo>
                  <a:cubicBezTo>
                    <a:pt x="0" y="125"/>
                    <a:pt x="35" y="220"/>
                    <a:pt x="42" y="312"/>
                  </a:cubicBezTo>
                  <a:cubicBezTo>
                    <a:pt x="44" y="334"/>
                    <a:pt x="40" y="357"/>
                    <a:pt x="50" y="377"/>
                  </a:cubicBezTo>
                  <a:cubicBezTo>
                    <a:pt x="60" y="397"/>
                    <a:pt x="82" y="409"/>
                    <a:pt x="98" y="425"/>
                  </a:cubicBezTo>
                  <a:cubicBezTo>
                    <a:pt x="132" y="522"/>
                    <a:pt x="165" y="513"/>
                    <a:pt x="260" y="531"/>
                  </a:cubicBezTo>
                  <a:cubicBezTo>
                    <a:pt x="338" y="520"/>
                    <a:pt x="407" y="530"/>
                    <a:pt x="455" y="466"/>
                  </a:cubicBezTo>
                  <a:cubicBezTo>
                    <a:pt x="489" y="373"/>
                    <a:pt x="497" y="276"/>
                    <a:pt x="528" y="18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800" y="3335400"/>
              <a:ext cx="4006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as volt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lps to define location on I - V cur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400040" y="849240"/>
            <a:ext cx="7312680" cy="1403280"/>
            <a:chOff x="1400040" y="849240"/>
            <a:chExt cx="7312680" cy="1403280"/>
          </a:xfrm>
        </p:grpSpPr>
        <p:sp>
          <p:nvSpPr>
            <p:cNvPr id="313" name=""/>
            <p:cNvSpPr/>
            <p:nvPr/>
          </p:nvSpPr>
          <p:spPr>
            <a:xfrm>
              <a:off x="1400040" y="849240"/>
              <a:ext cx="1963800" cy="1403280"/>
            </a:xfrm>
            <a:custGeom>
              <a:avLst/>
              <a:gdLst/>
              <a:ahLst/>
              <a:rect l="l" t="t" r="r" b="b"/>
              <a:pathLst>
                <a:path w="1237" h="884">
                  <a:moveTo>
                    <a:pt x="1218" y="754"/>
                  </a:moveTo>
                  <a:cubicBezTo>
                    <a:pt x="1231" y="665"/>
                    <a:pt x="1237" y="646"/>
                    <a:pt x="1218" y="527"/>
                  </a:cubicBezTo>
                  <a:cubicBezTo>
                    <a:pt x="1216" y="514"/>
                    <a:pt x="1203" y="505"/>
                    <a:pt x="1194" y="495"/>
                  </a:cubicBezTo>
                  <a:cubicBezTo>
                    <a:pt x="1163" y="462"/>
                    <a:pt x="1047" y="328"/>
                    <a:pt x="991" y="300"/>
                  </a:cubicBezTo>
                  <a:cubicBezTo>
                    <a:pt x="966" y="288"/>
                    <a:pt x="937" y="289"/>
                    <a:pt x="910" y="284"/>
                  </a:cubicBezTo>
                  <a:cubicBezTo>
                    <a:pt x="817" y="209"/>
                    <a:pt x="714" y="172"/>
                    <a:pt x="602" y="130"/>
                  </a:cubicBezTo>
                  <a:cubicBezTo>
                    <a:pt x="513" y="97"/>
                    <a:pt x="452" y="58"/>
                    <a:pt x="359" y="33"/>
                  </a:cubicBezTo>
                  <a:cubicBezTo>
                    <a:pt x="265" y="8"/>
                    <a:pt x="163" y="12"/>
                    <a:pt x="67" y="0"/>
                  </a:cubicBezTo>
                  <a:cubicBezTo>
                    <a:pt x="53" y="13"/>
                    <a:pt x="35" y="24"/>
                    <a:pt x="26" y="41"/>
                  </a:cubicBezTo>
                  <a:cubicBezTo>
                    <a:pt x="19" y="56"/>
                    <a:pt x="10" y="89"/>
                    <a:pt x="10" y="89"/>
                  </a:cubicBezTo>
                  <a:cubicBezTo>
                    <a:pt x="13" y="116"/>
                    <a:pt x="0" y="150"/>
                    <a:pt x="18" y="170"/>
                  </a:cubicBezTo>
                  <a:cubicBezTo>
                    <a:pt x="41" y="195"/>
                    <a:pt x="115" y="203"/>
                    <a:pt x="115" y="203"/>
                  </a:cubicBezTo>
                  <a:cubicBezTo>
                    <a:pt x="187" y="303"/>
                    <a:pt x="261" y="380"/>
                    <a:pt x="383" y="422"/>
                  </a:cubicBezTo>
                  <a:cubicBezTo>
                    <a:pt x="401" y="446"/>
                    <a:pt x="419" y="465"/>
                    <a:pt x="440" y="487"/>
                  </a:cubicBezTo>
                  <a:cubicBezTo>
                    <a:pt x="445" y="503"/>
                    <a:pt x="447" y="521"/>
                    <a:pt x="456" y="535"/>
                  </a:cubicBezTo>
                  <a:cubicBezTo>
                    <a:pt x="463" y="546"/>
                    <a:pt x="481" y="548"/>
                    <a:pt x="488" y="560"/>
                  </a:cubicBezTo>
                  <a:cubicBezTo>
                    <a:pt x="499" y="579"/>
                    <a:pt x="492" y="606"/>
                    <a:pt x="505" y="624"/>
                  </a:cubicBezTo>
                  <a:cubicBezTo>
                    <a:pt x="521" y="646"/>
                    <a:pt x="549" y="655"/>
                    <a:pt x="569" y="673"/>
                  </a:cubicBezTo>
                  <a:cubicBezTo>
                    <a:pt x="620" y="718"/>
                    <a:pt x="691" y="798"/>
                    <a:pt x="748" y="835"/>
                  </a:cubicBezTo>
                  <a:cubicBezTo>
                    <a:pt x="794" y="865"/>
                    <a:pt x="917" y="872"/>
                    <a:pt x="951" y="876"/>
                  </a:cubicBezTo>
                  <a:cubicBezTo>
                    <a:pt x="972" y="879"/>
                    <a:pt x="1015" y="884"/>
                    <a:pt x="1015" y="884"/>
                  </a:cubicBezTo>
                  <a:cubicBezTo>
                    <a:pt x="1029" y="881"/>
                    <a:pt x="1044" y="883"/>
                    <a:pt x="1056" y="876"/>
                  </a:cubicBezTo>
                  <a:cubicBezTo>
                    <a:pt x="1133" y="827"/>
                    <a:pt x="1073" y="819"/>
                    <a:pt x="1161" y="8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69280" y="896760"/>
              <a:ext cx="5743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drain-source curr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gether with bias voltage they define operating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F16.018_W1442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80880" y="4191120"/>
            <a:ext cx="4010400" cy="2360520"/>
            <a:chOff x="380880" y="4191120"/>
            <a:chExt cx="4010400" cy="2360520"/>
          </a:xfrm>
        </p:grpSpPr>
        <p:pic>
          <p:nvPicPr>
            <p:cNvPr id="317" name="F16.026B_W1450" descr="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38102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28720" y="5727600"/>
              <a:ext cx="3562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relating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ate voltage to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7480" y="4935600"/>
            <a:ext cx="3804840" cy="824040"/>
            <a:chOff x="5217480" y="4935600"/>
            <a:chExt cx="3804840" cy="824040"/>
          </a:xfrm>
        </p:grpSpPr>
        <p:sp>
          <p:nvSpPr>
            <p:cNvPr id="320" name=""/>
            <p:cNvSpPr/>
            <p:nvPr/>
          </p:nvSpPr>
          <p:spPr>
            <a:xfrm>
              <a:off x="5217480" y="4935600"/>
              <a:ext cx="38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operating point determin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s of th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7924680" y="5195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330840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724280" y="5943600"/>
                <a:ext cx="345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lso helps to determine gai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F16.026B_W1450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486240" cy="162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538360" y="76320"/>
                <a:ext cx="437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produce a gain of -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886200" y="8380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0" y="1295280"/>
                <a:ext cx="2819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467480" y="1447920"/>
                <a:ext cx="124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07640" y="2457360"/>
            <a:ext cx="8309160" cy="741600"/>
            <a:chOff x="107640" y="2457360"/>
            <a:chExt cx="8309160" cy="741600"/>
          </a:xfrm>
        </p:grpSpPr>
        <p:sp>
          <p:nvSpPr>
            <p:cNvPr id="334" name=""/>
            <p:cNvSpPr/>
            <p:nvPr/>
          </p:nvSpPr>
          <p:spPr>
            <a:xfrm>
              <a:off x="107640" y="2457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47760" y="2895480"/>
                  <a:ext cx="80690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%,</m:t>
                      </m:r>
                      <m:r>
                        <m:rPr>
                          <m:lit/>
                          <m:nor/>
                        </m:rPr>
                        <m:t xml:space="preserve"> what are the expected minimum  and maximum gain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920" y="3352680"/>
                <a:ext cx="583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36600" y="3809880"/>
                <a:ext cx="5919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154440" y="4630680"/>
            <a:ext cx="8742960" cy="580680"/>
            <a:chOff x="154440" y="4630680"/>
            <a:chExt cx="8742960" cy="580680"/>
          </a:xfrm>
        </p:grpSpPr>
        <p:sp>
          <p:nvSpPr>
            <p:cNvPr id="339" name=""/>
            <p:cNvSpPr/>
            <p:nvPr/>
          </p:nvSpPr>
          <p:spPr>
            <a:xfrm>
              <a:off x="154440" y="4630680"/>
              <a:ext cx="11577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62120" y="4630680"/>
              <a:ext cx="723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one must assure a gain of at least 50 in absolute value what shoul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the value for R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2240" y="76320"/>
            <a:ext cx="4485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DEVICES IN INTEGRATED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16.001A_W142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990800" cy="3438720"/>
          </a:xfrm>
          <a:prstGeom prst="rect">
            <a:avLst/>
          </a:prstGeom>
          <a:ln w="0">
            <a:noFill/>
          </a:ln>
        </p:spPr>
      </p:pic>
      <p:pic>
        <p:nvPicPr>
          <p:cNvPr id="50" name="F16.001B_W1427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244800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F16.001C_W1427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1012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33920" y="5181480"/>
            <a:ext cx="100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7160" y="5029200"/>
            <a:ext cx="115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9840" y="4724280"/>
            <a:ext cx="106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F16.027A_W145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781360" cy="314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33520" y="35053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2612160" y="58680"/>
            <a:ext cx="6200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R_d such that maximum average power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red to the load at 30k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3886200"/>
            <a:ext cx="4705560" cy="1843920"/>
            <a:chOff x="152280" y="3886200"/>
            <a:chExt cx="4705560" cy="1843920"/>
          </a:xfrm>
        </p:grpSpPr>
        <p:pic>
          <p:nvPicPr>
            <p:cNvPr id="349" name="F16.027B_W1451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47055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8760" y="5392800"/>
              <a:ext cx="218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mall signals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43280" y="896760"/>
            <a:ext cx="1866600" cy="2552760"/>
            <a:chOff x="1943280" y="896760"/>
            <a:chExt cx="1866600" cy="2552760"/>
          </a:xfrm>
        </p:grpSpPr>
        <p:sp>
          <p:nvSpPr>
            <p:cNvPr id="352" name=""/>
            <p:cNvSpPr/>
            <p:nvPr/>
          </p:nvSpPr>
          <p:spPr>
            <a:xfrm>
              <a:off x="1943280" y="1265400"/>
              <a:ext cx="1866600" cy="2184120"/>
            </a:xfrm>
            <a:custGeom>
              <a:avLst/>
              <a:gdLst/>
              <a:ahLst/>
              <a:rect l="l" t="t" r="r" b="b"/>
              <a:pathLst>
                <a:path w="1176" h="1376">
                  <a:moveTo>
                    <a:pt x="1014" y="135"/>
                  </a:moveTo>
                  <a:cubicBezTo>
                    <a:pt x="971" y="119"/>
                    <a:pt x="926" y="112"/>
                    <a:pt x="884" y="95"/>
                  </a:cubicBezTo>
                  <a:cubicBezTo>
                    <a:pt x="723" y="31"/>
                    <a:pt x="845" y="55"/>
                    <a:pt x="738" y="38"/>
                  </a:cubicBezTo>
                  <a:cubicBezTo>
                    <a:pt x="682" y="1"/>
                    <a:pt x="602" y="14"/>
                    <a:pt x="536" y="6"/>
                  </a:cubicBezTo>
                  <a:cubicBezTo>
                    <a:pt x="374" y="12"/>
                    <a:pt x="338" y="0"/>
                    <a:pt x="219" y="46"/>
                  </a:cubicBezTo>
                  <a:cubicBezTo>
                    <a:pt x="210" y="56"/>
                    <a:pt x="157" y="106"/>
                    <a:pt x="146" y="127"/>
                  </a:cubicBezTo>
                  <a:cubicBezTo>
                    <a:pt x="136" y="148"/>
                    <a:pt x="132" y="171"/>
                    <a:pt x="122" y="192"/>
                  </a:cubicBezTo>
                  <a:cubicBezTo>
                    <a:pt x="111" y="284"/>
                    <a:pt x="105" y="377"/>
                    <a:pt x="90" y="468"/>
                  </a:cubicBezTo>
                  <a:cubicBezTo>
                    <a:pt x="76" y="662"/>
                    <a:pt x="0" y="1104"/>
                    <a:pt x="106" y="1197"/>
                  </a:cubicBezTo>
                  <a:cubicBezTo>
                    <a:pt x="143" y="1229"/>
                    <a:pt x="215" y="1235"/>
                    <a:pt x="260" y="1246"/>
                  </a:cubicBezTo>
                  <a:cubicBezTo>
                    <a:pt x="295" y="1267"/>
                    <a:pt x="328" y="1293"/>
                    <a:pt x="365" y="1311"/>
                  </a:cubicBezTo>
                  <a:cubicBezTo>
                    <a:pt x="439" y="1347"/>
                    <a:pt x="748" y="1360"/>
                    <a:pt x="876" y="1376"/>
                  </a:cubicBezTo>
                  <a:cubicBezTo>
                    <a:pt x="919" y="1373"/>
                    <a:pt x="963" y="1372"/>
                    <a:pt x="1006" y="1368"/>
                  </a:cubicBezTo>
                  <a:cubicBezTo>
                    <a:pt x="1022" y="1367"/>
                    <a:pt x="1043" y="1371"/>
                    <a:pt x="1055" y="1360"/>
                  </a:cubicBezTo>
                  <a:cubicBezTo>
                    <a:pt x="1068" y="1349"/>
                    <a:pt x="1063" y="1326"/>
                    <a:pt x="1071" y="1311"/>
                  </a:cubicBezTo>
                  <a:cubicBezTo>
                    <a:pt x="1084" y="1288"/>
                    <a:pt x="1103" y="1268"/>
                    <a:pt x="1119" y="1246"/>
                  </a:cubicBezTo>
                  <a:cubicBezTo>
                    <a:pt x="1147" y="1139"/>
                    <a:pt x="1158" y="1031"/>
                    <a:pt x="1176" y="922"/>
                  </a:cubicBezTo>
                  <a:cubicBezTo>
                    <a:pt x="1173" y="781"/>
                    <a:pt x="1175" y="641"/>
                    <a:pt x="1168" y="500"/>
                  </a:cubicBezTo>
                  <a:cubicBezTo>
                    <a:pt x="1167" y="478"/>
                    <a:pt x="1156" y="457"/>
                    <a:pt x="1152" y="435"/>
                  </a:cubicBezTo>
                  <a:cubicBezTo>
                    <a:pt x="1142" y="374"/>
                    <a:pt x="1143" y="299"/>
                    <a:pt x="1119" y="241"/>
                  </a:cubicBezTo>
                  <a:cubicBezTo>
                    <a:pt x="1111" y="223"/>
                    <a:pt x="1087" y="192"/>
                    <a:pt x="1087" y="19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920" y="896760"/>
              <a:ext cx="74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6080" y="5850000"/>
            <a:ext cx="4547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aximum power transfer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the amplifier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181480" y="76212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400800" y="38088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4625280" y="1219320"/>
            <a:ext cx="4336560" cy="1447560"/>
            <a:chOff x="4625280" y="1219320"/>
            <a:chExt cx="4336560" cy="1447560"/>
          </a:xfrm>
        </p:grpSpPr>
        <p:sp>
          <p:nvSpPr>
            <p:cNvPr id="358" name=""/>
            <p:cNvSpPr/>
            <p:nvPr/>
          </p:nvSpPr>
          <p:spPr>
            <a:xfrm>
              <a:off x="4625280" y="1219320"/>
              <a:ext cx="433656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there are dependent sources 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determine open-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short-circuit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943600" y="205740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5381640" y="2743200"/>
            <a:ext cx="3152880" cy="1943280"/>
            <a:chOff x="5381640" y="2743200"/>
            <a:chExt cx="3152880" cy="1943280"/>
          </a:xfrm>
        </p:grpSpPr>
        <p:pic>
          <p:nvPicPr>
            <p:cNvPr id="361" name="F16.027C_W1451" descr=""/>
            <p:cNvPicPr/>
            <p:nvPr/>
          </p:nvPicPr>
          <p:blipFill>
            <a:blip r:embed="rId3"/>
            <a:stretch/>
          </p:blipFill>
          <p:spPr>
            <a:xfrm>
              <a:off x="5381640" y="2971800"/>
              <a:ext cx="31528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924960" y="2743200"/>
              <a:ext cx="1421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59320" y="4495680"/>
                <a:ext cx="3200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84840" y="5486400"/>
                <a:ext cx="228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72000" y="32004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6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9640" y="135000"/>
            <a:ext cx="2331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" y="592200"/>
            <a:ext cx="4047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ation of short-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F16.027D_W145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3520" y="2666880"/>
                <a:ext cx="2273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19520" y="26668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984240" y="31240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32120" y="38098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187960" y="3809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32120" y="45720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727600" y="4749840"/>
                <a:ext cx="1663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984400" y="5334120"/>
                <a:ext cx="370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37040" y="6019920"/>
                <a:ext cx="28191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84800" y="60199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3720" y="76320"/>
            <a:ext cx="4533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ING COMMON SOURCE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F16.028A_W145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32416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F16.028B_W1452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23872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00600" y="2819520"/>
                <a:ext cx="3327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000" y="76320"/>
            <a:ext cx="3615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A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F16.029A_W1453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1876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44080" y="2254320"/>
            <a:ext cx="1800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ize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00840" y="76320"/>
            <a:ext cx="480924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open and S1 closed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ores energy. A large capacitor helps to k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closed and S1 open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s energy to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0" y="2743200"/>
                <a:ext cx="2260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35268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86000" y="26668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uty cycl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witching peri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0" y="4038480"/>
                <a:ext cx="457200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nergy transferr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capaci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end of cycl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beginning of cyc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6320" y="57150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 transferred to load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a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267080" y="4572000"/>
                <a:ext cx="487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 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−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ad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2" name=""/>
          <p:cNvGrpSpPr/>
          <p:nvPr/>
        </p:nvGrpSpPr>
        <p:grpSpPr>
          <a:xfrm>
            <a:off x="4993560" y="1447920"/>
            <a:ext cx="3855240" cy="2242080"/>
            <a:chOff x="4993560" y="1447920"/>
            <a:chExt cx="3855240" cy="2242080"/>
          </a:xfrm>
        </p:grpSpPr>
        <p:pic>
          <p:nvPicPr>
            <p:cNvPr id="403" name="F16.029B_W1453" descr=""/>
            <p:cNvPicPr/>
            <p:nvPr/>
          </p:nvPicPr>
          <p:blipFill>
            <a:blip r:embed="rId2"/>
            <a:stretch/>
          </p:blipFill>
          <p:spPr>
            <a:xfrm>
              <a:off x="5105520" y="1447920"/>
              <a:ext cx="374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993560" y="3352680"/>
              <a:ext cx="3850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actical implementation of boo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819520" y="3352680"/>
                <a:ext cx="722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759200" y="2444760"/>
            <a:ext cx="4179600" cy="1869840"/>
            <a:chOff x="4759200" y="2444760"/>
            <a:chExt cx="4179600" cy="1869840"/>
          </a:xfrm>
        </p:grpSpPr>
        <p:sp>
          <p:nvSpPr>
            <p:cNvPr id="407" name=""/>
            <p:cNvSpPr/>
            <p:nvPr/>
          </p:nvSpPr>
          <p:spPr>
            <a:xfrm>
              <a:off x="4759200" y="2444760"/>
              <a:ext cx="1432080" cy="1494000"/>
            </a:xfrm>
            <a:custGeom>
              <a:avLst/>
              <a:gdLst/>
              <a:ahLst/>
              <a:rect l="l" t="t" r="r" b="b"/>
              <a:pathLst>
                <a:path w="902" h="941">
                  <a:moveTo>
                    <a:pt x="765" y="430"/>
                  </a:moveTo>
                  <a:cubicBezTo>
                    <a:pt x="817" y="421"/>
                    <a:pt x="834" y="410"/>
                    <a:pt x="870" y="373"/>
                  </a:cubicBezTo>
                  <a:cubicBezTo>
                    <a:pt x="886" y="324"/>
                    <a:pt x="892" y="278"/>
                    <a:pt x="902" y="227"/>
                  </a:cubicBezTo>
                  <a:cubicBezTo>
                    <a:pt x="835" y="80"/>
                    <a:pt x="881" y="149"/>
                    <a:pt x="756" y="25"/>
                  </a:cubicBezTo>
                  <a:cubicBezTo>
                    <a:pt x="738" y="7"/>
                    <a:pt x="683" y="0"/>
                    <a:pt x="683" y="0"/>
                  </a:cubicBezTo>
                  <a:cubicBezTo>
                    <a:pt x="673" y="3"/>
                    <a:pt x="575" y="28"/>
                    <a:pt x="570" y="33"/>
                  </a:cubicBezTo>
                  <a:cubicBezTo>
                    <a:pt x="546" y="60"/>
                    <a:pt x="521" y="130"/>
                    <a:pt x="521" y="130"/>
                  </a:cubicBezTo>
                  <a:cubicBezTo>
                    <a:pt x="508" y="182"/>
                    <a:pt x="495" y="224"/>
                    <a:pt x="521" y="284"/>
                  </a:cubicBezTo>
                  <a:cubicBezTo>
                    <a:pt x="562" y="376"/>
                    <a:pt x="668" y="395"/>
                    <a:pt x="748" y="422"/>
                  </a:cubicBezTo>
                  <a:cubicBezTo>
                    <a:pt x="525" y="429"/>
                    <a:pt x="345" y="421"/>
                    <a:pt x="140" y="454"/>
                  </a:cubicBezTo>
                  <a:cubicBezTo>
                    <a:pt x="29" y="570"/>
                    <a:pt x="0" y="848"/>
                    <a:pt x="140" y="941"/>
                  </a:cubicBezTo>
                  <a:cubicBezTo>
                    <a:pt x="302" y="933"/>
                    <a:pt x="243" y="933"/>
                    <a:pt x="319" y="9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2960" y="3733920"/>
              <a:ext cx="370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rns FET on or off. When FET is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ode becomes direct bia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8880" y="135000"/>
            <a:ext cx="6013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COMPUTE OUTPUT OF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609480"/>
          <a:ext cx="288756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2887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3538080" y="668160"/>
            <a:ext cx="4185360" cy="659880"/>
            <a:chOff x="3538080" y="668160"/>
            <a:chExt cx="4185360" cy="659880"/>
          </a:xfrm>
        </p:grpSpPr>
        <p:sp>
          <p:nvSpPr>
            <p:cNvPr id="416" name=""/>
            <p:cNvSpPr/>
            <p:nvPr/>
          </p:nvSpPr>
          <p:spPr>
            <a:xfrm>
              <a:off x="3722040" y="990720"/>
              <a:ext cx="40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$B$1^2*($B$4)^2/(2*($B$2)*($B$5)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8080" y="668160"/>
              <a:ext cx="3227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W_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17560" y="1371600"/>
            <a:ext cx="5441040" cy="718200"/>
            <a:chOff x="3517560" y="1371600"/>
            <a:chExt cx="5441040" cy="718200"/>
          </a:xfrm>
        </p:grpSpPr>
        <p:sp>
          <p:nvSpPr>
            <p:cNvPr id="419" name=""/>
            <p:cNvSpPr/>
            <p:nvPr/>
          </p:nvSpPr>
          <p:spPr>
            <a:xfrm>
              <a:off x="3556800" y="1752480"/>
              <a:ext cx="540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SQRT(2*C10/$B$3-2*D9^2/($B$6*$B$3*$B$5)+D9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17560" y="1371600"/>
              <a:ext cx="400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Vo (cellD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657600" y="2286000"/>
            <a:ext cx="5000760" cy="3291480"/>
            <a:chOff x="3657600" y="2286000"/>
            <a:chExt cx="5000760" cy="3291480"/>
          </a:xfrm>
        </p:grpSpPr>
        <p:pic>
          <p:nvPicPr>
            <p:cNvPr id="422" name="F16.030B_W1454" descr=""/>
            <p:cNvPicPr/>
            <p:nvPr/>
          </p:nvPicPr>
          <p:blipFill>
            <a:blip r:embed="rId3"/>
            <a:stretch/>
          </p:blipFill>
          <p:spPr>
            <a:xfrm>
              <a:off x="3657600" y="2286000"/>
              <a:ext cx="5000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71680" y="5240160"/>
              <a:ext cx="412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 of DC-DC converter outpu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8680" y="135000"/>
            <a:ext cx="6544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SCRIPT TO COMPUTE AND PLOT THE BOOS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0360" y="762120"/>
            <a:ext cx="647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ooster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s the booster circuit in BECA 7th Ed, page6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circui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n=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=1e-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1e-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=0.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=1e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load=2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iteration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=[0:3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s=1e3*n/fs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ime in m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initialize vectors and do one-time comp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l=Vin^2*D^2/(2*L*fs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2*Wl/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t2=1-2/(Rload*C*f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=zeros(size(n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output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o the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=2:length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(k)=sqrt(t1+kt2*(vo(k-1))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ispla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C-DC CONVERTER OUPUT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m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_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BoosterV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016120" y="5638680"/>
            <a:ext cx="1034280" cy="1143000"/>
            <a:chOff x="8016120" y="5638680"/>
            <a:chExt cx="1034280" cy="1143000"/>
          </a:xfrm>
        </p:grpSpPr>
        <p:pic>
          <p:nvPicPr>
            <p:cNvPr id="435" name="stop" descr=""/>
            <p:cNvPicPr/>
            <p:nvPr/>
          </p:nvPicPr>
          <p:blipFill>
            <a:blip r:embed="rId2"/>
            <a:stretch/>
          </p:blipFill>
          <p:spPr>
            <a:xfrm>
              <a:off x="8426160" y="62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016120" y="5638680"/>
              <a:ext cx="103428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OSF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21480" y="50760"/>
            <a:ext cx="13312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16.003A_W142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8628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F16.003B_W1428" descr=""/>
          <p:cNvPicPr/>
          <p:nvPr/>
        </p:nvPicPr>
        <p:blipFill>
          <a:blip r:embed="rId2"/>
          <a:stretch/>
        </p:blipFill>
        <p:spPr>
          <a:xfrm>
            <a:off x="4924440" y="609480"/>
            <a:ext cx="4219560" cy="36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96600" y="820800"/>
            <a:ext cx="923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1880" y="363600"/>
            <a:ext cx="114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1933560" cy="2286000"/>
            <a:chOff x="228600" y="3962520"/>
            <a:chExt cx="1933560" cy="2286000"/>
          </a:xfrm>
        </p:grpSpPr>
        <p:pic>
          <p:nvPicPr>
            <p:cNvPr id="64" name="F16.004A_W1429" descr=""/>
            <p:cNvPicPr/>
            <p:nvPr/>
          </p:nvPicPr>
          <p:blipFill>
            <a:blip r:embed="rId3"/>
            <a:stretch/>
          </p:blipFill>
          <p:spPr>
            <a:xfrm>
              <a:off x="228600" y="3962520"/>
              <a:ext cx="1933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8600" y="5835600"/>
              <a:ext cx="164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-V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62320" y="4038480"/>
            <a:ext cx="1914480" cy="2544120"/>
            <a:chOff x="2362320" y="4038480"/>
            <a:chExt cx="1914480" cy="2544120"/>
          </a:xfrm>
        </p:grpSpPr>
        <p:pic>
          <p:nvPicPr>
            <p:cNvPr id="67" name="F16.004B_W1429" descr=""/>
            <p:cNvPicPr/>
            <p:nvPr/>
          </p:nvPicPr>
          <p:blipFill>
            <a:blip r:embed="rId4"/>
            <a:stretch/>
          </p:blipFill>
          <p:spPr>
            <a:xfrm>
              <a:off x="2362320" y="4038480"/>
              <a:ext cx="191448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02440" y="6001920"/>
              <a:ext cx="1489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ward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72000" y="4038480"/>
            <a:ext cx="1943280" cy="2544120"/>
            <a:chOff x="4572000" y="4038480"/>
            <a:chExt cx="1943280" cy="2544120"/>
          </a:xfrm>
        </p:grpSpPr>
        <p:pic>
          <p:nvPicPr>
            <p:cNvPr id="70" name="F16.004C_W1429" descr=""/>
            <p:cNvPicPr/>
            <p:nvPr/>
          </p:nvPicPr>
          <p:blipFill>
            <a:blip r:embed="rId5"/>
            <a:stretch/>
          </p:blipFill>
          <p:spPr>
            <a:xfrm>
              <a:off x="4572000" y="4038480"/>
              <a:ext cx="1943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69280" y="6001920"/>
              <a:ext cx="1450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verse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83320" y="4114800"/>
            <a:ext cx="1310040" cy="2391840"/>
            <a:chOff x="7483320" y="4114800"/>
            <a:chExt cx="1310040" cy="2391840"/>
          </a:xfrm>
        </p:grpSpPr>
        <p:pic>
          <p:nvPicPr>
            <p:cNvPr id="73" name="F16.004D_W1429" descr=""/>
            <p:cNvPicPr/>
            <p:nvPr/>
          </p:nvPicPr>
          <p:blipFill>
            <a:blip r:embed="rId6"/>
            <a:stretch/>
          </p:blipFill>
          <p:spPr>
            <a:xfrm>
              <a:off x="7543800" y="4114800"/>
              <a:ext cx="11620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83320" y="5925960"/>
              <a:ext cx="131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16.004A_W1429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93356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7840" y="152280"/>
            <a:ext cx="33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diode I - V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2133720"/>
                <a:ext cx="1981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762120"/>
                <a:ext cx="4038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verse saturation current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harge of electron</m:t>
                        </m:r>
                      </m:e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oltzmann's constant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mperature in degrees Kelvin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'ideality' factor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97560" y="2438280"/>
                <a:ext cx="447012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ly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high power diodes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at room temperatu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52280" y="3487680"/>
            <a:ext cx="5220000" cy="3122640"/>
            <a:chOff x="152280" y="3487680"/>
            <a:chExt cx="5220000" cy="3122640"/>
          </a:xfrm>
        </p:grpSpPr>
        <p:pic>
          <p:nvPicPr>
            <p:cNvPr id="84" name="F16.005_W1430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522000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4080" y="3487680"/>
              <a:ext cx="30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 of an actu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00" y="4572000"/>
            <a:ext cx="2446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develop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I - V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48200" y="210960"/>
            <a:ext cx="3533400" cy="3019320"/>
            <a:chOff x="448200" y="210960"/>
            <a:chExt cx="3533400" cy="3019320"/>
          </a:xfrm>
        </p:grpSpPr>
        <p:pic>
          <p:nvPicPr>
            <p:cNvPr id="91" name="F16.006A_W1431" descr=""/>
            <p:cNvPicPr/>
            <p:nvPr/>
          </p:nvPicPr>
          <p:blipFill>
            <a:blip r:embed="rId1"/>
            <a:stretch/>
          </p:blipFill>
          <p:spPr>
            <a:xfrm>
              <a:off x="838080" y="685800"/>
              <a:ext cx="78120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F16.006B_W1431" descr=""/>
            <p:cNvPicPr/>
            <p:nvPr/>
          </p:nvPicPr>
          <p:blipFill>
            <a:blip r:embed="rId2"/>
            <a:stretch/>
          </p:blipFill>
          <p:spPr>
            <a:xfrm>
              <a:off x="2209680" y="685800"/>
              <a:ext cx="1771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56800" y="210960"/>
              <a:ext cx="260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8200" y="264960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5960" y="25732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7720" y="3564000"/>
            <a:ext cx="3641400" cy="2912760"/>
            <a:chOff x="387720" y="3564000"/>
            <a:chExt cx="3641400" cy="2912760"/>
          </a:xfrm>
        </p:grpSpPr>
        <p:pic>
          <p:nvPicPr>
            <p:cNvPr id="97" name="F16.007A_W1432" descr=""/>
            <p:cNvPicPr/>
            <p:nvPr/>
          </p:nvPicPr>
          <p:blipFill>
            <a:blip r:embed="rId3"/>
            <a:stretch/>
          </p:blipFill>
          <p:spPr>
            <a:xfrm>
              <a:off x="685800" y="3991320"/>
              <a:ext cx="77148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F16.007B_W1432" descr=""/>
            <p:cNvPicPr/>
            <p:nvPr/>
          </p:nvPicPr>
          <p:blipFill>
            <a:blip r:embed="rId4"/>
            <a:stretch/>
          </p:blipFill>
          <p:spPr>
            <a:xfrm>
              <a:off x="2286000" y="3991320"/>
              <a:ext cx="1743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7720" y="589608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5480" y="58960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1320" y="356400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267080" y="2271600"/>
            <a:ext cx="4876920" cy="3077280"/>
            <a:chOff x="4267080" y="2271600"/>
            <a:chExt cx="4876920" cy="3077280"/>
          </a:xfrm>
        </p:grpSpPr>
        <p:pic>
          <p:nvPicPr>
            <p:cNvPr id="103" name="F16.008_W1433" descr=""/>
            <p:cNvPicPr/>
            <p:nvPr/>
          </p:nvPicPr>
          <p:blipFill>
            <a:blip r:embed="rId5"/>
            <a:stretch/>
          </p:blipFill>
          <p:spPr>
            <a:xfrm>
              <a:off x="4267080" y="2271600"/>
              <a:ext cx="48769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01960" y="5011560"/>
              <a:ext cx="244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16.010A_W1435" descr=""/>
          <p:cNvPicPr/>
          <p:nvPr/>
        </p:nvPicPr>
        <p:blipFill>
          <a:blip r:embed="rId1"/>
          <a:stretch/>
        </p:blipFill>
        <p:spPr>
          <a:xfrm>
            <a:off x="2057400" y="866880"/>
            <a:ext cx="186696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38280" y="152280"/>
                <a:ext cx="447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ing the ideal model, 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1" name="F16.009A_W1434" descr=""/>
          <p:cNvPicPr/>
          <p:nvPr/>
        </p:nvPicPr>
        <p:blipFill>
          <a:blip r:embed="rId2"/>
          <a:stretch/>
        </p:blipFill>
        <p:spPr>
          <a:xfrm>
            <a:off x="0" y="685800"/>
            <a:ext cx="1984320" cy="220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8400" y="272556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forward bias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90920" y="53352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F16.009B_W1434" descr=""/>
          <p:cNvPicPr/>
          <p:nvPr/>
        </p:nvPicPr>
        <p:blipFill>
          <a:blip r:embed="rId3"/>
          <a:stretch/>
        </p:blipFill>
        <p:spPr>
          <a:xfrm>
            <a:off x="76320" y="3276720"/>
            <a:ext cx="292392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0920" y="4419720"/>
            <a:ext cx="251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reverse bi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16.010B_W1435" descr=""/>
          <p:cNvPicPr/>
          <p:nvPr/>
        </p:nvPicPr>
        <p:blipFill>
          <a:blip r:embed="rId4"/>
          <a:stretch/>
        </p:blipFill>
        <p:spPr>
          <a:xfrm>
            <a:off x="76320" y="4876920"/>
            <a:ext cx="2914560" cy="17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24080" y="52578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F16.009C_W1434" descr=""/>
          <p:cNvPicPr/>
          <p:nvPr/>
        </p:nvPicPr>
        <p:blipFill>
          <a:blip r:embed="rId5"/>
          <a:stretch/>
        </p:blipFill>
        <p:spPr>
          <a:xfrm>
            <a:off x="4667400" y="685800"/>
            <a:ext cx="1809720" cy="2066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83400" y="2496960"/>
            <a:ext cx="1489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ward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6.010C_W1435" descr=""/>
          <p:cNvPicPr/>
          <p:nvPr/>
        </p:nvPicPr>
        <p:blipFill>
          <a:blip r:embed="rId6"/>
          <a:stretch/>
        </p:blipFill>
        <p:spPr>
          <a:xfrm>
            <a:off x="6705720" y="685800"/>
            <a:ext cx="1790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15200" y="24382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F16.010D_W1435" descr=""/>
          <p:cNvPicPr/>
          <p:nvPr/>
        </p:nvPicPr>
        <p:blipFill>
          <a:blip r:embed="rId7"/>
          <a:stretch/>
        </p:blipFill>
        <p:spPr>
          <a:xfrm>
            <a:off x="7010280" y="358128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F16.009D_W1434" descr=""/>
          <p:cNvPicPr/>
          <p:nvPr/>
        </p:nvPicPr>
        <p:blipFill>
          <a:blip r:embed="rId8"/>
          <a:stretch/>
        </p:blipFill>
        <p:spPr>
          <a:xfrm>
            <a:off x="4648320" y="3581280"/>
            <a:ext cx="1828800" cy="206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82040" y="5316480"/>
            <a:ext cx="145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0120" y="52722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572000" y="457200"/>
            <a:ext cx="0" cy="6248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3240" y="58680"/>
            <a:ext cx="5200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the protection circuit using diod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0" y="1371600"/>
            <a:ext cx="1288440" cy="1888200"/>
            <a:chOff x="6840" y="1371600"/>
            <a:chExt cx="1288440" cy="1888200"/>
          </a:xfrm>
        </p:grpSpPr>
        <p:sp>
          <p:nvSpPr>
            <p:cNvPr id="135" name=""/>
            <p:cNvSpPr/>
            <p:nvPr/>
          </p:nvSpPr>
          <p:spPr>
            <a:xfrm>
              <a:off x="152280" y="1371600"/>
              <a:ext cx="11430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0" y="2192400"/>
              <a:ext cx="126576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d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28800" y="838080"/>
            <a:ext cx="2747880" cy="1053720"/>
            <a:chOff x="1828800" y="838080"/>
            <a:chExt cx="2747880" cy="1053720"/>
          </a:xfrm>
        </p:grpSpPr>
        <p:grpSp>
          <p:nvGrpSpPr>
            <p:cNvPr id="138" name=""/>
            <p:cNvGrpSpPr/>
            <p:nvPr/>
          </p:nvGrpSpPr>
          <p:grpSpPr>
            <a:xfrm>
              <a:off x="1828800" y="838080"/>
              <a:ext cx="1701360" cy="520200"/>
              <a:chOff x="1828800" y="838080"/>
              <a:chExt cx="1701360" cy="520200"/>
            </a:xfrm>
          </p:grpSpPr>
          <p:sp>
            <p:nvSpPr>
              <p:cNvPr id="139" name=""/>
              <p:cNvSpPr/>
              <p:nvPr/>
            </p:nvSpPr>
            <p:spPr>
              <a:xfrm>
                <a:off x="2299320" y="83808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8800" y="12952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568680" y="914400"/>
                  <a:ext cx="698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2914560" y="137160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2362320"/>
                <a:ext cx="2108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diode model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293040" y="3886200"/>
            <a:ext cx="3804840" cy="2209320"/>
            <a:chOff x="293040" y="3886200"/>
            <a:chExt cx="3804840" cy="2209320"/>
          </a:xfrm>
        </p:grpSpPr>
        <p:pic>
          <p:nvPicPr>
            <p:cNvPr id="145" name="F16.011B_W1436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2676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3040" y="5514840"/>
              <a:ext cx="3804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protection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diode 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09680" y="49528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765680" y="609480"/>
            <a:ext cx="3835440" cy="2257200"/>
            <a:chOff x="4765680" y="609480"/>
            <a:chExt cx="3835440" cy="2257200"/>
          </a:xfrm>
        </p:grpSpPr>
        <p:pic>
          <p:nvPicPr>
            <p:cNvPr id="149" name="F16.012_W1437" descr=""/>
            <p:cNvPicPr/>
            <p:nvPr/>
          </p:nvPicPr>
          <p:blipFill>
            <a:blip r:embed="rId3"/>
            <a:stretch/>
          </p:blipFill>
          <p:spPr>
            <a:xfrm>
              <a:off x="5334120" y="609480"/>
              <a:ext cx="268596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65680" y="2286000"/>
              <a:ext cx="3835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with piecewise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51960" y="3030480"/>
            <a:ext cx="2936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89480" y="3429000"/>
                <a:ext cx="264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77800" y="4325760"/>
            <a:ext cx="3833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similar way for over-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57800" y="48006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40280" y="5697360"/>
            <a:ext cx="394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gure in the next slide comp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hre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320" y="76320"/>
                <a:ext cx="3809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 voltage model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ecewise linear mode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0" name="F16.013_W1438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95800"/>
          </a:xfrm>
          <a:prstGeom prst="rect">
            <a:avLst/>
          </a:prstGeom>
          <a:ln w="0">
            <a:noFill/>
          </a:ln>
        </p:spPr>
      </p:pic>
      <p:pic>
        <p:nvPicPr>
          <p:cNvPr id="16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1920" y="1522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using non linear diod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8320" y="30481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-voltage scenario. Top diode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762120"/>
            <a:ext cx="2747880" cy="1053360"/>
            <a:chOff x="1828800" y="762120"/>
            <a:chExt cx="2747880" cy="1053360"/>
          </a:xfrm>
        </p:grpSpPr>
        <p:grpSp>
          <p:nvGrpSpPr>
            <p:cNvPr id="168" name=""/>
            <p:cNvGrpSpPr/>
            <p:nvPr/>
          </p:nvGrpSpPr>
          <p:grpSpPr>
            <a:xfrm>
              <a:off x="1828800" y="762120"/>
              <a:ext cx="1701360" cy="520200"/>
              <a:chOff x="1828800" y="762120"/>
              <a:chExt cx="1701360" cy="520200"/>
            </a:xfrm>
          </p:grpSpPr>
          <p:sp>
            <p:nvSpPr>
              <p:cNvPr id="169" name=""/>
              <p:cNvSpPr/>
              <p:nvPr/>
            </p:nvSpPr>
            <p:spPr>
              <a:xfrm>
                <a:off x="2299320" y="76212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8800" y="121896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568680" y="838080"/>
                  <a:ext cx="6984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2914560" y="129528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8600" y="3505320"/>
                <a:ext cx="154944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16200" y="4191120"/>
                <a:ext cx="1460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27480" y="4114800"/>
                <a:ext cx="93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2280" y="5257800"/>
                <a:ext cx="2476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2680" y="6172200"/>
            <a:ext cx="3865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function. Must be e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48320" y="4680"/>
            <a:ext cx="4114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=1e-14;% MATLAB SCRIPT TO ANALY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=1;     %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ER-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s=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=[-2:.2:2]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=1:length(v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0=[vs(k);vs(k);Rs;I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cl=inlin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((x(2)-x(1))/x(3)+x(4)*(exp(-39*x(1))-1))^2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=fminsearch(kcl,x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vin;x(1)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lot(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titl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UNDER-VOLTAGE WITH NONLINEAR DIOD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Source Voltage(v_S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Input Voltage(v_{in}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11:53:12Z</dcterms:created>
  <dc:creator>Jorge Aravena</dc:creator>
  <dc:description/>
  <dc:language>en-US</dc:language>
  <cp:lastModifiedBy>Jorge Aravena</cp:lastModifiedBy>
  <dcterms:modified xsi:type="dcterms:W3CDTF">2001-10-07T15:40:48Z</dcterms:modified>
  <cp:revision>9</cp:revision>
  <dc:subject/>
  <dc:title>No Slide Title</dc:title>
</cp:coreProperties>
</file>