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37.wmf" ContentType="image/x-wmf"/>
  <Override PartName="/ppt/media/image55.png" ContentType="image/png"/>
  <Override PartName="/ppt/media/image56.png" ContentType="image/png"/>
  <Override PartName="/ppt/media/image44.wmf" ContentType="image/x-wmf"/>
  <Override PartName="/ppt/media/image59.png" ContentType="image/png"/>
  <Override PartName="/ppt/media/image57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58.png" ContentType="image/png"/>
  <Override PartName="/ppt/media/image43.wmf" ContentType="image/x-wmf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C2A-4C8D-47A7-B050-AAEF6E9D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B28-A4DC-430F-8957-2AD9A20E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93D-9F15-4691-BE91-A5F05DA2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DA6-DB47-4DE4-B0D3-195F8267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6C7-86E3-4B9C-8C95-A5E32F01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CB3-471D-4178-A263-25CAC05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A6C-8AA8-4730-ABD3-66B6CAD4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117-2368-4F29-A288-9BDB3675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645-016C-425F-8162-7D8E2456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E35-116E-47B5-AAB7-8A012301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53E-4EA4-453C-A465-E5B45F2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CD1-B6B7-41F8-8859-D8FF0324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0EBF-C7AD-46C9-A51D-3223D1F79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png"/><Relationship Id="rId19" Type="http://schemas.openxmlformats.org/officeDocument/2006/relationships/image" Target="../media/image59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eaux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geaux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398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00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09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12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15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18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21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24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36" name="stop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geaux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geaux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geaux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geaux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geaux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1-04-23T20:16:23Z</dcterms:modified>
  <cp:revision>23</cp:revision>
  <dc:subject/>
  <dc:title>No Slide Title</dc:title>
</cp:coreProperties>
</file>