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129-1093-4931-BB98-45F01A21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591-B12F-479A-A307-84100E1E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5C4-BC0C-4F53-B336-D2591140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73C0-D4C0-4D42-A1EE-25A2A407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E16-BC7B-450C-9B62-17C19F04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956-E900-4CFF-BB5B-1EF19386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B95-8AD2-4207-A37D-A48B53BE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27E-BB2C-4692-9B6D-1A93FE0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911-9862-487A-AF13-54005730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711-015D-4A06-8FFE-D3BFCE0B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FE2-F2DA-49AB-BB71-A3D86DD3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DD2-9494-4753-85B6-E397B1CA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2037-ED69-417D-A0EE-2397549D8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101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106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1-04-23T21:00:04Z</dcterms:modified>
  <cp:revision>1</cp:revision>
  <dc:subject/>
  <dc:title>No Slide Title</dc:title>
</cp:coreProperties>
</file>