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0.wmf" ContentType="image/x-wmf"/>
  <Override PartName="/ppt/media/image31.wmf" ContentType="image/x-wmf"/>
  <Override PartName="/ppt/media/image32.wmf" ContentType="image/x-wmf"/>
  <Override PartName="/ppt/media/image12.png" ContentType="image/png"/>
  <Override PartName="/ppt/media/image33.wmf" ContentType="image/x-wmf"/>
  <Override PartName="/ppt/media/image13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34.wmf" ContentType="image/x-wmf"/>
  <Override PartName="/ppt/media/image14.png" ContentType="image/png"/>
  <Override PartName="/ppt/media/image35.wmf" ContentType="image/x-wmf"/>
  <Override PartName="/ppt/media/image15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6.wmf" ContentType="image/x-wmf"/>
  <Override PartName="/ppt/media/image16.png" ContentType="image/png"/>
  <Override PartName="/ppt/media/image6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29.wmf" ContentType="image/x-wmf"/>
  <Override PartName="/ppt/media/image1.png" ContentType="image/png"/>
  <Override PartName="/ppt/media/image24.png" ContentType="image/png"/>
  <Override PartName="/ppt/media/image17.png" ContentType="image/png"/>
  <Override PartName="/ppt/media/image1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DE62-8B4A-4E51-9ADA-323CA6A4D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DD98-9069-4FF0-BE58-EBA0C432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1E3C-AD3B-4C52-B164-9427383F1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D661-D3D1-45D7-8AC7-8A1DDE9C3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15BD-1A26-49E2-BD15-CEA50D98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9FE1-57C4-4C8E-83ED-44311A0D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A2B4-E1FC-41FA-9F23-BBC1AD10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A7E2-A3DD-46AF-BA42-29604EE3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59ED-373C-436E-9C3D-F5BD6532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CDB6-2C75-4BF4-9EB8-ACA180FA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6A1C-796C-4F05-94A9-E81AEEB5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D0A2-B886-4408-8AF4-6BC72ED8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D004-7746-4DD2-9644-1D83769D6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76320"/>
            <a:ext cx="5943600" cy="106884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RST AND SECOND-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RANSIENT CIRCU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3880" y="1219320"/>
            <a:ext cx="780696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CIRCUITS WITH INDUCTORS AND CAPACITORS VOLTAGES AND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NNOT CHANGE INSTANTANEOUSL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VEN THE APPLICATION, OR REMOVAL, OF CONSTANT SOURCES CREATE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IENT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1960" y="2397240"/>
            <a:ext cx="219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97560" y="3030480"/>
            <a:ext cx="56916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RST ORDER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s that contain a single energy storing ele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ither a capacitor or an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11960" y="3868560"/>
            <a:ext cx="6451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 ORDER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s with two energy storing elements in any comb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0" y="304920"/>
          <a:ext cx="3386160" cy="22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3386160" cy="22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2438280" y="0"/>
                <a:ext cx="38354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ASSUME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2600" y="2616120"/>
                <a:ext cx="34164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 FOR  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USE KCL @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2" name=""/>
          <p:cNvGrpSpPr/>
          <p:nvPr/>
        </p:nvGrpSpPr>
        <p:grpSpPr>
          <a:xfrm>
            <a:off x="1828440" y="990720"/>
            <a:ext cx="1143360" cy="457200"/>
            <a:chOff x="1828440" y="990720"/>
            <a:chExt cx="1143360" cy="457200"/>
          </a:xfrm>
        </p:grpSpPr>
        <p:sp>
          <p:nvSpPr>
            <p:cNvPr id="223" name=""/>
            <p:cNvSpPr/>
            <p:nvPr/>
          </p:nvSpPr>
          <p:spPr>
            <a:xfrm flipH="1">
              <a:off x="1828440" y="990720"/>
              <a:ext cx="1143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971800" y="106704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990720" y="2971800"/>
                <a:ext cx="2133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800280" y="3500280"/>
                <a:ext cx="2768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itial condition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143280" y="3825720"/>
            <a:ext cx="34725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(DIFF. EQ. KNOW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ITIAL CONDITION KNOW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1160" y="4572000"/>
            <a:ext cx="2923920" cy="898560"/>
            <a:chOff x="11160" y="4572000"/>
            <a:chExt cx="2923920" cy="898560"/>
          </a:xfrm>
        </p:grpSpPr>
        <p:sp>
          <p:nvSpPr>
            <p:cNvPr id="229" name=""/>
            <p:cNvSpPr/>
            <p:nvPr/>
          </p:nvSpPr>
          <p:spPr>
            <a:xfrm>
              <a:off x="11160" y="4572000"/>
              <a:ext cx="292392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Lucida Console"/>
                </a:rPr>
                <a:t>STEP 1</a:t>
              </a: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 TIME CONST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1311120" y="4911480"/>
                  <a:ext cx="116856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y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1" name=""/>
          <p:cNvSpPr/>
          <p:nvPr/>
        </p:nvSpPr>
        <p:spPr>
          <a:xfrm>
            <a:off x="121320" y="6140520"/>
            <a:ext cx="3609720" cy="642600"/>
          </a:xfrm>
          <a:prstGeom prst="rect">
            <a:avLst/>
          </a:prstGeom>
          <a:solidFill>
            <a:srgbClr val="ccffcc"/>
          </a:solidFill>
          <a:ln w="22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Get time constant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oefficient of deriv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15720" y="1309680"/>
            <a:ext cx="402120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Console"/>
              </a:rPr>
              <a:t>STEP 2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STEADY STAT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3835440" y="1663560"/>
                <a:ext cx="523224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UTION  IS 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r>
                          <m:t xml:space="preserve">τ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0  and 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  <m:r>
                          <m:rPr>
                            <m:lit/>
                            <m:nor/>
                          </m:rPr>
                          <m:t xml:space="preserve">, 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teady state value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4512600" y="2513160"/>
            <a:ext cx="456984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 STEADY STATE THE SOLUTION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 CONSTANT. HENCE ITS DERIV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S ZERO. FROM DIFF E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486160" y="3397320"/>
            <a:ext cx="6650640" cy="1896840"/>
            <a:chOff x="2486160" y="3397320"/>
            <a:chExt cx="6650640" cy="1896840"/>
          </a:xfrm>
        </p:grpSpPr>
        <p:sp>
          <p:nvSpPr>
            <p:cNvPr id="236" name=""/>
            <p:cNvSpPr/>
            <p:nvPr/>
          </p:nvSpPr>
          <p:spPr>
            <a:xfrm>
              <a:off x="2486160" y="3686040"/>
              <a:ext cx="2425680" cy="1608120"/>
            </a:xfrm>
            <a:custGeom>
              <a:avLst/>
              <a:gdLst/>
              <a:ahLst/>
              <a:rect l="l" t="t" r="r" b="b"/>
              <a:pathLst>
                <a:path w="1528" h="1013">
                  <a:moveTo>
                    <a:pt x="0" y="990"/>
                  </a:moveTo>
                  <a:cubicBezTo>
                    <a:pt x="358" y="997"/>
                    <a:pt x="717" y="1013"/>
                    <a:pt x="1076" y="1013"/>
                  </a:cubicBezTo>
                  <a:cubicBezTo>
                    <a:pt x="1094" y="899"/>
                    <a:pt x="1104" y="785"/>
                    <a:pt x="1122" y="671"/>
                  </a:cubicBezTo>
                  <a:cubicBezTo>
                    <a:pt x="1131" y="477"/>
                    <a:pt x="1169" y="280"/>
                    <a:pt x="1169" y="86"/>
                  </a:cubicBezTo>
                  <a:cubicBezTo>
                    <a:pt x="1197" y="77"/>
                    <a:pt x="1220" y="57"/>
                    <a:pt x="1247" y="47"/>
                  </a:cubicBezTo>
                  <a:cubicBezTo>
                    <a:pt x="1313" y="21"/>
                    <a:pt x="1380" y="21"/>
                    <a:pt x="1450" y="16"/>
                  </a:cubicBezTo>
                  <a:cubicBezTo>
                    <a:pt x="1478" y="9"/>
                    <a:pt x="1500" y="0"/>
                    <a:pt x="1528" y="0"/>
                  </a:cubicBezTo>
                </a:path>
              </a:pathLst>
            </a:custGeom>
            <a:solidFill>
              <a:srgbClr val="ccecff"/>
            </a:solidFill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4952880" y="3397320"/>
              <a:ext cx="4183920" cy="642600"/>
              <a:chOff x="4952880" y="3397320"/>
              <a:chExt cx="4183920" cy="642600"/>
            </a:xfrm>
          </p:grpSpPr>
          <mc:AlternateContent>
            <mc:Choice xmlns:a14="http://schemas.microsoft.com/office/drawing/2010/main" Requires="a14">
              <p:sp>
                <p:nvSpPr>
                  <p:cNvPr id="238" name=""/>
                  <p:cNvSpPr txBox="1"/>
                  <p:nvPr/>
                </p:nvSpPr>
                <p:spPr>
                  <a:xfrm>
                    <a:off x="4952880" y="3429000"/>
                    <a:ext cx="1511280" cy="558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39" name=""/>
              <p:cNvSpPr/>
              <p:nvPr/>
            </p:nvSpPr>
            <p:spPr>
              <a:xfrm>
                <a:off x="6487200" y="3397320"/>
                <a:ext cx="2649600" cy="64260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Lucida Console"/>
                  </a:rPr>
                  <a:t>Steady state valu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Lucida Console"/>
                  </a:rPr>
                  <a:t>from diff. eq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5410080" y="4038480"/>
                <a:ext cx="33274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∴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quating  steady state value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648320" y="4699080"/>
                <a:ext cx="43052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THE MODEL IS </m:t>
                    </m:r>
                    <m:r>
                      <m:t xml:space="preserve">τ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 THEN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4664520" y="5257800"/>
            <a:ext cx="44326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Console"/>
              </a:rPr>
              <a:t>STEP 3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USE OF INITIAL 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5041800" y="5627520"/>
                <a:ext cx="30355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562720" y="6262560"/>
                <a:ext cx="1307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5" name=""/>
          <p:cNvGrpSpPr/>
          <p:nvPr/>
        </p:nvGrpSpPr>
        <p:grpSpPr>
          <a:xfrm>
            <a:off x="149400" y="5029200"/>
            <a:ext cx="1374480" cy="1065240"/>
            <a:chOff x="149400" y="5029200"/>
            <a:chExt cx="1374480" cy="1065240"/>
          </a:xfrm>
        </p:grpSpPr>
        <p:sp>
          <p:nvSpPr>
            <p:cNvPr id="246" name=""/>
            <p:cNvSpPr/>
            <p:nvPr/>
          </p:nvSpPr>
          <p:spPr>
            <a:xfrm>
              <a:off x="1139760" y="5029200"/>
              <a:ext cx="384120" cy="3016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9400" y="5484600"/>
              <a:ext cx="457200" cy="6098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5124600" y="6553080"/>
                <a:ext cx="2590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3276720" y="774720"/>
                <a:ext cx="3835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WER: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0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040" y="11880"/>
            <a:ext cx="237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74680" y="3098880"/>
            <a:ext cx="3535200" cy="2921040"/>
            <a:chOff x="274680" y="3098880"/>
            <a:chExt cx="3535200" cy="2921040"/>
          </a:xfrm>
        </p:grpSpPr>
        <mc:AlternateContent>
          <mc:Choice xmlns:a14="http://schemas.microsoft.com/office/drawing/2010/main" Requires="a14">
            <p:sp>
              <p:nvSpPr>
                <p:cNvPr id="255" name=""/>
                <p:cNvSpPr txBox="1"/>
                <p:nvPr/>
              </p:nvSpPr>
              <p:spPr>
                <a:xfrm>
                  <a:off x="274680" y="5460840"/>
                  <a:ext cx="190476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C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256" name=""/>
            <p:cNvGrpSpPr/>
            <p:nvPr/>
          </p:nvGrpSpPr>
          <p:grpSpPr>
            <a:xfrm>
              <a:off x="2103480" y="3098880"/>
              <a:ext cx="1706400" cy="2889000"/>
              <a:chOff x="2103480" y="3098880"/>
              <a:chExt cx="1706400" cy="2889000"/>
            </a:xfrm>
          </p:grpSpPr>
          <mc:AlternateContent>
            <mc:Choice xmlns:a14="http://schemas.microsoft.com/office/drawing/2010/main" Requires="a14">
              <p:sp>
                <p:nvSpPr>
                  <p:cNvPr id="257" name=""/>
                  <p:cNvSpPr txBox="1"/>
                  <p:nvPr/>
                </p:nvSpPr>
                <p:spPr>
                  <a:xfrm>
                    <a:off x="3173040" y="3098880"/>
                    <a:ext cx="44280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*/</m:t>
                        </m:r>
                        <m:r>
                          <m:t xml:space="preserve">R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58" name=""/>
              <p:cNvSpPr/>
              <p:nvPr/>
            </p:nvSpPr>
            <p:spPr>
              <a:xfrm>
                <a:off x="2103480" y="3217680"/>
                <a:ext cx="1706400" cy="2770200"/>
              </a:xfrm>
              <a:custGeom>
                <a:avLst/>
                <a:gdLst/>
                <a:ahLst/>
                <a:rect l="l" t="t" r="r" b="b"/>
                <a:pathLst>
                  <a:path w="1075" h="1745">
                    <a:moveTo>
                      <a:pt x="950" y="8"/>
                    </a:moveTo>
                    <a:cubicBezTo>
                      <a:pt x="976" y="5"/>
                      <a:pt x="1002" y="0"/>
                      <a:pt x="1028" y="0"/>
                    </a:cubicBezTo>
                    <a:cubicBezTo>
                      <a:pt x="1044" y="0"/>
                      <a:pt x="1075" y="8"/>
                      <a:pt x="1075" y="8"/>
                    </a:cubicBezTo>
                    <a:cubicBezTo>
                      <a:pt x="1069" y="127"/>
                      <a:pt x="1055" y="241"/>
                      <a:pt x="1044" y="359"/>
                    </a:cubicBezTo>
                    <a:cubicBezTo>
                      <a:pt x="1038" y="419"/>
                      <a:pt x="1028" y="538"/>
                      <a:pt x="1028" y="538"/>
                    </a:cubicBezTo>
                    <a:cubicBezTo>
                      <a:pt x="1020" y="747"/>
                      <a:pt x="1004" y="953"/>
                      <a:pt x="989" y="1161"/>
                    </a:cubicBezTo>
                    <a:cubicBezTo>
                      <a:pt x="984" y="1229"/>
                      <a:pt x="983" y="1298"/>
                      <a:pt x="966" y="1364"/>
                    </a:cubicBezTo>
                    <a:cubicBezTo>
                      <a:pt x="961" y="1467"/>
                      <a:pt x="942" y="1573"/>
                      <a:pt x="942" y="1676"/>
                    </a:cubicBezTo>
                    <a:cubicBezTo>
                      <a:pt x="780" y="1682"/>
                      <a:pt x="621" y="1698"/>
                      <a:pt x="459" y="1707"/>
                    </a:cubicBezTo>
                    <a:cubicBezTo>
                      <a:pt x="313" y="1745"/>
                      <a:pt x="150" y="1730"/>
                      <a:pt x="0" y="1730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6527880" y="12600"/>
                <a:ext cx="261612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1752480" y="304920"/>
            <a:ext cx="4422960" cy="2452680"/>
            <a:chOff x="1752480" y="304920"/>
            <a:chExt cx="4422960" cy="2452680"/>
          </a:xfrm>
        </p:grpSpPr>
        <p:graphicFrame>
          <p:nvGraphicFramePr>
            <p:cNvPr id="261" name=""/>
            <p:cNvGraphicFramePr/>
            <p:nvPr/>
          </p:nvGraphicFramePr>
          <p:xfrm>
            <a:off x="1752480" y="304920"/>
            <a:ext cx="4422960" cy="2452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480" y="304920"/>
                      <a:ext cx="4422960" cy="24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5791320" y="2209680"/>
                  <a:ext cx="36828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046320" y="0"/>
                <a:ext cx="1524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6095880" y="1752480"/>
                <a:ext cx="28195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USE  KVL FOR 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6" name=""/>
          <p:cNvGrpSpPr/>
          <p:nvPr/>
        </p:nvGrpSpPr>
        <p:grpSpPr>
          <a:xfrm>
            <a:off x="3048120" y="609480"/>
            <a:ext cx="2286000" cy="1752840"/>
            <a:chOff x="3048120" y="609480"/>
            <a:chExt cx="2286000" cy="1752840"/>
          </a:xfrm>
        </p:grpSpPr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4419720" y="609480"/>
                  <a:ext cx="660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5069160" y="14479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69" name=""/>
            <p:cNvSpPr/>
            <p:nvPr/>
          </p:nvSpPr>
          <p:spPr>
            <a:xfrm>
              <a:off x="3048120" y="1295280"/>
              <a:ext cx="1676520" cy="106704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lnTo>
                    <a:pt x="0" y="0"/>
                  </a:lnTo>
                  <a:lnTo>
                    <a:pt x="1056" y="0"/>
                  </a:lnTo>
                  <a:lnTo>
                    <a:pt x="1056" y="672"/>
                  </a:lnTo>
                  <a:lnTo>
                    <a:pt x="240" y="672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0" name=""/>
                <p:cNvSpPr txBox="1"/>
                <p:nvPr/>
              </p:nvSpPr>
              <p:spPr>
                <a:xfrm>
                  <a:off x="4267440" y="1905120"/>
                  <a:ext cx="3682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1" name=""/>
            <p:cNvSpPr/>
            <p:nvPr/>
          </p:nvSpPr>
          <p:spPr>
            <a:xfrm>
              <a:off x="3124440" y="1336680"/>
              <a:ext cx="59220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2666880" y="2819520"/>
                <a:ext cx="2768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362320" y="3440160"/>
                <a:ext cx="332712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ITIAL CONDITION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⇒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ductor </m:t>
                                  </m:r>
                                  <m:r>
                                    <m:t xml:space="preserve">⇒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74" name=""/>
          <p:cNvGrpSpPr/>
          <p:nvPr/>
        </p:nvGrpSpPr>
        <p:grpSpPr>
          <a:xfrm>
            <a:off x="2045880" y="4481640"/>
            <a:ext cx="3059280" cy="558720"/>
            <a:chOff x="2045880" y="4481640"/>
            <a:chExt cx="3059280" cy="558720"/>
          </a:xfrm>
        </p:grpSpPr>
        <p:sp>
          <p:nvSpPr>
            <p:cNvPr id="275" name=""/>
            <p:cNvSpPr/>
            <p:nvPr/>
          </p:nvSpPr>
          <p:spPr>
            <a:xfrm>
              <a:off x="2045880" y="4481640"/>
              <a:ext cx="1003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6" name=""/>
                <p:cNvSpPr txBox="1"/>
                <p:nvPr/>
              </p:nvSpPr>
              <p:spPr>
                <a:xfrm>
                  <a:off x="3327120" y="4481640"/>
                  <a:ext cx="17780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7" name=""/>
          <p:cNvGrpSpPr/>
          <p:nvPr/>
        </p:nvGrpSpPr>
        <p:grpSpPr>
          <a:xfrm>
            <a:off x="3200400" y="4430880"/>
            <a:ext cx="2666880" cy="685800"/>
            <a:chOff x="3200400" y="4430880"/>
            <a:chExt cx="2666880" cy="685800"/>
          </a:xfrm>
        </p:grpSpPr>
        <mc:AlternateContent>
          <mc:Choice xmlns:a14="http://schemas.microsoft.com/office/drawing/2010/main" Requires="a14">
            <p:sp>
              <p:nvSpPr>
                <p:cNvPr id="278" name=""/>
                <p:cNvSpPr txBox="1"/>
                <p:nvPr/>
              </p:nvSpPr>
              <p:spPr>
                <a:xfrm>
                  <a:off x="5295960" y="4430880"/>
                  <a:ext cx="57132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79" name=""/>
            <p:cNvSpPr/>
            <p:nvPr/>
          </p:nvSpPr>
          <p:spPr>
            <a:xfrm>
              <a:off x="3200400" y="4430880"/>
              <a:ext cx="380880" cy="68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2068200" y="5081760"/>
            <a:ext cx="27867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2 STEAD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724280" y="4419720"/>
            <a:ext cx="1600200" cy="1295280"/>
            <a:chOff x="4724280" y="4419720"/>
            <a:chExt cx="1600200" cy="1295280"/>
          </a:xfrm>
        </p:grpSpPr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4902120" y="5094360"/>
                  <a:ext cx="142236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283" name=""/>
            <p:cNvGrpSpPr/>
            <p:nvPr/>
          </p:nvGrpSpPr>
          <p:grpSpPr>
            <a:xfrm>
              <a:off x="4724280" y="4419720"/>
              <a:ext cx="1143000" cy="1295280"/>
              <a:chOff x="4724280" y="4419720"/>
              <a:chExt cx="1143000" cy="1295280"/>
            </a:xfrm>
          </p:grpSpPr>
          <p:sp>
            <p:nvSpPr>
              <p:cNvPr id="284" name=""/>
              <p:cNvSpPr/>
              <p:nvPr/>
            </p:nvSpPr>
            <p:spPr>
              <a:xfrm>
                <a:off x="5486400" y="5029200"/>
                <a:ext cx="380880" cy="685800"/>
              </a:xfrm>
              <a:prstGeom prst="rect">
                <a:avLst/>
              </a:prstGeom>
              <a:noFill/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724280" y="4419720"/>
                <a:ext cx="457200" cy="685800"/>
              </a:xfrm>
              <a:prstGeom prst="rect">
                <a:avLst/>
              </a:prstGeom>
              <a:noFill/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6" name=""/>
          <p:cNvSpPr/>
          <p:nvPr/>
        </p:nvSpPr>
        <p:spPr>
          <a:xfrm>
            <a:off x="2124360" y="5695200"/>
            <a:ext cx="34725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3 INITIAL 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3048120" y="6095880"/>
                <a:ext cx="1473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715000" y="5715000"/>
                <a:ext cx="25020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  <m:r>
                                  <m:t xml:space="preserve">R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 rot="10800000">
                <a:off x="6705720" y="1142280"/>
                <a:ext cx="213336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90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640" y="75240"/>
            <a:ext cx="237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6483240" y="12600"/>
                <a:ext cx="26164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2971800" y="152280"/>
          <a:ext cx="3521160" cy="29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52280"/>
                    <a:ext cx="3521160" cy="29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 rot="10800000">
                <a:off x="380880" y="1066320"/>
                <a:ext cx="213372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57200" y="2133720"/>
                <a:ext cx="222264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KCL FOR 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9" name=""/>
          <p:cNvGrpSpPr/>
          <p:nvPr/>
        </p:nvGrpSpPr>
        <p:grpSpPr>
          <a:xfrm>
            <a:off x="3657600" y="1752480"/>
            <a:ext cx="2286000" cy="906480"/>
            <a:chOff x="3657600" y="1752480"/>
            <a:chExt cx="2286000" cy="906480"/>
          </a:xfrm>
        </p:grpSpPr>
        <p:sp>
          <p:nvSpPr>
            <p:cNvPr id="300" name=""/>
            <p:cNvSpPr/>
            <p:nvPr/>
          </p:nvSpPr>
          <p:spPr>
            <a:xfrm>
              <a:off x="4574880" y="1900080"/>
              <a:ext cx="0" cy="758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952880" y="1828800"/>
              <a:ext cx="9907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657600" y="1752480"/>
              <a:ext cx="7617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4495680" y="1371600"/>
            <a:ext cx="1955520" cy="2297160"/>
            <a:chOff x="4495680" y="1371600"/>
            <a:chExt cx="1955520" cy="2297160"/>
          </a:xfrm>
        </p:grpSpPr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5028840" y="3124440"/>
                  <a:ext cx="142236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5" name=""/>
            <p:cNvSpPr/>
            <p:nvPr/>
          </p:nvSpPr>
          <p:spPr>
            <a:xfrm>
              <a:off x="4495680" y="1600200"/>
              <a:ext cx="380880" cy="228600"/>
            </a:xfrm>
            <a:prstGeom prst="ellipse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6" name=""/>
                <p:cNvSpPr txBox="1"/>
                <p:nvPr/>
              </p:nvSpPr>
              <p:spPr>
                <a:xfrm>
                  <a:off x="4724280" y="1371600"/>
                  <a:ext cx="39204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914400" y="3581280"/>
                <a:ext cx="15494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514600" y="3581280"/>
                <a:ext cx="17398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1757160" y="4647600"/>
            <a:ext cx="10036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57160" y="5180760"/>
            <a:ext cx="10036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2841480" y="5181480"/>
                <a:ext cx="1930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1757160" y="5562000"/>
            <a:ext cx="10036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2917800" y="5592600"/>
                <a:ext cx="1803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5334120" y="5900760"/>
                <a:ext cx="24508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  <m:r>
                                  <m:t xml:space="preserve">R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4419720" y="3733920"/>
                <a:ext cx="30733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ITIAL CONDITION: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6" name=""/>
          <p:cNvGrpSpPr/>
          <p:nvPr/>
        </p:nvGrpSpPr>
        <p:grpSpPr>
          <a:xfrm>
            <a:off x="2819520" y="3581280"/>
            <a:ext cx="571320" cy="1523880"/>
            <a:chOff x="2819520" y="3581280"/>
            <a:chExt cx="571320" cy="1523880"/>
          </a:xfrm>
        </p:grpSpPr>
        <mc:AlternateContent>
          <mc:Choice xmlns:a14="http://schemas.microsoft.com/office/drawing/2010/main" Requires="a14">
            <p:sp>
              <p:nvSpPr>
                <p:cNvPr id="317" name=""/>
                <p:cNvSpPr txBox="1"/>
                <p:nvPr/>
              </p:nvSpPr>
              <p:spPr>
                <a:xfrm>
                  <a:off x="2819520" y="4560480"/>
                  <a:ext cx="57132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18" name=""/>
            <p:cNvSpPr/>
            <p:nvPr/>
          </p:nvSpPr>
          <p:spPr>
            <a:xfrm>
              <a:off x="2895480" y="3581280"/>
              <a:ext cx="30492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9" name="geaux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2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06560" y="197640"/>
            <a:ext cx="2512440" cy="36828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EARNING BY DO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0" y="1219320"/>
          <a:ext cx="4494240" cy="17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4494240" cy="17254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76320" y="357120"/>
          <a:ext cx="7924680" cy="78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357120"/>
                    <a:ext cx="792468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7" name=""/>
          <p:cNvGrpSpPr/>
          <p:nvPr/>
        </p:nvGrpSpPr>
        <p:grpSpPr>
          <a:xfrm>
            <a:off x="0" y="2819520"/>
            <a:ext cx="4495680" cy="1969920"/>
            <a:chOff x="0" y="2819520"/>
            <a:chExt cx="4495680" cy="1969920"/>
          </a:xfrm>
        </p:grpSpPr>
        <p:graphicFrame>
          <p:nvGraphicFramePr>
            <p:cNvPr id="328" name=""/>
            <p:cNvGraphicFramePr/>
            <p:nvPr/>
          </p:nvGraphicFramePr>
          <p:xfrm>
            <a:off x="0" y="2971800"/>
            <a:ext cx="4495680" cy="1817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2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2971800"/>
                      <a:ext cx="4495680" cy="18176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136440" y="2819520"/>
                  <a:ext cx="17398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ODEL FOR 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676520" y="3657600"/>
                <a:ext cx="965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29520" y="4799880"/>
            <a:ext cx="4569840" cy="6426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T IS SIMPLER TO DETERMINE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OR CAPACITOR VOL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437920" y="3429000"/>
            <a:ext cx="1448280" cy="457200"/>
            <a:chOff x="2437920" y="3429000"/>
            <a:chExt cx="1448280" cy="457200"/>
          </a:xfrm>
        </p:grpSpPr>
        <p:sp>
          <p:nvSpPr>
            <p:cNvPr id="334" name=""/>
            <p:cNvSpPr/>
            <p:nvPr/>
          </p:nvSpPr>
          <p:spPr>
            <a:xfrm flipH="1">
              <a:off x="2437920" y="3429000"/>
              <a:ext cx="6858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24080" y="35053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52680" y="3429000"/>
              <a:ext cx="5335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4537080" y="1295280"/>
            <a:ext cx="4606920" cy="1905120"/>
            <a:chOff x="4537080" y="1295280"/>
            <a:chExt cx="4606920" cy="1905120"/>
          </a:xfrm>
        </p:grpSpPr>
        <p:graphicFrame>
          <p:nvGraphicFramePr>
            <p:cNvPr id="338" name=""/>
            <p:cNvGraphicFramePr/>
            <p:nvPr/>
          </p:nvGraphicFramePr>
          <p:xfrm>
            <a:off x="4537080" y="1549440"/>
            <a:ext cx="4606920" cy="165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3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37080" y="1549440"/>
                      <a:ext cx="4606920" cy="165096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40" name=""/>
                <p:cNvSpPr txBox="1"/>
                <p:nvPr/>
              </p:nvSpPr>
              <p:spPr>
                <a:xfrm>
                  <a:off x="5070600" y="1295280"/>
                  <a:ext cx="37465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IRCUIT IN STEADY STATE FOR t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1" name=""/>
          <p:cNvSpPr/>
          <p:nvPr/>
        </p:nvSpPr>
        <p:spPr>
          <a:xfrm>
            <a:off x="4578840" y="883440"/>
            <a:ext cx="264960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ITIAL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4876920" y="3200400"/>
                <a:ext cx="3860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V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43" name=""/>
          <p:cNvGrpSpPr/>
          <p:nvPr/>
        </p:nvGrpSpPr>
        <p:grpSpPr>
          <a:xfrm>
            <a:off x="228600" y="5499000"/>
            <a:ext cx="3898800" cy="1282680"/>
            <a:chOff x="228600" y="5499000"/>
            <a:chExt cx="3898800" cy="1282680"/>
          </a:xfrm>
        </p:grpSpPr>
        <mc:AlternateContent>
          <mc:Choice xmlns:a14="http://schemas.microsoft.com/office/drawing/2010/main" Requires="a14">
            <p:sp>
              <p:nvSpPr>
                <p:cNvPr id="344" name=""/>
                <p:cNvSpPr txBox="1"/>
                <p:nvPr/>
              </p:nvSpPr>
              <p:spPr>
                <a:xfrm>
                  <a:off x="228600" y="5499000"/>
                  <a:ext cx="3517920" cy="12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C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;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C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5" name=""/>
                <p:cNvSpPr txBox="1"/>
                <p:nvPr/>
              </p:nvSpPr>
              <p:spPr>
                <a:xfrm>
                  <a:off x="2286000" y="6019920"/>
                  <a:ext cx="1841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k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6</m:t>
                      </m:r>
                      <m:r>
                        <m:t xml:space="preserve">k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6" name=""/>
          <p:cNvGrpSpPr/>
          <p:nvPr/>
        </p:nvGrpSpPr>
        <p:grpSpPr>
          <a:xfrm>
            <a:off x="4706640" y="3855240"/>
            <a:ext cx="4310280" cy="677160"/>
            <a:chOff x="4706640" y="3855240"/>
            <a:chExt cx="4310280" cy="677160"/>
          </a:xfrm>
        </p:grpSpPr>
        <mc:AlternateContent>
          <mc:Choice xmlns:a14="http://schemas.microsoft.com/office/drawing/2010/main" Requires="a14">
            <p:sp>
              <p:nvSpPr>
                <p:cNvPr id="347" name=""/>
                <p:cNvSpPr txBox="1"/>
                <p:nvPr/>
              </p:nvSpPr>
              <p:spPr>
                <a:xfrm>
                  <a:off x="5181480" y="4191120"/>
                  <a:ext cx="383544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sup>
                      </m:sSup>
                      <m:r>
                        <m:t xml:space="preserve">F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8" name=""/>
            <p:cNvSpPr/>
            <p:nvPr/>
          </p:nvSpPr>
          <p:spPr>
            <a:xfrm>
              <a:off x="4706640" y="3855240"/>
              <a:ext cx="1003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728960" y="4617360"/>
            <a:ext cx="2357640" cy="368280"/>
            <a:chOff x="4728960" y="4617360"/>
            <a:chExt cx="2357640" cy="368280"/>
          </a:xfrm>
        </p:grpSpPr>
        <p:sp>
          <p:nvSpPr>
            <p:cNvPr id="350" name=""/>
            <p:cNvSpPr/>
            <p:nvPr/>
          </p:nvSpPr>
          <p:spPr>
            <a:xfrm>
              <a:off x="4728960" y="4617360"/>
              <a:ext cx="1003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1" name=""/>
                <p:cNvSpPr txBox="1"/>
                <p:nvPr/>
              </p:nvSpPr>
              <p:spPr>
                <a:xfrm>
                  <a:off x="5791320" y="4648320"/>
                  <a:ext cx="1295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2" name=""/>
          <p:cNvGrpSpPr/>
          <p:nvPr/>
        </p:nvGrpSpPr>
        <p:grpSpPr>
          <a:xfrm>
            <a:off x="4728960" y="5104800"/>
            <a:ext cx="4275360" cy="368280"/>
            <a:chOff x="4728960" y="5104800"/>
            <a:chExt cx="4275360" cy="368280"/>
          </a:xfrm>
        </p:grpSpPr>
        <p:sp>
          <p:nvSpPr>
            <p:cNvPr id="353" name=""/>
            <p:cNvSpPr/>
            <p:nvPr/>
          </p:nvSpPr>
          <p:spPr>
            <a:xfrm>
              <a:off x="4728960" y="5104800"/>
              <a:ext cx="1003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4" name=""/>
                <p:cNvSpPr txBox="1"/>
                <p:nvPr/>
              </p:nvSpPr>
              <p:spPr>
                <a:xfrm>
                  <a:off x="5867280" y="5105520"/>
                  <a:ext cx="3137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V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6013440" y="5511960"/>
                <a:ext cx="19940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5257800" y="6095880"/>
                <a:ext cx="27432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1219320" y="0"/>
                <a:ext cx="21333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8" name=""/>
          <p:cNvGrpSpPr/>
          <p:nvPr/>
        </p:nvGrpSpPr>
        <p:grpSpPr>
          <a:xfrm>
            <a:off x="0" y="609480"/>
            <a:ext cx="7924680" cy="228600"/>
            <a:chOff x="0" y="609480"/>
            <a:chExt cx="7924680" cy="228600"/>
          </a:xfrm>
        </p:grpSpPr>
        <p:sp>
          <p:nvSpPr>
            <p:cNvPr id="359" name=""/>
            <p:cNvSpPr/>
            <p:nvPr/>
          </p:nvSpPr>
          <p:spPr>
            <a:xfrm>
              <a:off x="0" y="838080"/>
              <a:ext cx="21337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410080" y="609480"/>
              <a:ext cx="2514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1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4" name=""/>
          <p:cNvGraphicFramePr/>
          <p:nvPr/>
        </p:nvGraphicFramePr>
        <p:xfrm>
          <a:off x="228600" y="609480"/>
          <a:ext cx="4038480" cy="352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09480"/>
                    <a:ext cx="4038480" cy="35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6" name=""/>
          <p:cNvGrpSpPr/>
          <p:nvPr/>
        </p:nvGrpSpPr>
        <p:grpSpPr>
          <a:xfrm>
            <a:off x="152280" y="5105520"/>
            <a:ext cx="3505320" cy="1636560"/>
            <a:chOff x="152280" y="5105520"/>
            <a:chExt cx="3505320" cy="1636560"/>
          </a:xfrm>
        </p:grpSpPr>
        <mc:AlternateContent>
          <mc:Choice xmlns:a14="http://schemas.microsoft.com/office/drawing/2010/main" Requires="a14">
            <p:sp>
              <p:nvSpPr>
                <p:cNvPr id="367" name=""/>
                <p:cNvSpPr txBox="1"/>
                <p:nvPr/>
              </p:nvSpPr>
              <p:spPr>
                <a:xfrm>
                  <a:off x="152280" y="6183360"/>
                  <a:ext cx="218448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8" name=""/>
            <p:cNvSpPr/>
            <p:nvPr/>
          </p:nvSpPr>
          <p:spPr>
            <a:xfrm>
              <a:off x="1905120" y="5105520"/>
              <a:ext cx="1752480" cy="3808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152280" y="5002200"/>
            <a:ext cx="3353040" cy="1181160"/>
            <a:chOff x="152280" y="5002200"/>
            <a:chExt cx="3353040" cy="1181160"/>
          </a:xfrm>
        </p:grpSpPr>
        <mc:AlternateContent>
          <mc:Choice xmlns:a14="http://schemas.microsoft.com/office/drawing/2010/main" Requires="a14">
            <p:sp>
              <p:nvSpPr>
                <p:cNvPr id="370" name=""/>
                <p:cNvSpPr txBox="1"/>
                <p:nvPr/>
              </p:nvSpPr>
              <p:spPr>
                <a:xfrm>
                  <a:off x="152280" y="5002200"/>
                  <a:ext cx="198144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2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e>
                        <m:e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t xml:space="preserve">[</m:t>
                          </m:r>
                          <m:r>
                            <m:t xml:space="preserve">A</m:t>
                          </m:r>
                          <m:r>
                            <m:t xml:space="preserve">]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1" name=""/>
                <p:cNvSpPr txBox="1"/>
                <p:nvPr/>
              </p:nvSpPr>
              <p:spPr>
                <a:xfrm>
                  <a:off x="2006640" y="5116320"/>
                  <a:ext cx="1498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2387520" y="457200"/>
                <a:ext cx="165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3" name=""/>
          <p:cNvGrpSpPr/>
          <p:nvPr/>
        </p:nvGrpSpPr>
        <p:grpSpPr>
          <a:xfrm>
            <a:off x="792000" y="1236600"/>
            <a:ext cx="1908360" cy="2573280"/>
            <a:chOff x="792000" y="1236600"/>
            <a:chExt cx="1908360" cy="2573280"/>
          </a:xfrm>
        </p:grpSpPr>
        <p:sp>
          <p:nvSpPr>
            <p:cNvPr id="374" name=""/>
            <p:cNvSpPr/>
            <p:nvPr/>
          </p:nvSpPr>
          <p:spPr>
            <a:xfrm>
              <a:off x="792000" y="1236600"/>
              <a:ext cx="1908360" cy="2573280"/>
            </a:xfrm>
            <a:custGeom>
              <a:avLst/>
              <a:gdLst/>
              <a:ahLst/>
              <a:rect l="l" t="t" r="r" b="b"/>
              <a:pathLst>
                <a:path w="1202" h="1621">
                  <a:moveTo>
                    <a:pt x="0" y="1613"/>
                  </a:moveTo>
                  <a:cubicBezTo>
                    <a:pt x="9" y="1492"/>
                    <a:pt x="33" y="1375"/>
                    <a:pt x="46" y="1254"/>
                  </a:cubicBezTo>
                  <a:cubicBezTo>
                    <a:pt x="54" y="73"/>
                    <a:pt x="54" y="491"/>
                    <a:pt x="54" y="0"/>
                  </a:cubicBezTo>
                  <a:cubicBezTo>
                    <a:pt x="336" y="27"/>
                    <a:pt x="285" y="24"/>
                    <a:pt x="693" y="31"/>
                  </a:cubicBezTo>
                  <a:cubicBezTo>
                    <a:pt x="763" y="34"/>
                    <a:pt x="834" y="34"/>
                    <a:pt x="904" y="39"/>
                  </a:cubicBezTo>
                  <a:cubicBezTo>
                    <a:pt x="943" y="42"/>
                    <a:pt x="982" y="50"/>
                    <a:pt x="1021" y="54"/>
                  </a:cubicBezTo>
                  <a:cubicBezTo>
                    <a:pt x="1047" y="57"/>
                    <a:pt x="1098" y="62"/>
                    <a:pt x="1098" y="62"/>
                  </a:cubicBezTo>
                  <a:cubicBezTo>
                    <a:pt x="1114" y="195"/>
                    <a:pt x="1128" y="327"/>
                    <a:pt x="1145" y="460"/>
                  </a:cubicBezTo>
                  <a:cubicBezTo>
                    <a:pt x="1151" y="560"/>
                    <a:pt x="1161" y="657"/>
                    <a:pt x="1169" y="756"/>
                  </a:cubicBezTo>
                  <a:cubicBezTo>
                    <a:pt x="1166" y="1002"/>
                    <a:pt x="1202" y="1284"/>
                    <a:pt x="1137" y="1535"/>
                  </a:cubicBezTo>
                  <a:cubicBezTo>
                    <a:pt x="1129" y="1605"/>
                    <a:pt x="1130" y="1576"/>
                    <a:pt x="1130" y="1621"/>
                  </a:cubicBezTo>
                  <a:cubicBezTo>
                    <a:pt x="784" y="1621"/>
                    <a:pt x="439" y="1621"/>
                    <a:pt x="93" y="162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26280" y="1953000"/>
              <a:ext cx="1278000" cy="368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KVL(t&gt;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6" name=""/>
                <p:cNvSpPr txBox="1"/>
                <p:nvPr/>
              </p:nvSpPr>
              <p:spPr>
                <a:xfrm>
                  <a:off x="990720" y="1344240"/>
                  <a:ext cx="3682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139680" y="4114800"/>
                <a:ext cx="28321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 FOR  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USE KV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152280" y="4405320"/>
                <a:ext cx="3225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9" name=""/>
          <p:cNvGrpSpPr/>
          <p:nvPr/>
        </p:nvGrpSpPr>
        <p:grpSpPr>
          <a:xfrm>
            <a:off x="76320" y="6183360"/>
            <a:ext cx="4186440" cy="489600"/>
            <a:chOff x="76320" y="6183360"/>
            <a:chExt cx="4186440" cy="489600"/>
          </a:xfrm>
        </p:grpSpPr>
        <p:grpSp>
          <p:nvGrpSpPr>
            <p:cNvPr id="380" name=""/>
            <p:cNvGrpSpPr/>
            <p:nvPr/>
          </p:nvGrpSpPr>
          <p:grpSpPr>
            <a:xfrm>
              <a:off x="76320" y="6183360"/>
              <a:ext cx="3048120" cy="457200"/>
              <a:chOff x="76320" y="6183360"/>
              <a:chExt cx="3048120" cy="457200"/>
            </a:xfrm>
          </p:grpSpPr>
          <mc:AlternateContent>
            <mc:Choice xmlns:a14="http://schemas.microsoft.com/office/drawing/2010/main" Requires="a14">
              <p:sp>
                <p:nvSpPr>
                  <p:cNvPr id="381" name=""/>
                  <p:cNvSpPr txBox="1"/>
                  <p:nvPr/>
                </p:nvSpPr>
                <p:spPr>
                  <a:xfrm>
                    <a:off x="2286000" y="6335640"/>
                    <a:ext cx="8384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τ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82" name=""/>
              <p:cNvSpPr/>
              <p:nvPr/>
            </p:nvSpPr>
            <p:spPr>
              <a:xfrm>
                <a:off x="76320" y="6183360"/>
                <a:ext cx="457200" cy="457200"/>
              </a:xfrm>
              <a:prstGeom prst="rect">
                <a:avLst/>
              </a:prstGeom>
              <a:noFill/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3259080" y="6304680"/>
              <a:ext cx="1003680" cy="36828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4565520" y="746280"/>
                <a:ext cx="22989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5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1960" y="11880"/>
            <a:ext cx="2375280" cy="36828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221720" y="1386720"/>
            <a:ext cx="4844160" cy="64260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2: FIND K1 USING STEAD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4876920" y="2117880"/>
                <a:ext cx="3403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1" name=""/>
          <p:cNvGrpSpPr/>
          <p:nvPr/>
        </p:nvGrpSpPr>
        <p:grpSpPr>
          <a:xfrm>
            <a:off x="4032360" y="988920"/>
            <a:ext cx="2444760" cy="2028960"/>
            <a:chOff x="4032360" y="988920"/>
            <a:chExt cx="2444760" cy="2028960"/>
          </a:xfrm>
        </p:grpSpPr>
        <p:sp>
          <p:nvSpPr>
            <p:cNvPr id="392" name=""/>
            <p:cNvSpPr/>
            <p:nvPr/>
          </p:nvSpPr>
          <p:spPr>
            <a:xfrm>
              <a:off x="4032360" y="988920"/>
              <a:ext cx="1373040" cy="1854360"/>
            </a:xfrm>
            <a:custGeom>
              <a:avLst/>
              <a:gdLst/>
              <a:ahLst/>
              <a:rect l="l" t="t" r="r" b="b"/>
              <a:pathLst>
                <a:path w="865" h="1168">
                  <a:moveTo>
                    <a:pt x="312" y="16"/>
                  </a:moveTo>
                  <a:cubicBezTo>
                    <a:pt x="266" y="0"/>
                    <a:pt x="230" y="21"/>
                    <a:pt x="187" y="39"/>
                  </a:cubicBezTo>
                  <a:cubicBezTo>
                    <a:pt x="166" y="65"/>
                    <a:pt x="143" y="89"/>
                    <a:pt x="125" y="117"/>
                  </a:cubicBezTo>
                  <a:cubicBezTo>
                    <a:pt x="105" y="148"/>
                    <a:pt x="99" y="187"/>
                    <a:pt x="78" y="219"/>
                  </a:cubicBezTo>
                  <a:cubicBezTo>
                    <a:pt x="57" y="287"/>
                    <a:pt x="30" y="351"/>
                    <a:pt x="16" y="421"/>
                  </a:cubicBezTo>
                  <a:cubicBezTo>
                    <a:pt x="11" y="511"/>
                    <a:pt x="0" y="718"/>
                    <a:pt x="0" y="795"/>
                  </a:cubicBezTo>
                  <a:cubicBezTo>
                    <a:pt x="0" y="852"/>
                    <a:pt x="4" y="910"/>
                    <a:pt x="8" y="967"/>
                  </a:cubicBezTo>
                  <a:cubicBezTo>
                    <a:pt x="16" y="1086"/>
                    <a:pt x="92" y="1086"/>
                    <a:pt x="195" y="1099"/>
                  </a:cubicBezTo>
                  <a:cubicBezTo>
                    <a:pt x="252" y="1118"/>
                    <a:pt x="238" y="1117"/>
                    <a:pt x="304" y="1123"/>
                  </a:cubicBezTo>
                  <a:cubicBezTo>
                    <a:pt x="369" y="1129"/>
                    <a:pt x="499" y="1138"/>
                    <a:pt x="499" y="1138"/>
                  </a:cubicBezTo>
                  <a:cubicBezTo>
                    <a:pt x="615" y="1168"/>
                    <a:pt x="746" y="1162"/>
                    <a:pt x="865" y="1162"/>
                  </a:cubicBezTo>
                </a:path>
              </a:pathLst>
            </a:custGeom>
            <a:noFill/>
            <a:ln w="255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3" name=""/>
                <p:cNvSpPr txBox="1"/>
                <p:nvPr/>
              </p:nvSpPr>
              <p:spPr>
                <a:xfrm>
                  <a:off x="5410080" y="2727360"/>
                  <a:ext cx="1067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6705720" y="3094200"/>
                <a:ext cx="990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5" name=""/>
          <p:cNvSpPr/>
          <p:nvPr/>
        </p:nvSpPr>
        <p:spPr>
          <a:xfrm>
            <a:off x="3904560" y="4465440"/>
            <a:ext cx="4981320" cy="119124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OR THE INITIAL CONDITION ONE NE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INDUCTOR CURRENT FOR t&lt;0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S THE CONTINUITY OF THE IND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URRENT DURING THE SWITCHING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809880" y="3550680"/>
            <a:ext cx="5257800" cy="642600"/>
            <a:chOff x="3809880" y="3550680"/>
            <a:chExt cx="5257800" cy="642600"/>
          </a:xfrm>
        </p:grpSpPr>
        <p:sp>
          <p:nvSpPr>
            <p:cNvPr id="397" name=""/>
            <p:cNvSpPr/>
            <p:nvPr/>
          </p:nvSpPr>
          <p:spPr>
            <a:xfrm>
              <a:off x="3809880" y="3550680"/>
              <a:ext cx="5257800" cy="642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NEXT STEP REQUIRES THE INIT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VALUE OF THE VARIABLE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8" name=""/>
                <p:cNvSpPr txBox="1"/>
                <p:nvPr/>
              </p:nvSpPr>
              <p:spPr>
                <a:xfrm>
                  <a:off x="7162920" y="3855960"/>
                  <a:ext cx="68580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9" name=""/>
          <p:cNvSpPr/>
          <p:nvPr/>
        </p:nvSpPr>
        <p:spPr>
          <a:xfrm>
            <a:off x="4069440" y="5669640"/>
            <a:ext cx="4981320" cy="64260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STEADY STATE ASSUMPTION FOR t&l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IMPLIFIES TH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6483240" y="12600"/>
                <a:ext cx="26164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"/>
          <p:cNvGrpSpPr/>
          <p:nvPr/>
        </p:nvGrpSpPr>
        <p:grpSpPr>
          <a:xfrm>
            <a:off x="-9360" y="442800"/>
            <a:ext cx="4038480" cy="3524040"/>
            <a:chOff x="-9360" y="442800"/>
            <a:chExt cx="4038480" cy="3524040"/>
          </a:xfrm>
        </p:grpSpPr>
        <p:graphicFrame>
          <p:nvGraphicFramePr>
            <p:cNvPr id="402" name=""/>
            <p:cNvGraphicFramePr/>
            <p:nvPr/>
          </p:nvGraphicFramePr>
          <p:xfrm>
            <a:off x="-9360" y="442800"/>
            <a:ext cx="4038480" cy="3524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9360" y="442800"/>
                      <a:ext cx="4038480" cy="352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4" name=""/>
            <p:cNvSpPr/>
            <p:nvPr/>
          </p:nvSpPr>
          <p:spPr>
            <a:xfrm>
              <a:off x="1590840" y="747360"/>
              <a:ext cx="9144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5" name=""/>
                <p:cNvSpPr txBox="1"/>
                <p:nvPr/>
              </p:nvSpPr>
              <p:spPr>
                <a:xfrm rot="10800000">
                  <a:off x="1667160" y="1204200"/>
                  <a:ext cx="45720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06" name=""/>
          <p:cNvGraphicFramePr/>
          <p:nvPr/>
        </p:nvGraphicFramePr>
        <p:xfrm>
          <a:off x="3886200" y="2971800"/>
          <a:ext cx="2871720" cy="274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2971800"/>
                    <a:ext cx="2871720" cy="27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3886200" y="39600"/>
          <a:ext cx="3124080" cy="285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6200" y="39600"/>
                    <a:ext cx="3124080" cy="28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"/>
          <p:cNvSpPr/>
          <p:nvPr/>
        </p:nvSpPr>
        <p:spPr>
          <a:xfrm>
            <a:off x="14400" y="4419360"/>
            <a:ext cx="388404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OR EXAMPLE USE THEVEN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SSUMING INDUCTOR IN ST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7010280" y="685800"/>
                <a:ext cx="1536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6934320" y="1066680"/>
                <a:ext cx="1574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3" name=""/>
          <p:cNvGrpSpPr/>
          <p:nvPr/>
        </p:nvGrpSpPr>
        <p:grpSpPr>
          <a:xfrm>
            <a:off x="4648320" y="762120"/>
            <a:ext cx="685800" cy="1676160"/>
            <a:chOff x="4648320" y="762120"/>
            <a:chExt cx="685800" cy="1676160"/>
          </a:xfrm>
        </p:grpSpPr>
        <p:sp>
          <p:nvSpPr>
            <p:cNvPr id="414" name=""/>
            <p:cNvSpPr/>
            <p:nvPr/>
          </p:nvSpPr>
          <p:spPr>
            <a:xfrm>
              <a:off x="4648320" y="762120"/>
              <a:ext cx="685800" cy="1676160"/>
            </a:xfrm>
            <a:custGeom>
              <a:avLst/>
              <a:gdLst/>
              <a:ahLst/>
              <a:rect l="l" t="t" r="r" b="b"/>
              <a:pathLst>
                <a:path w="432" h="1056">
                  <a:moveTo>
                    <a:pt x="0" y="1056"/>
                  </a:moveTo>
                  <a:lnTo>
                    <a:pt x="48" y="0"/>
                  </a:lnTo>
                  <a:lnTo>
                    <a:pt x="432" y="0"/>
                  </a:lnTo>
                  <a:lnTo>
                    <a:pt x="432" y="1056"/>
                  </a:lnTo>
                  <a:lnTo>
                    <a:pt x="144" y="1056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5" name=""/>
                <p:cNvSpPr txBox="1"/>
                <p:nvPr/>
              </p:nvSpPr>
              <p:spPr>
                <a:xfrm>
                  <a:off x="4800960" y="91440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16" name=""/>
            <p:cNvSpPr/>
            <p:nvPr/>
          </p:nvSpPr>
          <p:spPr>
            <a:xfrm>
              <a:off x="4738680" y="1493280"/>
              <a:ext cx="59220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948280" y="609480"/>
            <a:ext cx="838440" cy="1904760"/>
            <a:chOff x="5948280" y="609480"/>
            <a:chExt cx="838440" cy="1904760"/>
          </a:xfrm>
        </p:grpSpPr>
        <p:sp>
          <p:nvSpPr>
            <p:cNvPr id="418" name=""/>
            <p:cNvSpPr/>
            <p:nvPr/>
          </p:nvSpPr>
          <p:spPr>
            <a:xfrm>
              <a:off x="5948280" y="609480"/>
              <a:ext cx="838440" cy="1904760"/>
            </a:xfrm>
            <a:custGeom>
              <a:avLst/>
              <a:gdLst/>
              <a:ahLst/>
              <a:rect l="l" t="t" r="r" b="b"/>
              <a:pathLst>
                <a:path w="528" h="1200">
                  <a:moveTo>
                    <a:pt x="432" y="0"/>
                  </a:moveTo>
                  <a:lnTo>
                    <a:pt x="0" y="0"/>
                  </a:lnTo>
                  <a:lnTo>
                    <a:pt x="48" y="1200"/>
                  </a:lnTo>
                  <a:lnTo>
                    <a:pt x="528" y="1200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40440" y="1873800"/>
              <a:ext cx="59220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6648480" y="1828800"/>
                <a:ext cx="2489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7238880" y="1371600"/>
                <a:ext cx="862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6858000" y="3505320"/>
                <a:ext cx="2031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762120" y="5410080"/>
                <a:ext cx="22986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6400800" y="4114800"/>
                <a:ext cx="2527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3733920" y="5715000"/>
                <a:ext cx="1981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26" name="geaux" descr=""/>
          <p:cNvPicPr/>
          <p:nvPr/>
        </p:nvPicPr>
        <p:blipFill>
          <a:blip r:embed="rId7"/>
          <a:stretch/>
        </p:blipFill>
        <p:spPr>
          <a:xfrm>
            <a:off x="7805880" y="6486480"/>
            <a:ext cx="731520" cy="366840"/>
          </a:xfrm>
          <a:prstGeom prst="rect">
            <a:avLst/>
          </a:prstGeom>
          <a:ln w="0">
            <a:noFill/>
          </a:ln>
        </p:spPr>
      </p:pic>
      <p:sp>
        <p:nvSpPr>
          <p:cNvPr id="427" name="">
            <a:hlinkClick r:id="" action="ppaction://hlinkshowjump?jump=nextslide"/>
          </p:cNvPr>
          <p:cNvSpPr/>
          <p:nvPr/>
        </p:nvSpPr>
        <p:spPr>
          <a:xfrm>
            <a:off x="405756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>
            <a:hlinkClick r:id="" action="ppaction://hlinkshowjump?jump=previousslide"/>
          </p:cNvPr>
          <p:cNvSpPr/>
          <p:nvPr/>
        </p:nvSpPr>
        <p:spPr>
          <a:xfrm>
            <a:off x="35244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457200"/>
            <a:ext cx="302760" cy="3505320"/>
            <a:chOff x="2057400" y="457200"/>
            <a:chExt cx="302760" cy="3505320"/>
          </a:xfrm>
        </p:grpSpPr>
        <p:sp>
          <p:nvSpPr>
            <p:cNvPr id="430" name=""/>
            <p:cNvSpPr/>
            <p:nvPr/>
          </p:nvSpPr>
          <p:spPr>
            <a:xfrm>
              <a:off x="2057400" y="685800"/>
              <a:ext cx="152280" cy="15264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057400" y="3810240"/>
              <a:ext cx="152280" cy="15228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2" name=""/>
                <p:cNvSpPr txBox="1"/>
                <p:nvPr/>
              </p:nvSpPr>
              <p:spPr>
                <a:xfrm>
                  <a:off x="2057400" y="457200"/>
                  <a:ext cx="163440" cy="1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3" name=""/>
                <p:cNvSpPr txBox="1"/>
                <p:nvPr/>
              </p:nvSpPr>
              <p:spPr>
                <a:xfrm>
                  <a:off x="2209680" y="3581640"/>
                  <a:ext cx="1504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6400800" y="5486400"/>
                <a:ext cx="2565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5" name=""/>
          <p:cNvSpPr/>
          <p:nvPr/>
        </p:nvSpPr>
        <p:spPr>
          <a:xfrm>
            <a:off x="158400" y="3960"/>
            <a:ext cx="4158360" cy="3682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IRCUIT IN STEADY STATE (t&lt;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1986120" y="750600"/>
            <a:ext cx="582480" cy="930600"/>
            <a:chOff x="1986120" y="750600"/>
            <a:chExt cx="582480" cy="930600"/>
          </a:xfrm>
        </p:grpSpPr>
        <mc:AlternateContent>
          <mc:Choice xmlns:a14="http://schemas.microsoft.com/office/drawing/2010/main" Requires="a14">
            <p:sp>
              <p:nvSpPr>
                <p:cNvPr id="437" name=""/>
                <p:cNvSpPr txBox="1"/>
                <p:nvPr/>
              </p:nvSpPr>
              <p:spPr>
                <a:xfrm rot="10800000">
                  <a:off x="1986120" y="750600"/>
                  <a:ext cx="58248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8" name=""/>
            <p:cNvSpPr/>
            <p:nvPr/>
          </p:nvSpPr>
          <p:spPr>
            <a:xfrm>
              <a:off x="2505240" y="842760"/>
              <a:ext cx="0" cy="838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57200" y="4038480"/>
                <a:ext cx="1816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UST  FIND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6095880" y="4724280"/>
                <a:ext cx="29973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1" name=""/>
          <p:cNvGraphicFramePr/>
          <p:nvPr/>
        </p:nvGraphicFramePr>
        <p:xfrm>
          <a:off x="0" y="457200"/>
          <a:ext cx="6629400" cy="21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6629400" cy="21319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2743200" y="166680"/>
                <a:ext cx="165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3809880" y="1828800"/>
                <a:ext cx="214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3962520" y="1143000"/>
                <a:ext cx="25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4419720" y="152388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380880" y="2655720"/>
                <a:ext cx="28321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 FOR  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USE KCL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48" name=""/>
          <p:cNvGrpSpPr/>
          <p:nvPr/>
        </p:nvGrpSpPr>
        <p:grpSpPr>
          <a:xfrm>
            <a:off x="3429000" y="1143000"/>
            <a:ext cx="457200" cy="457200"/>
            <a:chOff x="3429000" y="1143000"/>
            <a:chExt cx="457200" cy="457200"/>
          </a:xfrm>
        </p:grpSpPr>
        <p:sp>
          <p:nvSpPr>
            <p:cNvPr id="449" name=""/>
            <p:cNvSpPr/>
            <p:nvPr/>
          </p:nvSpPr>
          <p:spPr>
            <a:xfrm>
              <a:off x="3429000" y="121932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505320" y="114300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152280" y="2971800"/>
                <a:ext cx="4876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2" name=""/>
          <p:cNvGrpSpPr/>
          <p:nvPr/>
        </p:nvGrpSpPr>
        <p:grpSpPr>
          <a:xfrm>
            <a:off x="64800" y="3580560"/>
            <a:ext cx="5497920" cy="372240"/>
            <a:chOff x="64800" y="3580560"/>
            <a:chExt cx="5497920" cy="372240"/>
          </a:xfrm>
        </p:grpSpPr>
        <mc:AlternateContent>
          <mc:Choice xmlns:a14="http://schemas.microsoft.com/office/drawing/2010/main" Requires="a14">
            <p:sp>
              <p:nvSpPr>
                <p:cNvPr id="453" name=""/>
                <p:cNvSpPr txBox="1"/>
                <p:nvPr/>
              </p:nvSpPr>
              <p:spPr>
                <a:xfrm>
                  <a:off x="1155600" y="3611520"/>
                  <a:ext cx="44071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6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sup>
                      </m:sSup>
                      <m:r>
                        <m:t xml:space="preserve">F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54" name=""/>
            <p:cNvSpPr/>
            <p:nvPr/>
          </p:nvSpPr>
          <p:spPr>
            <a:xfrm>
              <a:off x="64800" y="3580560"/>
              <a:ext cx="1003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5181480" y="2971800"/>
                <a:ext cx="2578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6" name=""/>
          <p:cNvGrpSpPr/>
          <p:nvPr/>
        </p:nvGrpSpPr>
        <p:grpSpPr>
          <a:xfrm>
            <a:off x="64800" y="4051440"/>
            <a:ext cx="3376800" cy="520560"/>
            <a:chOff x="64800" y="4051440"/>
            <a:chExt cx="3376800" cy="520560"/>
          </a:xfrm>
        </p:grpSpPr>
        <p:sp>
          <p:nvSpPr>
            <p:cNvPr id="457" name=""/>
            <p:cNvSpPr/>
            <p:nvPr/>
          </p:nvSpPr>
          <p:spPr>
            <a:xfrm>
              <a:off x="64800" y="4083840"/>
              <a:ext cx="1003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8" name=""/>
                <p:cNvSpPr txBox="1"/>
                <p:nvPr/>
              </p:nvSpPr>
              <p:spPr>
                <a:xfrm>
                  <a:off x="1143000" y="4051440"/>
                  <a:ext cx="229860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</m:sup>
                      </m:sSup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9" name=""/>
          <p:cNvGrpSpPr/>
          <p:nvPr/>
        </p:nvGrpSpPr>
        <p:grpSpPr>
          <a:xfrm>
            <a:off x="1828800" y="2971800"/>
            <a:ext cx="3276720" cy="1676520"/>
            <a:chOff x="1828800" y="2971800"/>
            <a:chExt cx="3276720" cy="1676520"/>
          </a:xfrm>
        </p:grpSpPr>
        <p:sp>
          <p:nvSpPr>
            <p:cNvPr id="460" name=""/>
            <p:cNvSpPr/>
            <p:nvPr/>
          </p:nvSpPr>
          <p:spPr>
            <a:xfrm>
              <a:off x="1828800" y="4114800"/>
              <a:ext cx="304920" cy="533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76920" y="2971800"/>
              <a:ext cx="228600" cy="609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3581280" y="4205160"/>
                <a:ext cx="621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63" name=""/>
          <p:cNvGraphicFramePr/>
          <p:nvPr/>
        </p:nvGraphicFramePr>
        <p:xfrm>
          <a:off x="0" y="5105520"/>
          <a:ext cx="5668920" cy="161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105520"/>
                    <a:ext cx="5668920" cy="161604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65" name=""/>
          <p:cNvSpPr/>
          <p:nvPr/>
        </p:nvSpPr>
        <p:spPr>
          <a:xfrm>
            <a:off x="24120" y="4723560"/>
            <a:ext cx="66272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ITIAL CONDITIONS. CIRCUIT IN STEADY STATE t&l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2438280" y="5562720"/>
                <a:ext cx="6858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3124080" y="5715000"/>
                <a:ext cx="914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68" name=""/>
          <p:cNvGrpSpPr/>
          <p:nvPr/>
        </p:nvGrpSpPr>
        <p:grpSpPr>
          <a:xfrm>
            <a:off x="5727600" y="4799880"/>
            <a:ext cx="3200400" cy="672120"/>
            <a:chOff x="5727600" y="4799880"/>
            <a:chExt cx="3200400" cy="672120"/>
          </a:xfrm>
        </p:grpSpPr>
        <mc:AlternateContent>
          <mc:Choice xmlns:a14="http://schemas.microsoft.com/office/drawing/2010/main" Requires="a14">
            <p:sp>
              <p:nvSpPr>
                <p:cNvPr id="469" name=""/>
                <p:cNvSpPr txBox="1"/>
                <p:nvPr/>
              </p:nvSpPr>
              <p:spPr>
                <a:xfrm>
                  <a:off x="5727600" y="5181480"/>
                  <a:ext cx="3200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70" name=""/>
            <p:cNvSpPr/>
            <p:nvPr/>
          </p:nvSpPr>
          <p:spPr>
            <a:xfrm>
              <a:off x="7303680" y="4799880"/>
              <a:ext cx="1003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6330960" y="5575320"/>
                <a:ext cx="21081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6172200" y="3581280"/>
                <a:ext cx="21463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73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9640" y="88200"/>
            <a:ext cx="26085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6629400" y="2590920"/>
                <a:ext cx="1828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8" name=""/>
          <p:cNvSpPr/>
          <p:nvPr/>
        </p:nvSpPr>
        <p:spPr>
          <a:xfrm>
            <a:off x="1076400" y="2995560"/>
            <a:ext cx="2589120" cy="993960"/>
          </a:xfrm>
          <a:custGeom>
            <a:avLst/>
            <a:gdLst/>
            <a:ahLst/>
            <a:rect l="l" t="t" r="r" b="b"/>
            <a:pathLst>
              <a:path w="1631" h="626">
                <a:moveTo>
                  <a:pt x="943" y="233"/>
                </a:moveTo>
                <a:cubicBezTo>
                  <a:pt x="1041" y="246"/>
                  <a:pt x="1132" y="271"/>
                  <a:pt x="1231" y="279"/>
                </a:cubicBezTo>
                <a:cubicBezTo>
                  <a:pt x="1345" y="277"/>
                  <a:pt x="1460" y="276"/>
                  <a:pt x="1574" y="272"/>
                </a:cubicBezTo>
                <a:cubicBezTo>
                  <a:pt x="1590" y="271"/>
                  <a:pt x="1614" y="278"/>
                  <a:pt x="1621" y="264"/>
                </a:cubicBezTo>
                <a:cubicBezTo>
                  <a:pt x="1631" y="244"/>
                  <a:pt x="1602" y="204"/>
                  <a:pt x="1590" y="186"/>
                </a:cubicBezTo>
                <a:cubicBezTo>
                  <a:pt x="1586" y="147"/>
                  <a:pt x="1596" y="102"/>
                  <a:pt x="1574" y="69"/>
                </a:cubicBezTo>
                <a:cubicBezTo>
                  <a:pt x="1570" y="62"/>
                  <a:pt x="1558" y="65"/>
                  <a:pt x="1551" y="61"/>
                </a:cubicBezTo>
                <a:cubicBezTo>
                  <a:pt x="1514" y="43"/>
                  <a:pt x="1501" y="37"/>
                  <a:pt x="1457" y="30"/>
                </a:cubicBezTo>
                <a:cubicBezTo>
                  <a:pt x="1412" y="14"/>
                  <a:pt x="1384" y="12"/>
                  <a:pt x="1332" y="7"/>
                </a:cubicBezTo>
                <a:cubicBezTo>
                  <a:pt x="1317" y="8"/>
                  <a:pt x="1119" y="0"/>
                  <a:pt x="1052" y="30"/>
                </a:cubicBezTo>
                <a:cubicBezTo>
                  <a:pt x="976" y="64"/>
                  <a:pt x="962" y="89"/>
                  <a:pt x="904" y="147"/>
                </a:cubicBezTo>
                <a:cubicBezTo>
                  <a:pt x="850" y="201"/>
                  <a:pt x="879" y="225"/>
                  <a:pt x="787" y="241"/>
                </a:cubicBezTo>
                <a:cubicBezTo>
                  <a:pt x="725" y="271"/>
                  <a:pt x="781" y="248"/>
                  <a:pt x="670" y="264"/>
                </a:cubicBezTo>
                <a:cubicBezTo>
                  <a:pt x="588" y="275"/>
                  <a:pt x="519" y="289"/>
                  <a:pt x="436" y="295"/>
                </a:cubicBezTo>
                <a:cubicBezTo>
                  <a:pt x="358" y="311"/>
                  <a:pt x="282" y="318"/>
                  <a:pt x="203" y="326"/>
                </a:cubicBezTo>
                <a:cubicBezTo>
                  <a:pt x="134" y="349"/>
                  <a:pt x="153" y="383"/>
                  <a:pt x="109" y="428"/>
                </a:cubicBezTo>
                <a:cubicBezTo>
                  <a:pt x="92" y="476"/>
                  <a:pt x="73" y="488"/>
                  <a:pt x="23" y="498"/>
                </a:cubicBezTo>
                <a:cubicBezTo>
                  <a:pt x="18" y="506"/>
                  <a:pt x="9" y="512"/>
                  <a:pt x="8" y="521"/>
                </a:cubicBezTo>
                <a:cubicBezTo>
                  <a:pt x="0" y="626"/>
                  <a:pt x="21" y="591"/>
                  <a:pt x="117" y="583"/>
                </a:cubicBezTo>
                <a:cubicBezTo>
                  <a:pt x="120" y="573"/>
                  <a:pt x="125" y="552"/>
                  <a:pt x="125" y="552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4902120" y="-12600"/>
                <a:ext cx="27050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0" name=""/>
          <p:cNvGraphicFramePr/>
          <p:nvPr/>
        </p:nvGraphicFramePr>
        <p:xfrm>
          <a:off x="76320" y="380880"/>
          <a:ext cx="4130640" cy="336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80880"/>
                    <a:ext cx="4130640" cy="33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2666880" y="90360"/>
                <a:ext cx="1587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152280" y="3733920"/>
                <a:ext cx="275616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 FOR 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USE KV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101520" y="4038480"/>
                <a:ext cx="1879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3809880" y="3048120"/>
                <a:ext cx="19080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1981080" y="4038480"/>
                <a:ext cx="16639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4952880" y="0"/>
                <a:ext cx="260352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141120" y="4693680"/>
            <a:ext cx="10036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219320" y="3962520"/>
            <a:ext cx="914400" cy="1168200"/>
            <a:chOff x="1219320" y="3962520"/>
            <a:chExt cx="914400" cy="1168200"/>
          </a:xfrm>
        </p:grpSpPr>
        <mc:AlternateContent>
          <mc:Choice xmlns:a14="http://schemas.microsoft.com/office/drawing/2010/main" Requires="a14">
            <p:sp>
              <p:nvSpPr>
                <p:cNvPr id="490" name=""/>
                <p:cNvSpPr txBox="1"/>
                <p:nvPr/>
              </p:nvSpPr>
              <p:spPr>
                <a:xfrm>
                  <a:off x="1219320" y="4572000"/>
                  <a:ext cx="6332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1" name=""/>
            <p:cNvSpPr/>
            <p:nvPr/>
          </p:nvSpPr>
          <p:spPr>
            <a:xfrm>
              <a:off x="1905120" y="3962520"/>
              <a:ext cx="228600" cy="6858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156960" y="5303160"/>
            <a:ext cx="10036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523880" y="4038480"/>
            <a:ext cx="2133720" cy="1586160"/>
            <a:chOff x="1523880" y="4038480"/>
            <a:chExt cx="2133720" cy="1586160"/>
          </a:xfrm>
        </p:grpSpPr>
        <mc:AlternateContent>
          <mc:Choice xmlns:a14="http://schemas.microsoft.com/office/drawing/2010/main" Requires="a14">
            <p:sp>
              <p:nvSpPr>
                <p:cNvPr id="494" name=""/>
                <p:cNvSpPr txBox="1"/>
                <p:nvPr/>
              </p:nvSpPr>
              <p:spPr>
                <a:xfrm>
                  <a:off x="1523880" y="5334120"/>
                  <a:ext cx="621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5" name=""/>
            <p:cNvSpPr/>
            <p:nvPr/>
          </p:nvSpPr>
          <p:spPr>
            <a:xfrm>
              <a:off x="3429000" y="4038480"/>
              <a:ext cx="228600" cy="457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97920" y="5758560"/>
            <a:ext cx="4569840" cy="6426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OR INITIAL CONDITIONS ONE NE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DUCTOR CURRENT FOR t&l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4724280" y="887040"/>
            <a:ext cx="3657600" cy="3281760"/>
            <a:chOff x="4724280" y="887040"/>
            <a:chExt cx="3657600" cy="3281760"/>
          </a:xfrm>
        </p:grpSpPr>
        <p:grpSp>
          <p:nvGrpSpPr>
            <p:cNvPr id="498" name=""/>
            <p:cNvGrpSpPr/>
            <p:nvPr/>
          </p:nvGrpSpPr>
          <p:grpSpPr>
            <a:xfrm>
              <a:off x="4724280" y="1192320"/>
              <a:ext cx="3657600" cy="2976480"/>
              <a:chOff x="4724280" y="1192320"/>
              <a:chExt cx="3657600" cy="2976480"/>
            </a:xfrm>
          </p:grpSpPr>
          <p:graphicFrame>
            <p:nvGraphicFramePr>
              <p:cNvPr id="499" name=""/>
              <p:cNvGraphicFramePr/>
              <p:nvPr/>
            </p:nvGraphicFramePr>
            <p:xfrm>
              <a:off x="4724280" y="1192320"/>
              <a:ext cx="3657600" cy="29764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0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724280" y="1192320"/>
                        <a:ext cx="3657600" cy="2976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01" name=""/>
              <p:cNvSpPr/>
              <p:nvPr/>
            </p:nvSpPr>
            <p:spPr>
              <a:xfrm>
                <a:off x="7848720" y="2944800"/>
                <a:ext cx="0" cy="685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02" name=""/>
                <p:cNvSpPr txBox="1"/>
                <p:nvPr/>
              </p:nvSpPr>
              <p:spPr>
                <a:xfrm>
                  <a:off x="7010280" y="1801800"/>
                  <a:ext cx="582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−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3" name=""/>
            <p:cNvSpPr/>
            <p:nvPr/>
          </p:nvSpPr>
          <p:spPr>
            <a:xfrm>
              <a:off x="4813200" y="887040"/>
              <a:ext cx="3335400" cy="642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CIRCUIT IN STEADY S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PRIOR TO SWITCH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6400800" y="4087800"/>
                <a:ext cx="1689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5" name=""/>
          <p:cNvSpPr/>
          <p:nvPr/>
        </p:nvSpPr>
        <p:spPr>
          <a:xfrm>
            <a:off x="4706640" y="4895280"/>
            <a:ext cx="10036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4702320" y="5307120"/>
                <a:ext cx="3517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4702320" y="5688000"/>
                <a:ext cx="350496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9</m:t>
                            </m:r>
                          </m:den>
                        </m:f>
                      </m:sup>
                    </m:sSup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08" name=""/>
          <p:cNvGrpSpPr/>
          <p:nvPr/>
        </p:nvGrpSpPr>
        <p:grpSpPr>
          <a:xfrm>
            <a:off x="2743200" y="1063800"/>
            <a:ext cx="645840" cy="2403360"/>
            <a:chOff x="2743200" y="1063800"/>
            <a:chExt cx="645840" cy="2403360"/>
          </a:xfrm>
        </p:grpSpPr>
        <p:grpSp>
          <p:nvGrpSpPr>
            <p:cNvPr id="509" name=""/>
            <p:cNvGrpSpPr/>
            <p:nvPr/>
          </p:nvGrpSpPr>
          <p:grpSpPr>
            <a:xfrm>
              <a:off x="2743200" y="1063800"/>
              <a:ext cx="446040" cy="2403360"/>
              <a:chOff x="2743200" y="1063800"/>
              <a:chExt cx="446040" cy="2403360"/>
            </a:xfrm>
          </p:grpSpPr>
          <p:sp>
            <p:nvSpPr>
              <p:cNvPr id="510" name=""/>
              <p:cNvSpPr/>
              <p:nvPr/>
            </p:nvSpPr>
            <p:spPr>
              <a:xfrm>
                <a:off x="2743200" y="1063800"/>
                <a:ext cx="444600" cy="2403360"/>
              </a:xfrm>
              <a:custGeom>
                <a:avLst/>
                <a:gdLst/>
                <a:ahLst/>
                <a:rect l="l" t="t" r="r" b="b"/>
                <a:pathLst>
                  <a:path w="280" h="1514">
                    <a:moveTo>
                      <a:pt x="0" y="1348"/>
                    </a:moveTo>
                    <a:cubicBezTo>
                      <a:pt x="0" y="899"/>
                      <a:pt x="0" y="449"/>
                      <a:pt x="0" y="0"/>
                    </a:cubicBezTo>
                    <a:cubicBezTo>
                      <a:pt x="93" y="3"/>
                      <a:pt x="280" y="8"/>
                      <a:pt x="280" y="8"/>
                    </a:cubicBezTo>
                    <a:cubicBezTo>
                      <a:pt x="268" y="466"/>
                      <a:pt x="238" y="922"/>
                      <a:pt x="218" y="1380"/>
                    </a:cubicBezTo>
                    <a:cubicBezTo>
                      <a:pt x="221" y="1421"/>
                      <a:pt x="250" y="1470"/>
                      <a:pt x="226" y="1504"/>
                    </a:cubicBezTo>
                    <a:cubicBezTo>
                      <a:pt x="219" y="1514"/>
                      <a:pt x="88" y="1512"/>
                      <a:pt x="62" y="1512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11" name=""/>
                  <p:cNvSpPr txBox="1"/>
                  <p:nvPr/>
                </p:nvSpPr>
                <p:spPr>
                  <a:xfrm>
                    <a:off x="2770200" y="1219320"/>
                    <a:ext cx="419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12" name=""/>
                <p:cNvSpPr txBox="1"/>
                <p:nvPr/>
              </p:nvSpPr>
              <p:spPr>
                <a:xfrm>
                  <a:off x="3124080" y="25909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13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0080" y="-720"/>
            <a:ext cx="26496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EARNING EX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29160" y="0"/>
            <a:ext cx="48898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ING THEVENIN TO OBTAIN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7320" y="425520"/>
            <a:ext cx="566712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btain the voltage across the capaci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r the current through the ind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152280" y="1189080"/>
          <a:ext cx="3087720" cy="22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89080"/>
                    <a:ext cx="308772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"/>
          <p:cNvSpPr/>
          <p:nvPr/>
        </p:nvSpPr>
        <p:spPr>
          <a:xfrm>
            <a:off x="3429000" y="1905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12280" y="2286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ven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5105520" y="1447920"/>
          <a:ext cx="2895480" cy="171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1447920"/>
                    <a:ext cx="2895480" cy="17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"/>
          <p:cNvGraphicFramePr/>
          <p:nvPr/>
        </p:nvGraphicFramePr>
        <p:xfrm>
          <a:off x="73080" y="3402000"/>
          <a:ext cx="2670120" cy="216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080" y="3402000"/>
                    <a:ext cx="267012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4495680" y="3460680"/>
          <a:ext cx="2641680" cy="210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3460680"/>
                    <a:ext cx="2641680" cy="21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2369160" y="3546360"/>
            <a:ext cx="16894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KCL@ nod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1066320" y="3809880"/>
            <a:ext cx="840240" cy="489240"/>
            <a:chOff x="1066320" y="3809880"/>
            <a:chExt cx="840240" cy="489240"/>
          </a:xfrm>
        </p:grpSpPr>
        <p:sp>
          <p:nvSpPr>
            <p:cNvPr id="531" name=""/>
            <p:cNvSpPr/>
            <p:nvPr/>
          </p:nvSpPr>
          <p:spPr>
            <a:xfrm>
              <a:off x="1600200" y="388620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1066320" y="3962520"/>
              <a:ext cx="3812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3" name=""/>
                <p:cNvSpPr txBox="1"/>
                <p:nvPr/>
              </p:nvSpPr>
              <p:spPr>
                <a:xfrm>
                  <a:off x="1676520" y="3809880"/>
                  <a:ext cx="230040" cy="4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4" name=""/>
                <p:cNvSpPr txBox="1"/>
                <p:nvPr/>
              </p:nvSpPr>
              <p:spPr>
                <a:xfrm>
                  <a:off x="1143000" y="3886200"/>
                  <a:ext cx="29052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2666880" y="3809880"/>
                <a:ext cx="106704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2666880" y="4191120"/>
                <a:ext cx="121932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2666880" y="4884840"/>
                <a:ext cx="144792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2219400" y="5619600"/>
                <a:ext cx="23526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22320" y="6111720"/>
                <a:ext cx="23065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0" name=""/>
          <p:cNvSpPr/>
          <p:nvPr/>
        </p:nvSpPr>
        <p:spPr>
          <a:xfrm>
            <a:off x="7075800" y="3470400"/>
            <a:ext cx="11408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KV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486400" y="3886200"/>
            <a:ext cx="1289160" cy="971640"/>
            <a:chOff x="5486400" y="3886200"/>
            <a:chExt cx="1289160" cy="971640"/>
          </a:xfrm>
        </p:grpSpPr>
        <mc:AlternateContent>
          <mc:Choice xmlns:a14="http://schemas.microsoft.com/office/drawing/2010/main" Requires="a14">
            <p:sp>
              <p:nvSpPr>
                <p:cNvPr id="542" name=""/>
                <p:cNvSpPr txBox="1"/>
                <p:nvPr/>
              </p:nvSpPr>
              <p:spPr>
                <a:xfrm>
                  <a:off x="5486400" y="3886200"/>
                  <a:ext cx="68580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3" name=""/>
                <p:cNvSpPr txBox="1"/>
                <p:nvPr/>
              </p:nvSpPr>
              <p:spPr>
                <a:xfrm>
                  <a:off x="6477120" y="3962520"/>
                  <a:ext cx="29844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7470720" y="3733920"/>
                <a:ext cx="1441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7467480" y="4114800"/>
                <a:ext cx="12448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7467480" y="4495680"/>
                <a:ext cx="121932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6962760" y="5257800"/>
                <a:ext cx="21812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5021280" y="5969160"/>
                <a:ext cx="26748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d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7640640" y="6134040"/>
                <a:ext cx="4366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550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5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54080" y="41400"/>
            <a:ext cx="114084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76320" y="466560"/>
          <a:ext cx="3581280" cy="31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66560"/>
                    <a:ext cx="3581280" cy="31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6" name=""/>
          <p:cNvSpPr/>
          <p:nvPr/>
        </p:nvSpPr>
        <p:spPr>
          <a:xfrm>
            <a:off x="165600" y="3470400"/>
            <a:ext cx="4432680" cy="6426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variable of interest is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ductor current. The model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228600" y="4114800"/>
                <a:ext cx="236232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8" name=""/>
          <p:cNvSpPr/>
          <p:nvPr/>
        </p:nvSpPr>
        <p:spPr>
          <a:xfrm>
            <a:off x="105480" y="5070600"/>
            <a:ext cx="4432680" cy="3682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nd the solution is of the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762120" y="5486400"/>
                <a:ext cx="28954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60" name=""/>
          <p:cNvGraphicFramePr/>
          <p:nvPr/>
        </p:nvGraphicFramePr>
        <p:xfrm>
          <a:off x="4595760" y="44280"/>
          <a:ext cx="3532320" cy="285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5760" y="44280"/>
                    <a:ext cx="3532320" cy="28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4800600" y="2935440"/>
                <a:ext cx="80640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5638680" y="2971800"/>
                <a:ext cx="2635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6095880" y="2971800"/>
                <a:ext cx="76212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6858000" y="2971800"/>
                <a:ext cx="17524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4800600" y="3581280"/>
                <a:ext cx="243828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5181480" y="4419720"/>
                <a:ext cx="243864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5029200" y="5183280"/>
                <a:ext cx="358128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6095880" y="5934240"/>
                <a:ext cx="236232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70" name=""/>
          <p:cNvGrpSpPr/>
          <p:nvPr/>
        </p:nvGrpSpPr>
        <p:grpSpPr>
          <a:xfrm>
            <a:off x="4648320" y="4419720"/>
            <a:ext cx="2286000" cy="2209680"/>
            <a:chOff x="4648320" y="4419720"/>
            <a:chExt cx="2286000" cy="2209680"/>
          </a:xfrm>
        </p:grpSpPr>
        <mc:AlternateContent>
          <mc:Choice xmlns:a14="http://schemas.microsoft.com/office/drawing/2010/main" Requires="a14">
            <p:sp>
              <p:nvSpPr>
                <p:cNvPr id="571" name=""/>
                <p:cNvSpPr txBox="1"/>
                <p:nvPr/>
              </p:nvSpPr>
              <p:spPr>
                <a:xfrm>
                  <a:off x="4670280" y="6095880"/>
                  <a:ext cx="1327320" cy="45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72" name=""/>
            <p:cNvSpPr/>
            <p:nvPr/>
          </p:nvSpPr>
          <p:spPr>
            <a:xfrm>
              <a:off x="6705720" y="4419720"/>
              <a:ext cx="228600" cy="7617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648320" y="6019920"/>
              <a:ext cx="137160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4" name="geaux" descr=""/>
          <p:cNvPicPr/>
          <p:nvPr/>
        </p:nvPicPr>
        <p:blipFill>
          <a:blip r:embed="rId5">
            <a:alphaModFix amt="50000"/>
          </a:blip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7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8200" y="6490440"/>
            <a:ext cx="333540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ext: Initial 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80440" y="304920"/>
            <a:ext cx="8608320" cy="946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CONVENTIONAL ANALYSIS USING MATHEMATICAL MODELS REQUIRES THE DETERMIN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(A SET OF) EQUATIONS THAT REPRESENT THE CIRCU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NCE THE MODEL IS OBTAINED ANALYSIS REQUIRES THE SOLUTION OF THE EQUATIONS F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CASES REQUIR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240" y="1219320"/>
            <a:ext cx="839520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OR EXAMPLE IN NODE OR LOOP ANALYSIS OF RESISTIVE CIRCUITS ONE REPRESENTS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IRCUIT BY A SET OF ALGEBRAIC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7240" y="3156120"/>
            <a:ext cx="828828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HEN THERE ARE INDUCTORS OR CAPACITORS THE MODELS BECOME LINEAR ORDINA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IFFERENTIAL EQUATIONS (ODEs). HENCE, IN GENERAL, ONE NEEDS ALL THOSE TOO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ORDER TO BE ABLE TO ANALYZE CIRCUITS WITH ENERGY STORING ELEM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85880" y="-11160"/>
            <a:ext cx="74959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NALYSIS OF LINEAR CIRCUITS WITH INDUCTORS AND/OR CAPAC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4840" y="4556160"/>
            <a:ext cx="8715240" cy="1585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GENERAL APPROACH CAN BE SIMPLIFIED IN SOME SPECIAL CASES WHEN THE 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THE SOLUTION CAN BE KNOWN BEFOREHAN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ANALYSIS IN THESE CASES BECOMES A SIMPLE MATTER OF DETERMINING S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ARAMETE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WO SUCH CASES WILL BE DISCUSSED IN DETAIL FOR THE CASE OF CONSTANT SOURC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NE THAT ASSUMES THE AVAILABILITY OF THE DIFFERENTIAL EQUATION AND A SECO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AT IS ENTIRELY BASED ON ELEMENTARY CIRCUIT ANALYSIS… BUT IT IS NORMALLY LON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63040" y="3946680"/>
            <a:ext cx="80751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METHOD BASED ON THEVENIN WILL BE DEVELOPED TO DERIVE MATHEMATICAL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OR ANY ARBITRARY LINEAR CIRCUIT WITH ONE ENERGY STORING ELE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720" y="6324480"/>
            <a:ext cx="850176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E WILL ALSO DISCUSS THE PERFORMANCE OF LINEAR CIRCUITS TO OTHER SIMPLE INP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04920" y="1752480"/>
            <a:ext cx="7332480" cy="1470240"/>
            <a:chOff x="304920" y="1752480"/>
            <a:chExt cx="7332480" cy="1470240"/>
          </a:xfrm>
        </p:grpSpPr>
        <p:graphicFrame>
          <p:nvGraphicFramePr>
            <p:cNvPr id="58" name=""/>
            <p:cNvGraphicFramePr/>
            <p:nvPr/>
          </p:nvGraphicFramePr>
          <p:xfrm>
            <a:off x="304920" y="1752480"/>
            <a:ext cx="3276360" cy="1470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4920" y="1752480"/>
                      <a:ext cx="3276360" cy="14702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grpSp>
          <p:nvGrpSpPr>
            <p:cNvPr id="60" name=""/>
            <p:cNvGrpSpPr/>
            <p:nvPr/>
          </p:nvGrpSpPr>
          <p:grpSpPr>
            <a:xfrm>
              <a:off x="3754080" y="1981080"/>
              <a:ext cx="3883320" cy="771480"/>
              <a:chOff x="3754080" y="1981080"/>
              <a:chExt cx="3883320" cy="771480"/>
            </a:xfrm>
          </p:grpSpPr>
          <p:graphicFrame>
            <p:nvGraphicFramePr>
              <p:cNvPr id="61" name=""/>
              <p:cNvGraphicFramePr/>
              <p:nvPr/>
            </p:nvGraphicFramePr>
            <p:xfrm>
              <a:off x="4740120" y="1981080"/>
              <a:ext cx="2897280" cy="77148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62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4740120" y="1981080"/>
                        <a:ext cx="2897280" cy="771480"/>
                      </a:xfrm>
                      <a:prstGeom prst="rect">
                        <a:avLst/>
                      </a:prstGeom>
                      <a:ln w="25560">
                        <a:solidFill>
                          <a:srgbClr val="99ccff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63" name=""/>
              <p:cNvSpPr/>
              <p:nvPr/>
            </p:nvSpPr>
            <p:spPr>
              <a:xfrm>
                <a:off x="3754080" y="1981080"/>
                <a:ext cx="1140840" cy="307080"/>
              </a:xfrm>
              <a:prstGeom prst="rect">
                <a:avLst/>
              </a:prstGeom>
              <a:solidFill>
                <a:srgbClr val="ccecff"/>
              </a:solidFill>
              <a:ln w="255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Console"/>
                  </a:rPr>
                  <a:t>THE MODE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8" name=""/>
          <p:cNvGraphicFramePr/>
          <p:nvPr/>
        </p:nvGraphicFramePr>
        <p:xfrm>
          <a:off x="0" y="3657600"/>
          <a:ext cx="443880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657600"/>
                    <a:ext cx="443880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0" name=""/>
          <p:cNvGrpSpPr/>
          <p:nvPr/>
        </p:nvGrpSpPr>
        <p:grpSpPr>
          <a:xfrm>
            <a:off x="4890960" y="3962520"/>
            <a:ext cx="3746880" cy="996840"/>
            <a:chOff x="4890960" y="3962520"/>
            <a:chExt cx="3746880" cy="996840"/>
          </a:xfrm>
        </p:grpSpPr>
        <p:sp>
          <p:nvSpPr>
            <p:cNvPr id="581" name=""/>
            <p:cNvSpPr/>
            <p:nvPr/>
          </p:nvSpPr>
          <p:spPr>
            <a:xfrm>
              <a:off x="4890960" y="3962520"/>
              <a:ext cx="37468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ince K1=0 the solution 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2" name=""/>
                <p:cNvSpPr txBox="1"/>
                <p:nvPr/>
              </p:nvSpPr>
              <p:spPr>
                <a:xfrm>
                  <a:off x="5562720" y="4343400"/>
                  <a:ext cx="2457360" cy="61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den>
                          </m:f>
                        </m:sup>
                      </m:sSup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3" name=""/>
          <p:cNvGrpSpPr/>
          <p:nvPr/>
        </p:nvGrpSpPr>
        <p:grpSpPr>
          <a:xfrm>
            <a:off x="5124240" y="4876920"/>
            <a:ext cx="3333960" cy="658800"/>
            <a:chOff x="5124240" y="4876920"/>
            <a:chExt cx="3333960" cy="658800"/>
          </a:xfrm>
        </p:grpSpPr>
        <p:sp>
          <p:nvSpPr>
            <p:cNvPr id="584" name=""/>
            <p:cNvSpPr/>
            <p:nvPr/>
          </p:nvSpPr>
          <p:spPr>
            <a:xfrm>
              <a:off x="5124240" y="5029200"/>
              <a:ext cx="23752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Evaluating at 0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5" name=""/>
                <p:cNvSpPr txBox="1"/>
                <p:nvPr/>
              </p:nvSpPr>
              <p:spPr>
                <a:xfrm>
                  <a:off x="7580160" y="4876920"/>
                  <a:ext cx="87804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5505480" y="5502240"/>
                <a:ext cx="283536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87" name=""/>
          <p:cNvGraphicFramePr/>
          <p:nvPr/>
        </p:nvGraphicFramePr>
        <p:xfrm>
          <a:off x="0" y="838080"/>
          <a:ext cx="3581280" cy="267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838080"/>
                    <a:ext cx="3581280" cy="26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9" name=""/>
          <p:cNvGrpSpPr/>
          <p:nvPr/>
        </p:nvGrpSpPr>
        <p:grpSpPr>
          <a:xfrm>
            <a:off x="838080" y="4267080"/>
            <a:ext cx="990720" cy="799920"/>
            <a:chOff x="838080" y="4267080"/>
            <a:chExt cx="990720" cy="799920"/>
          </a:xfrm>
        </p:grpSpPr>
        <p:sp>
          <p:nvSpPr>
            <p:cNvPr id="590" name=""/>
            <p:cNvSpPr/>
            <p:nvPr/>
          </p:nvSpPr>
          <p:spPr>
            <a:xfrm>
              <a:off x="838080" y="4267080"/>
              <a:ext cx="990720" cy="799920"/>
            </a:xfrm>
            <a:custGeom>
              <a:avLst/>
              <a:gdLst/>
              <a:ahLst/>
              <a:rect l="l" t="t" r="r" b="b"/>
              <a:pathLst>
                <a:path w="624" h="504">
                  <a:moveTo>
                    <a:pt x="80" y="408"/>
                  </a:moveTo>
                  <a:cubicBezTo>
                    <a:pt x="40" y="268"/>
                    <a:pt x="0" y="128"/>
                    <a:pt x="80" y="72"/>
                  </a:cubicBezTo>
                  <a:cubicBezTo>
                    <a:pt x="160" y="16"/>
                    <a:pt x="496" y="0"/>
                    <a:pt x="560" y="72"/>
                  </a:cubicBezTo>
                  <a:cubicBezTo>
                    <a:pt x="624" y="144"/>
                    <a:pt x="480" y="432"/>
                    <a:pt x="464" y="504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1" name=""/>
                <p:cNvSpPr txBox="1"/>
                <p:nvPr/>
              </p:nvSpPr>
              <p:spPr>
                <a:xfrm>
                  <a:off x="1249200" y="4381200"/>
                  <a:ext cx="14436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2" name=""/>
          <p:cNvGrpSpPr/>
          <p:nvPr/>
        </p:nvGrpSpPr>
        <p:grpSpPr>
          <a:xfrm>
            <a:off x="914400" y="5334120"/>
            <a:ext cx="901800" cy="888840"/>
            <a:chOff x="914400" y="5334120"/>
            <a:chExt cx="901800" cy="888840"/>
          </a:xfrm>
        </p:grpSpPr>
        <p:sp>
          <p:nvSpPr>
            <p:cNvPr id="593" name=""/>
            <p:cNvSpPr/>
            <p:nvPr/>
          </p:nvSpPr>
          <p:spPr>
            <a:xfrm>
              <a:off x="914400" y="5334120"/>
              <a:ext cx="901800" cy="888840"/>
            </a:xfrm>
            <a:custGeom>
              <a:avLst/>
              <a:gdLst/>
              <a:ahLst/>
              <a:rect l="l" t="t" r="r" b="b"/>
              <a:pathLst>
                <a:path w="568" h="560">
                  <a:moveTo>
                    <a:pt x="72" y="560"/>
                  </a:moveTo>
                  <a:cubicBezTo>
                    <a:pt x="36" y="360"/>
                    <a:pt x="0" y="160"/>
                    <a:pt x="72" y="80"/>
                  </a:cubicBezTo>
                  <a:cubicBezTo>
                    <a:pt x="144" y="0"/>
                    <a:pt x="440" y="8"/>
                    <a:pt x="504" y="80"/>
                  </a:cubicBezTo>
                  <a:cubicBezTo>
                    <a:pt x="568" y="152"/>
                    <a:pt x="512" y="332"/>
                    <a:pt x="456" y="512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4" name=""/>
                <p:cNvSpPr txBox="1"/>
                <p:nvPr/>
              </p:nvSpPr>
              <p:spPr>
                <a:xfrm>
                  <a:off x="1333800" y="5461200"/>
                  <a:ext cx="203040" cy="34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5" name=""/>
          <p:cNvGrpSpPr/>
          <p:nvPr/>
        </p:nvGrpSpPr>
        <p:grpSpPr>
          <a:xfrm>
            <a:off x="1981080" y="4038480"/>
            <a:ext cx="901440" cy="2108160"/>
            <a:chOff x="1981080" y="4038480"/>
            <a:chExt cx="901440" cy="2108160"/>
          </a:xfrm>
        </p:grpSpPr>
        <p:sp>
          <p:nvSpPr>
            <p:cNvPr id="596" name=""/>
            <p:cNvSpPr/>
            <p:nvPr/>
          </p:nvSpPr>
          <p:spPr>
            <a:xfrm>
              <a:off x="1981080" y="4038480"/>
              <a:ext cx="901440" cy="2108160"/>
            </a:xfrm>
            <a:custGeom>
              <a:avLst/>
              <a:gdLst/>
              <a:ahLst/>
              <a:rect l="l" t="t" r="r" b="b"/>
              <a:pathLst>
                <a:path w="568" h="1328">
                  <a:moveTo>
                    <a:pt x="112" y="1328"/>
                  </a:moveTo>
                  <a:cubicBezTo>
                    <a:pt x="56" y="840"/>
                    <a:pt x="0" y="352"/>
                    <a:pt x="64" y="176"/>
                  </a:cubicBezTo>
                  <a:cubicBezTo>
                    <a:pt x="128" y="0"/>
                    <a:pt x="424" y="88"/>
                    <a:pt x="496" y="272"/>
                  </a:cubicBezTo>
                  <a:cubicBezTo>
                    <a:pt x="568" y="456"/>
                    <a:pt x="532" y="868"/>
                    <a:pt x="496" y="128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7" name=""/>
                <p:cNvSpPr txBox="1"/>
                <p:nvPr/>
              </p:nvSpPr>
              <p:spPr>
                <a:xfrm>
                  <a:off x="2463480" y="5079960"/>
                  <a:ext cx="222480" cy="42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4191120" y="152280"/>
                <a:ext cx="2743200" cy="3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4191120" y="533520"/>
                <a:ext cx="2971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4191120" y="838080"/>
                <a:ext cx="266688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7620120" y="609480"/>
                <a:ext cx="10540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5334120" y="1905120"/>
                <a:ext cx="297180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olution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79200" y="0"/>
                <a:ext cx="34261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termine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Use steady stat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ssumption and continuity 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ductor curren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04" name=""/>
          <p:cNvGrpSpPr/>
          <p:nvPr/>
        </p:nvGrpSpPr>
        <p:grpSpPr>
          <a:xfrm>
            <a:off x="762120" y="4952880"/>
            <a:ext cx="2286000" cy="1371600"/>
            <a:chOff x="762120" y="4952880"/>
            <a:chExt cx="2286000" cy="1371600"/>
          </a:xfrm>
        </p:grpSpPr>
        <p:sp>
          <p:nvSpPr>
            <p:cNvPr id="605" name=""/>
            <p:cNvSpPr/>
            <p:nvPr/>
          </p:nvSpPr>
          <p:spPr>
            <a:xfrm>
              <a:off x="762120" y="5105520"/>
              <a:ext cx="152280" cy="228600"/>
            </a:xfrm>
            <a:prstGeom prst="ellipse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895480" y="6095880"/>
              <a:ext cx="152640" cy="228600"/>
            </a:xfrm>
            <a:prstGeom prst="ellipse">
              <a:avLst/>
            </a:prstGeom>
            <a:solidFill>
              <a:srgbClr val="993366"/>
            </a:solidFill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7" name=""/>
            <p:cNvGrpSpPr/>
            <p:nvPr/>
          </p:nvGrpSpPr>
          <p:grpSpPr>
            <a:xfrm>
              <a:off x="1828800" y="4952880"/>
              <a:ext cx="353880" cy="381240"/>
              <a:chOff x="1828800" y="4952880"/>
              <a:chExt cx="353880" cy="381240"/>
            </a:xfrm>
          </p:grpSpPr>
          <p:sp>
            <p:nvSpPr>
              <p:cNvPr id="608" name=""/>
              <p:cNvSpPr/>
              <p:nvPr/>
            </p:nvSpPr>
            <p:spPr>
              <a:xfrm>
                <a:off x="1828800" y="5105520"/>
                <a:ext cx="152280" cy="228600"/>
              </a:xfrm>
              <a:prstGeom prst="ellipse">
                <a:avLst/>
              </a:prstGeom>
              <a:solidFill>
                <a:srgbClr val="ccffcc"/>
              </a:solidFill>
              <a:ln w="255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09" name=""/>
                  <p:cNvSpPr txBox="1"/>
                  <p:nvPr/>
                </p:nvSpPr>
                <p:spPr>
                  <a:xfrm>
                    <a:off x="1981080" y="495288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4191120" y="1295280"/>
                <a:ext cx="26413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11" name=""/>
          <p:cNvGrpSpPr/>
          <p:nvPr/>
        </p:nvGrpSpPr>
        <p:grpSpPr>
          <a:xfrm>
            <a:off x="914400" y="4038480"/>
            <a:ext cx="3670200" cy="1930680"/>
            <a:chOff x="914400" y="4038480"/>
            <a:chExt cx="3670200" cy="1930680"/>
          </a:xfrm>
        </p:grpSpPr>
        <mc:AlternateContent>
          <mc:Choice xmlns:a14="http://schemas.microsoft.com/office/drawing/2010/main" Requires="a14">
            <p:sp>
              <p:nvSpPr>
                <p:cNvPr id="612" name=""/>
                <p:cNvSpPr txBox="1"/>
                <p:nvPr/>
              </p:nvSpPr>
              <p:spPr>
                <a:xfrm>
                  <a:off x="3048120" y="5410080"/>
                  <a:ext cx="153648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13" name=""/>
            <p:cNvSpPr/>
            <p:nvPr/>
          </p:nvSpPr>
          <p:spPr>
            <a:xfrm>
              <a:off x="914400" y="4038480"/>
              <a:ext cx="838080" cy="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1828800" y="4191120"/>
              <a:ext cx="0" cy="91440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7110360" y="197640"/>
            <a:ext cx="196380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oop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934320" y="1385280"/>
            <a:ext cx="19796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od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1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0" name=""/>
          <p:cNvGraphicFramePr/>
          <p:nvPr/>
        </p:nvGraphicFramePr>
        <p:xfrm>
          <a:off x="-76320" y="76320"/>
          <a:ext cx="4953240" cy="23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76320"/>
                    <a:ext cx="495324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2" name=""/>
          <p:cNvSpPr/>
          <p:nvPr/>
        </p:nvSpPr>
        <p:spPr>
          <a:xfrm>
            <a:off x="154080" y="41400"/>
            <a:ext cx="114084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2203560" y="1143000"/>
                <a:ext cx="7682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24" name=""/>
          <p:cNvGrpSpPr/>
          <p:nvPr/>
        </p:nvGrpSpPr>
        <p:grpSpPr>
          <a:xfrm>
            <a:off x="228600" y="2286000"/>
            <a:ext cx="4433040" cy="1404720"/>
            <a:chOff x="228600" y="2286000"/>
            <a:chExt cx="4433040" cy="1404720"/>
          </a:xfrm>
        </p:grpSpPr>
        <mc:AlternateContent>
          <mc:Choice xmlns:a14="http://schemas.microsoft.com/office/drawing/2010/main" Requires="a14">
            <p:sp>
              <p:nvSpPr>
                <p:cNvPr id="625" name=""/>
                <p:cNvSpPr txBox="1"/>
                <p:nvPr/>
              </p:nvSpPr>
              <p:spPr>
                <a:xfrm>
                  <a:off x="228600" y="2286000"/>
                  <a:ext cx="246384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or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6k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26" name=""/>
            <p:cNvSpPr/>
            <p:nvPr/>
          </p:nvSpPr>
          <p:spPr>
            <a:xfrm>
              <a:off x="228960" y="3048120"/>
              <a:ext cx="4432680" cy="642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Hence, if the capacitor volt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is known the problem is solv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234720" y="3699000"/>
            <a:ext cx="2584800" cy="1212840"/>
            <a:chOff x="234720" y="3699000"/>
            <a:chExt cx="2584800" cy="1212840"/>
          </a:xfrm>
        </p:grpSpPr>
        <p:sp>
          <p:nvSpPr>
            <p:cNvPr id="628" name=""/>
            <p:cNvSpPr/>
            <p:nvPr/>
          </p:nvSpPr>
          <p:spPr>
            <a:xfrm>
              <a:off x="234720" y="3699000"/>
              <a:ext cx="1963800" cy="36828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Model for v_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9" name=""/>
                <p:cNvSpPr txBox="1"/>
                <p:nvPr/>
              </p:nvSpPr>
              <p:spPr>
                <a:xfrm>
                  <a:off x="380880" y="4114800"/>
                  <a:ext cx="2438640" cy="79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C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630" name=""/>
          <p:cNvGraphicFramePr/>
          <p:nvPr/>
        </p:nvGraphicFramePr>
        <p:xfrm>
          <a:off x="0" y="4724280"/>
          <a:ext cx="4952880" cy="196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724280"/>
                    <a:ext cx="4952880" cy="19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2133720" y="5170320"/>
                <a:ext cx="91440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5638680" y="762120"/>
                <a:ext cx="236232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 rot="10800000">
                <a:off x="6095880" y="256320"/>
                <a:ext cx="12193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245200" y="1219320"/>
                <a:ext cx="31543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 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5410080" y="1820880"/>
                <a:ext cx="241776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ode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7010280" y="3048120"/>
                <a:ext cx="17654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5181480" y="3733920"/>
                <a:ext cx="355788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den>
                            </m:f>
                          </m:sup>
                        </m:sSup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4800600" y="4572000"/>
                <a:ext cx="8380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0" name=""/>
          <p:cNvSpPr/>
          <p:nvPr/>
        </p:nvSpPr>
        <p:spPr>
          <a:xfrm>
            <a:off x="5255640" y="5146560"/>
            <a:ext cx="360972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ow we need to determ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initial value v_c(0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ing continuity and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ady state 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543800" y="2362320"/>
            <a:ext cx="304920" cy="1371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4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5" name=""/>
          <p:cNvGraphicFramePr/>
          <p:nvPr/>
        </p:nvGraphicFramePr>
        <p:xfrm>
          <a:off x="0" y="0"/>
          <a:ext cx="4952880" cy="23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952880" cy="23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1523880" y="2438280"/>
                <a:ext cx="159408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48" name=""/>
          <p:cNvGrpSpPr/>
          <p:nvPr/>
        </p:nvGrpSpPr>
        <p:grpSpPr>
          <a:xfrm>
            <a:off x="122760" y="3062160"/>
            <a:ext cx="4432680" cy="849600"/>
            <a:chOff x="122760" y="3062160"/>
            <a:chExt cx="4432680" cy="849600"/>
          </a:xfrm>
        </p:grpSpPr>
        <p:sp>
          <p:nvSpPr>
            <p:cNvPr id="649" name=""/>
            <p:cNvSpPr/>
            <p:nvPr/>
          </p:nvSpPr>
          <p:spPr>
            <a:xfrm>
              <a:off x="122760" y="3062160"/>
              <a:ext cx="4432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Continuity of capacitor volt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0" name=""/>
                <p:cNvSpPr txBox="1"/>
                <p:nvPr/>
              </p:nvSpPr>
              <p:spPr>
                <a:xfrm>
                  <a:off x="1523880" y="3505320"/>
                  <a:ext cx="152424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80880" y="4038480"/>
                <a:ext cx="198144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80880" y="4419720"/>
                <a:ext cx="22100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152280" y="4952880"/>
                <a:ext cx="28195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1371600" y="5600880"/>
                <a:ext cx="2514600" cy="71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6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854120" y="5638320"/>
            <a:ext cx="1288440" cy="1215000"/>
            <a:chOff x="7854120" y="5638320"/>
            <a:chExt cx="1288440" cy="1215000"/>
          </a:xfrm>
        </p:grpSpPr>
        <p:pic>
          <p:nvPicPr>
            <p:cNvPr id="657" name="stop" descr=""/>
            <p:cNvPicPr/>
            <p:nvPr/>
          </p:nvPicPr>
          <p:blipFill>
            <a:blip r:embed="rId3"/>
            <a:stretch/>
          </p:blipFill>
          <p:spPr>
            <a:xfrm>
              <a:off x="862812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7854120" y="5638320"/>
              <a:ext cx="1278000" cy="642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Diff E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Approa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762120" y="3809880"/>
          <a:ext cx="7537320" cy="30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809880"/>
                    <a:ext cx="7537320" cy="30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102600" y="54000"/>
            <a:ext cx="24667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AN 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8520" y="488880"/>
            <a:ext cx="871524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DUCTORS AND CAPACITORS CAN STORE ENERGY. UNDER SUITABLE CONDITIONS THIS 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AN BE RELEASED. THE RATE AT WHICH IT IS RELEASED WILL DEPEND ON THE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THE CIRCUIT CONNECTED TO THE TERMINALS OF THE ENERGY STORING EL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6320" y="1219320"/>
          <a:ext cx="4867200" cy="2909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320" y="1219320"/>
                    <a:ext cx="4867200" cy="29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3804480" y="1430280"/>
            <a:ext cx="5214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the switch on the  left the capacitor rece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harge from the batt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606200" y="1828800"/>
            <a:ext cx="4461480" cy="2681280"/>
            <a:chOff x="4606200" y="1828800"/>
            <a:chExt cx="4461480" cy="2681280"/>
          </a:xfrm>
        </p:grpSpPr>
        <p:graphicFrame>
          <p:nvGraphicFramePr>
            <p:cNvPr id="76" name=""/>
            <p:cNvGraphicFramePr/>
            <p:nvPr/>
          </p:nvGraphicFramePr>
          <p:xfrm>
            <a:off x="6792840" y="1828800"/>
            <a:ext cx="2274840" cy="26812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792840" y="1828800"/>
                      <a:ext cx="2274840" cy="268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" name=""/>
            <p:cNvSpPr/>
            <p:nvPr/>
          </p:nvSpPr>
          <p:spPr>
            <a:xfrm>
              <a:off x="6613560" y="367344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606200" y="2514600"/>
              <a:ext cx="2154240" cy="1067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witch to the righ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the capaci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ischarges throug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la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648320" y="762120"/>
                <a:ext cx="37335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32400" y="0"/>
            <a:ext cx="53928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GENERAL RESPONSE: FIRST ORDER CIRCU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87240" y="2430360"/>
                <a:ext cx="350388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16920" y="380880"/>
            <a:ext cx="456984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cluding the initial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model for the capac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voltage or the inductor curr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will be shown to be of the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360" y="3165480"/>
            <a:ext cx="470700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olving the differential eq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ing integrating factors, 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ries to convert the LHS into 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exact deriv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08080" y="4343400"/>
                <a:ext cx="22510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/*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28600" y="5029200"/>
                <a:ext cx="27432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69800" y="5942160"/>
                <a:ext cx="22734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4280" y="5848200"/>
                <a:ext cx="41292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419720" y="1676520"/>
                <a:ext cx="469260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0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762120" y="1676520"/>
                <a:ext cx="335268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4637880" y="2895480"/>
            <a:ext cx="4554720" cy="946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IS EXPRESSION ALLOWS THE COMPU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THE RESPONSE FOR ANY FORCING FUN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E WILL CONCENTRATE IN THE SPECIAL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HEN THE RIGHT HAND SIDE IS CONST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8381880" y="914400"/>
                <a:ext cx="5828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*/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800600" y="4038480"/>
                <a:ext cx="403848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τ</m:t>
                        </m:r>
                        <m:r>
                          <m:rPr>
                            <m:lit/>
                            <m:nor/>
                          </m:rPr>
                          <m:t xml:space="preserve"> is called the </m:t>
                        </m:r>
                        <m:r>
                          <m:t xml:space="preserve">time</m:t>
                        </m:r>
                        <m:r>
                          <m:t xml:space="preserve">constant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t will be shown to provide significa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formation on the reaction speed of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ircui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7" name=""/>
          <p:cNvGrpSpPr/>
          <p:nvPr/>
        </p:nvGrpSpPr>
        <p:grpSpPr>
          <a:xfrm>
            <a:off x="609480" y="2057400"/>
            <a:ext cx="5257800" cy="1066680"/>
            <a:chOff x="609480" y="2057400"/>
            <a:chExt cx="5257800" cy="1066680"/>
          </a:xfrm>
        </p:grpSpPr>
        <p:sp>
          <p:nvSpPr>
            <p:cNvPr id="98" name=""/>
            <p:cNvSpPr/>
            <p:nvPr/>
          </p:nvSpPr>
          <p:spPr>
            <a:xfrm>
              <a:off x="609480" y="2590920"/>
              <a:ext cx="304920" cy="5331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638680" y="2057400"/>
              <a:ext cx="228600" cy="152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029200" y="5410080"/>
                <a:ext cx="358128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initial time,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is arbitrary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eneral expression can be used to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udy sequential switching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5360" y="76320"/>
            <a:ext cx="3609720" cy="6426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IRST ORDER CIRCUITS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ONSTAN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0" y="1631880"/>
                <a:ext cx="451656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33520" y="762120"/>
                <a:ext cx="35020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225000" y="3165480"/>
            <a:ext cx="31982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f the RHS is 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28600" y="3657600"/>
                <a:ext cx="380988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r>
                          <m:t xml:space="preserve">τ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28600" y="4681440"/>
                <a:ext cx="26668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 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28600" y="5562720"/>
                <a:ext cx="388620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r>
                          <m:t xml:space="preserve">τ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876920" y="0"/>
                <a:ext cx="37335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r>
                          <m:t xml:space="preserve">τ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τe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τ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572000" y="1066680"/>
                <a:ext cx="45720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605480" y="2087640"/>
                <a:ext cx="453852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8077320" y="2895480"/>
                <a:ext cx="6858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4891320" y="3429000"/>
            <a:ext cx="38840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form of the solution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952880" y="3809880"/>
                <a:ext cx="31244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4425840" y="4800600"/>
            <a:ext cx="4707000" cy="6426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ny variable in the circuit i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257800" y="5410080"/>
                <a:ext cx="304812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4511160" y="6095880"/>
            <a:ext cx="4569840" cy="6426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nly the values of the const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K_1, K_2 will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400800" y="4495680"/>
            <a:ext cx="2748600" cy="307080"/>
            <a:chOff x="6400800" y="4495680"/>
            <a:chExt cx="2748600" cy="307080"/>
          </a:xfrm>
        </p:grpSpPr>
        <p:sp>
          <p:nvSpPr>
            <p:cNvPr id="121" name=""/>
            <p:cNvSpPr/>
            <p:nvPr/>
          </p:nvSpPr>
          <p:spPr>
            <a:xfrm>
              <a:off x="8008560" y="4495680"/>
              <a:ext cx="1140840" cy="307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RANSI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00800" y="4495680"/>
              <a:ext cx="20574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7010280" y="3825720"/>
            <a:ext cx="2180880" cy="520200"/>
            <a:chOff x="7010280" y="3825720"/>
            <a:chExt cx="2180880" cy="520200"/>
          </a:xfrm>
        </p:grpSpPr>
        <p:sp>
          <p:nvSpPr>
            <p:cNvPr id="124" name=""/>
            <p:cNvSpPr/>
            <p:nvPr/>
          </p:nvSpPr>
          <p:spPr>
            <a:xfrm>
              <a:off x="7010280" y="4114800"/>
              <a:ext cx="228600" cy="152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156880" y="3825720"/>
              <a:ext cx="1034280" cy="520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CONST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1676520" y="3886200"/>
          <a:ext cx="6289560" cy="27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886200"/>
                    <a:ext cx="6289560" cy="27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04920" y="46080"/>
          <a:ext cx="7924680" cy="315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6080"/>
                    <a:ext cx="792468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2889000" y="141120"/>
            <a:ext cx="6154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VOLUTION OF THE TRANSIENT AND INTERPRETATION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TIME CONS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geaux" descr=""/>
          <p:cNvPicPr/>
          <p:nvPr/>
        </p:nvPicPr>
        <p:blipFill>
          <a:blip r:embed="rId5"/>
          <a:stretch/>
        </p:blipFill>
        <p:spPr>
          <a:xfrm>
            <a:off x="825804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451008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39765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4038480"/>
            <a:ext cx="296820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QUALITATIVE VIEW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MALLER THE THE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STANT THE FASTE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IENT DISAPP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413400" y="2438280"/>
            <a:ext cx="2689560" cy="1309680"/>
            <a:chOff x="6413400" y="2438280"/>
            <a:chExt cx="2689560" cy="1309680"/>
          </a:xfrm>
        </p:grpSpPr>
        <p:sp>
          <p:nvSpPr>
            <p:cNvPr id="136" name=""/>
            <p:cNvSpPr/>
            <p:nvPr/>
          </p:nvSpPr>
          <p:spPr>
            <a:xfrm>
              <a:off x="6413400" y="2438280"/>
              <a:ext cx="567000" cy="681120"/>
            </a:xfrm>
            <a:custGeom>
              <a:avLst/>
              <a:gdLst/>
              <a:ahLst/>
              <a:rect l="l" t="t" r="r" b="b"/>
              <a:pathLst>
                <a:path w="357" h="429">
                  <a:moveTo>
                    <a:pt x="40" y="23"/>
                  </a:moveTo>
                  <a:cubicBezTo>
                    <a:pt x="22" y="92"/>
                    <a:pt x="23" y="167"/>
                    <a:pt x="1" y="234"/>
                  </a:cubicBezTo>
                  <a:cubicBezTo>
                    <a:pt x="4" y="281"/>
                    <a:pt x="0" y="328"/>
                    <a:pt x="9" y="374"/>
                  </a:cubicBezTo>
                  <a:cubicBezTo>
                    <a:pt x="15" y="403"/>
                    <a:pt x="85" y="416"/>
                    <a:pt x="110" y="429"/>
                  </a:cubicBezTo>
                  <a:cubicBezTo>
                    <a:pt x="166" y="421"/>
                    <a:pt x="245" y="422"/>
                    <a:pt x="297" y="390"/>
                  </a:cubicBezTo>
                  <a:cubicBezTo>
                    <a:pt x="339" y="332"/>
                    <a:pt x="332" y="249"/>
                    <a:pt x="344" y="179"/>
                  </a:cubicBezTo>
                  <a:cubicBezTo>
                    <a:pt x="341" y="137"/>
                    <a:pt x="357" y="90"/>
                    <a:pt x="336" y="54"/>
                  </a:cubicBezTo>
                  <a:cubicBezTo>
                    <a:pt x="322" y="31"/>
                    <a:pt x="284" y="39"/>
                    <a:pt x="258" y="31"/>
                  </a:cubicBezTo>
                  <a:cubicBezTo>
                    <a:pt x="214" y="18"/>
                    <a:pt x="216" y="18"/>
                    <a:pt x="180" y="0"/>
                  </a:cubicBezTo>
                  <a:cubicBezTo>
                    <a:pt x="144" y="5"/>
                    <a:pt x="118" y="7"/>
                    <a:pt x="86" y="2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550920" y="2923920"/>
              <a:ext cx="2552040" cy="8240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th less than 2% err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ient is ze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eyond this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60280" y="1719360"/>
            <a:ext cx="4187880" cy="1990800"/>
            <a:chOff x="260280" y="1719360"/>
            <a:chExt cx="4187880" cy="1990800"/>
          </a:xfrm>
        </p:grpSpPr>
        <p:sp>
          <p:nvSpPr>
            <p:cNvPr id="139" name=""/>
            <p:cNvSpPr/>
            <p:nvPr/>
          </p:nvSpPr>
          <p:spPr>
            <a:xfrm>
              <a:off x="2403360" y="1719360"/>
              <a:ext cx="2044800" cy="1990800"/>
            </a:xfrm>
            <a:custGeom>
              <a:avLst/>
              <a:gdLst/>
              <a:ahLst/>
              <a:rect l="l" t="t" r="r" b="b"/>
              <a:pathLst>
                <a:path w="1288" h="1254">
                  <a:moveTo>
                    <a:pt x="52" y="0"/>
                  </a:moveTo>
                  <a:cubicBezTo>
                    <a:pt x="96" y="302"/>
                    <a:pt x="0" y="616"/>
                    <a:pt x="76" y="912"/>
                  </a:cubicBezTo>
                  <a:cubicBezTo>
                    <a:pt x="89" y="1024"/>
                    <a:pt x="80" y="960"/>
                    <a:pt x="115" y="1130"/>
                  </a:cubicBezTo>
                  <a:cubicBezTo>
                    <a:pt x="117" y="1140"/>
                    <a:pt x="111" y="1160"/>
                    <a:pt x="122" y="1161"/>
                  </a:cubicBezTo>
                  <a:cubicBezTo>
                    <a:pt x="468" y="1205"/>
                    <a:pt x="802" y="1227"/>
                    <a:pt x="1151" y="1239"/>
                  </a:cubicBezTo>
                  <a:cubicBezTo>
                    <a:pt x="1187" y="1242"/>
                    <a:pt x="1224" y="1254"/>
                    <a:pt x="1260" y="1247"/>
                  </a:cubicBezTo>
                  <a:cubicBezTo>
                    <a:pt x="1271" y="1245"/>
                    <a:pt x="1273" y="1227"/>
                    <a:pt x="1276" y="1216"/>
                  </a:cubicBezTo>
                  <a:cubicBezTo>
                    <a:pt x="1288" y="1167"/>
                    <a:pt x="1284" y="1099"/>
                    <a:pt x="1284" y="105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60280" y="3106800"/>
              <a:ext cx="2884320" cy="5806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rops 0.632 of ini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alue in one time 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2596680" y="838080"/>
            <a:ext cx="4655160" cy="1662120"/>
            <a:chOff x="2596680" y="838080"/>
            <a:chExt cx="4655160" cy="1662120"/>
          </a:xfrm>
        </p:grpSpPr>
        <p:sp>
          <p:nvSpPr>
            <p:cNvPr id="142" name=""/>
            <p:cNvSpPr/>
            <p:nvPr/>
          </p:nvSpPr>
          <p:spPr>
            <a:xfrm>
              <a:off x="2596680" y="838080"/>
              <a:ext cx="46551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angent reaches x-axis in one time 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17560" y="1201680"/>
              <a:ext cx="2152800" cy="1298520"/>
            </a:xfrm>
            <a:custGeom>
              <a:avLst/>
              <a:gdLst/>
              <a:ahLst/>
              <a:rect l="l" t="t" r="r" b="b"/>
              <a:pathLst>
                <a:path w="1356" h="818">
                  <a:moveTo>
                    <a:pt x="0" y="148"/>
                  </a:moveTo>
                  <a:cubicBezTo>
                    <a:pt x="57" y="127"/>
                    <a:pt x="115" y="108"/>
                    <a:pt x="171" y="85"/>
                  </a:cubicBezTo>
                  <a:cubicBezTo>
                    <a:pt x="203" y="72"/>
                    <a:pt x="232" y="51"/>
                    <a:pt x="265" y="39"/>
                  </a:cubicBezTo>
                  <a:cubicBezTo>
                    <a:pt x="320" y="19"/>
                    <a:pt x="374" y="16"/>
                    <a:pt x="429" y="0"/>
                  </a:cubicBezTo>
                  <a:cubicBezTo>
                    <a:pt x="657" y="26"/>
                    <a:pt x="755" y="26"/>
                    <a:pt x="1052" y="31"/>
                  </a:cubicBezTo>
                  <a:cubicBezTo>
                    <a:pt x="1077" y="114"/>
                    <a:pt x="1096" y="158"/>
                    <a:pt x="1145" y="226"/>
                  </a:cubicBezTo>
                  <a:cubicBezTo>
                    <a:pt x="1162" y="275"/>
                    <a:pt x="1179" y="307"/>
                    <a:pt x="1208" y="350"/>
                  </a:cubicBezTo>
                  <a:cubicBezTo>
                    <a:pt x="1221" y="369"/>
                    <a:pt x="1239" y="413"/>
                    <a:pt x="1239" y="413"/>
                  </a:cubicBezTo>
                  <a:cubicBezTo>
                    <a:pt x="1246" y="458"/>
                    <a:pt x="1255" y="502"/>
                    <a:pt x="1270" y="545"/>
                  </a:cubicBezTo>
                  <a:cubicBezTo>
                    <a:pt x="1285" y="632"/>
                    <a:pt x="1275" y="582"/>
                    <a:pt x="1309" y="717"/>
                  </a:cubicBezTo>
                  <a:cubicBezTo>
                    <a:pt x="1316" y="745"/>
                    <a:pt x="1314" y="779"/>
                    <a:pt x="1332" y="802"/>
                  </a:cubicBezTo>
                  <a:cubicBezTo>
                    <a:pt x="1338" y="810"/>
                    <a:pt x="1356" y="818"/>
                    <a:pt x="1356" y="81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3886200" y="2610000"/>
            <a:ext cx="5562720" cy="4171680"/>
            <a:chOff x="3886200" y="2610000"/>
            <a:chExt cx="5562720" cy="4171680"/>
          </a:xfrm>
        </p:grpSpPr>
        <p:pic>
          <p:nvPicPr>
            <p:cNvPr id="145" name="EffectOfTimeConstant" descr=""/>
            <p:cNvPicPr/>
            <p:nvPr/>
          </p:nvPicPr>
          <p:blipFill>
            <a:blip r:embed="rId1"/>
            <a:stretch/>
          </p:blipFill>
          <p:spPr>
            <a:xfrm>
              <a:off x="3886200" y="2610000"/>
              <a:ext cx="5562720" cy="41716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7086600" y="5429160"/>
                  <a:ext cx="1219320" cy="42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7" name=""/>
          <p:cNvSpPr/>
          <p:nvPr/>
        </p:nvSpPr>
        <p:spPr>
          <a:xfrm>
            <a:off x="22320" y="0"/>
            <a:ext cx="251244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TIME 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280" y="457200"/>
            <a:ext cx="470700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following example illust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physical meaning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95120" y="2133720"/>
          <a:ext cx="1862280" cy="171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>
                    <a:alphaModFix amt="50000"/>
                  </a:blip>
                  <a:stretch/>
                </p:blipFill>
                <p:spPr>
                  <a:xfrm>
                    <a:off x="195120" y="2133720"/>
                    <a:ext cx="1862280" cy="17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84240" y="1752480"/>
            <a:ext cx="29239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harging a capac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133720" y="3048120"/>
            <a:ext cx="2306520" cy="1051920"/>
            <a:chOff x="2133720" y="3048120"/>
            <a:chExt cx="2306520" cy="1051920"/>
          </a:xfrm>
        </p:grpSpPr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2133720" y="3389040"/>
                  <a:ext cx="2306520" cy="71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C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4" name=""/>
            <p:cNvSpPr/>
            <p:nvPr/>
          </p:nvSpPr>
          <p:spPr>
            <a:xfrm>
              <a:off x="2139480" y="3048120"/>
              <a:ext cx="141516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22760" y="4191120"/>
            <a:ext cx="4432680" cy="1054080"/>
            <a:chOff x="122760" y="4191120"/>
            <a:chExt cx="4432680" cy="1054080"/>
          </a:xfrm>
        </p:grpSpPr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228600" y="4191120"/>
                  <a:ext cx="1893960" cy="70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ssume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7" name=""/>
            <p:cNvSpPr/>
            <p:nvPr/>
          </p:nvSpPr>
          <p:spPr>
            <a:xfrm>
              <a:off x="122760" y="4876920"/>
              <a:ext cx="4432680" cy="3682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solution can be shown to b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52280" y="5257800"/>
                <a:ext cx="21225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743200" y="4267080"/>
                <a:ext cx="12193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0" name=""/>
          <p:cNvGrpSpPr/>
          <p:nvPr/>
        </p:nvGrpSpPr>
        <p:grpSpPr>
          <a:xfrm>
            <a:off x="1600200" y="5700600"/>
            <a:ext cx="2273400" cy="368280"/>
            <a:chOff x="1600200" y="5700600"/>
            <a:chExt cx="2273400" cy="368280"/>
          </a:xfrm>
        </p:grpSpPr>
        <p:sp>
          <p:nvSpPr>
            <p:cNvPr id="161" name=""/>
            <p:cNvSpPr/>
            <p:nvPr/>
          </p:nvSpPr>
          <p:spPr>
            <a:xfrm>
              <a:off x="1600200" y="5867280"/>
              <a:ext cx="838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58440" y="5700600"/>
              <a:ext cx="1415160" cy="36828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rans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91800" y="6018120"/>
            <a:ext cx="415836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or practical purposes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apacitor is charged when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ransient is neglig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799160" y="76320"/>
                <a:ext cx="1601640" cy="26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m>
                            <m:mr>
                              <m:e>
                                <m:r>
                                  <m:t xml:space="preserve">t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τ</m:t>
                                </m:r>
                              </m:e>
                            </m:mr>
                          </m:m>
                        </m:e>
                        <m:e>
                          <m:m>
                            <m:m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r>
                                          <m:t xml:space="preserve">τ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8</m:t>
                                </m:r>
                              </m:e>
                            </m:mr>
                          </m:m>
                        </m:e>
                      </m:mr>
                      <m:mr>
                        <m:e>
                          <m:m>
                            <m:m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τ</m:t>
                                </m:r>
                              </m:e>
                            </m:mr>
                            <m:mr>
                              <m:e>
                                <m:m>
                                  <m:mr>
                                    <m:e>
                                      <m:r>
                                        <m:t xml:space="preserve">3</m:t>
                                      </m:r>
                                      <m:r>
                                        <m:t xml:space="preserve">τ</m:t>
                                      </m:r>
                                    </m:e>
                                  </m:mr>
                                  <m:mr>
                                    <m:e>
                                      <m:m>
                                        <m:mr>
                                          <m:e>
                                            <m:r>
                                              <m:t xml:space="preserve">4</m:t>
                                            </m:r>
                                            <m:r>
                                              <m:t xml:space="preserve">τ</m:t>
                                            </m:r>
                                          </m:e>
                                        </m:mr>
                                        <m:mr>
                                          <m:e>
                                            <m:r>
                                              <m:t xml:space="preserve">5</m:t>
                                            </m:r>
                                            <m:r>
                                              <m:t xml:space="preserve">τ</m:t>
                                            </m:r>
                                          </m:e>
                                        </m:mr>
                                      </m:m>
                                    </m:e>
                                  </m:mr>
                                </m:m>
                              </m:e>
                            </m:mr>
                          </m:m>
                        </m:e>
                        <m:e>
                          <m:m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5</m:t>
                                </m:r>
                              </m:e>
                            </m:mr>
                            <m:mr>
                              <m:e>
                                <m:m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0498</m:t>
                                      </m:r>
                                    </m:e>
                                  </m:mr>
                                  <m:mr>
                                    <m:e>
                                      <m:m>
                                        <m:mr>
                                          <m:e>
                                            <m:r>
                                              <m:t xml:space="preserve">0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0183</m:t>
                                            </m:r>
                                          </m:e>
                                        </m:mr>
                                        <m:mr>
                                          <m:e>
                                            <m:r>
                                              <m:t xml:space="preserve">0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0067</m:t>
                                            </m:r>
                                          </m:e>
                                        </m:mr>
                                      </m:m>
                                    </m:e>
                                  </m:mr>
                                </m:m>
                              </m:e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6352560" y="1006560"/>
            <a:ext cx="2786760" cy="11912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With less than 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error the trans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s negligible 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ive time const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762120" y="2743200"/>
            <a:ext cx="609480" cy="1397160"/>
            <a:chOff x="762120" y="2743200"/>
            <a:chExt cx="609480" cy="1397160"/>
          </a:xfrm>
        </p:grpSpPr>
        <p:sp>
          <p:nvSpPr>
            <p:cNvPr id="170" name=""/>
            <p:cNvSpPr/>
            <p:nvPr/>
          </p:nvSpPr>
          <p:spPr>
            <a:xfrm>
              <a:off x="1371600" y="274320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762120" y="3581280"/>
                  <a:ext cx="60948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2" name=""/>
          <p:cNvGrpSpPr/>
          <p:nvPr/>
        </p:nvGrpSpPr>
        <p:grpSpPr>
          <a:xfrm>
            <a:off x="0" y="2133720"/>
            <a:ext cx="1290600" cy="609480"/>
            <a:chOff x="0" y="2133720"/>
            <a:chExt cx="1290600" cy="609480"/>
          </a:xfrm>
        </p:grpSpPr>
        <p:sp>
          <p:nvSpPr>
            <p:cNvPr id="173" name=""/>
            <p:cNvSpPr/>
            <p:nvPr/>
          </p:nvSpPr>
          <p:spPr>
            <a:xfrm flipH="1">
              <a:off x="757080" y="274176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0" y="2133720"/>
                  <a:ext cx="7491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133720" y="2133720"/>
                <a:ext cx="1815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CL@a : </m:t>
                        </m:r>
                      </m:e>
                      <m:e>
                        <m:r>
                          <m:t xml:space="preserve">C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83480" y="1219320"/>
            <a:ext cx="73130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1. THE CIRCUIT HAS ONLY CONSTANT INDEPENDEN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64320" y="533520"/>
            <a:ext cx="4844160" cy="368280"/>
          </a:xfrm>
          <a:prstGeom prst="rect">
            <a:avLst/>
          </a:prstGeom>
          <a:solidFill>
            <a:srgbClr val="cce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DIFFERENTIAL EQUATION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92440" y="90360"/>
            <a:ext cx="56671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IRCUITS WITH ONE ENERGY STORING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7360" y="838080"/>
            <a:ext cx="155232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7440" y="1600200"/>
            <a:ext cx="841032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2. THE DIFFERENTIAL EQUATION FOR THE VARIABLE OF INTER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S SIMPLE TO OBTAIN. NORMALLY USING BASIC ANALYSIS TOOL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e.g., KCL, KVL. . . OR THEVEN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7080" y="2514600"/>
            <a:ext cx="82731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3. THE INITIAL CONDITION FOR THE DIFFERENTIAL EQ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S KNOWN, OR CAN BE OBTAINED USING STEADY STAT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 rot="10800000">
                <a:off x="744480" y="3276360"/>
                <a:ext cx="7104240" cy="17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ACT: WHEN ALL INDEPENDENT SOURCES ARE CONSTA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ANY VARIABLE, 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IN THE CIRCUIT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LUTION IS  OF  THE  FORM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83" name=""/>
          <p:cNvGrpSpPr/>
          <p:nvPr/>
        </p:nvGrpSpPr>
        <p:grpSpPr>
          <a:xfrm>
            <a:off x="486000" y="5410080"/>
            <a:ext cx="7998840" cy="642600"/>
            <a:chOff x="486000" y="5410080"/>
            <a:chExt cx="7998840" cy="642600"/>
          </a:xfrm>
        </p:grpSpPr>
        <p:sp>
          <p:nvSpPr>
            <p:cNvPr id="184" name=""/>
            <p:cNvSpPr/>
            <p:nvPr/>
          </p:nvSpPr>
          <p:spPr>
            <a:xfrm>
              <a:off x="486000" y="5410080"/>
              <a:ext cx="7998840" cy="642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Lucida Console"/>
                </a:rPr>
                <a:t>SOLUTION STRATEGY</a:t>
              </a: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: USE THE DIFFERENTIAL EQUATION AND TH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INITIAL CONDITIONS TO FIND THE PARAME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6264000" y="5749920"/>
                  <a:ext cx="8377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86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15480" y="0"/>
            <a:ext cx="4158360" cy="3096360"/>
            <a:chOff x="15480" y="0"/>
            <a:chExt cx="4158360" cy="3096360"/>
          </a:xfrm>
        </p:grpSpPr>
        <p:sp>
          <p:nvSpPr>
            <p:cNvPr id="190" name=""/>
            <p:cNvSpPr/>
            <p:nvPr/>
          </p:nvSpPr>
          <p:spPr>
            <a:xfrm>
              <a:off x="15480" y="0"/>
              <a:ext cx="4158360" cy="64260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If the diff eq for y is know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in the fo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5480" y="1905120"/>
              <a:ext cx="4158360" cy="119124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Use the diff eq to find tw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more equations by replac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form of solution into t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differential equ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2" name=""/>
                <p:cNvSpPr txBox="1"/>
                <p:nvPr/>
              </p:nvSpPr>
              <p:spPr>
                <a:xfrm>
                  <a:off x="76320" y="685800"/>
                  <a:ext cx="1752480" cy="112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y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f</m:t>
                          </m:r>
                        </m:e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+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93" name=""/>
            <p:cNvSpPr/>
            <p:nvPr/>
          </p:nvSpPr>
          <p:spPr>
            <a:xfrm>
              <a:off x="1913760" y="838080"/>
              <a:ext cx="2238120" cy="9169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We can use th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info to fin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unknow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0" y="4070520"/>
                <a:ext cx="388620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52280" y="5029200"/>
                <a:ext cx="22543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0" y="5762520"/>
                <a:ext cx="358128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97" name=""/>
          <p:cNvGrpSpPr/>
          <p:nvPr/>
        </p:nvGrpSpPr>
        <p:grpSpPr>
          <a:xfrm>
            <a:off x="0" y="3200400"/>
            <a:ext cx="3886200" cy="682560"/>
            <a:chOff x="0" y="3200400"/>
            <a:chExt cx="3886200" cy="682560"/>
          </a:xfrm>
        </p:grpSpPr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2509920" y="3200400"/>
                  <a:ext cx="1376280" cy="68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y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τ</m:t>
                          </m:r>
                        </m:den>
                      </m:f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0" y="3200400"/>
                  <a:ext cx="246384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</m:sup>
                      </m:sSup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0" name=""/>
          <p:cNvGrpSpPr/>
          <p:nvPr/>
        </p:nvGrpSpPr>
        <p:grpSpPr>
          <a:xfrm>
            <a:off x="4444200" y="116280"/>
            <a:ext cx="4569840" cy="1042200"/>
            <a:chOff x="4444200" y="116280"/>
            <a:chExt cx="4569840" cy="1042200"/>
          </a:xfrm>
        </p:grpSpPr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5405400" y="756720"/>
                  <a:ext cx="2135160" cy="40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2" name=""/>
            <p:cNvSpPr/>
            <p:nvPr/>
          </p:nvSpPr>
          <p:spPr>
            <a:xfrm>
              <a:off x="4444200" y="116280"/>
              <a:ext cx="4569840" cy="64260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Use the initial condition to g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one more equ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1525680" y="1371600"/>
            <a:ext cx="5573520" cy="5334120"/>
            <a:chOff x="1525680" y="1371600"/>
            <a:chExt cx="5573520" cy="5334120"/>
          </a:xfrm>
        </p:grpSpPr>
        <p:sp>
          <p:nvSpPr>
            <p:cNvPr id="204" name=""/>
            <p:cNvSpPr/>
            <p:nvPr/>
          </p:nvSpPr>
          <p:spPr>
            <a:xfrm>
              <a:off x="1525680" y="4952880"/>
              <a:ext cx="987480" cy="841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43200" y="5562720"/>
              <a:ext cx="914400" cy="11430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5562720" y="1371600"/>
                  <a:ext cx="1536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7" name=""/>
          <p:cNvSpPr/>
          <p:nvPr/>
        </p:nvSpPr>
        <p:spPr>
          <a:xfrm>
            <a:off x="4069440" y="2880720"/>
            <a:ext cx="4981320" cy="9169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HORTCUT: WRITE DIFFERENTIAL E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 NORMALIZED FORM WITH COEF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F VARIABLE = 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724280" y="3886200"/>
                <a:ext cx="3073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09" name=""/>
          <p:cNvGrpSpPr/>
          <p:nvPr/>
        </p:nvGrpSpPr>
        <p:grpSpPr>
          <a:xfrm>
            <a:off x="6400800" y="3809880"/>
            <a:ext cx="304920" cy="1295640"/>
            <a:chOff x="6400800" y="3809880"/>
            <a:chExt cx="304920" cy="1295640"/>
          </a:xfrm>
        </p:grpSpPr>
        <p:sp>
          <p:nvSpPr>
            <p:cNvPr id="210" name=""/>
            <p:cNvSpPr/>
            <p:nvPr/>
          </p:nvSpPr>
          <p:spPr>
            <a:xfrm>
              <a:off x="6400800" y="3809880"/>
              <a:ext cx="304920" cy="12956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"/>
                <p:cNvSpPr txBox="1"/>
                <p:nvPr/>
              </p:nvSpPr>
              <p:spPr>
                <a:xfrm>
                  <a:off x="6411960" y="4572000"/>
                  <a:ext cx="26028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2" name=""/>
          <p:cNvGrpSpPr/>
          <p:nvPr/>
        </p:nvGrpSpPr>
        <p:grpSpPr>
          <a:xfrm>
            <a:off x="7467480" y="3809880"/>
            <a:ext cx="381240" cy="1371600"/>
            <a:chOff x="7467480" y="3809880"/>
            <a:chExt cx="381240" cy="1371600"/>
          </a:xfrm>
        </p:grpSpPr>
        <p:sp>
          <p:nvSpPr>
            <p:cNvPr id="213" name=""/>
            <p:cNvSpPr/>
            <p:nvPr/>
          </p:nvSpPr>
          <p:spPr>
            <a:xfrm>
              <a:off x="7467480" y="3809880"/>
              <a:ext cx="381240" cy="13716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4" name=""/>
                <p:cNvSpPr txBox="1"/>
                <p:nvPr/>
              </p:nvSpPr>
              <p:spPr>
                <a:xfrm>
                  <a:off x="7467480" y="4648320"/>
                  <a:ext cx="35244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15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1T12:04:06Z</dcterms:created>
  <dc:creator>Jorge Aravena</dc:creator>
  <dc:description/>
  <dc:language>en-US</dc:language>
  <cp:lastModifiedBy>student</cp:lastModifiedBy>
  <dcterms:modified xsi:type="dcterms:W3CDTF">2001-05-23T13:47:38Z</dcterms:modified>
  <cp:revision>22</cp:revision>
  <dc:subject/>
  <dc:title>No Slide Title</dc:title>
</cp:coreProperties>
</file>