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352-59F2-4808-8915-6740D1C6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A8F-484D-410F-9052-7C84B02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47D-2B07-4E1D-AC97-7A1E9A40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CCE-FE84-488D-B1E2-41072C3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E85-A436-4F11-AFD9-156CC161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A51-2760-4E71-B4C9-A99D4B8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6F7-9037-4055-8832-580E917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251-F21E-4ACE-B16F-FC6F338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386-CCA7-440C-BF95-6F91B04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F3C-F84C-48AD-A3C2-1E33C3B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55B-F095-4D89-B099-CAD7543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2DF-EE9C-4A93-AD3D-7FD201D2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B6F-069A-4CBF-8FB1-AE8B4687C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Example6p7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ample6p8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Example6p9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stop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1-05-23T02:14:24Z</dcterms:modified>
  <cp:revision>15</cp:revision>
  <dc:subject/>
  <dc:title>No Slide Title</dc:title>
</cp:coreProperties>
</file>