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74D-2813-4552-94A9-DDE4D07E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683-19BC-44D6-834B-DC21CF5B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2EF-CB8F-4F96-924C-CF8801B8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145-7A6D-4D88-AF52-967EA8AA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383-0DBA-48EC-BAB9-D6684B6C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714-92FB-444B-B9A0-97A08E88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0CB-75EB-4722-83CA-19C51460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43D-35DC-4330-B30E-0ADBDFC4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E5B-9650-4FD0-8A7D-30F35CBC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6F9-429F-48E7-84DE-5375E8E9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592-5B44-4D88-94A2-3EDC9476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A00-A2AD-4307-8EAB-7E84C923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D822-54F9-49F0-B168-9769A62CA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0" y="0"/>
            <a:ext cx="2672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05120" y="0"/>
            <a:ext cx="211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ART PACE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775040" y="41400"/>
            <a:ext cx="4368960" cy="3388320"/>
            <a:chOff x="4775040" y="41400"/>
            <a:chExt cx="4368960" cy="3388320"/>
          </a:xfrm>
        </p:grpSpPr>
        <p:grpSp>
          <p:nvGrpSpPr>
            <p:cNvPr id="44" name=""/>
            <p:cNvGrpSpPr/>
            <p:nvPr/>
          </p:nvGrpSpPr>
          <p:grpSpPr>
            <a:xfrm>
              <a:off x="4876920" y="41400"/>
              <a:ext cx="4267080" cy="3388320"/>
              <a:chOff x="4876920" y="41400"/>
              <a:chExt cx="4267080" cy="338832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5029200" y="41400"/>
                <a:ext cx="4114800" cy="1177920"/>
                <a:chOff x="5029200" y="41400"/>
                <a:chExt cx="4114800" cy="1177920"/>
              </a:xfrm>
            </p:grpSpPr>
            <p:graphicFrame>
              <p:nvGraphicFramePr>
                <p:cNvPr id="46" name=""/>
                <p:cNvGraphicFramePr/>
                <p:nvPr/>
              </p:nvGraphicFramePr>
              <p:xfrm>
                <a:off x="5029200" y="41400"/>
                <a:ext cx="4114800" cy="1177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029200" y="41400"/>
                          <a:ext cx="4114800" cy="117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48" name=""/>
                    <p:cNvSpPr txBox="1"/>
                    <p:nvPr/>
                  </p:nvSpPr>
                  <p:spPr>
                    <a:xfrm>
                      <a:off x="8824680" y="513720"/>
                      <a:ext cx="177120" cy="18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aphicFrame>
            <p:nvGraphicFramePr>
              <p:cNvPr id="49" name=""/>
              <p:cNvGraphicFramePr/>
              <p:nvPr/>
            </p:nvGraphicFramePr>
            <p:xfrm>
              <a:off x="4876920" y="1187280"/>
              <a:ext cx="3292200" cy="1951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76920" y="1187280"/>
                        <a:ext cx="3292200" cy="195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" name=""/>
              <p:cNvSpPr/>
              <p:nvPr/>
            </p:nvSpPr>
            <p:spPr>
              <a:xfrm>
                <a:off x="6130800" y="1474920"/>
                <a:ext cx="231264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mplified SCR mod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81280" y="3092400"/>
                <a:ext cx="12412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CR “fires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4775040" y="1760400"/>
                  <a:ext cx="5590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μ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"/>
          <p:cNvGrpSpPr/>
          <p:nvPr/>
        </p:nvGrpSpPr>
        <p:grpSpPr>
          <a:xfrm>
            <a:off x="0" y="3505320"/>
            <a:ext cx="4114800" cy="2171520"/>
            <a:chOff x="0" y="3505320"/>
            <a:chExt cx="4114800" cy="2171520"/>
          </a:xfrm>
        </p:grpSpPr>
        <p:pic>
          <p:nvPicPr>
            <p:cNvPr id="55" name="F06.042_W0654" descr=""/>
            <p:cNvPicPr/>
            <p:nvPr/>
          </p:nvPicPr>
          <p:blipFill>
            <a:blip r:embed="rId5"/>
            <a:stretch/>
          </p:blipFill>
          <p:spPr>
            <a:xfrm>
              <a:off x="0" y="3754440"/>
              <a:ext cx="411480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3840" y="3505320"/>
              <a:ext cx="176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ging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20" y="5773680"/>
            <a:ext cx="4410000" cy="841320"/>
            <a:chOff x="60120" y="5773680"/>
            <a:chExt cx="4410000" cy="841320"/>
          </a:xfrm>
        </p:grpSpPr>
        <p:sp>
          <p:nvSpPr>
            <p:cNvPr id="58" name=""/>
            <p:cNvSpPr/>
            <p:nvPr/>
          </p:nvSpPr>
          <p:spPr>
            <a:xfrm>
              <a:off x="60120" y="5773680"/>
              <a:ext cx="441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soon as the SCR switches of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starts charging. Hence, assu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219320" y="6324480"/>
                  <a:ext cx="1054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0" y="3429000"/>
                <a:ext cx="2298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572000" y="396252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0" y="42670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457200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010280" y="4114800"/>
                <a:ext cx="825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257800" y="4876920"/>
                <a:ext cx="2362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97360" y="2344680"/>
            <a:ext cx="408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 so that the SCR is ready to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of capacitor char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952880" y="5410080"/>
                <a:ext cx="3391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876920" y="5943600"/>
                <a:ext cx="231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162920" y="609588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238880" y="6324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" name="geaux" descr=""/>
          <p:cNvPicPr/>
          <p:nvPr/>
        </p:nvPicPr>
        <p:blipFill>
          <a:blip r:embed="rId6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F06.040_W0652" descr=""/>
          <p:cNvPicPr/>
          <p:nvPr/>
        </p:nvPicPr>
        <p:blipFill>
          <a:blip r:embed="rId7"/>
          <a:stretch/>
        </p:blipFill>
        <p:spPr>
          <a:xfrm>
            <a:off x="0" y="360360"/>
            <a:ext cx="4572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06.043_W0655" descr=""/>
          <p:cNvPicPr/>
          <p:nvPr/>
        </p:nvPicPr>
        <p:blipFill>
          <a:blip r:embed="rId1"/>
          <a:stretch/>
        </p:blipFill>
        <p:spPr>
          <a:xfrm>
            <a:off x="152280" y="368280"/>
            <a:ext cx="4038840" cy="2222640"/>
          </a:xfrm>
          <a:prstGeom prst="rect">
            <a:avLst/>
          </a:prstGeom>
          <a:ln w="0">
            <a:noFill/>
          </a:ln>
        </p:spPr>
      </p:pic>
      <p:pic>
        <p:nvPicPr>
          <p:cNvPr id="76" name="Example6p12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77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4480" y="58680"/>
            <a:ext cx="245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ISCHARG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360" y="2573280"/>
            <a:ext cx="4521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chosen resistor discharge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and the capacito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6320" y="3429000"/>
                <a:ext cx="2539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66880" y="342900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66880" y="373392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0" y="4038480"/>
                <a:ext cx="4622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73200" y="44197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80880" y="5105520"/>
                <a:ext cx="3162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180720" y="5697360"/>
            <a:ext cx="3451320" cy="347760"/>
            <a:chOff x="180720" y="5697360"/>
            <a:chExt cx="3451320" cy="347760"/>
          </a:xfrm>
        </p:grpSpPr>
        <p:sp>
          <p:nvSpPr>
            <p:cNvPr id="89" name=""/>
            <p:cNvSpPr/>
            <p:nvPr/>
          </p:nvSpPr>
          <p:spPr>
            <a:xfrm>
              <a:off x="180720" y="5697360"/>
              <a:ext cx="1770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SCR turn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2057400" y="5715000"/>
                  <a:ext cx="1574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f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04920" y="6121440"/>
                <a:ext cx="2666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796280" y="-22320"/>
            <a:ext cx="4340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isualizes one cycle of pacem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harge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569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=linspace(0,1,2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=6-5.8*exp(-tc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charge cycle. SCR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d=linspace(1,1.11,2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d=-22.45+27.45*exp(-(td-1)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c,vc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d,vcd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ACEMAKER CYCL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ff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06.045B_W0657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81280" cy="2695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7480" y="6276960"/>
            <a:ext cx="8667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current at the beginning of ON period MUST be the same than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he end of OFF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5240" y="76320"/>
            <a:ext cx="236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OSTER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08640" y="2895480"/>
            <a:ext cx="3221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NDARD DC POWER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3581280"/>
            <a:ext cx="8772480" cy="2630520"/>
            <a:chOff x="228600" y="3581280"/>
            <a:chExt cx="8772480" cy="2630520"/>
          </a:xfrm>
        </p:grpSpPr>
        <p:graphicFrame>
          <p:nvGraphicFramePr>
            <p:cNvPr id="100" name=""/>
            <p:cNvGraphicFramePr/>
            <p:nvPr/>
          </p:nvGraphicFramePr>
          <p:xfrm>
            <a:off x="228600" y="3581280"/>
            <a:ext cx="8772480" cy="181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581280"/>
                      <a:ext cx="8772480" cy="18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1187280" y="5387760"/>
              <a:ext cx="3029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N”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is stored in ind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dis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1280" y="5329080"/>
              <a:ext cx="277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FF” 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releases energ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geaux" descr=""/>
          <p:cNvPicPr/>
          <p:nvPr/>
        </p:nvPicPr>
        <p:blipFill>
          <a:blip r:embed="rId4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25040" y="228600"/>
            <a:ext cx="137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g. boo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06.045A_W0657" descr=""/>
          <p:cNvPicPr/>
          <p:nvPr/>
        </p:nvPicPr>
        <p:blipFill>
          <a:blip r:embed="rId5"/>
          <a:stretch/>
        </p:blipFill>
        <p:spPr>
          <a:xfrm>
            <a:off x="0" y="398520"/>
            <a:ext cx="4572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2280" y="380880"/>
          <a:ext cx="441972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41972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47760" y="58680"/>
            <a:ext cx="179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“ON”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2120" y="2209680"/>
                <a:ext cx="375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0" y="3092400"/>
            <a:ext cx="4038480" cy="2102040"/>
            <a:chOff x="0" y="3092400"/>
            <a:chExt cx="4038480" cy="2102040"/>
          </a:xfrm>
        </p:grpSpPr>
        <p:grpSp>
          <p:nvGrpSpPr>
            <p:cNvPr id="114" name=""/>
            <p:cNvGrpSpPr/>
            <p:nvPr/>
          </p:nvGrpSpPr>
          <p:grpSpPr>
            <a:xfrm>
              <a:off x="0" y="3092400"/>
              <a:ext cx="4038480" cy="2102040"/>
              <a:chOff x="0" y="3092400"/>
              <a:chExt cx="4038480" cy="2102040"/>
            </a:xfrm>
          </p:grpSpPr>
          <p:graphicFrame>
            <p:nvGraphicFramePr>
              <p:cNvPr id="115" name=""/>
              <p:cNvGraphicFramePr/>
              <p:nvPr/>
            </p:nvGraphicFramePr>
            <p:xfrm>
              <a:off x="0" y="3429000"/>
              <a:ext cx="4038480" cy="1765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429000"/>
                        <a:ext cx="4038480" cy="176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7" name=""/>
              <p:cNvSpPr/>
              <p:nvPr/>
            </p:nvSpPr>
            <p:spPr>
              <a:xfrm>
                <a:off x="298080" y="3092400"/>
                <a:ext cx="18496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“OFF” CYC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286000" y="3138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gt;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" y="5105520"/>
                <a:ext cx="3238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45720" y="5943600"/>
            <a:ext cx="4304520" cy="841320"/>
            <a:chOff x="45720" y="5943600"/>
            <a:chExt cx="4304520" cy="841320"/>
          </a:xfrm>
        </p:grpSpPr>
        <p:sp>
          <p:nvSpPr>
            <p:cNvPr id="121" name=""/>
            <p:cNvSpPr/>
            <p:nvPr/>
          </p:nvSpPr>
          <p:spPr>
            <a:xfrm>
              <a:off x="45720" y="5943600"/>
              <a:ext cx="43045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IFYING ASSUMPTION: THE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(Vo)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371600" y="6494400"/>
                  <a:ext cx="1168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10080" y="228600"/>
                <a:ext cx="2210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57800" y="914400"/>
                <a:ext cx="2717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00600" y="1523880"/>
                <a:ext cx="1562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400800" y="16765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nce  boost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638680" y="2286000"/>
                <a:ext cx="236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iod:     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ty cycle: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3429000"/>
                <a:ext cx="1270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009040" y="4249800"/>
            <a:ext cx="3757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adjusting the duty cycle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just the output voltag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F06.049_W0661" descr=""/>
          <p:cNvPicPr/>
          <p:nvPr/>
        </p:nvPicPr>
        <p:blipFill>
          <a:blip r:embed="rId1"/>
          <a:stretch/>
        </p:blipFill>
        <p:spPr>
          <a:xfrm>
            <a:off x="0" y="905040"/>
            <a:ext cx="4572000" cy="2692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94000" y="0"/>
                <a:ext cx="6300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SUCH  THAT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 OVERDAMPED, AND  SATISFIE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aches  1A within  100ms;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ays above 1A between  1s  and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32200" y="3792600"/>
            <a:ext cx="413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SWITCHING WE HAVE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0" y="4114800"/>
                <a:ext cx="311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8160" y="510552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-50760" y="4764240"/>
                <a:ext cx="4889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  RESPONSE: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30080" y="5410080"/>
                <a:ext cx="2374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410080" y="4280040"/>
                <a:ext cx="30099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 CONDITION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095880" y="54864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8680" y="5773680"/>
            <a:ext cx="4304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initial conditions analyz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+. Assume the circuit was in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prior to the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876920" y="1066680"/>
            <a:ext cx="3657600" cy="3036960"/>
            <a:chOff x="4876920" y="1066680"/>
            <a:chExt cx="3657600" cy="3036960"/>
          </a:xfrm>
        </p:grpSpPr>
        <p:graphicFrame>
          <p:nvGraphicFramePr>
            <p:cNvPr id="148" name=""/>
            <p:cNvGraphicFramePr/>
            <p:nvPr/>
          </p:nvGraphicFramePr>
          <p:xfrm>
            <a:off x="4876920" y="1066680"/>
            <a:ext cx="3657600" cy="303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1066680"/>
                      <a:ext cx="3657600" cy="30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6881400" y="1201680"/>
              <a:ext cx="1604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t=0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6934320" y="2971800"/>
                  <a:ext cx="1282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45720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060880" y="304920"/>
            <a:ext cx="3990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ONE CAN USE TRIAL AND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AN ATTEMPT TO ESTIMAT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1809720"/>
            <a:ext cx="9144000" cy="5048280"/>
            <a:chOff x="0" y="1809720"/>
            <a:chExt cx="9144000" cy="5048280"/>
          </a:xfrm>
        </p:grpSpPr>
        <p:pic>
          <p:nvPicPr>
            <p:cNvPr id="155" name="Example6p14_2" descr=""/>
            <p:cNvPicPr/>
            <p:nvPr/>
          </p:nvPicPr>
          <p:blipFill>
            <a:blip r:embed="rId1"/>
            <a:stretch/>
          </p:blipFill>
          <p:spPr>
            <a:xfrm>
              <a:off x="0" y="1809720"/>
              <a:ext cx="914400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1600" y="1905120"/>
              <a:ext cx="1598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plo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btained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8880" y="1430280"/>
            <a:ext cx="59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FEASIBLE, GET AN IDEA OF THE FAMILY OF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953240" y="2349360"/>
            <a:ext cx="3961800" cy="2008440"/>
            <a:chOff x="4953240" y="2349360"/>
            <a:chExt cx="3961800" cy="2008440"/>
          </a:xfrm>
        </p:grpSpPr>
        <p:sp>
          <p:nvSpPr>
            <p:cNvPr id="162" name=""/>
            <p:cNvSpPr/>
            <p:nvPr/>
          </p:nvSpPr>
          <p:spPr>
            <a:xfrm>
              <a:off x="4953240" y="2349360"/>
              <a:ext cx="396180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s=[[1:9]';[11:19]'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mesh(t,s,il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view([37.5,30]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xlabel('time(s)'),ylabel('s_1(sec^{-1})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title('CURRENT AS FUNCTION OF MODE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09160" y="3533760"/>
              <a:ext cx="32547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ls is a matrix that contains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ed responses,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er colu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3640" y="76320"/>
            <a:ext cx="72216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4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plays current as function of roots in characteristic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il(t)=(60/(s2-s1))*(exp(-s1*t)-exp(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with restriction s1+s2=20, s1~=s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=linspace(0,5,500)'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t display interval as a column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reserve space to store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~=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ils il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ave new trace as a column in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with one command we plot all the columns as functions of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s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CURRENT AS FUNCTION OF MOD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Example6p14_1" descr=""/>
          <p:cNvPicPr/>
          <p:nvPr/>
        </p:nvPicPr>
        <p:blipFill>
          <a:blip r:embed="rId1"/>
          <a:stretch/>
        </p:blipFill>
        <p:spPr>
          <a:xfrm>
            <a:off x="76320" y="3505320"/>
            <a:ext cx="8991360" cy="3314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42120" y="0"/>
            <a:ext cx="54615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imate charge by estimating area under the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81080" y="3886200"/>
            <a:ext cx="4817520" cy="855720"/>
            <a:chOff x="1981080" y="3886200"/>
            <a:chExt cx="4817520" cy="855720"/>
          </a:xfrm>
        </p:grpSpPr>
        <p:sp>
          <p:nvSpPr>
            <p:cNvPr id="168" name=""/>
            <p:cNvSpPr/>
            <p:nvPr/>
          </p:nvSpPr>
          <p:spPr>
            <a:xfrm>
              <a:off x="2158560" y="3886200"/>
              <a:ext cx="464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urve the area is approx. 12 squ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81080" y="4284720"/>
              <a:ext cx="609480" cy="45720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384" y="0"/>
                  </a:moveTo>
                  <a:cubicBezTo>
                    <a:pt x="224" y="120"/>
                    <a:pt x="64" y="240"/>
                    <a:pt x="0" y="2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505320" y="4419720"/>
                <a:ext cx="2654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429000" y="464832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m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00600" y="5257800"/>
                <a:ext cx="1460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248520" y="5257800"/>
                <a:ext cx="1041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3640" y="152280"/>
            <a:ext cx="743436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8b22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8.94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ERIFICATION OF DESIG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Example6p14_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7308000" y="5774760"/>
            <a:ext cx="1826640" cy="1078560"/>
            <a:chOff x="7308000" y="5774760"/>
            <a:chExt cx="1826640" cy="1078560"/>
          </a:xfrm>
        </p:grpSpPr>
        <p:pic>
          <p:nvPicPr>
            <p:cNvPr id="180" name="stop" descr=""/>
            <p:cNvPicPr/>
            <p:nvPr/>
          </p:nvPicPr>
          <p:blipFill>
            <a:blip r:embed="rId2"/>
            <a:stretch/>
          </p:blipFill>
          <p:spPr>
            <a:xfrm>
              <a:off x="8184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308000" y="577476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09:02:51Z</dcterms:created>
  <dc:creator>Jorge Aravena</dc:creator>
  <dc:description/>
  <dc:language>en-US</dc:language>
  <cp:lastModifiedBy>student</cp:lastModifiedBy>
  <dcterms:modified xsi:type="dcterms:W3CDTF">2001-05-23T14:43:54Z</dcterms:modified>
  <cp:revision>6</cp:revision>
  <dc:subject/>
  <dc:title>No Slide Title</dc:title>
</cp:coreProperties>
</file>