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D4F8-B3C4-40F1-8213-7A70308BD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C067-12E8-42D8-8BA0-A5BF0821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CE3A-9BC9-4EA0-BDC4-C6DF2F134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D2F0-9AF5-4D19-A284-C468F51B4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F8F2-6967-4FD1-BE3E-F51EF27D0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645E-A081-41A6-B525-D610F02A6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B813-E38E-4A79-94B2-6B9F5BAF7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F6F4-6439-4991-B5E2-0F68F4B7B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4EC3-7D3D-448C-8D95-DE1C0EAB7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E9B9-5E17-4184-B12D-71926A2B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B3DE-C25F-45B3-8A65-45F542F68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07F9-A9DD-44A3-8840-0B0B73BA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3A327-AEEE-4E18-B01E-0F7F010179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5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2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9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8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20360" y="76320"/>
            <a:ext cx="7741440" cy="58140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MAGNETICALLY COUPLED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38680" y="973080"/>
            <a:ext cx="196380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64320" y="1582560"/>
            <a:ext cx="6078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utual Induc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havior of inductors sharing a common magnetic fie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66480" y="2438280"/>
            <a:ext cx="687096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nergy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d to establish relationship between  mutual reluctance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lf-induc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06080" y="3639960"/>
            <a:ext cx="67460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ideal transfor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vice modeling components used to  change voltage and/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7800" y="4782960"/>
            <a:ext cx="74502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afety Consid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ortant issues for the safe operation of circuits with transform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E08.002_W0863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3962520" cy="1422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2666880" y="166680"/>
                <a:ext cx="1422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40" name=""/>
          <p:cNvGrpSpPr/>
          <p:nvPr/>
        </p:nvGrpSpPr>
        <p:grpSpPr>
          <a:xfrm>
            <a:off x="838080" y="1219320"/>
            <a:ext cx="2438640" cy="825480"/>
            <a:chOff x="838080" y="1219320"/>
            <a:chExt cx="2438640" cy="825480"/>
          </a:xfrm>
        </p:grpSpPr>
        <mc:AlternateContent>
          <mc:Choice xmlns:a14="http://schemas.microsoft.com/office/drawing/2010/main" Requires="a14">
            <p:sp>
              <p:nvSpPr>
                <p:cNvPr id="341" name=""/>
                <p:cNvSpPr txBox="1"/>
                <p:nvPr/>
              </p:nvSpPr>
              <p:spPr>
                <a:xfrm>
                  <a:off x="1752480" y="121932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2" name=""/>
                <p:cNvSpPr txBox="1"/>
                <p:nvPr/>
              </p:nvSpPr>
              <p:spPr>
                <a:xfrm>
                  <a:off x="2057400" y="121932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−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43" name=""/>
            <p:cNvSpPr/>
            <p:nvPr/>
          </p:nvSpPr>
          <p:spPr>
            <a:xfrm>
              <a:off x="838080" y="13716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2743200" y="190512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93960" y="2192400"/>
            <a:ext cx="4268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Define variables for coupled 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4000" y="2649600"/>
            <a:ext cx="1965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Loop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990720" y="457200"/>
                <a:ext cx="27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685800" y="3138480"/>
                <a:ext cx="1536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685800" y="3443400"/>
                <a:ext cx="1739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4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685800" y="4191120"/>
                <a:ext cx="1384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8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1" name=""/>
          <p:cNvSpPr/>
          <p:nvPr/>
        </p:nvSpPr>
        <p:spPr>
          <a:xfrm>
            <a:off x="128160" y="3792600"/>
            <a:ext cx="3317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Coupled inductors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762120" y="5334120"/>
                <a:ext cx="20444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3" name=""/>
          <p:cNvSpPr/>
          <p:nvPr/>
        </p:nvSpPr>
        <p:spPr>
          <a:xfrm>
            <a:off x="169200" y="4935600"/>
            <a:ext cx="27075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. Replace and rearr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3365640" y="609480"/>
                <a:ext cx="1054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55" name=""/>
          <p:cNvGrpSpPr/>
          <p:nvPr/>
        </p:nvGrpSpPr>
        <p:grpSpPr>
          <a:xfrm>
            <a:off x="304920" y="5334120"/>
            <a:ext cx="3568680" cy="685800"/>
            <a:chOff x="304920" y="5334120"/>
            <a:chExt cx="3568680" cy="685800"/>
          </a:xfrm>
        </p:grpSpPr>
        <mc:AlternateContent>
          <mc:Choice xmlns:a14="http://schemas.microsoft.com/office/drawing/2010/main" Requires="a14">
            <p:sp>
              <p:nvSpPr>
                <p:cNvPr id="356" name=""/>
                <p:cNvSpPr txBox="1"/>
                <p:nvPr/>
              </p:nvSpPr>
              <p:spPr>
                <a:xfrm>
                  <a:off x="2895480" y="5334120"/>
                  <a:ext cx="97812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f>
                            <m:fPr>
                              <m:type m:val="lin"/>
                            </m:fPr>
                            <m:num/>
                            <m:den>
                              <m:r>
                                <m:t xml:space="preserve">−</m:t>
                              </m:r>
                              <m:r>
                                <m:t xml:space="preserve">j</m:t>
                              </m:r>
                            </m:den>
                          </m:f>
                        </m:e>
                        <m:e>
                          <m:f>
                            <m:fPr>
                              <m:type m:val="lin"/>
                            </m:fPr>
                            <m:num/>
                            <m:den>
                              <m:r>
                                <m:t xml:space="preserve">(</m:t>
                              </m:r>
                            </m:den>
                          </m:f>
                          <m:r>
                            <m:t xml:space="preserve">4</m:t>
                          </m:r>
                          <m:r>
                            <m:t xml:space="preserve">+</m:t>
                          </m:r>
                          <m:r>
                            <m:t xml:space="preserve">j</m:t>
                          </m:r>
                          <m:r>
                            <m:t xml:space="preserve">4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57" name=""/>
            <p:cNvSpPr/>
            <p:nvPr/>
          </p:nvSpPr>
          <p:spPr>
            <a:xfrm>
              <a:off x="304920" y="6019920"/>
              <a:ext cx="3124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762120" y="6095880"/>
                <a:ext cx="2603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4800600" y="228600"/>
                <a:ext cx="1346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6705720" y="228600"/>
                <a:ext cx="914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6172200" y="228600"/>
                <a:ext cx="493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7696080" y="228600"/>
                <a:ext cx="12319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5791320" y="852480"/>
                <a:ext cx="2158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4" name=""/>
          <p:cNvSpPr/>
          <p:nvPr/>
        </p:nvSpPr>
        <p:spPr>
          <a:xfrm>
            <a:off x="2316240" y="2514600"/>
            <a:ext cx="231120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s in Vo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edances in Oh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s in __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4876920" y="1219320"/>
                <a:ext cx="3911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4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/>
                    </m:f>
                    <m:r>
                      <m:t xml:space="preserve">j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4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4927680" y="1600200"/>
                <a:ext cx="3911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5702400" y="1981080"/>
                <a:ext cx="2057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3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4876920" y="2438280"/>
                <a:ext cx="3886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5632560" y="2895480"/>
                <a:ext cx="2273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4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70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7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E08.003_W0864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3047760" cy="265248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2720520" y="120600"/>
            <a:ext cx="2948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RITE THE KVL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93960" y="3182760"/>
            <a:ext cx="4268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Define variables for coupled 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1143000" y="762120"/>
            <a:ext cx="2843280" cy="1052280"/>
            <a:chOff x="1143000" y="762120"/>
            <a:chExt cx="2843280" cy="1052280"/>
          </a:xfrm>
        </p:grpSpPr>
        <p:sp>
          <p:nvSpPr>
            <p:cNvPr id="380" name=""/>
            <p:cNvSpPr/>
            <p:nvPr/>
          </p:nvSpPr>
          <p:spPr>
            <a:xfrm>
              <a:off x="1371600" y="99072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3047760" y="914400"/>
              <a:ext cx="5331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2" name=""/>
                <p:cNvSpPr txBox="1"/>
                <p:nvPr/>
              </p:nvSpPr>
              <p:spPr>
                <a:xfrm>
                  <a:off x="1143000" y="76212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3" name=""/>
                <p:cNvSpPr txBox="1"/>
                <p:nvPr/>
              </p:nvSpPr>
              <p:spPr>
                <a:xfrm>
                  <a:off x="3581280" y="762120"/>
                  <a:ext cx="405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4" name=""/>
                <p:cNvSpPr txBox="1"/>
                <p:nvPr/>
              </p:nvSpPr>
              <p:spPr>
                <a:xfrm>
                  <a:off x="1523880" y="1523880"/>
                  <a:ext cx="660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5" name=""/>
                <p:cNvSpPr txBox="1"/>
                <p:nvPr/>
              </p:nvSpPr>
              <p:spPr>
                <a:xfrm>
                  <a:off x="2895480" y="1523880"/>
                  <a:ext cx="648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+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86" name=""/>
          <p:cNvSpPr/>
          <p:nvPr/>
        </p:nvSpPr>
        <p:spPr>
          <a:xfrm>
            <a:off x="80640" y="3564000"/>
            <a:ext cx="40410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Loop equations in terms of indu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838080" y="4191120"/>
                <a:ext cx="2832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838080" y="4495680"/>
                <a:ext cx="3048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9" name=""/>
          <p:cNvSpPr/>
          <p:nvPr/>
        </p:nvSpPr>
        <p:spPr>
          <a:xfrm>
            <a:off x="99000" y="4876920"/>
            <a:ext cx="3630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Equations for coupled 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914400" y="5257800"/>
                <a:ext cx="2324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jω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jωM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876240" y="5562720"/>
                <a:ext cx="2324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ω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jω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2" name=""/>
          <p:cNvSpPr/>
          <p:nvPr/>
        </p:nvSpPr>
        <p:spPr>
          <a:xfrm>
            <a:off x="134640" y="5925960"/>
            <a:ext cx="37087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. Replace into loop equation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arr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4876920" y="914400"/>
                <a:ext cx="3771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jωM</m:t>
                        </m:r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4876920" y="1447920"/>
                <a:ext cx="3860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jωM</m:t>
                        </m:r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395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9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107640" y="586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F08.009_W0865" descr=""/>
          <p:cNvPicPr/>
          <p:nvPr/>
        </p:nvPicPr>
        <p:blipFill>
          <a:blip r:embed="rId1"/>
          <a:stretch/>
        </p:blipFill>
        <p:spPr>
          <a:xfrm>
            <a:off x="9360" y="533520"/>
            <a:ext cx="3800520" cy="1906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0" y="609480"/>
                <a:ext cx="1397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2743200" y="762120"/>
                <a:ext cx="1359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457200" y="2438280"/>
                <a:ext cx="1295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ω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2362320" y="2438280"/>
                <a:ext cx="1320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ω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1447920" y="2743200"/>
                <a:ext cx="12826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ωM</m:t>
                    </m:r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7" name=""/>
          <p:cNvSpPr/>
          <p:nvPr/>
        </p:nvSpPr>
        <p:spPr>
          <a:xfrm>
            <a:off x="2531880" y="76320"/>
            <a:ext cx="4780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IMPEDANCE SEEN BY TH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7467480" y="0"/>
                <a:ext cx="787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09" name=""/>
          <p:cNvGrpSpPr/>
          <p:nvPr/>
        </p:nvGrpSpPr>
        <p:grpSpPr>
          <a:xfrm>
            <a:off x="609480" y="1143000"/>
            <a:ext cx="2971800" cy="366840"/>
            <a:chOff x="609480" y="1143000"/>
            <a:chExt cx="2971800" cy="366840"/>
          </a:xfrm>
        </p:grpSpPr>
        <p:sp>
          <p:nvSpPr>
            <p:cNvPr id="410" name=""/>
            <p:cNvSpPr/>
            <p:nvPr/>
          </p:nvSpPr>
          <p:spPr>
            <a:xfrm>
              <a:off x="838080" y="137160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2590560" y="1295280"/>
              <a:ext cx="5331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2" name=""/>
                <p:cNvSpPr txBox="1"/>
                <p:nvPr/>
              </p:nvSpPr>
              <p:spPr>
                <a:xfrm>
                  <a:off x="609480" y="121932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3" name=""/>
                <p:cNvSpPr txBox="1"/>
                <p:nvPr/>
              </p:nvSpPr>
              <p:spPr>
                <a:xfrm>
                  <a:off x="3176640" y="1143000"/>
                  <a:ext cx="404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14" name=""/>
          <p:cNvGrpSpPr/>
          <p:nvPr/>
        </p:nvGrpSpPr>
        <p:grpSpPr>
          <a:xfrm>
            <a:off x="1893960" y="1371600"/>
            <a:ext cx="468360" cy="1054080"/>
            <a:chOff x="1893960" y="1371600"/>
            <a:chExt cx="468360" cy="1054080"/>
          </a:xfrm>
        </p:grpSpPr>
        <mc:AlternateContent>
          <mc:Choice xmlns:a14="http://schemas.microsoft.com/office/drawing/2010/main" Requires="a14">
            <p:sp>
              <p:nvSpPr>
                <p:cNvPr id="415" name=""/>
                <p:cNvSpPr txBox="1"/>
                <p:nvPr/>
              </p:nvSpPr>
              <p:spPr>
                <a:xfrm>
                  <a:off x="1893960" y="137160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6" name=""/>
                <p:cNvSpPr txBox="1"/>
                <p:nvPr/>
              </p:nvSpPr>
              <p:spPr>
                <a:xfrm>
                  <a:off x="2097000" y="1600200"/>
                  <a:ext cx="26532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1689120" y="4267080"/>
                <a:ext cx="1359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8" name=""/>
          <p:cNvSpPr/>
          <p:nvPr/>
        </p:nvSpPr>
        <p:spPr>
          <a:xfrm>
            <a:off x="374760" y="3182760"/>
            <a:ext cx="3620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Variables for coupled inductor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90240" y="3639960"/>
            <a:ext cx="39769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Loop equations in terms of coup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tors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1447920" y="4572000"/>
                <a:ext cx="1460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1" name=""/>
          <p:cNvSpPr/>
          <p:nvPr/>
        </p:nvSpPr>
        <p:spPr>
          <a:xfrm>
            <a:off x="384840" y="5011560"/>
            <a:ext cx="3630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Equations for coupled 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1066680" y="5410080"/>
                <a:ext cx="2298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jω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jωM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1066680" y="5715000"/>
                <a:ext cx="2324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ω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jω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4" name=""/>
          <p:cNvSpPr/>
          <p:nvPr/>
        </p:nvSpPr>
        <p:spPr>
          <a:xfrm>
            <a:off x="357480" y="6078600"/>
            <a:ext cx="3163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. Replace and do the alge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4572000" y="914400"/>
                <a:ext cx="2946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jωM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jωM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26" name=""/>
          <p:cNvGrpSpPr/>
          <p:nvPr/>
        </p:nvGrpSpPr>
        <p:grpSpPr>
          <a:xfrm>
            <a:off x="4419720" y="941400"/>
            <a:ext cx="4572000" cy="620640"/>
            <a:chOff x="4419720" y="941400"/>
            <a:chExt cx="4572000" cy="620640"/>
          </a:xfrm>
        </p:grpSpPr>
        <mc:AlternateContent>
          <mc:Choice xmlns:a14="http://schemas.microsoft.com/office/drawing/2010/main" Requires="a14">
            <p:sp>
              <p:nvSpPr>
                <p:cNvPr id="427" name=""/>
                <p:cNvSpPr txBox="1"/>
                <p:nvPr/>
              </p:nvSpPr>
              <p:spPr>
                <a:xfrm>
                  <a:off x="7594560" y="941400"/>
                  <a:ext cx="139716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f>
                            <m:fPr>
                              <m:type m:val="lin"/>
                            </m:fPr>
                            <m:num/>
                            <m:den>
                              <m:r>
                                <m:t xml:space="preserve">(</m:t>
                              </m:r>
                            </m:den>
                          </m:f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jωL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  <m:e>
                          <m:f>
                            <m:fPr>
                              <m:type m:val="lin"/>
                            </m:fPr>
                            <m:num/>
                            <m:den>
                              <m:r>
                                <m:t xml:space="preserve">jωM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428" name=""/>
            <p:cNvSpPr/>
            <p:nvPr/>
          </p:nvSpPr>
          <p:spPr>
            <a:xfrm>
              <a:off x="4419720" y="1562040"/>
              <a:ext cx="44193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4724280" y="1638360"/>
                <a:ext cx="354348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jωM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4876920" y="2590920"/>
                <a:ext cx="332712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jω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jωM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4952880" y="3429000"/>
                <a:ext cx="1727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3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6705720" y="3505320"/>
                <a:ext cx="13716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3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8153280" y="3517920"/>
                <a:ext cx="6098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4952880" y="4267080"/>
                <a:ext cx="30988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3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5" name=""/>
          <p:cNvGrpSpPr/>
          <p:nvPr/>
        </p:nvGrpSpPr>
        <p:grpSpPr>
          <a:xfrm>
            <a:off x="4952880" y="4952880"/>
            <a:ext cx="3477960" cy="642240"/>
            <a:chOff x="4952880" y="4952880"/>
            <a:chExt cx="3477960" cy="642240"/>
          </a:xfrm>
        </p:grpSpPr>
        <mc:AlternateContent>
          <mc:Choice xmlns:a14="http://schemas.microsoft.com/office/drawing/2010/main" Requires="a14">
            <p:sp>
              <p:nvSpPr>
                <p:cNvPr id="436" name=""/>
                <p:cNvSpPr txBox="1"/>
                <p:nvPr/>
              </p:nvSpPr>
              <p:spPr>
                <a:xfrm>
                  <a:off x="4952880" y="4952880"/>
                  <a:ext cx="2019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35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54</m:t>
                      </m:r>
                      <m:r>
                        <m:t xml:space="preserve">°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37" name=""/>
            <p:cNvSpPr/>
            <p:nvPr/>
          </p:nvSpPr>
          <p:spPr>
            <a:xfrm>
              <a:off x="5058720" y="5257800"/>
              <a:ext cx="3372120" cy="337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ARNING: This is NOT a phas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38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3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E08.004_W0866" descr=""/>
          <p:cNvPicPr/>
          <p:nvPr/>
        </p:nvPicPr>
        <p:blipFill>
          <a:blip r:embed="rId1"/>
          <a:stretch/>
        </p:blipFill>
        <p:spPr>
          <a:xfrm>
            <a:off x="0" y="762120"/>
            <a:ext cx="5743440" cy="157464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2776320" y="76320"/>
            <a:ext cx="4780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IMPEDANCE SEEN BY TH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990720" y="609480"/>
            <a:ext cx="1523880" cy="1067040"/>
            <a:chOff x="990720" y="609480"/>
            <a:chExt cx="1523880" cy="1067040"/>
          </a:xfrm>
        </p:grpSpPr>
        <p:sp>
          <p:nvSpPr>
            <p:cNvPr id="447" name=""/>
            <p:cNvSpPr/>
            <p:nvPr/>
          </p:nvSpPr>
          <p:spPr>
            <a:xfrm>
              <a:off x="990720" y="914400"/>
              <a:ext cx="1523880" cy="7621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8" name=""/>
                <p:cNvSpPr txBox="1"/>
                <p:nvPr/>
              </p:nvSpPr>
              <p:spPr>
                <a:xfrm>
                  <a:off x="1041480" y="609480"/>
                  <a:ext cx="13968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1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49" name=""/>
          <p:cNvGrpSpPr/>
          <p:nvPr/>
        </p:nvGrpSpPr>
        <p:grpSpPr>
          <a:xfrm>
            <a:off x="3657600" y="457200"/>
            <a:ext cx="2133720" cy="1981080"/>
            <a:chOff x="3657600" y="457200"/>
            <a:chExt cx="2133720" cy="1981080"/>
          </a:xfrm>
        </p:grpSpPr>
        <p:sp>
          <p:nvSpPr>
            <p:cNvPr id="450" name=""/>
            <p:cNvSpPr/>
            <p:nvPr/>
          </p:nvSpPr>
          <p:spPr>
            <a:xfrm>
              <a:off x="3657600" y="762120"/>
              <a:ext cx="2057400" cy="167616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1" name=""/>
                <p:cNvSpPr txBox="1"/>
                <p:nvPr/>
              </p:nvSpPr>
              <p:spPr>
                <a:xfrm>
                  <a:off x="4038480" y="457200"/>
                  <a:ext cx="1752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2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j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5943600" y="914400"/>
                <a:ext cx="22986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3" name=""/>
          <p:cNvSpPr/>
          <p:nvPr/>
        </p:nvSpPr>
        <p:spPr>
          <a:xfrm>
            <a:off x="265320" y="3657600"/>
            <a:ext cx="3163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. Replace and do the alge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3238560" y="4064040"/>
                <a:ext cx="33274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jω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jωM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3251160" y="4762440"/>
                <a:ext cx="31114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6362640" y="4800600"/>
                <a:ext cx="1841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8267760" y="4800600"/>
                <a:ext cx="8762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3238560" y="5562720"/>
                <a:ext cx="33782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3809880" y="6324480"/>
                <a:ext cx="2019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2362320" y="2895480"/>
                <a:ext cx="13586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4800600" y="3200400"/>
                <a:ext cx="19940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62" name=""/>
          <p:cNvGrpSpPr/>
          <p:nvPr/>
        </p:nvGrpSpPr>
        <p:grpSpPr>
          <a:xfrm>
            <a:off x="1187280" y="1155600"/>
            <a:ext cx="2970360" cy="1206720"/>
            <a:chOff x="1187280" y="1155600"/>
            <a:chExt cx="2970360" cy="1206720"/>
          </a:xfrm>
        </p:grpSpPr>
        <p:grpSp>
          <p:nvGrpSpPr>
            <p:cNvPr id="463" name=""/>
            <p:cNvGrpSpPr/>
            <p:nvPr/>
          </p:nvGrpSpPr>
          <p:grpSpPr>
            <a:xfrm>
              <a:off x="1187280" y="1382760"/>
              <a:ext cx="1305000" cy="770040"/>
              <a:chOff x="1187280" y="1382760"/>
              <a:chExt cx="1305000" cy="770040"/>
            </a:xfrm>
          </p:grpSpPr>
          <p:sp>
            <p:nvSpPr>
              <p:cNvPr id="464" name=""/>
              <p:cNvSpPr/>
              <p:nvPr/>
            </p:nvSpPr>
            <p:spPr>
              <a:xfrm>
                <a:off x="1187280" y="1382760"/>
                <a:ext cx="1305000" cy="770040"/>
              </a:xfrm>
              <a:custGeom>
                <a:avLst/>
                <a:gdLst/>
                <a:ahLst/>
                <a:rect l="l" t="t" r="r" b="b"/>
                <a:pathLst>
                  <a:path w="822" h="485">
                    <a:moveTo>
                      <a:pt x="0" y="469"/>
                    </a:moveTo>
                    <a:cubicBezTo>
                      <a:pt x="13" y="378"/>
                      <a:pt x="33" y="288"/>
                      <a:pt x="47" y="197"/>
                    </a:cubicBezTo>
                    <a:cubicBezTo>
                      <a:pt x="54" y="151"/>
                      <a:pt x="51" y="103"/>
                      <a:pt x="101" y="88"/>
                    </a:cubicBezTo>
                    <a:cubicBezTo>
                      <a:pt x="309" y="93"/>
                      <a:pt x="544" y="0"/>
                      <a:pt x="725" y="103"/>
                    </a:cubicBezTo>
                    <a:cubicBezTo>
                      <a:pt x="822" y="158"/>
                      <a:pt x="724" y="327"/>
                      <a:pt x="717" y="438"/>
                    </a:cubicBezTo>
                    <a:cubicBezTo>
                      <a:pt x="716" y="455"/>
                      <a:pt x="718" y="485"/>
                      <a:pt x="701" y="485"/>
                    </a:cubicBezTo>
                    <a:cubicBezTo>
                      <a:pt x="486" y="485"/>
                      <a:pt x="270" y="485"/>
                      <a:pt x="55" y="485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65" name=""/>
                  <p:cNvSpPr txBox="1"/>
                  <p:nvPr/>
                </p:nvSpPr>
                <p:spPr>
                  <a:xfrm>
                    <a:off x="1676520" y="182880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466" name=""/>
                <p:cNvSpPr txBox="1"/>
                <p:nvPr/>
              </p:nvSpPr>
              <p:spPr>
                <a:xfrm>
                  <a:off x="2884320" y="153684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7" name=""/>
                <p:cNvSpPr txBox="1"/>
                <p:nvPr/>
              </p:nvSpPr>
              <p:spPr>
                <a:xfrm>
                  <a:off x="3048120" y="115560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−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468" name=""/>
            <p:cNvGrpSpPr/>
            <p:nvPr/>
          </p:nvGrpSpPr>
          <p:grpSpPr>
            <a:xfrm>
              <a:off x="3438360" y="1392120"/>
              <a:ext cx="719280" cy="797040"/>
              <a:chOff x="3438360" y="1392120"/>
              <a:chExt cx="719280" cy="797040"/>
            </a:xfrm>
          </p:grpSpPr>
          <mc:AlternateContent>
            <mc:Choice xmlns:a14="http://schemas.microsoft.com/office/drawing/2010/main" Requires="a14">
              <p:sp>
                <p:nvSpPr>
                  <p:cNvPr id="469" name=""/>
                  <p:cNvSpPr txBox="1"/>
                  <p:nvPr/>
                </p:nvSpPr>
                <p:spPr>
                  <a:xfrm>
                    <a:off x="3809880" y="182880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70" name=""/>
              <p:cNvSpPr/>
              <p:nvPr/>
            </p:nvSpPr>
            <p:spPr>
              <a:xfrm>
                <a:off x="3438360" y="1392120"/>
                <a:ext cx="719280" cy="797040"/>
              </a:xfrm>
              <a:custGeom>
                <a:avLst/>
                <a:gdLst/>
                <a:ahLst/>
                <a:rect l="l" t="t" r="r" b="b"/>
                <a:pathLst>
                  <a:path w="453" h="502">
                    <a:moveTo>
                      <a:pt x="0" y="11"/>
                    </a:moveTo>
                    <a:cubicBezTo>
                      <a:pt x="145" y="0"/>
                      <a:pt x="291" y="35"/>
                      <a:pt x="437" y="43"/>
                    </a:cubicBezTo>
                    <a:cubicBezTo>
                      <a:pt x="434" y="123"/>
                      <a:pt x="432" y="204"/>
                      <a:pt x="429" y="284"/>
                    </a:cubicBezTo>
                    <a:cubicBezTo>
                      <a:pt x="423" y="424"/>
                      <a:pt x="453" y="485"/>
                      <a:pt x="304" y="502"/>
                    </a:cubicBezTo>
                    <a:cubicBezTo>
                      <a:pt x="231" y="500"/>
                      <a:pt x="158" y="501"/>
                      <a:pt x="86" y="495"/>
                    </a:cubicBezTo>
                    <a:cubicBezTo>
                      <a:pt x="72" y="494"/>
                      <a:pt x="51" y="493"/>
                      <a:pt x="47" y="479"/>
                    </a:cubicBezTo>
                    <a:cubicBezTo>
                      <a:pt x="36" y="439"/>
                      <a:pt x="47" y="396"/>
                      <a:pt x="47" y="354"/>
                    </a:cubicBezTo>
                    <a:lnTo>
                      <a:pt x="90" y="371"/>
                    </a:ln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1" name=""/>
          <p:cNvSpPr/>
          <p:nvPr/>
        </p:nvSpPr>
        <p:spPr>
          <a:xfrm>
            <a:off x="369360" y="2496960"/>
            <a:ext cx="3566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Variables for coupled 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8520" y="4191120"/>
            <a:ext cx="3164760" cy="2040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can choose dire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current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I2 is reversed one g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same equations th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previous examp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ution for I1 must b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ame and expression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edance must be the s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26880" y="2878200"/>
            <a:ext cx="1965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Loop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255200" y="2878200"/>
            <a:ext cx="3630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Equations for coupled 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152280" y="1295280"/>
                <a:ext cx="27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476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7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124920" y="34920"/>
            <a:ext cx="24897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ENERGY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F08.010_W0867" descr=""/>
          <p:cNvPicPr/>
          <p:nvPr/>
        </p:nvPicPr>
        <p:blipFill>
          <a:blip r:embed="rId1"/>
          <a:stretch/>
        </p:blipFill>
        <p:spPr>
          <a:xfrm>
            <a:off x="1371600" y="533520"/>
            <a:ext cx="5934240" cy="157140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2814840" y="58680"/>
            <a:ext cx="6204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determine the total energy stored in a coupled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78560" y="2133720"/>
            <a:ext cx="71042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development is different from the one in the book. But the f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ult is obviously the s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76320" y="2743200"/>
                <a:ext cx="406404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QUATIONS FOR COUPLED INDUCTOR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±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±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76320" y="4408560"/>
                <a:ext cx="41018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OTAL POWER SUPPLIED TO NETWORK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2895480" y="3124080"/>
                <a:ext cx="6987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fPr>
                            <m:type m:val="lin"/>
                          </m:fPr>
                          <m:num/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/>
                      <m:e>
                        <m:f>
                          <m:fPr>
                            <m:type m:val="lin"/>
                          </m:fPr>
                          <m:num/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203040" y="5067360"/>
                <a:ext cx="35053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±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±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89" name=""/>
          <p:cNvGrpSpPr/>
          <p:nvPr/>
        </p:nvGrpSpPr>
        <p:grpSpPr>
          <a:xfrm>
            <a:off x="644400" y="4944960"/>
            <a:ext cx="2957760" cy="1938600"/>
            <a:chOff x="644400" y="4944960"/>
            <a:chExt cx="2957760" cy="1938600"/>
          </a:xfrm>
        </p:grpSpPr>
        <p:sp>
          <p:nvSpPr>
            <p:cNvPr id="490" name=""/>
            <p:cNvSpPr/>
            <p:nvPr/>
          </p:nvSpPr>
          <p:spPr>
            <a:xfrm>
              <a:off x="644400" y="4944960"/>
              <a:ext cx="2957760" cy="1413000"/>
            </a:xfrm>
            <a:custGeom>
              <a:avLst/>
              <a:gdLst/>
              <a:ahLst/>
              <a:rect l="l" t="t" r="r" b="b"/>
              <a:pathLst>
                <a:path w="1863" h="890">
                  <a:moveTo>
                    <a:pt x="1394" y="509"/>
                  </a:moveTo>
                  <a:cubicBezTo>
                    <a:pt x="1541" y="503"/>
                    <a:pt x="1702" y="491"/>
                    <a:pt x="1830" y="408"/>
                  </a:cubicBezTo>
                  <a:cubicBezTo>
                    <a:pt x="1834" y="399"/>
                    <a:pt x="1862" y="343"/>
                    <a:pt x="1862" y="322"/>
                  </a:cubicBezTo>
                  <a:cubicBezTo>
                    <a:pt x="1862" y="273"/>
                    <a:pt x="1863" y="222"/>
                    <a:pt x="1854" y="174"/>
                  </a:cubicBezTo>
                  <a:cubicBezTo>
                    <a:pt x="1851" y="156"/>
                    <a:pt x="1797" y="149"/>
                    <a:pt x="1784" y="143"/>
                  </a:cubicBezTo>
                  <a:cubicBezTo>
                    <a:pt x="1682" y="100"/>
                    <a:pt x="1573" y="91"/>
                    <a:pt x="1464" y="72"/>
                  </a:cubicBezTo>
                  <a:cubicBezTo>
                    <a:pt x="1322" y="75"/>
                    <a:pt x="940" y="0"/>
                    <a:pt x="1028" y="127"/>
                  </a:cubicBezTo>
                  <a:cubicBezTo>
                    <a:pt x="997" y="217"/>
                    <a:pt x="1022" y="198"/>
                    <a:pt x="934" y="213"/>
                  </a:cubicBezTo>
                  <a:cubicBezTo>
                    <a:pt x="914" y="301"/>
                    <a:pt x="874" y="351"/>
                    <a:pt x="810" y="415"/>
                  </a:cubicBezTo>
                  <a:cubicBezTo>
                    <a:pt x="786" y="439"/>
                    <a:pt x="798" y="463"/>
                    <a:pt x="747" y="470"/>
                  </a:cubicBezTo>
                  <a:cubicBezTo>
                    <a:pt x="726" y="473"/>
                    <a:pt x="706" y="475"/>
                    <a:pt x="685" y="478"/>
                  </a:cubicBezTo>
                  <a:cubicBezTo>
                    <a:pt x="456" y="472"/>
                    <a:pt x="254" y="461"/>
                    <a:pt x="30" y="532"/>
                  </a:cubicBezTo>
                  <a:cubicBezTo>
                    <a:pt x="0" y="595"/>
                    <a:pt x="3" y="666"/>
                    <a:pt x="38" y="727"/>
                  </a:cubicBezTo>
                  <a:cubicBezTo>
                    <a:pt x="44" y="737"/>
                    <a:pt x="44" y="752"/>
                    <a:pt x="54" y="758"/>
                  </a:cubicBezTo>
                  <a:cubicBezTo>
                    <a:pt x="193" y="835"/>
                    <a:pt x="352" y="859"/>
                    <a:pt x="506" y="875"/>
                  </a:cubicBezTo>
                  <a:cubicBezTo>
                    <a:pt x="567" y="873"/>
                    <a:pt x="805" y="890"/>
                    <a:pt x="919" y="852"/>
                  </a:cubicBezTo>
                  <a:cubicBezTo>
                    <a:pt x="946" y="768"/>
                    <a:pt x="924" y="818"/>
                    <a:pt x="1004" y="711"/>
                  </a:cubicBezTo>
                  <a:cubicBezTo>
                    <a:pt x="1023" y="686"/>
                    <a:pt x="1026" y="652"/>
                    <a:pt x="1043" y="626"/>
                  </a:cubicBezTo>
                  <a:cubicBezTo>
                    <a:pt x="1047" y="600"/>
                    <a:pt x="1042" y="568"/>
                    <a:pt x="1059" y="548"/>
                  </a:cubicBezTo>
                  <a:cubicBezTo>
                    <a:pt x="1092" y="508"/>
                    <a:pt x="1152" y="507"/>
                    <a:pt x="1199" y="501"/>
                  </a:cubicBezTo>
                  <a:cubicBezTo>
                    <a:pt x="1277" y="475"/>
                    <a:pt x="1215" y="492"/>
                    <a:pt x="1394" y="509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1" name=""/>
                <p:cNvSpPr txBox="1"/>
                <p:nvPr/>
              </p:nvSpPr>
              <p:spPr>
                <a:xfrm>
                  <a:off x="1143000" y="6324480"/>
                  <a:ext cx="99072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92" name=""/>
          <p:cNvGrpSpPr/>
          <p:nvPr/>
        </p:nvGrpSpPr>
        <p:grpSpPr>
          <a:xfrm>
            <a:off x="2666880" y="5638680"/>
            <a:ext cx="1352520" cy="1225800"/>
            <a:chOff x="2666880" y="5638680"/>
            <a:chExt cx="1352520" cy="1225800"/>
          </a:xfrm>
        </p:grpSpPr>
        <mc:AlternateContent>
          <mc:Choice xmlns:a14="http://schemas.microsoft.com/office/drawing/2010/main" Requires="a14">
            <p:sp>
              <p:nvSpPr>
                <p:cNvPr id="493" name=""/>
                <p:cNvSpPr txBox="1"/>
                <p:nvPr/>
              </p:nvSpPr>
              <p:spPr>
                <a:xfrm>
                  <a:off x="3168720" y="6243480"/>
                  <a:ext cx="850680" cy="62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94" name=""/>
            <p:cNvSpPr/>
            <p:nvPr/>
          </p:nvSpPr>
          <p:spPr>
            <a:xfrm>
              <a:off x="2666880" y="5638680"/>
              <a:ext cx="1067040" cy="60984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778120" y="6259680"/>
              <a:ext cx="412920" cy="495000"/>
            </a:xfrm>
            <a:custGeom>
              <a:avLst/>
              <a:gdLst/>
              <a:ahLst/>
              <a:rect l="l" t="t" r="r" b="b"/>
              <a:pathLst>
                <a:path w="260" h="312">
                  <a:moveTo>
                    <a:pt x="3" y="0"/>
                  </a:moveTo>
                  <a:cubicBezTo>
                    <a:pt x="6" y="101"/>
                    <a:pt x="0" y="203"/>
                    <a:pt x="11" y="304"/>
                  </a:cubicBezTo>
                  <a:cubicBezTo>
                    <a:pt x="12" y="312"/>
                    <a:pt x="27" y="299"/>
                    <a:pt x="34" y="296"/>
                  </a:cubicBezTo>
                  <a:cubicBezTo>
                    <a:pt x="73" y="280"/>
                    <a:pt x="71" y="277"/>
                    <a:pt x="112" y="250"/>
                  </a:cubicBezTo>
                  <a:cubicBezTo>
                    <a:pt x="152" y="223"/>
                    <a:pt x="216" y="227"/>
                    <a:pt x="260" y="203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146160" y="5029200"/>
            <a:ext cx="1987560" cy="1828800"/>
            <a:chOff x="146160" y="5029200"/>
            <a:chExt cx="1987560" cy="1828800"/>
          </a:xfrm>
        </p:grpSpPr>
        <p:sp>
          <p:nvSpPr>
            <p:cNvPr id="497" name=""/>
            <p:cNvSpPr/>
            <p:nvPr/>
          </p:nvSpPr>
          <p:spPr>
            <a:xfrm>
              <a:off x="1143000" y="5029200"/>
              <a:ext cx="990720" cy="6094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8" name=""/>
                <p:cNvSpPr txBox="1"/>
                <p:nvPr/>
              </p:nvSpPr>
              <p:spPr>
                <a:xfrm>
                  <a:off x="146160" y="6248520"/>
                  <a:ext cx="78732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f>
                        <m:num>
                          <m:sSub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99" name=""/>
            <p:cNvSpPr/>
            <p:nvPr/>
          </p:nvSpPr>
          <p:spPr>
            <a:xfrm>
              <a:off x="351000" y="5429160"/>
              <a:ext cx="774360" cy="819360"/>
            </a:xfrm>
            <a:custGeom>
              <a:avLst/>
              <a:gdLst/>
              <a:ahLst/>
              <a:rect l="l" t="t" r="r" b="b"/>
              <a:pathLst>
                <a:path w="488" h="516">
                  <a:moveTo>
                    <a:pt x="488" y="87"/>
                  </a:moveTo>
                  <a:cubicBezTo>
                    <a:pt x="338" y="68"/>
                    <a:pt x="143" y="0"/>
                    <a:pt x="28" y="110"/>
                  </a:cubicBezTo>
                  <a:cubicBezTo>
                    <a:pt x="0" y="236"/>
                    <a:pt x="13" y="395"/>
                    <a:pt x="13" y="51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00" name=""/>
              <p:cNvSpPr txBox="1"/>
              <p:nvPr/>
            </p:nvSpPr>
            <p:spPr>
              <a:xfrm>
                <a:off x="4330800" y="2800440"/>
                <a:ext cx="4254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±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8597880" y="2666880"/>
                <a:ext cx="39384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t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4267080" y="3505320"/>
                <a:ext cx="36957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±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4356000" y="4724280"/>
                <a:ext cx="462276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±</m:t>
                            </m:r>
                            <m:f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rad>
                              </m:den>
                            </m:f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504" name=""/>
          <p:cNvGrpSpPr/>
          <p:nvPr/>
        </p:nvGrpSpPr>
        <p:grpSpPr>
          <a:xfrm>
            <a:off x="4419720" y="4064040"/>
            <a:ext cx="3504960" cy="660240"/>
            <a:chOff x="4419720" y="4064040"/>
            <a:chExt cx="3504960" cy="660240"/>
          </a:xfrm>
        </p:grpSpPr>
        <mc:AlternateContent>
          <mc:Choice xmlns:a14="http://schemas.microsoft.com/office/drawing/2010/main" Requires="a14">
            <p:sp>
              <p:nvSpPr>
                <p:cNvPr id="505" name=""/>
                <p:cNvSpPr txBox="1"/>
                <p:nvPr/>
              </p:nvSpPr>
              <p:spPr>
                <a:xfrm>
                  <a:off x="5079960" y="4064040"/>
                  <a:ext cx="2387520" cy="66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f>
                        <m:num>
                          <m:sSup>
                            <m:e>
                              <m:r>
                                <m:t xml:space="preserve">M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f>
                        <m:num>
                          <m:sSup>
                            <m:e>
                              <m:r>
                                <m:t xml:space="preserve">M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6" name=""/>
            <p:cNvSpPr/>
            <p:nvPr/>
          </p:nvSpPr>
          <p:spPr>
            <a:xfrm>
              <a:off x="4419720" y="4724280"/>
              <a:ext cx="35049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4419720" y="5486400"/>
                <a:ext cx="203184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⇔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08" name=""/>
          <p:cNvGrpSpPr/>
          <p:nvPr/>
        </p:nvGrpSpPr>
        <p:grpSpPr>
          <a:xfrm>
            <a:off x="6477120" y="5638680"/>
            <a:ext cx="1409760" cy="341280"/>
            <a:chOff x="6477120" y="5638680"/>
            <a:chExt cx="1409760" cy="341280"/>
          </a:xfrm>
        </p:grpSpPr>
        <p:sp>
          <p:nvSpPr>
            <p:cNvPr id="509" name=""/>
            <p:cNvSpPr/>
            <p:nvPr/>
          </p:nvSpPr>
          <p:spPr>
            <a:xfrm>
              <a:off x="6477120" y="5715000"/>
              <a:ext cx="304560" cy="152280"/>
            </a:xfrm>
            <a:prstGeom prst="leftRightArrow">
              <a:avLst>
                <a:gd name="adj1" fmla="val 50000"/>
                <a:gd name="adj2" fmla="val 39815"/>
              </a:avLst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0" name=""/>
                <p:cNvSpPr txBox="1"/>
                <p:nvPr/>
              </p:nvSpPr>
              <p:spPr>
                <a:xfrm>
                  <a:off x="6781680" y="5638680"/>
                  <a:ext cx="11052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≤</m:t>
                      </m:r>
                      <m:rad>
                        <m:radPr>
                          <m:degHide m:val="1"/>
                        </m:radPr>
                        <m:deg/>
                        <m:e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11" name=""/>
          <p:cNvGrpSpPr/>
          <p:nvPr/>
        </p:nvGrpSpPr>
        <p:grpSpPr>
          <a:xfrm>
            <a:off x="4724280" y="6154560"/>
            <a:ext cx="2697480" cy="638280"/>
            <a:chOff x="4724280" y="6154560"/>
            <a:chExt cx="2697480" cy="638280"/>
          </a:xfrm>
        </p:grpSpPr>
        <mc:AlternateContent>
          <mc:Choice xmlns:a14="http://schemas.microsoft.com/office/drawing/2010/main" Requires="a14">
            <p:sp>
              <p:nvSpPr>
                <p:cNvPr id="512" name=""/>
                <p:cNvSpPr txBox="1"/>
                <p:nvPr/>
              </p:nvSpPr>
              <p:spPr>
                <a:xfrm>
                  <a:off x="4724280" y="6172200"/>
                  <a:ext cx="102888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M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13" name=""/>
            <p:cNvSpPr/>
            <p:nvPr/>
          </p:nvSpPr>
          <p:spPr>
            <a:xfrm>
              <a:off x="5883120" y="6154560"/>
              <a:ext cx="15386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efficient o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upli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14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1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F08.011A_W0868" descr=""/>
          <p:cNvPicPr/>
          <p:nvPr/>
        </p:nvPicPr>
        <p:blipFill>
          <a:blip r:embed="rId1"/>
          <a:stretch/>
        </p:blipFill>
        <p:spPr>
          <a:xfrm>
            <a:off x="0" y="533520"/>
            <a:ext cx="4419720" cy="174312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534760" y="58680"/>
            <a:ext cx="64519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the energy stored in the mutually coupled 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2362320" y="1600200"/>
                <a:ext cx="4698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1143000" y="2057400"/>
                <a:ext cx="2857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3</m:t>
                    </m:r>
                    <m:r>
                      <m:rPr>
                        <m:lit/>
                        <m:nor/>
                      </m:rPr>
                      <m:t xml:space="preserve">mH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1</m:t>
                    </m:r>
                    <m:r>
                      <m:rPr>
                        <m:lit/>
                        <m:nor/>
                      </m:rPr>
                      <m:t xml:space="preserve">m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3200400" y="457200"/>
                <a:ext cx="736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228600" y="2362320"/>
                <a:ext cx="36957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6" name=""/>
          <p:cNvSpPr/>
          <p:nvPr/>
        </p:nvSpPr>
        <p:spPr>
          <a:xfrm>
            <a:off x="4223520" y="380880"/>
            <a:ext cx="33246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sume steady state op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555080" y="744480"/>
            <a:ext cx="4389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can use frequency domain techn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484200" y="1424160"/>
            <a:ext cx="201600" cy="176040"/>
            <a:chOff x="484200" y="1424160"/>
            <a:chExt cx="201600" cy="176040"/>
          </a:xfrm>
        </p:grpSpPr>
        <mc:AlternateContent>
          <mc:Choice xmlns:a14="http://schemas.microsoft.com/office/drawing/2010/main" Requires="a14">
            <p:sp>
              <p:nvSpPr>
                <p:cNvPr id="529" name=""/>
                <p:cNvSpPr txBox="1"/>
                <p:nvPr/>
              </p:nvSpPr>
              <p:spPr>
                <a:xfrm>
                  <a:off x="484200" y="1424160"/>
                  <a:ext cx="201600" cy="17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30" name=""/>
            <p:cNvSpPr/>
            <p:nvPr/>
          </p:nvSpPr>
          <p:spPr>
            <a:xfrm>
              <a:off x="484200" y="1424160"/>
              <a:ext cx="1522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304920" y="3429000"/>
                <a:ext cx="22986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⇒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k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380880" y="2971800"/>
                <a:ext cx="2934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UST COMPUTE </m:t>
                    </m:r>
                    <m:r>
                      <m:t xml:space="preserve">M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2819520" y="3505320"/>
                <a:ext cx="12826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rPr>
                        <m:lit/>
                        <m:nor/>
                      </m:rPr>
                      <m:t xml:space="preserve">m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63360" y="3886200"/>
                <a:ext cx="26798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3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2362320" y="4281480"/>
                <a:ext cx="1930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ωM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36" name=""/>
          <p:cNvGrpSpPr/>
          <p:nvPr/>
        </p:nvGrpSpPr>
        <p:grpSpPr>
          <a:xfrm>
            <a:off x="0" y="4710240"/>
            <a:ext cx="4419720" cy="1919880"/>
            <a:chOff x="0" y="4710240"/>
            <a:chExt cx="4419720" cy="1919880"/>
          </a:xfrm>
        </p:grpSpPr>
        <p:graphicFrame>
          <p:nvGraphicFramePr>
            <p:cNvPr id="537" name=""/>
            <p:cNvGraphicFramePr/>
            <p:nvPr/>
          </p:nvGraphicFramePr>
          <p:xfrm>
            <a:off x="0" y="4710240"/>
            <a:ext cx="4419720" cy="15588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3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4710240"/>
                      <a:ext cx="4419720" cy="155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9" name=""/>
            <p:cNvSpPr/>
            <p:nvPr/>
          </p:nvSpPr>
          <p:spPr>
            <a:xfrm>
              <a:off x="963720" y="6292800"/>
              <a:ext cx="2998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in frequency 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1143000" y="5319720"/>
            <a:ext cx="2603520" cy="685800"/>
            <a:chOff x="1143000" y="5319720"/>
            <a:chExt cx="2603520" cy="685800"/>
          </a:xfrm>
        </p:grpSpPr>
        <p:graphicFrame>
          <p:nvGraphicFramePr>
            <p:cNvPr id="541" name=""/>
            <p:cNvGraphicFramePr/>
            <p:nvPr/>
          </p:nvGraphicFramePr>
          <p:xfrm>
            <a:off x="3174840" y="5319720"/>
            <a:ext cx="571680" cy="6606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54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174840" y="5319720"/>
                      <a:ext cx="571680" cy="66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43" name=""/>
            <p:cNvGraphicFramePr/>
            <p:nvPr/>
          </p:nvGraphicFramePr>
          <p:xfrm>
            <a:off x="1143000" y="5357880"/>
            <a:ext cx="507960" cy="6476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54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143000" y="5357880"/>
                      <a:ext cx="507960" cy="64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45" name=""/>
          <p:cNvGrpSpPr/>
          <p:nvPr/>
        </p:nvGrpSpPr>
        <p:grpSpPr>
          <a:xfrm>
            <a:off x="914400" y="5014800"/>
            <a:ext cx="2995560" cy="1079640"/>
            <a:chOff x="914400" y="5014800"/>
            <a:chExt cx="2995560" cy="1079640"/>
          </a:xfrm>
        </p:grpSpPr>
        <p:sp>
          <p:nvSpPr>
            <p:cNvPr id="546" name=""/>
            <p:cNvSpPr/>
            <p:nvPr/>
          </p:nvSpPr>
          <p:spPr>
            <a:xfrm>
              <a:off x="1143000" y="5167440"/>
              <a:ext cx="609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>
              <a:off x="2895480" y="5243400"/>
              <a:ext cx="60984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8" name=""/>
                <p:cNvSpPr txBox="1"/>
                <p:nvPr/>
              </p:nvSpPr>
              <p:spPr>
                <a:xfrm>
                  <a:off x="2209680" y="5167440"/>
                  <a:ext cx="368280" cy="92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</m:e>
                        <m:e/>
                        <m:e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9" name=""/>
                <p:cNvSpPr txBox="1"/>
                <p:nvPr/>
              </p:nvSpPr>
              <p:spPr>
                <a:xfrm>
                  <a:off x="914400" y="501480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50" name=""/>
                <p:cNvSpPr txBox="1"/>
                <p:nvPr/>
              </p:nvSpPr>
              <p:spPr>
                <a:xfrm>
                  <a:off x="3505320" y="5029200"/>
                  <a:ext cx="404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51" name=""/>
          <p:cNvGrpSpPr/>
          <p:nvPr/>
        </p:nvGrpSpPr>
        <p:grpSpPr>
          <a:xfrm>
            <a:off x="4492080" y="1143000"/>
            <a:ext cx="4452480" cy="1257120"/>
            <a:chOff x="4492080" y="1143000"/>
            <a:chExt cx="4452480" cy="1257120"/>
          </a:xfrm>
        </p:grpSpPr>
        <p:sp>
          <p:nvSpPr>
            <p:cNvPr id="552" name=""/>
            <p:cNvSpPr/>
            <p:nvPr/>
          </p:nvSpPr>
          <p:spPr>
            <a:xfrm>
              <a:off x="4492080" y="1143000"/>
              <a:ext cx="445248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erge the writing of the loop and coupl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ductor equations in one ste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3" name=""/>
                <p:cNvSpPr txBox="1"/>
                <p:nvPr/>
              </p:nvSpPr>
              <p:spPr>
                <a:xfrm>
                  <a:off x="5257800" y="1752480"/>
                  <a:ext cx="25779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j</m:t>
                          </m:r>
                          <m:r>
                            <m:t xml:space="preserve">1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4</m:t>
                          </m:r>
                          <m:r>
                            <m:t xml:space="preserve">∠</m:t>
                          </m:r>
                          <m:r>
                            <m:t xml:space="preserve">0</m:t>
                          </m:r>
                          <m:r>
                            <m:t xml:space="preserve">°</m:t>
                          </m:r>
                        </m:e>
                        <m:e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4394160" y="2438280"/>
                <a:ext cx="422928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LVE TO GET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4952880" y="3086280"/>
                <a:ext cx="32893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∴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4724280" y="3733920"/>
                <a:ext cx="397512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ARNING: The term  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 is in radians!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4876920" y="4038480"/>
                <a:ext cx="355572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5</m:t>
                    </m:r>
                    <m:r>
                      <m:t xml:space="preserve">s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85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ad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8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4648320" y="4343400"/>
                <a:ext cx="3975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1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4597560" y="4724280"/>
                <a:ext cx="4241520" cy="110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5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5334120" y="5867280"/>
                <a:ext cx="182880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mJ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61" name="geaux" descr=""/>
          <p:cNvPicPr/>
          <p:nvPr/>
        </p:nvPicPr>
        <p:blipFill>
          <a:blip r:embed="rId8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6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2819520" y="152280"/>
                <a:ext cx="445752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 ENERGY  STORED  AT 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228600" y="533520"/>
                <a:ext cx="9651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69" name=""/>
          <p:cNvGraphicFramePr/>
          <p:nvPr/>
        </p:nvGraphicFramePr>
        <p:xfrm>
          <a:off x="152280" y="914400"/>
          <a:ext cx="4267440" cy="147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914400"/>
                    <a:ext cx="4267440" cy="14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71" name=""/>
          <p:cNvGrpSpPr/>
          <p:nvPr/>
        </p:nvGrpSpPr>
        <p:grpSpPr>
          <a:xfrm>
            <a:off x="1295280" y="1523880"/>
            <a:ext cx="2557440" cy="571680"/>
            <a:chOff x="1295280" y="1523880"/>
            <a:chExt cx="2557440" cy="571680"/>
          </a:xfrm>
        </p:grpSpPr>
        <p:graphicFrame>
          <p:nvGraphicFramePr>
            <p:cNvPr id="572" name=""/>
            <p:cNvGraphicFramePr/>
            <p:nvPr/>
          </p:nvGraphicFramePr>
          <p:xfrm>
            <a:off x="1295280" y="1523880"/>
            <a:ext cx="447840" cy="571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95280" y="1523880"/>
                      <a:ext cx="447840" cy="57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74" name=""/>
            <p:cNvGraphicFramePr/>
            <p:nvPr/>
          </p:nvGraphicFramePr>
          <p:xfrm>
            <a:off x="3368520" y="1523880"/>
            <a:ext cx="484200" cy="559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7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368520" y="1523880"/>
                      <a:ext cx="484200" cy="55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76" name=""/>
          <p:cNvGrpSpPr/>
          <p:nvPr/>
        </p:nvGrpSpPr>
        <p:grpSpPr>
          <a:xfrm>
            <a:off x="1219320" y="1371600"/>
            <a:ext cx="2437920" cy="1079640"/>
            <a:chOff x="1219320" y="1371600"/>
            <a:chExt cx="2437920" cy="1079640"/>
          </a:xfrm>
        </p:grpSpPr>
        <p:sp>
          <p:nvSpPr>
            <p:cNvPr id="577" name=""/>
            <p:cNvSpPr/>
            <p:nvPr/>
          </p:nvSpPr>
          <p:spPr>
            <a:xfrm>
              <a:off x="1219320" y="137160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3047760" y="2209680"/>
              <a:ext cx="609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9" name=""/>
                <p:cNvSpPr txBox="1"/>
                <p:nvPr/>
              </p:nvSpPr>
              <p:spPr>
                <a:xfrm>
                  <a:off x="2298600" y="1523880"/>
                  <a:ext cx="368280" cy="92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</m:e>
                        <m:e/>
                        <m:e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457200" y="2503440"/>
                <a:ext cx="36957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762120" y="3138480"/>
                <a:ext cx="2666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723960" y="3443400"/>
                <a:ext cx="2705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1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762120" y="3809880"/>
                <a:ext cx="23749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762120" y="4495680"/>
                <a:ext cx="234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85" name=""/>
          <p:cNvGrpSpPr/>
          <p:nvPr/>
        </p:nvGrpSpPr>
        <p:grpSpPr>
          <a:xfrm>
            <a:off x="2438280" y="3254400"/>
            <a:ext cx="1681200" cy="1162080"/>
            <a:chOff x="2438280" y="3254400"/>
            <a:chExt cx="1681200" cy="1162080"/>
          </a:xfrm>
        </p:grpSpPr>
        <mc:AlternateContent>
          <mc:Choice xmlns:a14="http://schemas.microsoft.com/office/drawing/2010/main" Requires="a14">
            <p:sp>
              <p:nvSpPr>
                <p:cNvPr id="586" name=""/>
                <p:cNvSpPr txBox="1"/>
                <p:nvPr/>
              </p:nvSpPr>
              <p:spPr>
                <a:xfrm>
                  <a:off x="2438280" y="4114800"/>
                  <a:ext cx="140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j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87" name=""/>
            <p:cNvSpPr/>
            <p:nvPr/>
          </p:nvSpPr>
          <p:spPr>
            <a:xfrm>
              <a:off x="3451320" y="3254400"/>
              <a:ext cx="668160" cy="1162080"/>
            </a:xfrm>
            <a:custGeom>
              <a:avLst/>
              <a:gdLst/>
              <a:ahLst/>
              <a:rect l="l" t="t" r="r" b="b"/>
              <a:pathLst>
                <a:path w="421" h="732">
                  <a:moveTo>
                    <a:pt x="296" y="732"/>
                  </a:moveTo>
                  <a:cubicBezTo>
                    <a:pt x="327" y="711"/>
                    <a:pt x="366" y="699"/>
                    <a:pt x="390" y="670"/>
                  </a:cubicBezTo>
                  <a:cubicBezTo>
                    <a:pt x="403" y="654"/>
                    <a:pt x="396" y="628"/>
                    <a:pt x="398" y="607"/>
                  </a:cubicBezTo>
                  <a:cubicBezTo>
                    <a:pt x="405" y="529"/>
                    <a:pt x="414" y="452"/>
                    <a:pt x="421" y="374"/>
                  </a:cubicBezTo>
                  <a:cubicBezTo>
                    <a:pt x="413" y="293"/>
                    <a:pt x="409" y="212"/>
                    <a:pt x="398" y="132"/>
                  </a:cubicBezTo>
                  <a:cubicBezTo>
                    <a:pt x="396" y="116"/>
                    <a:pt x="401" y="96"/>
                    <a:pt x="390" y="85"/>
                  </a:cubicBezTo>
                  <a:cubicBezTo>
                    <a:pt x="320" y="15"/>
                    <a:pt x="293" y="24"/>
                    <a:pt x="211" y="15"/>
                  </a:cubicBezTo>
                  <a:cubicBezTo>
                    <a:pt x="165" y="0"/>
                    <a:pt x="139" y="23"/>
                    <a:pt x="94" y="31"/>
                  </a:cubicBezTo>
                  <a:cubicBezTo>
                    <a:pt x="32" y="42"/>
                    <a:pt x="63" y="39"/>
                    <a:pt x="0" y="3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88" name=""/>
              <p:cNvSpPr txBox="1"/>
              <p:nvPr/>
            </p:nvSpPr>
            <p:spPr>
              <a:xfrm>
                <a:off x="152280" y="4876920"/>
                <a:ext cx="2616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2743200" y="5029200"/>
                <a:ext cx="179064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6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"/>
              <p:cNvSpPr txBox="1"/>
              <p:nvPr/>
            </p:nvSpPr>
            <p:spPr>
              <a:xfrm>
                <a:off x="152280" y="5486400"/>
                <a:ext cx="37846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  <m:r>
                          <m:t xml:space="preserve">×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75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5257800" y="457200"/>
                <a:ext cx="26035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  <m:r>
                      <m:t xml:space="preserve">⇒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4952880" y="1714680"/>
                <a:ext cx="3365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7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75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7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4343400" y="2400480"/>
                <a:ext cx="46609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7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ad</m:t>
                    </m:r>
                    <m:r>
                      <m:rPr>
                        <m:lit/>
                        <m:nor/>
                      </m:rPr>
                      <m:t xml:space="preserve">/sec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0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ec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89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ad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5562720" y="2781360"/>
                <a:ext cx="19429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4724280" y="3505320"/>
                <a:ext cx="36831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528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264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528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4343400" y="838080"/>
                <a:ext cx="3022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528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5334120" y="1143000"/>
                <a:ext cx="16254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264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8" name=""/>
          <p:cNvSpPr/>
          <p:nvPr/>
        </p:nvSpPr>
        <p:spPr>
          <a:xfrm>
            <a:off x="327600" y="6154560"/>
            <a:ext cx="2597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o back to time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9" name=""/>
              <p:cNvSpPr txBox="1"/>
              <p:nvPr/>
            </p:nvSpPr>
            <p:spPr>
              <a:xfrm>
                <a:off x="4648320" y="4622760"/>
                <a:ext cx="44067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264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0" name=""/>
              <p:cNvSpPr txBox="1"/>
              <p:nvPr/>
            </p:nvSpPr>
            <p:spPr>
              <a:xfrm>
                <a:off x="5562720" y="5029200"/>
                <a:ext cx="25398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0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mJ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01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0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2684520" y="34920"/>
            <a:ext cx="344664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THE IDEAL TRANSFOR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7" name="F08.012_W0870" descr=""/>
          <p:cNvPicPr/>
          <p:nvPr/>
        </p:nvPicPr>
        <p:blipFill>
          <a:blip r:embed="rId1"/>
          <a:stretch/>
        </p:blipFill>
        <p:spPr>
          <a:xfrm>
            <a:off x="1752480" y="533520"/>
            <a:ext cx="5334120" cy="1778040"/>
          </a:xfrm>
          <a:prstGeom prst="rect">
            <a:avLst/>
          </a:prstGeom>
          <a:ln w="0">
            <a:noFill/>
          </a:ln>
        </p:spPr>
      </p:pic>
      <p:grpSp>
        <p:nvGrpSpPr>
          <p:cNvPr id="608" name=""/>
          <p:cNvGrpSpPr/>
          <p:nvPr/>
        </p:nvGrpSpPr>
        <p:grpSpPr>
          <a:xfrm>
            <a:off x="4876920" y="2139840"/>
            <a:ext cx="4094640" cy="785520"/>
            <a:chOff x="4876920" y="2139840"/>
            <a:chExt cx="4094640" cy="785520"/>
          </a:xfrm>
        </p:grpSpPr>
        <p:sp>
          <p:nvSpPr>
            <p:cNvPr id="609" name=""/>
            <p:cNvSpPr/>
            <p:nvPr/>
          </p:nvSpPr>
          <p:spPr>
            <a:xfrm>
              <a:off x="4876920" y="2139840"/>
              <a:ext cx="938160" cy="419040"/>
            </a:xfrm>
            <a:custGeom>
              <a:avLst/>
              <a:gdLst/>
              <a:ahLst/>
              <a:rect l="l" t="t" r="r" b="b"/>
              <a:pathLst>
                <a:path w="591" h="264">
                  <a:moveTo>
                    <a:pt x="22" y="0"/>
                  </a:moveTo>
                  <a:cubicBezTo>
                    <a:pt x="21" y="16"/>
                    <a:pt x="0" y="160"/>
                    <a:pt x="29" y="195"/>
                  </a:cubicBezTo>
                  <a:cubicBezTo>
                    <a:pt x="41" y="210"/>
                    <a:pt x="65" y="207"/>
                    <a:pt x="84" y="211"/>
                  </a:cubicBezTo>
                  <a:cubicBezTo>
                    <a:pt x="131" y="221"/>
                    <a:pt x="191" y="228"/>
                    <a:pt x="240" y="234"/>
                  </a:cubicBezTo>
                  <a:cubicBezTo>
                    <a:pt x="357" y="264"/>
                    <a:pt x="467" y="242"/>
                    <a:pt x="591" y="24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739840" y="2344680"/>
              <a:ext cx="32317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sures that ‘no magnetic fl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goes astray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2438280" y="1828800"/>
            <a:ext cx="4000680" cy="366840"/>
            <a:chOff x="2438280" y="1828800"/>
            <a:chExt cx="4000680" cy="366840"/>
          </a:xfrm>
        </p:grpSpPr>
        <mc:AlternateContent>
          <mc:Choice xmlns:a14="http://schemas.microsoft.com/office/drawing/2010/main" Requires="a14">
            <p:sp>
              <p:nvSpPr>
                <p:cNvPr id="612" name=""/>
                <p:cNvSpPr txBox="1"/>
                <p:nvPr/>
              </p:nvSpPr>
              <p:spPr>
                <a:xfrm>
                  <a:off x="2438280" y="1828800"/>
                  <a:ext cx="825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φ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φ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13" name=""/>
                <p:cNvSpPr txBox="1"/>
                <p:nvPr/>
              </p:nvSpPr>
              <p:spPr>
                <a:xfrm>
                  <a:off x="5562720" y="1905120"/>
                  <a:ext cx="876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φ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φ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14" name=""/>
              <p:cNvSpPr txBox="1"/>
              <p:nvPr/>
            </p:nvSpPr>
            <p:spPr>
              <a:xfrm>
                <a:off x="457200" y="2514600"/>
                <a:ext cx="2781360" cy="11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f>
                                <m:num>
                                  <m:r>
                                    <m:t xml:space="preserve">dφ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t</m:t>
                                  </m:r>
                                </m:den>
                              </m:f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f>
                                <m:num>
                                  <m:r>
                                    <m:t xml:space="preserve">dφ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t</m:t>
                                  </m:r>
                                </m:den>
                              </m:f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5" name=""/>
          <p:cNvSpPr/>
          <p:nvPr/>
        </p:nvSpPr>
        <p:spPr>
          <a:xfrm>
            <a:off x="3312720" y="2895480"/>
            <a:ext cx="24775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rst ideal transfor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457200" y="3657600"/>
            <a:ext cx="5518080" cy="337320"/>
            <a:chOff x="457200" y="3657600"/>
            <a:chExt cx="5518080" cy="337320"/>
          </a:xfrm>
        </p:grpSpPr>
        <mc:AlternateContent>
          <mc:Choice xmlns:a14="http://schemas.microsoft.com/office/drawing/2010/main" Requires="a14">
            <p:sp>
              <p:nvSpPr>
                <p:cNvPr id="617" name=""/>
                <p:cNvSpPr txBox="1"/>
                <p:nvPr/>
              </p:nvSpPr>
              <p:spPr>
                <a:xfrm>
                  <a:off x="457200" y="3674880"/>
                  <a:ext cx="2247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18" name=""/>
            <p:cNvSpPr/>
            <p:nvPr/>
          </p:nvSpPr>
          <p:spPr>
            <a:xfrm>
              <a:off x="2946240" y="3657600"/>
              <a:ext cx="30290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deal transformer is lossl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2362320" y="4038480"/>
                <a:ext cx="9270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0" name=""/>
          <p:cNvSpPr/>
          <p:nvPr/>
        </p:nvSpPr>
        <p:spPr>
          <a:xfrm>
            <a:off x="3389760" y="4067280"/>
            <a:ext cx="27439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cond ideal transfor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304920" y="4800600"/>
            <a:ext cx="3724200" cy="1919880"/>
            <a:chOff x="304920" y="4800600"/>
            <a:chExt cx="3724200" cy="1919880"/>
          </a:xfrm>
        </p:grpSpPr>
        <p:pic>
          <p:nvPicPr>
            <p:cNvPr id="622" name="F08.013A_W0871" descr=""/>
            <p:cNvPicPr/>
            <p:nvPr/>
          </p:nvPicPr>
          <p:blipFill>
            <a:blip r:embed="rId2"/>
            <a:stretch/>
          </p:blipFill>
          <p:spPr>
            <a:xfrm>
              <a:off x="304920" y="4800600"/>
              <a:ext cx="3724200" cy="18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"/>
            <p:cNvSpPr/>
            <p:nvPr/>
          </p:nvSpPr>
          <p:spPr>
            <a:xfrm>
              <a:off x="950040" y="6383160"/>
              <a:ext cx="25718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Represent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4876920" y="4724280"/>
            <a:ext cx="3724200" cy="2057400"/>
            <a:chOff x="4876920" y="4724280"/>
            <a:chExt cx="3724200" cy="2057400"/>
          </a:xfrm>
        </p:grpSpPr>
        <p:pic>
          <p:nvPicPr>
            <p:cNvPr id="625" name="F08.013B_W0871" descr=""/>
            <p:cNvPicPr/>
            <p:nvPr/>
          </p:nvPicPr>
          <p:blipFill>
            <a:blip r:embed="rId3"/>
            <a:stretch/>
          </p:blipFill>
          <p:spPr>
            <a:xfrm>
              <a:off x="4876920" y="4724280"/>
              <a:ext cx="3724200" cy="18385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626" name=""/>
                <p:cNvSpPr txBox="1"/>
                <p:nvPr/>
              </p:nvSpPr>
              <p:spPr>
                <a:xfrm>
                  <a:off x="5715000" y="6172200"/>
                  <a:ext cx="19558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;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27" name=""/>
          <p:cNvSpPr/>
          <p:nvPr/>
        </p:nvSpPr>
        <p:spPr>
          <a:xfrm>
            <a:off x="6869160" y="3259080"/>
            <a:ext cx="2171160" cy="1310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ce the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re algebraic, th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re unchanged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hasors. Just 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reful with sig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2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F08.014_W0872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3781440" cy="1533240"/>
          </a:xfrm>
          <a:prstGeom prst="rect">
            <a:avLst/>
          </a:prstGeom>
          <a:ln w="0">
            <a:noFill/>
          </a:ln>
        </p:spPr>
      </p:pic>
      <p:sp>
        <p:nvSpPr>
          <p:cNvPr id="634" name=""/>
          <p:cNvSpPr/>
          <p:nvPr/>
        </p:nvSpPr>
        <p:spPr>
          <a:xfrm>
            <a:off x="271440" y="136440"/>
            <a:ext cx="27745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FLECTING IMPED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228600" y="2133720"/>
                <a:ext cx="3022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both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signs at dot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228600" y="2819520"/>
                <a:ext cx="4064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urrent 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leaving transforme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228600" y="3505320"/>
                <a:ext cx="2387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hm's La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291960" y="3962520"/>
                <a:ext cx="1613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39" name=""/>
          <p:cNvGrpSpPr/>
          <p:nvPr/>
        </p:nvGrpSpPr>
        <p:grpSpPr>
          <a:xfrm>
            <a:off x="111240" y="3476520"/>
            <a:ext cx="1981080" cy="1320840"/>
            <a:chOff x="111240" y="3476520"/>
            <a:chExt cx="1981080" cy="1320840"/>
          </a:xfrm>
        </p:grpSpPr>
        <p:sp>
          <p:nvSpPr>
            <p:cNvPr id="640" name=""/>
            <p:cNvSpPr/>
            <p:nvPr/>
          </p:nvSpPr>
          <p:spPr>
            <a:xfrm>
              <a:off x="111240" y="3476520"/>
              <a:ext cx="782640" cy="1305000"/>
            </a:xfrm>
            <a:custGeom>
              <a:avLst/>
              <a:gdLst/>
              <a:ahLst/>
              <a:rect l="l" t="t" r="r" b="b"/>
              <a:pathLst>
                <a:path w="493" h="822">
                  <a:moveTo>
                    <a:pt x="249" y="218"/>
                  </a:moveTo>
                  <a:cubicBezTo>
                    <a:pt x="245" y="153"/>
                    <a:pt x="256" y="84"/>
                    <a:pt x="234" y="23"/>
                  </a:cubicBezTo>
                  <a:cubicBezTo>
                    <a:pt x="230" y="12"/>
                    <a:pt x="196" y="3"/>
                    <a:pt x="187" y="0"/>
                  </a:cubicBezTo>
                  <a:cubicBezTo>
                    <a:pt x="148" y="16"/>
                    <a:pt x="104" y="23"/>
                    <a:pt x="70" y="47"/>
                  </a:cubicBezTo>
                  <a:cubicBezTo>
                    <a:pt x="57" y="56"/>
                    <a:pt x="62" y="79"/>
                    <a:pt x="55" y="93"/>
                  </a:cubicBezTo>
                  <a:cubicBezTo>
                    <a:pt x="49" y="105"/>
                    <a:pt x="39" y="114"/>
                    <a:pt x="31" y="125"/>
                  </a:cubicBezTo>
                  <a:cubicBezTo>
                    <a:pt x="23" y="151"/>
                    <a:pt x="17" y="177"/>
                    <a:pt x="8" y="202"/>
                  </a:cubicBezTo>
                  <a:cubicBezTo>
                    <a:pt x="5" y="228"/>
                    <a:pt x="0" y="254"/>
                    <a:pt x="0" y="280"/>
                  </a:cubicBezTo>
                  <a:cubicBezTo>
                    <a:pt x="0" y="415"/>
                    <a:pt x="1" y="551"/>
                    <a:pt x="8" y="686"/>
                  </a:cubicBezTo>
                  <a:cubicBezTo>
                    <a:pt x="14" y="795"/>
                    <a:pt x="181" y="803"/>
                    <a:pt x="257" y="810"/>
                  </a:cubicBezTo>
                  <a:cubicBezTo>
                    <a:pt x="314" y="804"/>
                    <a:pt x="403" y="822"/>
                    <a:pt x="437" y="771"/>
                  </a:cubicBezTo>
                  <a:cubicBezTo>
                    <a:pt x="481" y="626"/>
                    <a:pt x="493" y="596"/>
                    <a:pt x="429" y="335"/>
                  </a:cubicBezTo>
                  <a:cubicBezTo>
                    <a:pt x="421" y="303"/>
                    <a:pt x="335" y="304"/>
                    <a:pt x="335" y="304"/>
                  </a:cubicBezTo>
                  <a:cubicBezTo>
                    <a:pt x="265" y="233"/>
                    <a:pt x="294" y="261"/>
                    <a:pt x="249" y="218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973080" y="3487680"/>
              <a:ext cx="1119240" cy="1309680"/>
            </a:xfrm>
            <a:custGeom>
              <a:avLst/>
              <a:gdLst/>
              <a:ahLst/>
              <a:rect l="l" t="t" r="r" b="b"/>
              <a:pathLst>
                <a:path w="705" h="825">
                  <a:moveTo>
                    <a:pt x="197" y="188"/>
                  </a:moveTo>
                  <a:cubicBezTo>
                    <a:pt x="183" y="141"/>
                    <a:pt x="201" y="37"/>
                    <a:pt x="135" y="16"/>
                  </a:cubicBezTo>
                  <a:cubicBezTo>
                    <a:pt x="110" y="8"/>
                    <a:pt x="82" y="8"/>
                    <a:pt x="57" y="1"/>
                  </a:cubicBezTo>
                  <a:cubicBezTo>
                    <a:pt x="41" y="3"/>
                    <a:pt x="24" y="0"/>
                    <a:pt x="10" y="8"/>
                  </a:cubicBezTo>
                  <a:cubicBezTo>
                    <a:pt x="3" y="12"/>
                    <a:pt x="3" y="24"/>
                    <a:pt x="3" y="32"/>
                  </a:cubicBezTo>
                  <a:cubicBezTo>
                    <a:pt x="3" y="94"/>
                    <a:pt x="0" y="157"/>
                    <a:pt x="10" y="219"/>
                  </a:cubicBezTo>
                  <a:cubicBezTo>
                    <a:pt x="11" y="227"/>
                    <a:pt x="26" y="224"/>
                    <a:pt x="34" y="227"/>
                  </a:cubicBezTo>
                  <a:cubicBezTo>
                    <a:pt x="78" y="245"/>
                    <a:pt x="174" y="258"/>
                    <a:pt x="174" y="258"/>
                  </a:cubicBezTo>
                  <a:cubicBezTo>
                    <a:pt x="186" y="291"/>
                    <a:pt x="187" y="325"/>
                    <a:pt x="197" y="359"/>
                  </a:cubicBezTo>
                  <a:cubicBezTo>
                    <a:pt x="201" y="391"/>
                    <a:pt x="210" y="421"/>
                    <a:pt x="213" y="453"/>
                  </a:cubicBezTo>
                  <a:cubicBezTo>
                    <a:pt x="218" y="498"/>
                    <a:pt x="212" y="617"/>
                    <a:pt x="244" y="671"/>
                  </a:cubicBezTo>
                  <a:cubicBezTo>
                    <a:pt x="264" y="705"/>
                    <a:pt x="306" y="742"/>
                    <a:pt x="338" y="764"/>
                  </a:cubicBezTo>
                  <a:cubicBezTo>
                    <a:pt x="367" y="784"/>
                    <a:pt x="397" y="787"/>
                    <a:pt x="431" y="796"/>
                  </a:cubicBezTo>
                  <a:cubicBezTo>
                    <a:pt x="620" y="788"/>
                    <a:pt x="601" y="825"/>
                    <a:pt x="665" y="702"/>
                  </a:cubicBezTo>
                  <a:cubicBezTo>
                    <a:pt x="679" y="619"/>
                    <a:pt x="689" y="537"/>
                    <a:pt x="696" y="453"/>
                  </a:cubicBezTo>
                  <a:cubicBezTo>
                    <a:pt x="693" y="406"/>
                    <a:pt x="705" y="356"/>
                    <a:pt x="688" y="312"/>
                  </a:cubicBezTo>
                  <a:cubicBezTo>
                    <a:pt x="681" y="294"/>
                    <a:pt x="651" y="298"/>
                    <a:pt x="634" y="289"/>
                  </a:cubicBezTo>
                  <a:cubicBezTo>
                    <a:pt x="552" y="244"/>
                    <a:pt x="672" y="284"/>
                    <a:pt x="540" y="250"/>
                  </a:cubicBezTo>
                  <a:cubicBezTo>
                    <a:pt x="431" y="184"/>
                    <a:pt x="378" y="188"/>
                    <a:pt x="252" y="18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2438280" y="3886200"/>
                <a:ext cx="15494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1371600" y="4724280"/>
                <a:ext cx="185436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654120" y="5562720"/>
                <a:ext cx="29844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impedance,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reflecte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into the primary sid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45" name=""/>
          <p:cNvGrpSpPr/>
          <p:nvPr/>
        </p:nvGrpSpPr>
        <p:grpSpPr>
          <a:xfrm>
            <a:off x="4610160" y="152280"/>
            <a:ext cx="3848040" cy="1044720"/>
            <a:chOff x="4610160" y="152280"/>
            <a:chExt cx="3848040" cy="1044720"/>
          </a:xfrm>
        </p:grpSpPr>
        <p:sp>
          <p:nvSpPr>
            <p:cNvPr id="646" name=""/>
            <p:cNvSpPr/>
            <p:nvPr/>
          </p:nvSpPr>
          <p:spPr>
            <a:xfrm>
              <a:off x="5379480" y="152280"/>
              <a:ext cx="2236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future refer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7" name=""/>
                <p:cNvSpPr txBox="1"/>
                <p:nvPr/>
              </p:nvSpPr>
              <p:spPr>
                <a:xfrm>
                  <a:off x="4610160" y="474480"/>
                  <a:ext cx="3848040" cy="72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/>
                      </m:sSubSup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f>
                            <m:num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d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f>
                                <m:num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d>
                        </m:e>
                        <m:sup/>
                      </m:sSup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/>
                      </m:sSubSup>
                      <m:r>
                        <m:t xml:space="preserve">=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5638680" y="1295280"/>
                <a:ext cx="19814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turns ratio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49" name=""/>
          <p:cNvGrpSpPr/>
          <p:nvPr/>
        </p:nvGrpSpPr>
        <p:grpSpPr>
          <a:xfrm>
            <a:off x="4482000" y="2209680"/>
            <a:ext cx="4135680" cy="2171880"/>
            <a:chOff x="4482000" y="2209680"/>
            <a:chExt cx="4135680" cy="2171880"/>
          </a:xfrm>
        </p:grpSpPr>
        <mc:AlternateContent>
          <mc:Choice xmlns:a14="http://schemas.microsoft.com/office/drawing/2010/main" Requires="a14">
            <p:sp>
              <p:nvSpPr>
                <p:cNvPr id="650" name=""/>
                <p:cNvSpPr txBox="1"/>
                <p:nvPr/>
              </p:nvSpPr>
              <p:spPr>
                <a:xfrm>
                  <a:off x="6019920" y="2514600"/>
                  <a:ext cx="811080" cy="186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n</m:t>
                              </m:r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</m:num>
                            <m:den>
                              <m:sSup>
                                <m:e>
                                  <m:r>
                                    <m:t xml:space="preserve">n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651" name=""/>
            <p:cNvSpPr/>
            <p:nvPr/>
          </p:nvSpPr>
          <p:spPr>
            <a:xfrm>
              <a:off x="4482000" y="2209680"/>
              <a:ext cx="4135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or equations for ideal transfor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52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5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F08.015_W0873" descr=""/>
          <p:cNvPicPr/>
          <p:nvPr/>
        </p:nvPicPr>
        <p:blipFill>
          <a:blip r:embed="rId1"/>
          <a:stretch/>
        </p:blipFill>
        <p:spPr>
          <a:xfrm>
            <a:off x="19080" y="609480"/>
            <a:ext cx="4476600" cy="1943280"/>
          </a:xfrm>
          <a:prstGeom prst="rect">
            <a:avLst/>
          </a:prstGeom>
          <a:ln w="0">
            <a:noFill/>
          </a:ln>
        </p:spPr>
      </p:pic>
      <p:sp>
        <p:nvSpPr>
          <p:cNvPr id="658" name=""/>
          <p:cNvSpPr/>
          <p:nvPr/>
        </p:nvSpPr>
        <p:spPr>
          <a:xfrm>
            <a:off x="16812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640960" y="58680"/>
            <a:ext cx="4833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all indicated voltages and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2590920" y="457200"/>
                <a:ext cx="13208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61" name=""/>
          <p:cNvGraphicFramePr/>
          <p:nvPr/>
        </p:nvGraphicFramePr>
        <p:xfrm>
          <a:off x="76320" y="4038480"/>
          <a:ext cx="4647960" cy="1901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4038480"/>
                    <a:ext cx="4647960" cy="19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63" name=""/>
          <p:cNvGrpSpPr/>
          <p:nvPr/>
        </p:nvGrpSpPr>
        <p:grpSpPr>
          <a:xfrm>
            <a:off x="395280" y="2649600"/>
            <a:ext cx="3849120" cy="1109520"/>
            <a:chOff x="395280" y="2649600"/>
            <a:chExt cx="3849120" cy="1109520"/>
          </a:xfrm>
        </p:grpSpPr>
        <p:sp>
          <p:nvSpPr>
            <p:cNvPr id="664" name=""/>
            <p:cNvSpPr/>
            <p:nvPr/>
          </p:nvSpPr>
          <p:spPr>
            <a:xfrm>
              <a:off x="395280" y="2649600"/>
              <a:ext cx="3849120" cy="824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trategy: reflect impedance into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imary side and make transfor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“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ransparent to user.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5" name=""/>
                <p:cNvSpPr txBox="1"/>
                <p:nvPr/>
              </p:nvSpPr>
              <p:spPr>
                <a:xfrm>
                  <a:off x="2895480" y="3200400"/>
                  <a:ext cx="8114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num>
                        <m:den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66" name=""/>
          <p:cNvGrpSpPr/>
          <p:nvPr/>
        </p:nvGrpSpPr>
        <p:grpSpPr>
          <a:xfrm>
            <a:off x="3809880" y="3886200"/>
            <a:ext cx="990720" cy="2286000"/>
            <a:chOff x="3809880" y="3886200"/>
            <a:chExt cx="990720" cy="2286000"/>
          </a:xfrm>
        </p:grpSpPr>
        <p:sp>
          <p:nvSpPr>
            <p:cNvPr id="667" name=""/>
            <p:cNvSpPr/>
            <p:nvPr/>
          </p:nvSpPr>
          <p:spPr>
            <a:xfrm>
              <a:off x="3809880" y="3886200"/>
              <a:ext cx="990720" cy="22860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8" name=""/>
                <p:cNvSpPr txBox="1"/>
                <p:nvPr/>
              </p:nvSpPr>
              <p:spPr>
                <a:xfrm>
                  <a:off x="4497480" y="3886200"/>
                  <a:ext cx="3031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69" name=""/>
          <p:cNvGrpSpPr/>
          <p:nvPr/>
        </p:nvGrpSpPr>
        <p:grpSpPr>
          <a:xfrm>
            <a:off x="2457360" y="4341960"/>
            <a:ext cx="1257480" cy="1892160"/>
            <a:chOff x="2457360" y="4341960"/>
            <a:chExt cx="1257480" cy="1892160"/>
          </a:xfrm>
        </p:grpSpPr>
        <p:sp>
          <p:nvSpPr>
            <p:cNvPr id="670" name=""/>
            <p:cNvSpPr/>
            <p:nvPr/>
          </p:nvSpPr>
          <p:spPr>
            <a:xfrm>
              <a:off x="2971800" y="4648320"/>
              <a:ext cx="152280" cy="83808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733840" y="5479920"/>
              <a:ext cx="338040" cy="371520"/>
            </a:xfrm>
            <a:custGeom>
              <a:avLst/>
              <a:gdLst/>
              <a:ahLst/>
              <a:rect l="l" t="t" r="r" b="b"/>
              <a:pathLst>
                <a:path w="213" h="234">
                  <a:moveTo>
                    <a:pt x="195" y="0"/>
                  </a:moveTo>
                  <a:cubicBezTo>
                    <a:pt x="213" y="108"/>
                    <a:pt x="203" y="31"/>
                    <a:pt x="203" y="234"/>
                  </a:cubicBezTo>
                  <a:cubicBezTo>
                    <a:pt x="135" y="234"/>
                    <a:pt x="68" y="234"/>
                    <a:pt x="0" y="23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647800" y="4341960"/>
              <a:ext cx="392400" cy="420480"/>
            </a:xfrm>
            <a:custGeom>
              <a:avLst/>
              <a:gdLst/>
              <a:ahLst/>
              <a:rect l="l" t="t" r="r" b="b"/>
              <a:pathLst>
                <a:path w="247" h="265">
                  <a:moveTo>
                    <a:pt x="0" y="0"/>
                  </a:moveTo>
                  <a:cubicBezTo>
                    <a:pt x="31" y="5"/>
                    <a:pt x="62" y="13"/>
                    <a:pt x="93" y="16"/>
                  </a:cubicBezTo>
                  <a:cubicBezTo>
                    <a:pt x="140" y="20"/>
                    <a:pt x="233" y="24"/>
                    <a:pt x="233" y="24"/>
                  </a:cubicBezTo>
                  <a:cubicBezTo>
                    <a:pt x="247" y="156"/>
                    <a:pt x="241" y="76"/>
                    <a:pt x="241" y="26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3" name=""/>
                <p:cNvSpPr txBox="1"/>
                <p:nvPr/>
              </p:nvSpPr>
              <p:spPr>
                <a:xfrm>
                  <a:off x="2457360" y="5943600"/>
                  <a:ext cx="1257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2</m:t>
                      </m:r>
                      <m:r>
                        <m:t xml:space="preserve">+</m:t>
                      </m:r>
                      <m:r>
                        <m:t xml:space="preserve">j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4876920" y="609480"/>
                <a:ext cx="40892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4952880" y="1295280"/>
                <a:ext cx="25401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4419720" y="2019240"/>
                <a:ext cx="33908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°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°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7" name=""/>
          <p:cNvSpPr/>
          <p:nvPr/>
        </p:nvSpPr>
        <p:spPr>
          <a:xfrm>
            <a:off x="7720920" y="1905120"/>
            <a:ext cx="14760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LEX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4419720" y="3200400"/>
                <a:ext cx="4647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8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rPr>
                        <m:lit/>
                        <m:nor/>
                      </m:rPr>
                      <m:t xml:space="preserve">8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5486400" y="4191120"/>
                <a:ext cx="32767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urrent into do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4952880" y="4876920"/>
                <a:ext cx="4038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is opposite to do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1" name=""/>
          <p:cNvSpPr/>
          <p:nvPr/>
        </p:nvSpPr>
        <p:spPr>
          <a:xfrm>
            <a:off x="5076720" y="3564000"/>
            <a:ext cx="34178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REFUL WITH POLARITIES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 DIRECTION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2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8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657520" y="387360"/>
            <a:ext cx="2262240" cy="3111480"/>
            <a:chOff x="2657520" y="387360"/>
            <a:chExt cx="2262240" cy="3111480"/>
          </a:xfrm>
        </p:grpSpPr>
        <p:grpSp>
          <p:nvGrpSpPr>
            <p:cNvPr id="51" name=""/>
            <p:cNvGrpSpPr/>
            <p:nvPr/>
          </p:nvGrpSpPr>
          <p:grpSpPr>
            <a:xfrm>
              <a:off x="2657520" y="387360"/>
              <a:ext cx="2262240" cy="3111480"/>
              <a:chOff x="2657520" y="387360"/>
              <a:chExt cx="2262240" cy="3111480"/>
            </a:xfrm>
          </p:grpSpPr>
          <p:graphicFrame>
            <p:nvGraphicFramePr>
              <p:cNvPr id="52" name=""/>
              <p:cNvGraphicFramePr/>
              <p:nvPr/>
            </p:nvGraphicFramePr>
            <p:xfrm>
              <a:off x="2657520" y="1084320"/>
              <a:ext cx="2262240" cy="24145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53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657520" y="1084320"/>
                        <a:ext cx="2262240" cy="2414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4" name=""/>
              <p:cNvSpPr/>
              <p:nvPr/>
            </p:nvSpPr>
            <p:spPr>
              <a:xfrm>
                <a:off x="3224160" y="457200"/>
                <a:ext cx="15415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Induced link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on secon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coi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200400" y="387360"/>
                <a:ext cx="1511280" cy="1047600"/>
              </a:xfrm>
              <a:custGeom>
                <a:avLst/>
                <a:gdLst/>
                <a:ahLst/>
                <a:rect l="l" t="t" r="r" b="b"/>
                <a:pathLst>
                  <a:path w="952" h="660">
                    <a:moveTo>
                      <a:pt x="950" y="192"/>
                    </a:moveTo>
                    <a:cubicBezTo>
                      <a:pt x="948" y="156"/>
                      <a:pt x="952" y="118"/>
                      <a:pt x="943" y="83"/>
                    </a:cubicBezTo>
                    <a:cubicBezTo>
                      <a:pt x="941" y="75"/>
                      <a:pt x="927" y="79"/>
                      <a:pt x="919" y="76"/>
                    </a:cubicBezTo>
                    <a:cubicBezTo>
                      <a:pt x="875" y="58"/>
                      <a:pt x="861" y="51"/>
                      <a:pt x="810" y="44"/>
                    </a:cubicBezTo>
                    <a:cubicBezTo>
                      <a:pt x="664" y="0"/>
                      <a:pt x="433" y="17"/>
                      <a:pt x="296" y="13"/>
                    </a:cubicBezTo>
                    <a:cubicBezTo>
                      <a:pt x="224" y="4"/>
                      <a:pt x="157" y="9"/>
                      <a:pt x="85" y="21"/>
                    </a:cubicBezTo>
                    <a:cubicBezTo>
                      <a:pt x="59" y="47"/>
                      <a:pt x="58" y="66"/>
                      <a:pt x="46" y="99"/>
                    </a:cubicBezTo>
                    <a:cubicBezTo>
                      <a:pt x="43" y="173"/>
                      <a:pt x="14" y="501"/>
                      <a:pt x="39" y="574"/>
                    </a:cubicBezTo>
                    <a:cubicBezTo>
                      <a:pt x="46" y="594"/>
                      <a:pt x="80" y="585"/>
                      <a:pt x="101" y="590"/>
                    </a:cubicBezTo>
                    <a:cubicBezTo>
                      <a:pt x="176" y="587"/>
                      <a:pt x="252" y="582"/>
                      <a:pt x="327" y="582"/>
                    </a:cubicBezTo>
                    <a:cubicBezTo>
                      <a:pt x="384" y="582"/>
                      <a:pt x="211" y="576"/>
                      <a:pt x="156" y="590"/>
                    </a:cubicBezTo>
                    <a:cubicBezTo>
                      <a:pt x="135" y="595"/>
                      <a:pt x="130" y="631"/>
                      <a:pt x="109" y="637"/>
                    </a:cubicBezTo>
                    <a:cubicBezTo>
                      <a:pt x="74" y="647"/>
                      <a:pt x="37" y="660"/>
                      <a:pt x="0" y="660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6" name=""/>
                <p:cNvSpPr txBox="1"/>
                <p:nvPr/>
              </p:nvSpPr>
              <p:spPr>
                <a:xfrm>
                  <a:off x="3809880" y="990720"/>
                  <a:ext cx="480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r>
                            <m:t xml:space="preserve">λ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7" name=""/>
          <p:cNvSpPr/>
          <p:nvPr/>
        </p:nvSpPr>
        <p:spPr>
          <a:xfrm>
            <a:off x="130680" y="76320"/>
            <a:ext cx="3020040" cy="3988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MUTUAL INDUC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F08.001_W0854" descr=""/>
          <p:cNvPicPr/>
          <p:nvPr/>
        </p:nvPicPr>
        <p:blipFill>
          <a:blip r:embed="rId3"/>
          <a:stretch/>
        </p:blipFill>
        <p:spPr>
          <a:xfrm>
            <a:off x="244440" y="1117440"/>
            <a:ext cx="2819520" cy="2311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19880" y="533520"/>
            <a:ext cx="3000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verview of Induction La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05120" y="914400"/>
            <a:ext cx="1130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agne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l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380880" y="2971800"/>
                <a:ext cx="18288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otal flux linkage 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r>
                          <m:t xml:space="preserve">Nφ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weber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2" name=""/>
          <p:cNvGrpSpPr/>
          <p:nvPr/>
        </p:nvGrpSpPr>
        <p:grpSpPr>
          <a:xfrm>
            <a:off x="78840" y="3581280"/>
            <a:ext cx="4342680" cy="947160"/>
            <a:chOff x="78840" y="3581280"/>
            <a:chExt cx="4342680" cy="947160"/>
          </a:xfrm>
        </p:grpSpPr>
        <mc:AlternateContent>
          <mc:Choice xmlns:a14="http://schemas.microsoft.com/office/drawing/2010/main" Requires="a14">
            <p:sp>
              <p:nvSpPr>
                <p:cNvPr id="63" name=""/>
                <p:cNvSpPr txBox="1"/>
                <p:nvPr/>
              </p:nvSpPr>
              <p:spPr>
                <a:xfrm>
                  <a:off x="1692360" y="4208400"/>
                  <a:ext cx="6332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λ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Li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4" name=""/>
            <p:cNvSpPr/>
            <p:nvPr/>
          </p:nvSpPr>
          <p:spPr>
            <a:xfrm>
              <a:off x="78840" y="3581280"/>
              <a:ext cx="43426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f linkage is created by a current flowi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rough the coils…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466720" y="4191120"/>
              <a:ext cx="1726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(Ampere’s Law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111240" y="4648320"/>
            <a:ext cx="4348800" cy="1109520"/>
            <a:chOff x="111240" y="4648320"/>
            <a:chExt cx="4348800" cy="1109520"/>
          </a:xfrm>
        </p:grpSpPr>
        <p:sp>
          <p:nvSpPr>
            <p:cNvPr id="67" name=""/>
            <p:cNvSpPr/>
            <p:nvPr/>
          </p:nvSpPr>
          <p:spPr>
            <a:xfrm>
              <a:off x="111240" y="4648320"/>
              <a:ext cx="41950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voltage created at the terminals of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components i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" name=""/>
                <p:cNvSpPr txBox="1"/>
                <p:nvPr/>
              </p:nvSpPr>
              <p:spPr>
                <a:xfrm>
                  <a:off x="674640" y="5199120"/>
                  <a:ext cx="7725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r>
                        <m:t xml:space="preserve">L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i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9" name=""/>
            <p:cNvSpPr/>
            <p:nvPr/>
          </p:nvSpPr>
          <p:spPr>
            <a:xfrm>
              <a:off x="1684080" y="5334120"/>
              <a:ext cx="27759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(Faraday’s Induction Law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8280" y="5743440"/>
            <a:ext cx="41889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at happens if the flux created by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 links to another coil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0320" y="6324480"/>
            <a:ext cx="42681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has the effect of mutual induc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4699080" y="533520"/>
                <a:ext cx="4444920" cy="17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Total flux linking circuit </m:t>
                        </m:r>
                        <m:r>
                          <m:t xml:space="preserve">i</m:t>
                        </m:r>
                      </m:e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Flux linking circuit 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 caused by a curren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in circuit </m:t>
                        </m:r>
                        <m:r>
                          <m:t xml:space="preserve">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4902120" y="2438280"/>
                <a:ext cx="26416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linear inductor models</m:t>
                        </m:r>
                      </m:e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4635360" y="3200400"/>
                <a:ext cx="450864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</m:t>
                        </m:r>
                        <m:r>
                          <m:t xml:space="preserve">self</m:t>
                        </m:r>
                        <m:r>
                          <m:t xml:space="preserve">inductance</m:t>
                        </m:r>
                        <m:r>
                          <m:rPr>
                            <m:lit/>
                            <m:nor/>
                          </m:rPr>
                          <m:t xml:space="preserve"> of circuit </m:t>
                        </m:r>
                        <m:r>
                          <m:t xml:space="preserve">i</m:t>
                        </m:r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utual inductance between circuit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r>
                          <m:t xml:space="preserve">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4780080" y="152280"/>
            <a:ext cx="3134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sume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circuits interac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4701960" y="4267080"/>
            <a:ext cx="2210040" cy="1046160"/>
            <a:chOff x="4701960" y="4267080"/>
            <a:chExt cx="2210040" cy="1046160"/>
          </a:xfrm>
        </p:grpSpPr>
        <p:sp>
          <p:nvSpPr>
            <p:cNvPr id="77" name=""/>
            <p:cNvSpPr/>
            <p:nvPr/>
          </p:nvSpPr>
          <p:spPr>
            <a:xfrm>
              <a:off x="4701960" y="4267080"/>
              <a:ext cx="17928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pecial case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Lucida Sans"/>
                </a:rPr>
                <a:t>n=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" name=""/>
                <p:cNvSpPr txBox="1"/>
                <p:nvPr/>
              </p:nvSpPr>
              <p:spPr>
                <a:xfrm>
                  <a:off x="5349960" y="4665600"/>
                  <a:ext cx="156204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λ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λ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4724280" y="5486400"/>
                <a:ext cx="3391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mplify notation</m:t>
                        </m:r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←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←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←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7315200" y="4648320"/>
                <a:ext cx="1384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inear Model:</m:t>
                        </m:r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81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167040" y="586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8" name="E08.006_W0874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6629400" cy="1670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89" name=""/>
              <p:cNvSpPr txBox="1"/>
              <p:nvPr/>
            </p:nvSpPr>
            <p:spPr>
              <a:xfrm>
                <a:off x="2666880" y="90360"/>
                <a:ext cx="1917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the current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0" name=""/>
              <p:cNvSpPr txBox="1"/>
              <p:nvPr/>
            </p:nvSpPr>
            <p:spPr>
              <a:xfrm>
                <a:off x="3962520" y="457200"/>
                <a:ext cx="507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91" name=""/>
          <p:cNvGrpSpPr/>
          <p:nvPr/>
        </p:nvGrpSpPr>
        <p:grpSpPr>
          <a:xfrm>
            <a:off x="258840" y="2743200"/>
            <a:ext cx="3849120" cy="1109520"/>
            <a:chOff x="258840" y="2743200"/>
            <a:chExt cx="3849120" cy="1109520"/>
          </a:xfrm>
        </p:grpSpPr>
        <p:sp>
          <p:nvSpPr>
            <p:cNvPr id="692" name=""/>
            <p:cNvSpPr/>
            <p:nvPr/>
          </p:nvSpPr>
          <p:spPr>
            <a:xfrm>
              <a:off x="258840" y="2743200"/>
              <a:ext cx="3849120" cy="824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trategy: reflect impedance into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imary side and make transfor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“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ransparent to user.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3" name=""/>
                <p:cNvSpPr txBox="1"/>
                <p:nvPr/>
              </p:nvSpPr>
              <p:spPr>
                <a:xfrm>
                  <a:off x="2759040" y="3294000"/>
                  <a:ext cx="8114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num>
                        <m:den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694" name=""/>
          <p:cNvGraphicFramePr/>
          <p:nvPr/>
        </p:nvGraphicFramePr>
        <p:xfrm>
          <a:off x="4343400" y="2286000"/>
          <a:ext cx="3494160" cy="202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43400" y="2286000"/>
                    <a:ext cx="3494160" cy="20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96" name=""/>
          <p:cNvGrpSpPr/>
          <p:nvPr/>
        </p:nvGrpSpPr>
        <p:grpSpPr>
          <a:xfrm>
            <a:off x="7669080" y="2733840"/>
            <a:ext cx="812880" cy="1287360"/>
            <a:chOff x="7669080" y="2733840"/>
            <a:chExt cx="812880" cy="1287360"/>
          </a:xfrm>
        </p:grpSpPr>
        <p:sp>
          <p:nvSpPr>
            <p:cNvPr id="697" name=""/>
            <p:cNvSpPr/>
            <p:nvPr/>
          </p:nvSpPr>
          <p:spPr>
            <a:xfrm>
              <a:off x="7924680" y="3048120"/>
              <a:ext cx="228600" cy="68580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694640" y="2733840"/>
              <a:ext cx="345960" cy="296640"/>
            </a:xfrm>
            <a:custGeom>
              <a:avLst/>
              <a:gdLst/>
              <a:ahLst/>
              <a:rect l="l" t="t" r="r" b="b"/>
              <a:pathLst>
                <a:path w="218" h="187">
                  <a:moveTo>
                    <a:pt x="218" y="187"/>
                  </a:moveTo>
                  <a:cubicBezTo>
                    <a:pt x="215" y="142"/>
                    <a:pt x="203" y="53"/>
                    <a:pt x="203" y="0"/>
                  </a:cubicBezTo>
                  <a:cubicBezTo>
                    <a:pt x="135" y="0"/>
                    <a:pt x="68" y="0"/>
                    <a:pt x="0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669080" y="3736800"/>
              <a:ext cx="384480" cy="284400"/>
            </a:xfrm>
            <a:custGeom>
              <a:avLst/>
              <a:gdLst/>
              <a:ahLst/>
              <a:rect l="l" t="t" r="r" b="b"/>
              <a:pathLst>
                <a:path w="242" h="179">
                  <a:moveTo>
                    <a:pt x="242" y="0"/>
                  </a:moveTo>
                  <a:cubicBezTo>
                    <a:pt x="225" y="67"/>
                    <a:pt x="219" y="108"/>
                    <a:pt x="219" y="179"/>
                  </a:cubicBezTo>
                  <a:cubicBezTo>
                    <a:pt x="16" y="171"/>
                    <a:pt x="89" y="171"/>
                    <a:pt x="0" y="171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0" name=""/>
                <p:cNvSpPr txBox="1"/>
                <p:nvPr/>
              </p:nvSpPr>
              <p:spPr>
                <a:xfrm>
                  <a:off x="8229600" y="3200400"/>
                  <a:ext cx="252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01" name=""/>
              <p:cNvSpPr txBox="1"/>
              <p:nvPr/>
            </p:nvSpPr>
            <p:spPr>
              <a:xfrm>
                <a:off x="1486080" y="3886200"/>
                <a:ext cx="21589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02" name=""/>
          <p:cNvGrpSpPr/>
          <p:nvPr/>
        </p:nvGrpSpPr>
        <p:grpSpPr>
          <a:xfrm>
            <a:off x="5321160" y="3568680"/>
            <a:ext cx="1384560" cy="912960"/>
            <a:chOff x="5321160" y="3568680"/>
            <a:chExt cx="1384560" cy="912960"/>
          </a:xfrm>
        </p:grpSpPr>
        <p:sp>
          <p:nvSpPr>
            <p:cNvPr id="703" name=""/>
            <p:cNvSpPr/>
            <p:nvPr/>
          </p:nvSpPr>
          <p:spPr>
            <a:xfrm>
              <a:off x="5587920" y="3568680"/>
              <a:ext cx="362160" cy="625320"/>
            </a:xfrm>
            <a:custGeom>
              <a:avLst/>
              <a:gdLst/>
              <a:ahLst/>
              <a:rect l="l" t="t" r="r" b="b"/>
              <a:pathLst>
                <a:path w="228" h="394">
                  <a:moveTo>
                    <a:pt x="10" y="394"/>
                  </a:moveTo>
                  <a:cubicBezTo>
                    <a:pt x="15" y="269"/>
                    <a:pt x="0" y="142"/>
                    <a:pt x="26" y="20"/>
                  </a:cubicBezTo>
                  <a:cubicBezTo>
                    <a:pt x="30" y="0"/>
                    <a:pt x="67" y="25"/>
                    <a:pt x="88" y="28"/>
                  </a:cubicBezTo>
                  <a:cubicBezTo>
                    <a:pt x="135" y="36"/>
                    <a:pt x="180" y="43"/>
                    <a:pt x="228" y="43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4" name=""/>
                <p:cNvSpPr txBox="1"/>
                <p:nvPr/>
              </p:nvSpPr>
              <p:spPr>
                <a:xfrm>
                  <a:off x="5321160" y="4191120"/>
                  <a:ext cx="13845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05" name=""/>
              <p:cNvSpPr txBox="1"/>
              <p:nvPr/>
            </p:nvSpPr>
            <p:spPr>
              <a:xfrm>
                <a:off x="1066680" y="4648320"/>
                <a:ext cx="13590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2438280" y="4648320"/>
                <a:ext cx="3149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7" name=""/>
          <p:cNvSpPr/>
          <p:nvPr/>
        </p:nvSpPr>
        <p:spPr>
          <a:xfrm>
            <a:off x="6805080" y="4191120"/>
            <a:ext cx="221076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 in Vo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edance in Oh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...Current in Am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167040" y="5316480"/>
            <a:ext cx="3287520" cy="337320"/>
            <a:chOff x="167040" y="5316480"/>
            <a:chExt cx="3287520" cy="337320"/>
          </a:xfrm>
        </p:grpSpPr>
        <p:sp>
          <p:nvSpPr>
            <p:cNvPr id="709" name=""/>
            <p:cNvSpPr/>
            <p:nvPr/>
          </p:nvSpPr>
          <p:spPr>
            <a:xfrm>
              <a:off x="167040" y="5316480"/>
              <a:ext cx="244980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T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0" name=""/>
                <p:cNvSpPr txBox="1"/>
                <p:nvPr/>
              </p:nvSpPr>
              <p:spPr>
                <a:xfrm>
                  <a:off x="2743200" y="5334120"/>
                  <a:ext cx="711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ind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11" name=""/>
          <p:cNvSpPr/>
          <p:nvPr/>
        </p:nvSpPr>
        <p:spPr>
          <a:xfrm>
            <a:off x="231480" y="5759280"/>
            <a:ext cx="62722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rategy: Find current in secondary and then use Ohm’s La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4948200" y="1136520"/>
            <a:ext cx="1108080" cy="668520"/>
            <a:chOff x="4948200" y="1136520"/>
            <a:chExt cx="1108080" cy="668520"/>
          </a:xfrm>
        </p:grpSpPr>
        <p:sp>
          <p:nvSpPr>
            <p:cNvPr id="713" name=""/>
            <p:cNvSpPr/>
            <p:nvPr/>
          </p:nvSpPr>
          <p:spPr>
            <a:xfrm>
              <a:off x="4948200" y="1136520"/>
              <a:ext cx="1108080" cy="668520"/>
            </a:xfrm>
            <a:custGeom>
              <a:avLst/>
              <a:gdLst/>
              <a:ahLst/>
              <a:rect l="l" t="t" r="r" b="b"/>
              <a:pathLst>
                <a:path w="698" h="421">
                  <a:moveTo>
                    <a:pt x="0" y="359"/>
                  </a:moveTo>
                  <a:cubicBezTo>
                    <a:pt x="11" y="175"/>
                    <a:pt x="3" y="265"/>
                    <a:pt x="23" y="87"/>
                  </a:cubicBezTo>
                  <a:cubicBezTo>
                    <a:pt x="25" y="69"/>
                    <a:pt x="13" y="36"/>
                    <a:pt x="31" y="32"/>
                  </a:cubicBezTo>
                  <a:cubicBezTo>
                    <a:pt x="165" y="0"/>
                    <a:pt x="306" y="18"/>
                    <a:pt x="444" y="9"/>
                  </a:cubicBezTo>
                  <a:cubicBezTo>
                    <a:pt x="698" y="125"/>
                    <a:pt x="638" y="25"/>
                    <a:pt x="655" y="243"/>
                  </a:cubicBezTo>
                  <a:cubicBezTo>
                    <a:pt x="656" y="258"/>
                    <a:pt x="660" y="274"/>
                    <a:pt x="662" y="289"/>
                  </a:cubicBezTo>
                  <a:cubicBezTo>
                    <a:pt x="660" y="320"/>
                    <a:pt x="684" y="370"/>
                    <a:pt x="655" y="383"/>
                  </a:cubicBezTo>
                  <a:cubicBezTo>
                    <a:pt x="584" y="415"/>
                    <a:pt x="421" y="398"/>
                    <a:pt x="421" y="398"/>
                  </a:cubicBezTo>
                  <a:cubicBezTo>
                    <a:pt x="285" y="421"/>
                    <a:pt x="146" y="414"/>
                    <a:pt x="8" y="41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4" name=""/>
                <p:cNvSpPr txBox="1"/>
                <p:nvPr/>
              </p:nvSpPr>
              <p:spPr>
                <a:xfrm>
                  <a:off x="5181480" y="1219320"/>
                  <a:ext cx="68580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3048120" y="6095880"/>
                <a:ext cx="38606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Ω</m:t>
                    </m:r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16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1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288000" y="76320"/>
            <a:ext cx="8361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THEVENIN’S THEOREM TO SIMPLIFY CIRCUITS WITH IDEAL TRANSFORM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2" name=""/>
          <p:cNvGraphicFramePr/>
          <p:nvPr/>
        </p:nvGraphicFramePr>
        <p:xfrm>
          <a:off x="152280" y="533520"/>
          <a:ext cx="4319640" cy="181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33520"/>
                    <a:ext cx="4319640" cy="18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24" name=""/>
          <p:cNvGrpSpPr/>
          <p:nvPr/>
        </p:nvGrpSpPr>
        <p:grpSpPr>
          <a:xfrm>
            <a:off x="31680" y="361800"/>
            <a:ext cx="4027680" cy="2581200"/>
            <a:chOff x="31680" y="361800"/>
            <a:chExt cx="4027680" cy="2581200"/>
          </a:xfrm>
        </p:grpSpPr>
        <p:sp>
          <p:nvSpPr>
            <p:cNvPr id="725" name=""/>
            <p:cNvSpPr/>
            <p:nvPr/>
          </p:nvSpPr>
          <p:spPr>
            <a:xfrm>
              <a:off x="31680" y="361800"/>
              <a:ext cx="3076560" cy="1984680"/>
            </a:xfrm>
            <a:custGeom>
              <a:avLst/>
              <a:gdLst/>
              <a:ahLst/>
              <a:rect l="l" t="t" r="r" b="b"/>
              <a:pathLst>
                <a:path w="1938" h="1250">
                  <a:moveTo>
                    <a:pt x="1897" y="1167"/>
                  </a:moveTo>
                  <a:cubicBezTo>
                    <a:pt x="1933" y="920"/>
                    <a:pt x="1938" y="545"/>
                    <a:pt x="1881" y="294"/>
                  </a:cubicBezTo>
                  <a:cubicBezTo>
                    <a:pt x="1868" y="180"/>
                    <a:pt x="1891" y="280"/>
                    <a:pt x="1819" y="169"/>
                  </a:cubicBezTo>
                  <a:cubicBezTo>
                    <a:pt x="1777" y="105"/>
                    <a:pt x="1834" y="139"/>
                    <a:pt x="1772" y="92"/>
                  </a:cubicBezTo>
                  <a:cubicBezTo>
                    <a:pt x="1704" y="41"/>
                    <a:pt x="1539" y="44"/>
                    <a:pt x="1461" y="37"/>
                  </a:cubicBezTo>
                  <a:cubicBezTo>
                    <a:pt x="1315" y="0"/>
                    <a:pt x="1151" y="13"/>
                    <a:pt x="1001" y="6"/>
                  </a:cubicBezTo>
                  <a:cubicBezTo>
                    <a:pt x="776" y="10"/>
                    <a:pt x="643" y="1"/>
                    <a:pt x="455" y="21"/>
                  </a:cubicBezTo>
                  <a:cubicBezTo>
                    <a:pt x="398" y="27"/>
                    <a:pt x="339" y="35"/>
                    <a:pt x="284" y="53"/>
                  </a:cubicBezTo>
                  <a:cubicBezTo>
                    <a:pt x="248" y="65"/>
                    <a:pt x="190" y="115"/>
                    <a:pt x="190" y="115"/>
                  </a:cubicBezTo>
                  <a:cubicBezTo>
                    <a:pt x="157" y="166"/>
                    <a:pt x="113" y="206"/>
                    <a:pt x="89" y="263"/>
                  </a:cubicBezTo>
                  <a:cubicBezTo>
                    <a:pt x="85" y="274"/>
                    <a:pt x="78" y="283"/>
                    <a:pt x="74" y="294"/>
                  </a:cubicBezTo>
                  <a:cubicBezTo>
                    <a:pt x="67" y="314"/>
                    <a:pt x="58" y="356"/>
                    <a:pt x="58" y="356"/>
                  </a:cubicBezTo>
                  <a:cubicBezTo>
                    <a:pt x="46" y="453"/>
                    <a:pt x="42" y="468"/>
                    <a:pt x="42" y="598"/>
                  </a:cubicBezTo>
                  <a:cubicBezTo>
                    <a:pt x="42" y="736"/>
                    <a:pt x="0" y="886"/>
                    <a:pt x="58" y="1011"/>
                  </a:cubicBezTo>
                  <a:cubicBezTo>
                    <a:pt x="97" y="1097"/>
                    <a:pt x="177" y="1130"/>
                    <a:pt x="261" y="1151"/>
                  </a:cubicBezTo>
                  <a:cubicBezTo>
                    <a:pt x="515" y="1214"/>
                    <a:pt x="770" y="1208"/>
                    <a:pt x="1032" y="1214"/>
                  </a:cubicBezTo>
                  <a:cubicBezTo>
                    <a:pt x="1210" y="1227"/>
                    <a:pt x="1368" y="1233"/>
                    <a:pt x="1554" y="1237"/>
                  </a:cubicBezTo>
                  <a:cubicBezTo>
                    <a:pt x="1712" y="1250"/>
                    <a:pt x="1621" y="1245"/>
                    <a:pt x="1827" y="124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49400" y="2362320"/>
              <a:ext cx="390996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place this circuit with its Theven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27" name=""/>
          <p:cNvGraphicFramePr/>
          <p:nvPr/>
        </p:nvGraphicFramePr>
        <p:xfrm>
          <a:off x="152280" y="2971800"/>
          <a:ext cx="4079880" cy="188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2971800"/>
                    <a:ext cx="4079880" cy="18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29" name=""/>
              <p:cNvSpPr txBox="1"/>
              <p:nvPr/>
            </p:nvSpPr>
            <p:spPr>
              <a:xfrm>
                <a:off x="228600" y="4800600"/>
                <a:ext cx="17272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0" name=""/>
              <p:cNvSpPr txBox="1"/>
              <p:nvPr/>
            </p:nvSpPr>
            <p:spPr>
              <a:xfrm>
                <a:off x="1981080" y="4967280"/>
                <a:ext cx="1016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1" name=""/>
              <p:cNvSpPr txBox="1"/>
              <p:nvPr/>
            </p:nvSpPr>
            <p:spPr>
              <a:xfrm>
                <a:off x="228600" y="5500800"/>
                <a:ext cx="22986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S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V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732" name=""/>
          <p:cNvGraphicFramePr/>
          <p:nvPr/>
        </p:nvGraphicFramePr>
        <p:xfrm>
          <a:off x="4572000" y="685800"/>
          <a:ext cx="4067280" cy="179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685800"/>
                    <a:ext cx="4067280" cy="17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4" name=""/>
          <p:cNvSpPr/>
          <p:nvPr/>
        </p:nvSpPr>
        <p:spPr>
          <a:xfrm>
            <a:off x="124200" y="6230880"/>
            <a:ext cx="4266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determine the Thevenin impedance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7966080" y="1422360"/>
            <a:ext cx="998640" cy="1382760"/>
            <a:chOff x="7966080" y="1422360"/>
            <a:chExt cx="998640" cy="1382760"/>
          </a:xfrm>
        </p:grpSpPr>
        <p:sp>
          <p:nvSpPr>
            <p:cNvPr id="736" name=""/>
            <p:cNvSpPr/>
            <p:nvPr/>
          </p:nvSpPr>
          <p:spPr>
            <a:xfrm>
              <a:off x="7966080" y="1422360"/>
              <a:ext cx="768240" cy="1138320"/>
            </a:xfrm>
            <a:custGeom>
              <a:avLst/>
              <a:gdLst/>
              <a:ahLst/>
              <a:rect l="l" t="t" r="r" b="b"/>
              <a:pathLst>
                <a:path w="484" h="717">
                  <a:moveTo>
                    <a:pt x="460" y="717"/>
                  </a:moveTo>
                  <a:cubicBezTo>
                    <a:pt x="455" y="585"/>
                    <a:pt x="452" y="458"/>
                    <a:pt x="429" y="328"/>
                  </a:cubicBezTo>
                  <a:cubicBezTo>
                    <a:pt x="415" y="0"/>
                    <a:pt x="484" y="140"/>
                    <a:pt x="0" y="14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7" name=""/>
                <p:cNvSpPr txBox="1"/>
                <p:nvPr/>
              </p:nvSpPr>
              <p:spPr>
                <a:xfrm>
                  <a:off x="8534520" y="2514600"/>
                  <a:ext cx="4302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38" name=""/>
          <p:cNvSpPr/>
          <p:nvPr/>
        </p:nvSpPr>
        <p:spPr>
          <a:xfrm>
            <a:off x="5118480" y="2496960"/>
            <a:ext cx="25200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flect impedance i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cond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7772400" y="2895480"/>
                <a:ext cx="11048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740" name=""/>
          <p:cNvGrpSpPr/>
          <p:nvPr/>
        </p:nvGrpSpPr>
        <p:grpSpPr>
          <a:xfrm>
            <a:off x="4800600" y="3276720"/>
            <a:ext cx="4032720" cy="2468160"/>
            <a:chOff x="4800600" y="3276720"/>
            <a:chExt cx="4032720" cy="2468160"/>
          </a:xfrm>
        </p:grpSpPr>
        <p:graphicFrame>
          <p:nvGraphicFramePr>
            <p:cNvPr id="741" name=""/>
            <p:cNvGraphicFramePr/>
            <p:nvPr/>
          </p:nvGraphicFramePr>
          <p:xfrm>
            <a:off x="4800600" y="3276720"/>
            <a:ext cx="3978360" cy="18921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4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800600" y="3276720"/>
                      <a:ext cx="3978360" cy="189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3" name=""/>
            <p:cNvSpPr/>
            <p:nvPr/>
          </p:nvSpPr>
          <p:spPr>
            <a:xfrm>
              <a:off x="5072760" y="5164200"/>
              <a:ext cx="376056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circuit with transfor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“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ade transparent.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4" name=""/>
          <p:cNvSpPr/>
          <p:nvPr/>
        </p:nvSpPr>
        <p:spPr>
          <a:xfrm>
            <a:off x="4765320" y="5850000"/>
            <a:ext cx="39693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can also determine the Theven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ivalent at 1 - 1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5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4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0" name=""/>
          <p:cNvGraphicFramePr/>
          <p:nvPr/>
        </p:nvGraphicFramePr>
        <p:xfrm>
          <a:off x="152280" y="533520"/>
          <a:ext cx="4319640" cy="181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33520"/>
                    <a:ext cx="4319640" cy="18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2" name=""/>
          <p:cNvSpPr/>
          <p:nvPr/>
        </p:nvSpPr>
        <p:spPr>
          <a:xfrm>
            <a:off x="485280" y="58680"/>
            <a:ext cx="6455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THEVENIN’S THEOREM: REFLECTING INTO THE PRI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3" name=""/>
          <p:cNvGrpSpPr/>
          <p:nvPr/>
        </p:nvGrpSpPr>
        <p:grpSpPr>
          <a:xfrm>
            <a:off x="1533600" y="390600"/>
            <a:ext cx="3728520" cy="2611080"/>
            <a:chOff x="1533600" y="390600"/>
            <a:chExt cx="3728520" cy="2611080"/>
          </a:xfrm>
        </p:grpSpPr>
        <p:sp>
          <p:nvSpPr>
            <p:cNvPr id="754" name=""/>
            <p:cNvSpPr/>
            <p:nvPr/>
          </p:nvSpPr>
          <p:spPr>
            <a:xfrm>
              <a:off x="1533600" y="390600"/>
              <a:ext cx="3192480" cy="2333520"/>
            </a:xfrm>
            <a:custGeom>
              <a:avLst/>
              <a:gdLst/>
              <a:ahLst/>
              <a:rect l="l" t="t" r="r" b="b"/>
              <a:pathLst>
                <a:path w="2011" h="1470">
                  <a:moveTo>
                    <a:pt x="328" y="74"/>
                  </a:moveTo>
                  <a:cubicBezTo>
                    <a:pt x="255" y="63"/>
                    <a:pt x="238" y="56"/>
                    <a:pt x="148" y="81"/>
                  </a:cubicBezTo>
                  <a:cubicBezTo>
                    <a:pt x="128" y="87"/>
                    <a:pt x="127" y="117"/>
                    <a:pt x="117" y="136"/>
                  </a:cubicBezTo>
                  <a:cubicBezTo>
                    <a:pt x="107" y="228"/>
                    <a:pt x="100" y="319"/>
                    <a:pt x="78" y="409"/>
                  </a:cubicBezTo>
                  <a:cubicBezTo>
                    <a:pt x="66" y="512"/>
                    <a:pt x="58" y="618"/>
                    <a:pt x="39" y="720"/>
                  </a:cubicBezTo>
                  <a:cubicBezTo>
                    <a:pt x="26" y="793"/>
                    <a:pt x="8" y="857"/>
                    <a:pt x="0" y="931"/>
                  </a:cubicBezTo>
                  <a:cubicBezTo>
                    <a:pt x="3" y="1027"/>
                    <a:pt x="2" y="1123"/>
                    <a:pt x="8" y="1219"/>
                  </a:cubicBezTo>
                  <a:cubicBezTo>
                    <a:pt x="24" y="1470"/>
                    <a:pt x="166" y="1393"/>
                    <a:pt x="421" y="1398"/>
                  </a:cubicBezTo>
                  <a:cubicBezTo>
                    <a:pt x="662" y="1392"/>
                    <a:pt x="898" y="1370"/>
                    <a:pt x="1138" y="1352"/>
                  </a:cubicBezTo>
                  <a:cubicBezTo>
                    <a:pt x="1200" y="1336"/>
                    <a:pt x="1262" y="1323"/>
                    <a:pt x="1325" y="1313"/>
                  </a:cubicBezTo>
                  <a:cubicBezTo>
                    <a:pt x="1367" y="1307"/>
                    <a:pt x="1450" y="1297"/>
                    <a:pt x="1450" y="1297"/>
                  </a:cubicBezTo>
                  <a:cubicBezTo>
                    <a:pt x="1471" y="1292"/>
                    <a:pt x="1491" y="1285"/>
                    <a:pt x="1512" y="1281"/>
                  </a:cubicBezTo>
                  <a:cubicBezTo>
                    <a:pt x="1532" y="1277"/>
                    <a:pt x="1554" y="1278"/>
                    <a:pt x="1574" y="1274"/>
                  </a:cubicBezTo>
                  <a:cubicBezTo>
                    <a:pt x="1659" y="1256"/>
                    <a:pt x="1739" y="1228"/>
                    <a:pt x="1824" y="1211"/>
                  </a:cubicBezTo>
                  <a:cubicBezTo>
                    <a:pt x="1850" y="1196"/>
                    <a:pt x="1875" y="1178"/>
                    <a:pt x="1902" y="1165"/>
                  </a:cubicBezTo>
                  <a:cubicBezTo>
                    <a:pt x="1917" y="1158"/>
                    <a:pt x="1937" y="1161"/>
                    <a:pt x="1948" y="1149"/>
                  </a:cubicBezTo>
                  <a:cubicBezTo>
                    <a:pt x="1960" y="1137"/>
                    <a:pt x="1957" y="1117"/>
                    <a:pt x="1964" y="1102"/>
                  </a:cubicBezTo>
                  <a:cubicBezTo>
                    <a:pt x="1973" y="1081"/>
                    <a:pt x="1985" y="1061"/>
                    <a:pt x="1995" y="1040"/>
                  </a:cubicBezTo>
                  <a:cubicBezTo>
                    <a:pt x="2010" y="951"/>
                    <a:pt x="2011" y="958"/>
                    <a:pt x="2011" y="822"/>
                  </a:cubicBezTo>
                  <a:cubicBezTo>
                    <a:pt x="2011" y="723"/>
                    <a:pt x="2009" y="625"/>
                    <a:pt x="2003" y="526"/>
                  </a:cubicBezTo>
                  <a:cubicBezTo>
                    <a:pt x="1993" y="361"/>
                    <a:pt x="1916" y="357"/>
                    <a:pt x="1793" y="261"/>
                  </a:cubicBezTo>
                  <a:cubicBezTo>
                    <a:pt x="1704" y="191"/>
                    <a:pt x="1691" y="148"/>
                    <a:pt x="1574" y="128"/>
                  </a:cubicBezTo>
                  <a:cubicBezTo>
                    <a:pt x="1333" y="39"/>
                    <a:pt x="1081" y="14"/>
                    <a:pt x="826" y="3"/>
                  </a:cubicBezTo>
                  <a:cubicBezTo>
                    <a:pt x="719" y="7"/>
                    <a:pt x="592" y="0"/>
                    <a:pt x="483" y="27"/>
                  </a:cubicBezTo>
                  <a:cubicBezTo>
                    <a:pt x="443" y="67"/>
                    <a:pt x="383" y="84"/>
                    <a:pt x="328" y="74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870200" y="2421000"/>
              <a:ext cx="339192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ind the Thevenin equivalent o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is p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56" name=""/>
              <p:cNvSpPr txBox="1"/>
              <p:nvPr/>
            </p:nvSpPr>
            <p:spPr>
              <a:xfrm>
                <a:off x="228600" y="3048120"/>
                <a:ext cx="3073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 open circuit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7" name=""/>
              <p:cNvSpPr txBox="1"/>
              <p:nvPr/>
            </p:nvSpPr>
            <p:spPr>
              <a:xfrm>
                <a:off x="3429000" y="3048120"/>
                <a:ext cx="9907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8" name=""/>
          <p:cNvSpPr/>
          <p:nvPr/>
        </p:nvSpPr>
        <p:spPr>
          <a:xfrm>
            <a:off x="129240" y="3716280"/>
            <a:ext cx="381852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venin impedance will be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condary impedance reflected i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primary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228600" y="1768320"/>
            <a:ext cx="1503360" cy="1076400"/>
            <a:chOff x="228600" y="1768320"/>
            <a:chExt cx="1503360" cy="1076400"/>
          </a:xfrm>
        </p:grpSpPr>
        <mc:AlternateContent>
          <mc:Choice xmlns:a14="http://schemas.microsoft.com/office/drawing/2010/main" Requires="a14">
            <p:sp>
              <p:nvSpPr>
                <p:cNvPr id="760" name=""/>
                <p:cNvSpPr txBox="1"/>
                <p:nvPr/>
              </p:nvSpPr>
              <p:spPr>
                <a:xfrm>
                  <a:off x="228600" y="2286000"/>
                  <a:ext cx="9651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761" name=""/>
            <p:cNvSpPr/>
            <p:nvPr/>
          </p:nvSpPr>
          <p:spPr>
            <a:xfrm>
              <a:off x="1046160" y="1768320"/>
              <a:ext cx="685800" cy="879480"/>
            </a:xfrm>
            <a:custGeom>
              <a:avLst/>
              <a:gdLst/>
              <a:ahLst/>
              <a:rect l="l" t="t" r="r" b="b"/>
              <a:pathLst>
                <a:path w="432" h="554">
                  <a:moveTo>
                    <a:pt x="151" y="554"/>
                  </a:moveTo>
                  <a:cubicBezTo>
                    <a:pt x="158" y="112"/>
                    <a:pt x="0" y="67"/>
                    <a:pt x="229" y="32"/>
                  </a:cubicBezTo>
                  <a:cubicBezTo>
                    <a:pt x="295" y="10"/>
                    <a:pt x="362" y="0"/>
                    <a:pt x="432" y="0"/>
                  </a:cubicBezTo>
                </a:path>
              </a:pathLst>
            </a:custGeom>
            <a:noFill/>
            <a:ln w="255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4952880" y="533520"/>
            <a:ext cx="3864240" cy="2468160"/>
            <a:chOff x="4952880" y="533520"/>
            <a:chExt cx="3864240" cy="2468160"/>
          </a:xfrm>
        </p:grpSpPr>
        <p:graphicFrame>
          <p:nvGraphicFramePr>
            <p:cNvPr id="763" name=""/>
            <p:cNvGraphicFramePr/>
            <p:nvPr/>
          </p:nvGraphicFramePr>
          <p:xfrm>
            <a:off x="4952880" y="533520"/>
            <a:ext cx="3864240" cy="1904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6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952880" y="533520"/>
                      <a:ext cx="3864240" cy="190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65" name=""/>
            <p:cNvSpPr/>
            <p:nvPr/>
          </p:nvSpPr>
          <p:spPr>
            <a:xfrm>
              <a:off x="5601600" y="2421000"/>
              <a:ext cx="29970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circuit reflec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to prim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6" name=""/>
          <p:cNvGrpSpPr/>
          <p:nvPr/>
        </p:nvGrpSpPr>
        <p:grpSpPr>
          <a:xfrm>
            <a:off x="4800600" y="3276720"/>
            <a:ext cx="3978360" cy="2468160"/>
            <a:chOff x="4800600" y="3276720"/>
            <a:chExt cx="3978360" cy="2468160"/>
          </a:xfrm>
        </p:grpSpPr>
        <p:graphicFrame>
          <p:nvGraphicFramePr>
            <p:cNvPr id="767" name=""/>
            <p:cNvGraphicFramePr/>
            <p:nvPr/>
          </p:nvGraphicFramePr>
          <p:xfrm>
            <a:off x="4800600" y="3276720"/>
            <a:ext cx="3978360" cy="1892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6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800600" y="3276720"/>
                      <a:ext cx="3978360" cy="189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69" name=""/>
            <p:cNvSpPr/>
            <p:nvPr/>
          </p:nvSpPr>
          <p:spPr>
            <a:xfrm>
              <a:off x="5677560" y="5164200"/>
              <a:ext cx="29970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circuit reflec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to second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0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7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5" name=""/>
          <p:cNvGraphicFramePr/>
          <p:nvPr/>
        </p:nvGraphicFramePr>
        <p:xfrm>
          <a:off x="76320" y="2666880"/>
          <a:ext cx="6019560" cy="17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2666880"/>
                    <a:ext cx="6019560" cy="17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7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484360" y="120600"/>
            <a:ext cx="3489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raw the two equivalent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9" name=""/>
          <p:cNvGraphicFramePr/>
          <p:nvPr/>
        </p:nvGraphicFramePr>
        <p:xfrm>
          <a:off x="76320" y="457200"/>
          <a:ext cx="7549920" cy="22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457200"/>
                    <a:ext cx="7549920" cy="22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81" name=""/>
          <p:cNvGrpSpPr/>
          <p:nvPr/>
        </p:nvGrpSpPr>
        <p:grpSpPr>
          <a:xfrm>
            <a:off x="5965920" y="4419720"/>
            <a:ext cx="3210480" cy="2175840"/>
            <a:chOff x="5965920" y="4419720"/>
            <a:chExt cx="3210480" cy="2175840"/>
          </a:xfrm>
        </p:grpSpPr>
        <p:graphicFrame>
          <p:nvGraphicFramePr>
            <p:cNvPr id="782" name=""/>
            <p:cNvGraphicFramePr/>
            <p:nvPr/>
          </p:nvGraphicFramePr>
          <p:xfrm>
            <a:off x="5965920" y="4419720"/>
            <a:ext cx="3178080" cy="1611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8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965920" y="4419720"/>
                      <a:ext cx="3178080" cy="161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4" name=""/>
            <p:cNvSpPr/>
            <p:nvPr/>
          </p:nvSpPr>
          <p:spPr>
            <a:xfrm>
              <a:off x="6179400" y="6014880"/>
              <a:ext cx="29970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circuit reflec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to prim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6058800" y="2224080"/>
            <a:ext cx="3085200" cy="2118960"/>
            <a:chOff x="6058800" y="2224080"/>
            <a:chExt cx="3085200" cy="2118960"/>
          </a:xfrm>
        </p:grpSpPr>
        <p:graphicFrame>
          <p:nvGraphicFramePr>
            <p:cNvPr id="786" name=""/>
            <p:cNvGraphicFramePr/>
            <p:nvPr/>
          </p:nvGraphicFramePr>
          <p:xfrm>
            <a:off x="6080040" y="2224080"/>
            <a:ext cx="3063960" cy="1542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8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80040" y="2224080"/>
                      <a:ext cx="3063960" cy="154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8" name=""/>
            <p:cNvSpPr/>
            <p:nvPr/>
          </p:nvSpPr>
          <p:spPr>
            <a:xfrm>
              <a:off x="6058800" y="3762360"/>
              <a:ext cx="29970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circuit reflec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to second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89" name=""/>
              <p:cNvSpPr txBox="1"/>
              <p:nvPr/>
            </p:nvSpPr>
            <p:spPr>
              <a:xfrm>
                <a:off x="2743200" y="1219320"/>
                <a:ext cx="507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790" name=""/>
          <p:cNvGraphicFramePr/>
          <p:nvPr/>
        </p:nvGraphicFramePr>
        <p:xfrm>
          <a:off x="0" y="4800600"/>
          <a:ext cx="6248520" cy="1766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9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4800600"/>
                    <a:ext cx="6248520" cy="17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92" name="geaux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9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/>
          <p:nvPr/>
        </p:nvSpPr>
        <p:spPr>
          <a:xfrm>
            <a:off x="24408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8" name=""/>
          <p:cNvGraphicFramePr/>
          <p:nvPr/>
        </p:nvGraphicFramePr>
        <p:xfrm>
          <a:off x="152280" y="609480"/>
          <a:ext cx="8147160" cy="21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09480"/>
                    <a:ext cx="8147160" cy="21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00" name=""/>
              <p:cNvSpPr txBox="1"/>
              <p:nvPr/>
            </p:nvSpPr>
            <p:spPr>
              <a:xfrm>
                <a:off x="2590920" y="166680"/>
                <a:ext cx="711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1" name=""/>
              <p:cNvSpPr txBox="1"/>
              <p:nvPr/>
            </p:nvSpPr>
            <p:spPr>
              <a:xfrm>
                <a:off x="304920" y="2743200"/>
                <a:ext cx="4863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o compute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is better to reflect into secondar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2" name=""/>
          <p:cNvSpPr/>
          <p:nvPr/>
        </p:nvSpPr>
        <p:spPr>
          <a:xfrm>
            <a:off x="389160" y="3106800"/>
            <a:ext cx="856872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ut before doing that it is better to simplify the primary using Thevenin’s Theor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3" name=""/>
          <p:cNvGrpSpPr/>
          <p:nvPr/>
        </p:nvGrpSpPr>
        <p:grpSpPr>
          <a:xfrm>
            <a:off x="142920" y="439560"/>
            <a:ext cx="6833520" cy="2302200"/>
            <a:chOff x="142920" y="439560"/>
            <a:chExt cx="6833520" cy="2302200"/>
          </a:xfrm>
        </p:grpSpPr>
        <p:sp>
          <p:nvSpPr>
            <p:cNvPr id="804" name=""/>
            <p:cNvSpPr/>
            <p:nvPr/>
          </p:nvSpPr>
          <p:spPr>
            <a:xfrm>
              <a:off x="142920" y="531720"/>
              <a:ext cx="3925800" cy="2210040"/>
            </a:xfrm>
            <a:custGeom>
              <a:avLst/>
              <a:gdLst/>
              <a:ahLst/>
              <a:rect l="l" t="t" r="r" b="b"/>
              <a:pathLst>
                <a:path w="2473" h="1392">
                  <a:moveTo>
                    <a:pt x="2396" y="1294"/>
                  </a:moveTo>
                  <a:cubicBezTo>
                    <a:pt x="2415" y="888"/>
                    <a:pt x="2393" y="1392"/>
                    <a:pt x="2411" y="655"/>
                  </a:cubicBezTo>
                  <a:cubicBezTo>
                    <a:pt x="2414" y="550"/>
                    <a:pt x="2419" y="444"/>
                    <a:pt x="2450" y="343"/>
                  </a:cubicBezTo>
                  <a:cubicBezTo>
                    <a:pt x="2453" y="322"/>
                    <a:pt x="2455" y="302"/>
                    <a:pt x="2458" y="281"/>
                  </a:cubicBezTo>
                  <a:cubicBezTo>
                    <a:pt x="2460" y="270"/>
                    <a:pt x="2473" y="257"/>
                    <a:pt x="2466" y="249"/>
                  </a:cubicBezTo>
                  <a:cubicBezTo>
                    <a:pt x="2377" y="146"/>
                    <a:pt x="2368" y="177"/>
                    <a:pt x="2263" y="133"/>
                  </a:cubicBezTo>
                  <a:cubicBezTo>
                    <a:pt x="2231" y="120"/>
                    <a:pt x="2203" y="98"/>
                    <a:pt x="2170" y="86"/>
                  </a:cubicBezTo>
                  <a:cubicBezTo>
                    <a:pt x="2150" y="79"/>
                    <a:pt x="2129" y="82"/>
                    <a:pt x="2108" y="78"/>
                  </a:cubicBezTo>
                  <a:cubicBezTo>
                    <a:pt x="2024" y="64"/>
                    <a:pt x="1915" y="34"/>
                    <a:pt x="1827" y="23"/>
                  </a:cubicBezTo>
                  <a:cubicBezTo>
                    <a:pt x="1796" y="19"/>
                    <a:pt x="1764" y="19"/>
                    <a:pt x="1733" y="16"/>
                  </a:cubicBezTo>
                  <a:cubicBezTo>
                    <a:pt x="1681" y="11"/>
                    <a:pt x="1578" y="0"/>
                    <a:pt x="1578" y="0"/>
                  </a:cubicBezTo>
                  <a:cubicBezTo>
                    <a:pt x="1373" y="3"/>
                    <a:pt x="1167" y="3"/>
                    <a:pt x="962" y="8"/>
                  </a:cubicBezTo>
                  <a:cubicBezTo>
                    <a:pt x="780" y="12"/>
                    <a:pt x="597" y="59"/>
                    <a:pt x="417" y="78"/>
                  </a:cubicBezTo>
                  <a:cubicBezTo>
                    <a:pt x="358" y="98"/>
                    <a:pt x="307" y="123"/>
                    <a:pt x="245" y="133"/>
                  </a:cubicBezTo>
                  <a:cubicBezTo>
                    <a:pt x="229" y="148"/>
                    <a:pt x="214" y="163"/>
                    <a:pt x="198" y="179"/>
                  </a:cubicBezTo>
                  <a:cubicBezTo>
                    <a:pt x="187" y="190"/>
                    <a:pt x="167" y="211"/>
                    <a:pt x="167" y="211"/>
                  </a:cubicBezTo>
                  <a:cubicBezTo>
                    <a:pt x="152" y="257"/>
                    <a:pt x="138" y="278"/>
                    <a:pt x="105" y="312"/>
                  </a:cubicBezTo>
                  <a:cubicBezTo>
                    <a:pt x="93" y="382"/>
                    <a:pt x="107" y="344"/>
                    <a:pt x="58" y="413"/>
                  </a:cubicBezTo>
                  <a:cubicBezTo>
                    <a:pt x="52" y="421"/>
                    <a:pt x="42" y="437"/>
                    <a:pt x="42" y="437"/>
                  </a:cubicBezTo>
                  <a:cubicBezTo>
                    <a:pt x="35" y="469"/>
                    <a:pt x="19" y="490"/>
                    <a:pt x="11" y="522"/>
                  </a:cubicBezTo>
                  <a:cubicBezTo>
                    <a:pt x="9" y="561"/>
                    <a:pt x="4" y="600"/>
                    <a:pt x="4" y="639"/>
                  </a:cubicBezTo>
                  <a:cubicBezTo>
                    <a:pt x="4" y="800"/>
                    <a:pt x="0" y="961"/>
                    <a:pt x="11" y="1122"/>
                  </a:cubicBezTo>
                  <a:cubicBezTo>
                    <a:pt x="15" y="1174"/>
                    <a:pt x="50" y="1184"/>
                    <a:pt x="89" y="1192"/>
                  </a:cubicBezTo>
                  <a:cubicBezTo>
                    <a:pt x="195" y="1212"/>
                    <a:pt x="302" y="1229"/>
                    <a:pt x="409" y="1247"/>
                  </a:cubicBezTo>
                  <a:cubicBezTo>
                    <a:pt x="465" y="1257"/>
                    <a:pt x="523" y="1252"/>
                    <a:pt x="580" y="1255"/>
                  </a:cubicBezTo>
                  <a:cubicBezTo>
                    <a:pt x="699" y="1278"/>
                    <a:pt x="819" y="1277"/>
                    <a:pt x="939" y="1286"/>
                  </a:cubicBezTo>
                  <a:cubicBezTo>
                    <a:pt x="1077" y="1310"/>
                    <a:pt x="1359" y="1309"/>
                    <a:pt x="1359" y="1309"/>
                  </a:cubicBezTo>
                  <a:cubicBezTo>
                    <a:pt x="1685" y="1339"/>
                    <a:pt x="2013" y="1309"/>
                    <a:pt x="2341" y="130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546720" y="439560"/>
              <a:ext cx="34297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venin equivalent of this p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06" name=""/>
          <p:cNvGraphicFramePr/>
          <p:nvPr/>
        </p:nvGraphicFramePr>
        <p:xfrm>
          <a:off x="76320" y="3505320"/>
          <a:ext cx="5081400" cy="21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3505320"/>
                    <a:ext cx="5081400" cy="21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08" name=""/>
              <p:cNvSpPr txBox="1"/>
              <p:nvPr/>
            </p:nvSpPr>
            <p:spPr>
              <a:xfrm>
                <a:off x="1828800" y="4343400"/>
                <a:ext cx="2793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09" name=""/>
          <p:cNvGrpSpPr/>
          <p:nvPr/>
        </p:nvGrpSpPr>
        <p:grpSpPr>
          <a:xfrm>
            <a:off x="3206880" y="4189320"/>
            <a:ext cx="4311360" cy="1001880"/>
            <a:chOff x="3206880" y="4189320"/>
            <a:chExt cx="4311360" cy="1001880"/>
          </a:xfrm>
        </p:grpSpPr>
        <mc:AlternateContent>
          <mc:Choice xmlns:a14="http://schemas.microsoft.com/office/drawing/2010/main" Requires="a14">
            <p:sp>
              <p:nvSpPr>
                <p:cNvPr id="810" name=""/>
                <p:cNvSpPr txBox="1"/>
                <p:nvPr/>
              </p:nvSpPr>
              <p:spPr>
                <a:xfrm>
                  <a:off x="5638680" y="4191120"/>
                  <a:ext cx="18795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C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∠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11" name=""/>
            <p:cNvSpPr/>
            <p:nvPr/>
          </p:nvSpPr>
          <p:spPr>
            <a:xfrm>
              <a:off x="3206880" y="4189320"/>
              <a:ext cx="1382760" cy="1001880"/>
            </a:xfrm>
            <a:custGeom>
              <a:avLst/>
              <a:gdLst/>
              <a:ahLst/>
              <a:rect l="l" t="t" r="r" b="b"/>
              <a:pathLst>
                <a:path w="871" h="631">
                  <a:moveTo>
                    <a:pt x="871" y="65"/>
                  </a:moveTo>
                  <a:cubicBezTo>
                    <a:pt x="643" y="28"/>
                    <a:pt x="442" y="46"/>
                    <a:pt x="201" y="50"/>
                  </a:cubicBezTo>
                  <a:cubicBezTo>
                    <a:pt x="0" y="58"/>
                    <a:pt x="20" y="0"/>
                    <a:pt x="37" y="167"/>
                  </a:cubicBezTo>
                  <a:cubicBezTo>
                    <a:pt x="39" y="182"/>
                    <a:pt x="42" y="198"/>
                    <a:pt x="45" y="213"/>
                  </a:cubicBezTo>
                  <a:cubicBezTo>
                    <a:pt x="48" y="338"/>
                    <a:pt x="9" y="470"/>
                    <a:pt x="53" y="587"/>
                  </a:cubicBezTo>
                  <a:cubicBezTo>
                    <a:pt x="70" y="631"/>
                    <a:pt x="146" y="601"/>
                    <a:pt x="193" y="603"/>
                  </a:cubicBezTo>
                  <a:cubicBezTo>
                    <a:pt x="398" y="613"/>
                    <a:pt x="583" y="611"/>
                    <a:pt x="785" y="61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5638680" y="4572000"/>
                <a:ext cx="1714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13" name=""/>
          <p:cNvGrpSpPr/>
          <p:nvPr/>
        </p:nvGrpSpPr>
        <p:grpSpPr>
          <a:xfrm>
            <a:off x="4267080" y="5027760"/>
            <a:ext cx="1803600" cy="1130040"/>
            <a:chOff x="4267080" y="5027760"/>
            <a:chExt cx="1803600" cy="1130040"/>
          </a:xfrm>
        </p:grpSpPr>
        <p:sp>
          <p:nvSpPr>
            <p:cNvPr id="814" name=""/>
            <p:cNvSpPr/>
            <p:nvPr/>
          </p:nvSpPr>
          <p:spPr>
            <a:xfrm>
              <a:off x="4390920" y="5027760"/>
              <a:ext cx="814320" cy="836640"/>
            </a:xfrm>
            <a:custGeom>
              <a:avLst/>
              <a:gdLst/>
              <a:ahLst/>
              <a:rect l="l" t="t" r="r" b="b"/>
              <a:pathLst>
                <a:path w="513" h="527">
                  <a:moveTo>
                    <a:pt x="507" y="527"/>
                  </a:moveTo>
                  <a:cubicBezTo>
                    <a:pt x="501" y="398"/>
                    <a:pt x="513" y="135"/>
                    <a:pt x="413" y="20"/>
                  </a:cubicBezTo>
                  <a:cubicBezTo>
                    <a:pt x="396" y="0"/>
                    <a:pt x="361" y="13"/>
                    <a:pt x="335" y="13"/>
                  </a:cubicBezTo>
                  <a:cubicBezTo>
                    <a:pt x="223" y="11"/>
                    <a:pt x="112" y="13"/>
                    <a:pt x="0" y="13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5" name=""/>
                <p:cNvSpPr txBox="1"/>
                <p:nvPr/>
              </p:nvSpPr>
              <p:spPr>
                <a:xfrm>
                  <a:off x="4267080" y="5867280"/>
                  <a:ext cx="1803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4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4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16" name=""/>
              <p:cNvSpPr txBox="1"/>
              <p:nvPr/>
            </p:nvSpPr>
            <p:spPr>
              <a:xfrm>
                <a:off x="5715000" y="5257800"/>
                <a:ext cx="2425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7" name=""/>
              <p:cNvSpPr txBox="1"/>
              <p:nvPr/>
            </p:nvSpPr>
            <p:spPr>
              <a:xfrm>
                <a:off x="6248520" y="5867280"/>
                <a:ext cx="1562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8" name=""/>
              <p:cNvSpPr txBox="1"/>
              <p:nvPr/>
            </p:nvSpPr>
            <p:spPr>
              <a:xfrm>
                <a:off x="304920" y="5486400"/>
                <a:ext cx="28699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9" name=""/>
              <p:cNvSpPr txBox="1"/>
              <p:nvPr/>
            </p:nvSpPr>
            <p:spPr>
              <a:xfrm>
                <a:off x="380880" y="6172200"/>
                <a:ext cx="2641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0" name=""/>
              <p:cNvSpPr txBox="1"/>
              <p:nvPr/>
            </p:nvSpPr>
            <p:spPr>
              <a:xfrm>
                <a:off x="7391520" y="4572000"/>
                <a:ext cx="1168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1" name=""/>
          <p:cNvSpPr/>
          <p:nvPr/>
        </p:nvSpPr>
        <p:spPr>
          <a:xfrm>
            <a:off x="4265280" y="6154560"/>
            <a:ext cx="4615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equivalent circuit is now transferred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second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2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2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7" name=""/>
          <p:cNvGraphicFramePr/>
          <p:nvPr/>
        </p:nvGraphicFramePr>
        <p:xfrm>
          <a:off x="533520" y="380880"/>
          <a:ext cx="6773760" cy="204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80880"/>
                    <a:ext cx="6773760" cy="20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9" name=""/>
          <p:cNvSpPr/>
          <p:nvPr/>
        </p:nvSpPr>
        <p:spPr>
          <a:xfrm>
            <a:off x="200880" y="58680"/>
            <a:ext cx="36144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 (continued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39760" y="304920"/>
            <a:ext cx="2960640" cy="2211120"/>
          </a:xfrm>
          <a:custGeom>
            <a:avLst/>
            <a:gdLst/>
            <a:ahLst/>
            <a:rect l="l" t="t" r="r" b="b"/>
            <a:pathLst>
              <a:path w="1865" h="1393">
                <a:moveTo>
                  <a:pt x="1841" y="415"/>
                </a:moveTo>
                <a:cubicBezTo>
                  <a:pt x="1845" y="376"/>
                  <a:pt x="1865" y="336"/>
                  <a:pt x="1857" y="298"/>
                </a:cubicBezTo>
                <a:cubicBezTo>
                  <a:pt x="1842" y="229"/>
                  <a:pt x="1826" y="158"/>
                  <a:pt x="1794" y="95"/>
                </a:cubicBezTo>
                <a:cubicBezTo>
                  <a:pt x="1752" y="11"/>
                  <a:pt x="1590" y="19"/>
                  <a:pt x="1514" y="9"/>
                </a:cubicBezTo>
                <a:cubicBezTo>
                  <a:pt x="1098" y="12"/>
                  <a:pt x="682" y="0"/>
                  <a:pt x="267" y="17"/>
                </a:cubicBezTo>
                <a:cubicBezTo>
                  <a:pt x="197" y="20"/>
                  <a:pt x="111" y="157"/>
                  <a:pt x="111" y="157"/>
                </a:cubicBezTo>
                <a:cubicBezTo>
                  <a:pt x="92" y="271"/>
                  <a:pt x="125" y="130"/>
                  <a:pt x="56" y="251"/>
                </a:cubicBezTo>
                <a:cubicBezTo>
                  <a:pt x="51" y="260"/>
                  <a:pt x="25" y="391"/>
                  <a:pt x="25" y="391"/>
                </a:cubicBezTo>
                <a:cubicBezTo>
                  <a:pt x="20" y="443"/>
                  <a:pt x="3" y="494"/>
                  <a:pt x="2" y="547"/>
                </a:cubicBezTo>
                <a:cubicBezTo>
                  <a:pt x="0" y="692"/>
                  <a:pt x="5" y="838"/>
                  <a:pt x="10" y="983"/>
                </a:cubicBezTo>
                <a:cubicBezTo>
                  <a:pt x="20" y="1308"/>
                  <a:pt x="382" y="1329"/>
                  <a:pt x="625" y="1350"/>
                </a:cubicBezTo>
                <a:cubicBezTo>
                  <a:pt x="807" y="1393"/>
                  <a:pt x="980" y="1369"/>
                  <a:pt x="1171" y="1365"/>
                </a:cubicBezTo>
                <a:cubicBezTo>
                  <a:pt x="1243" y="1332"/>
                  <a:pt x="1309" y="1289"/>
                  <a:pt x="1381" y="1256"/>
                </a:cubicBezTo>
                <a:cubicBezTo>
                  <a:pt x="1415" y="1240"/>
                  <a:pt x="1454" y="1237"/>
                  <a:pt x="1490" y="1225"/>
                </a:cubicBezTo>
                <a:cubicBezTo>
                  <a:pt x="1543" y="1172"/>
                  <a:pt x="1601" y="1130"/>
                  <a:pt x="1654" y="1077"/>
                </a:cubicBezTo>
                <a:cubicBezTo>
                  <a:pt x="1673" y="1014"/>
                  <a:pt x="1698" y="955"/>
                  <a:pt x="1708" y="890"/>
                </a:cubicBezTo>
                <a:cubicBezTo>
                  <a:pt x="1720" y="448"/>
                  <a:pt x="1657" y="694"/>
                  <a:pt x="1802" y="492"/>
                </a:cubicBezTo>
                <a:cubicBezTo>
                  <a:pt x="1822" y="434"/>
                  <a:pt x="1808" y="459"/>
                  <a:pt x="1841" y="415"/>
                </a:cubicBezTo>
                <a:close/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44720" y="2438280"/>
            <a:ext cx="3838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venin equivalent of primary s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2" name=""/>
              <p:cNvSpPr txBox="1"/>
              <p:nvPr/>
            </p:nvSpPr>
            <p:spPr>
              <a:xfrm>
                <a:off x="3352680" y="457200"/>
                <a:ext cx="507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33" name=""/>
          <p:cNvGrpSpPr/>
          <p:nvPr/>
        </p:nvGrpSpPr>
        <p:grpSpPr>
          <a:xfrm>
            <a:off x="0" y="3567240"/>
            <a:ext cx="7562880" cy="2224800"/>
            <a:chOff x="0" y="3567240"/>
            <a:chExt cx="7562880" cy="2224800"/>
          </a:xfrm>
        </p:grpSpPr>
        <p:graphicFrame>
          <p:nvGraphicFramePr>
            <p:cNvPr id="834" name=""/>
            <p:cNvGraphicFramePr/>
            <p:nvPr/>
          </p:nvGraphicFramePr>
          <p:xfrm>
            <a:off x="0" y="3567240"/>
            <a:ext cx="7562880" cy="1942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3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3567240"/>
                      <a:ext cx="7562880" cy="194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36" name=""/>
            <p:cNvSpPr/>
            <p:nvPr/>
          </p:nvSpPr>
          <p:spPr>
            <a:xfrm>
              <a:off x="436680" y="5454720"/>
              <a:ext cx="4803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with primary transferred to second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37" name=""/>
              <p:cNvSpPr txBox="1"/>
              <p:nvPr/>
            </p:nvSpPr>
            <p:spPr>
              <a:xfrm>
                <a:off x="380880" y="5867280"/>
                <a:ext cx="26798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5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4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8" name=""/>
              <p:cNvSpPr txBox="1"/>
              <p:nvPr/>
            </p:nvSpPr>
            <p:spPr>
              <a:xfrm>
                <a:off x="3124080" y="5867280"/>
                <a:ext cx="20322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39" name=""/>
          <p:cNvGrpSpPr/>
          <p:nvPr/>
        </p:nvGrpSpPr>
        <p:grpSpPr>
          <a:xfrm>
            <a:off x="5132880" y="2266920"/>
            <a:ext cx="4026960" cy="1542960"/>
            <a:chOff x="5132880" y="2266920"/>
            <a:chExt cx="4026960" cy="1542960"/>
          </a:xfrm>
        </p:grpSpPr>
        <p:graphicFrame>
          <p:nvGraphicFramePr>
            <p:cNvPr id="840" name=""/>
            <p:cNvGraphicFramePr/>
            <p:nvPr/>
          </p:nvGraphicFramePr>
          <p:xfrm>
            <a:off x="6095880" y="2266920"/>
            <a:ext cx="3063960" cy="1542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4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095880" y="2266920"/>
                      <a:ext cx="3063960" cy="154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42" name=""/>
            <p:cNvSpPr/>
            <p:nvPr/>
          </p:nvSpPr>
          <p:spPr>
            <a:xfrm>
              <a:off x="5132880" y="2362320"/>
              <a:ext cx="130104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ransfer 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econd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43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4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E08.008_W0878" descr=""/>
          <p:cNvPicPr/>
          <p:nvPr/>
        </p:nvPicPr>
        <p:blipFill>
          <a:blip r:embed="rId1"/>
          <a:stretch/>
        </p:blipFill>
        <p:spPr>
          <a:xfrm>
            <a:off x="0" y="685800"/>
            <a:ext cx="4638600" cy="1476360"/>
          </a:xfrm>
          <a:prstGeom prst="rect">
            <a:avLst/>
          </a:prstGeom>
          <a:ln w="0">
            <a:noFill/>
          </a:ln>
        </p:spPr>
      </p:pic>
      <p:sp>
        <p:nvSpPr>
          <p:cNvPr id="849" name=""/>
          <p:cNvSpPr/>
          <p:nvPr/>
        </p:nvSpPr>
        <p:spPr>
          <a:xfrm>
            <a:off x="106920" y="13500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0" name=""/>
              <p:cNvSpPr txBox="1"/>
              <p:nvPr/>
            </p:nvSpPr>
            <p:spPr>
              <a:xfrm>
                <a:off x="2666880" y="152280"/>
                <a:ext cx="736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851" name=""/>
          <p:cNvGrpSpPr/>
          <p:nvPr/>
        </p:nvGrpSpPr>
        <p:grpSpPr>
          <a:xfrm>
            <a:off x="5410080" y="304920"/>
            <a:ext cx="3210480" cy="2175840"/>
            <a:chOff x="5410080" y="304920"/>
            <a:chExt cx="3210480" cy="2175840"/>
          </a:xfrm>
        </p:grpSpPr>
        <p:graphicFrame>
          <p:nvGraphicFramePr>
            <p:cNvPr id="852" name=""/>
            <p:cNvGraphicFramePr/>
            <p:nvPr/>
          </p:nvGraphicFramePr>
          <p:xfrm>
            <a:off x="5410080" y="304920"/>
            <a:ext cx="3178080" cy="16113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5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410080" y="304920"/>
                      <a:ext cx="3178080" cy="161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54" name=""/>
            <p:cNvSpPr/>
            <p:nvPr/>
          </p:nvSpPr>
          <p:spPr>
            <a:xfrm>
              <a:off x="5623560" y="1900080"/>
              <a:ext cx="29970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circuit reflec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to prim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55" name=""/>
              <p:cNvSpPr txBox="1"/>
              <p:nvPr/>
            </p:nvSpPr>
            <p:spPr>
              <a:xfrm>
                <a:off x="2590920" y="609480"/>
                <a:ext cx="507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856" name=""/>
          <p:cNvGraphicFramePr/>
          <p:nvPr/>
        </p:nvGraphicFramePr>
        <p:xfrm>
          <a:off x="457200" y="2362320"/>
          <a:ext cx="3178080" cy="1611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2362320"/>
                    <a:ext cx="3178080" cy="16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2819520" y="2514600"/>
                <a:ext cx="493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59" name=""/>
          <p:cNvGrpSpPr/>
          <p:nvPr/>
        </p:nvGrpSpPr>
        <p:grpSpPr>
          <a:xfrm>
            <a:off x="228600" y="2355840"/>
            <a:ext cx="1625760" cy="1454040"/>
            <a:chOff x="228600" y="2355840"/>
            <a:chExt cx="1625760" cy="1454040"/>
          </a:xfrm>
        </p:grpSpPr>
        <mc:AlternateContent>
          <mc:Choice xmlns:a14="http://schemas.microsoft.com/office/drawing/2010/main" Requires="a14">
            <p:sp>
              <p:nvSpPr>
                <p:cNvPr id="860" name=""/>
                <p:cNvSpPr txBox="1"/>
                <p:nvPr/>
              </p:nvSpPr>
              <p:spPr>
                <a:xfrm>
                  <a:off x="901800" y="2355840"/>
                  <a:ext cx="95256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2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61" name=""/>
                <p:cNvSpPr txBox="1"/>
                <p:nvPr/>
              </p:nvSpPr>
              <p:spPr>
                <a:xfrm>
                  <a:off x="228600" y="3581280"/>
                  <a:ext cx="6476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36</m:t>
                      </m:r>
                      <m:r>
                        <m:t xml:space="preserve">∠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862" name=""/>
            <p:cNvGrpSpPr/>
            <p:nvPr/>
          </p:nvGrpSpPr>
          <p:grpSpPr>
            <a:xfrm>
              <a:off x="990720" y="2971800"/>
              <a:ext cx="533160" cy="290520"/>
              <a:chOff x="990720" y="2971800"/>
              <a:chExt cx="533160" cy="290520"/>
            </a:xfrm>
          </p:grpSpPr>
          <p:sp>
            <p:nvSpPr>
              <p:cNvPr id="863" name=""/>
              <p:cNvSpPr/>
              <p:nvPr/>
            </p:nvSpPr>
            <p:spPr>
              <a:xfrm>
                <a:off x="990720" y="2971800"/>
                <a:ext cx="53316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64" name=""/>
                  <p:cNvSpPr txBox="1"/>
                  <p:nvPr/>
                </p:nvSpPr>
                <p:spPr>
                  <a:xfrm>
                    <a:off x="1143000" y="297180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3549600" y="3962520"/>
                <a:ext cx="1778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6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6" name=""/>
              <p:cNvSpPr txBox="1"/>
              <p:nvPr/>
            </p:nvSpPr>
            <p:spPr>
              <a:xfrm>
                <a:off x="3492360" y="4896000"/>
                <a:ext cx="17398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67" name=""/>
          <p:cNvGrpSpPr/>
          <p:nvPr/>
        </p:nvGrpSpPr>
        <p:grpSpPr>
          <a:xfrm>
            <a:off x="3657600" y="3124080"/>
            <a:ext cx="3935880" cy="639360"/>
            <a:chOff x="3657600" y="3124080"/>
            <a:chExt cx="3935880" cy="639360"/>
          </a:xfrm>
        </p:grpSpPr>
        <mc:AlternateContent>
          <mc:Choice xmlns:a14="http://schemas.microsoft.com/office/drawing/2010/main" Requires="a14">
            <p:sp>
              <p:nvSpPr>
                <p:cNvPr id="868" name=""/>
                <p:cNvSpPr txBox="1"/>
                <p:nvPr/>
              </p:nvSpPr>
              <p:spPr>
                <a:xfrm>
                  <a:off x="3657600" y="3124080"/>
                  <a:ext cx="97776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∠</m:t>
                          </m:r>
                          <m:r>
                            <m:t xml:space="preserve">0</m:t>
                          </m:r>
                          <m:r>
                            <m:t xml:space="preserve">°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69" name=""/>
            <p:cNvSpPr/>
            <p:nvPr/>
          </p:nvSpPr>
          <p:spPr>
            <a:xfrm>
              <a:off x="4825080" y="3182760"/>
              <a:ext cx="27684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otice the position of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ot mark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70" name="geaux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7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"/>
          <p:cNvSpPr/>
          <p:nvPr/>
        </p:nvSpPr>
        <p:spPr>
          <a:xfrm>
            <a:off x="106920" y="13500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4" name=""/>
              <p:cNvSpPr txBox="1"/>
              <p:nvPr/>
            </p:nvSpPr>
            <p:spPr>
              <a:xfrm>
                <a:off x="2743200" y="152280"/>
                <a:ext cx="749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875" name="E08.009_W0879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4638960" cy="1562040"/>
          </a:xfrm>
          <a:prstGeom prst="rect">
            <a:avLst/>
          </a:prstGeom>
          <a:ln w="0">
            <a:noFill/>
          </a:ln>
        </p:spPr>
      </p:pic>
      <p:grpSp>
        <p:nvGrpSpPr>
          <p:cNvPr id="876" name=""/>
          <p:cNvGrpSpPr/>
          <p:nvPr/>
        </p:nvGrpSpPr>
        <p:grpSpPr>
          <a:xfrm>
            <a:off x="5115240" y="2266920"/>
            <a:ext cx="4026960" cy="1542960"/>
            <a:chOff x="5115240" y="2266920"/>
            <a:chExt cx="4026960" cy="1542960"/>
          </a:xfrm>
        </p:grpSpPr>
        <p:graphicFrame>
          <p:nvGraphicFramePr>
            <p:cNvPr id="877" name=""/>
            <p:cNvGraphicFramePr/>
            <p:nvPr/>
          </p:nvGraphicFramePr>
          <p:xfrm>
            <a:off x="6078240" y="2266920"/>
            <a:ext cx="3063960" cy="1542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7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078240" y="2266920"/>
                      <a:ext cx="3063960" cy="154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79" name=""/>
            <p:cNvSpPr/>
            <p:nvPr/>
          </p:nvSpPr>
          <p:spPr>
            <a:xfrm>
              <a:off x="5115240" y="2362320"/>
              <a:ext cx="130104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ransfer 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econd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80" name=""/>
          <p:cNvGraphicFramePr/>
          <p:nvPr/>
        </p:nvGraphicFramePr>
        <p:xfrm>
          <a:off x="762120" y="3124080"/>
          <a:ext cx="3063600" cy="154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8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2120" y="3124080"/>
                    <a:ext cx="3063600" cy="15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82" name=""/>
              <p:cNvSpPr txBox="1"/>
              <p:nvPr/>
            </p:nvSpPr>
            <p:spPr>
              <a:xfrm>
                <a:off x="2743200" y="685800"/>
                <a:ext cx="507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3" name=""/>
              <p:cNvSpPr txBox="1"/>
              <p:nvPr/>
            </p:nvSpPr>
            <p:spPr>
              <a:xfrm>
                <a:off x="533520" y="4267080"/>
                <a:ext cx="6476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4" name=""/>
              <p:cNvSpPr txBox="1"/>
              <p:nvPr/>
            </p:nvSpPr>
            <p:spPr>
              <a:xfrm>
                <a:off x="914400" y="3164040"/>
                <a:ext cx="5716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85" name=""/>
          <p:cNvGrpSpPr/>
          <p:nvPr/>
        </p:nvGrpSpPr>
        <p:grpSpPr>
          <a:xfrm>
            <a:off x="3048120" y="3290760"/>
            <a:ext cx="912600" cy="1280880"/>
            <a:chOff x="3048120" y="3290760"/>
            <a:chExt cx="912600" cy="1280880"/>
          </a:xfrm>
        </p:grpSpPr>
        <mc:AlternateContent>
          <mc:Choice xmlns:a14="http://schemas.microsoft.com/office/drawing/2010/main" Requires="a14">
            <p:sp>
              <p:nvSpPr>
                <p:cNvPr id="886" name=""/>
                <p:cNvSpPr txBox="1"/>
                <p:nvPr/>
              </p:nvSpPr>
              <p:spPr>
                <a:xfrm>
                  <a:off x="3429000" y="4343040"/>
                  <a:ext cx="53172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∠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87" name=""/>
                <p:cNvSpPr txBox="1"/>
                <p:nvPr/>
              </p:nvSpPr>
              <p:spPr>
                <a:xfrm>
                  <a:off x="3048120" y="3290760"/>
                  <a:ext cx="33012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88" name=""/>
              <p:cNvSpPr txBox="1"/>
              <p:nvPr/>
            </p:nvSpPr>
            <p:spPr>
              <a:xfrm>
                <a:off x="2514600" y="2895480"/>
                <a:ext cx="685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9" name=""/>
              <p:cNvSpPr txBox="1"/>
              <p:nvPr/>
            </p:nvSpPr>
            <p:spPr>
              <a:xfrm>
                <a:off x="3505320" y="4800600"/>
                <a:ext cx="21841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0" name=""/>
              <p:cNvSpPr txBox="1"/>
              <p:nvPr/>
            </p:nvSpPr>
            <p:spPr>
              <a:xfrm>
                <a:off x="3581280" y="5537160"/>
                <a:ext cx="1994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891" name="geaux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9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"/>
          <p:cNvSpPr/>
          <p:nvPr/>
        </p:nvSpPr>
        <p:spPr>
          <a:xfrm>
            <a:off x="10764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5" name="F08.019_W0880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3457800" cy="1886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96" name=""/>
              <p:cNvSpPr txBox="1"/>
              <p:nvPr/>
            </p:nvSpPr>
            <p:spPr>
              <a:xfrm>
                <a:off x="2514600" y="152280"/>
                <a:ext cx="1574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97" name=""/>
          <p:cNvSpPr/>
          <p:nvPr/>
        </p:nvSpPr>
        <p:spPr>
          <a:xfrm>
            <a:off x="335160" y="2819520"/>
            <a:ext cx="362052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thing can be transferred. U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er equations and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145080" y="3733920"/>
            <a:ext cx="4135680" cy="1206360"/>
            <a:chOff x="145080" y="3733920"/>
            <a:chExt cx="4135680" cy="1206360"/>
          </a:xfrm>
        </p:grpSpPr>
        <mc:AlternateContent>
          <mc:Choice xmlns:a14="http://schemas.microsoft.com/office/drawing/2010/main" Requires="a14">
            <p:sp>
              <p:nvSpPr>
                <p:cNvPr id="899" name=""/>
                <p:cNvSpPr txBox="1"/>
                <p:nvPr/>
              </p:nvSpPr>
              <p:spPr>
                <a:xfrm>
                  <a:off x="1758960" y="4038480"/>
                  <a:ext cx="761760" cy="90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n</m:t>
                              </m:r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900" name=""/>
            <p:cNvSpPr/>
            <p:nvPr/>
          </p:nvSpPr>
          <p:spPr>
            <a:xfrm>
              <a:off x="145080" y="3733920"/>
              <a:ext cx="4135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or equations for ideal transfor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01" name=""/>
              <p:cNvSpPr txBox="1"/>
              <p:nvPr/>
            </p:nvSpPr>
            <p:spPr>
              <a:xfrm>
                <a:off x="228600" y="4952880"/>
                <a:ext cx="37591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@ Node 1:  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02" name=""/>
          <p:cNvGrpSpPr/>
          <p:nvPr/>
        </p:nvGrpSpPr>
        <p:grpSpPr>
          <a:xfrm>
            <a:off x="1294920" y="990720"/>
            <a:ext cx="838800" cy="685800"/>
            <a:chOff x="1294920" y="990720"/>
            <a:chExt cx="838800" cy="685800"/>
          </a:xfrm>
        </p:grpSpPr>
        <p:sp>
          <p:nvSpPr>
            <p:cNvPr id="903" name=""/>
            <p:cNvSpPr/>
            <p:nvPr/>
          </p:nvSpPr>
          <p:spPr>
            <a:xfrm flipH="1">
              <a:off x="1294920" y="1676520"/>
              <a:ext cx="38124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V="1">
              <a:off x="1752480" y="990720"/>
              <a:ext cx="0" cy="3808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905120" y="1676520"/>
              <a:ext cx="2286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06" name=""/>
              <p:cNvSpPr txBox="1"/>
              <p:nvPr/>
            </p:nvSpPr>
            <p:spPr>
              <a:xfrm>
                <a:off x="533520" y="5486400"/>
                <a:ext cx="3022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@Node 2:  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07" name=""/>
          <p:cNvGrpSpPr/>
          <p:nvPr/>
        </p:nvGrpSpPr>
        <p:grpSpPr>
          <a:xfrm>
            <a:off x="2514240" y="1142640"/>
            <a:ext cx="763920" cy="533880"/>
            <a:chOff x="2514240" y="1142640"/>
            <a:chExt cx="763920" cy="533880"/>
          </a:xfrm>
        </p:grpSpPr>
        <p:sp>
          <p:nvSpPr>
            <p:cNvPr id="908" name=""/>
            <p:cNvSpPr/>
            <p:nvPr/>
          </p:nvSpPr>
          <p:spPr>
            <a:xfrm>
              <a:off x="2897280" y="1671480"/>
              <a:ext cx="3808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2895480" y="114264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>
              <a:off x="2514240" y="1676520"/>
              <a:ext cx="3049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656280" y="6154560"/>
            <a:ext cx="2945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 equations in 4 unknown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2" name=""/>
              <p:cNvSpPr txBox="1"/>
              <p:nvPr/>
            </p:nvSpPr>
            <p:spPr>
              <a:xfrm>
                <a:off x="3124080" y="1066680"/>
                <a:ext cx="507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3" name=""/>
              <p:cNvSpPr txBox="1"/>
              <p:nvPr/>
            </p:nvSpPr>
            <p:spPr>
              <a:xfrm>
                <a:off x="4952880" y="228600"/>
                <a:ext cx="226080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14" name=""/>
          <p:cNvSpPr/>
          <p:nvPr/>
        </p:nvSpPr>
        <p:spPr>
          <a:xfrm>
            <a:off x="4678200" y="469800"/>
            <a:ext cx="244800" cy="681120"/>
          </a:xfrm>
          <a:custGeom>
            <a:avLst/>
            <a:gdLst/>
            <a:ahLst/>
            <a:rect l="l" t="t" r="r" b="b"/>
            <a:pathLst>
              <a:path w="154" h="429">
                <a:moveTo>
                  <a:pt x="154" y="429"/>
                </a:moveTo>
                <a:cubicBezTo>
                  <a:pt x="147" y="398"/>
                  <a:pt x="138" y="343"/>
                  <a:pt x="123" y="312"/>
                </a:cubicBezTo>
                <a:cubicBezTo>
                  <a:pt x="87" y="240"/>
                  <a:pt x="26" y="187"/>
                  <a:pt x="6" y="109"/>
                </a:cubicBezTo>
                <a:cubicBezTo>
                  <a:pt x="9" y="86"/>
                  <a:pt x="0" y="58"/>
                  <a:pt x="14" y="39"/>
                </a:cubicBezTo>
                <a:cubicBezTo>
                  <a:pt x="32" y="16"/>
                  <a:pt x="147" y="17"/>
                  <a:pt x="147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5" name=""/>
              <p:cNvSpPr txBox="1"/>
              <p:nvPr/>
            </p:nvSpPr>
            <p:spPr>
              <a:xfrm>
                <a:off x="7315200" y="228600"/>
                <a:ext cx="1206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16" name=""/>
          <p:cNvGrpSpPr/>
          <p:nvPr/>
        </p:nvGrpSpPr>
        <p:grpSpPr>
          <a:xfrm>
            <a:off x="6019920" y="1233360"/>
            <a:ext cx="2590560" cy="290520"/>
            <a:chOff x="6019920" y="1233360"/>
            <a:chExt cx="2590560" cy="290520"/>
          </a:xfrm>
        </p:grpSpPr>
        <p:sp>
          <p:nvSpPr>
            <p:cNvPr id="917" name=""/>
            <p:cNvSpPr/>
            <p:nvPr/>
          </p:nvSpPr>
          <p:spPr>
            <a:xfrm>
              <a:off x="6019920" y="1385640"/>
              <a:ext cx="13716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8" name=""/>
                <p:cNvSpPr txBox="1"/>
                <p:nvPr/>
              </p:nvSpPr>
              <p:spPr>
                <a:xfrm>
                  <a:off x="7467480" y="1233360"/>
                  <a:ext cx="1143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∠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19" name=""/>
          <p:cNvGrpSpPr/>
          <p:nvPr/>
        </p:nvGrpSpPr>
        <p:grpSpPr>
          <a:xfrm>
            <a:off x="4361040" y="730080"/>
            <a:ext cx="3004920" cy="1236960"/>
            <a:chOff x="4361040" y="730080"/>
            <a:chExt cx="3004920" cy="1236960"/>
          </a:xfrm>
        </p:grpSpPr>
        <mc:AlternateContent>
          <mc:Choice xmlns:a14="http://schemas.microsoft.com/office/drawing/2010/main" Requires="a14">
            <p:sp>
              <p:nvSpPr>
                <p:cNvPr id="920" name=""/>
                <p:cNvSpPr txBox="1"/>
                <p:nvPr/>
              </p:nvSpPr>
              <p:spPr>
                <a:xfrm>
                  <a:off x="5029200" y="1676520"/>
                  <a:ext cx="2336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)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5</m:t>
                      </m:r>
                      <m:r>
                        <m:t xml:space="preserve">∠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21" name=""/>
            <p:cNvSpPr/>
            <p:nvPr/>
          </p:nvSpPr>
          <p:spPr>
            <a:xfrm>
              <a:off x="4361040" y="730080"/>
              <a:ext cx="574560" cy="1063800"/>
            </a:xfrm>
            <a:custGeom>
              <a:avLst/>
              <a:gdLst/>
              <a:ahLst/>
              <a:rect l="l" t="t" r="r" b="b"/>
              <a:pathLst>
                <a:path w="362" h="670">
                  <a:moveTo>
                    <a:pt x="331" y="0"/>
                  </a:moveTo>
                  <a:cubicBezTo>
                    <a:pt x="249" y="18"/>
                    <a:pt x="210" y="34"/>
                    <a:pt x="136" y="78"/>
                  </a:cubicBezTo>
                  <a:cubicBezTo>
                    <a:pt x="101" y="186"/>
                    <a:pt x="151" y="57"/>
                    <a:pt x="74" y="171"/>
                  </a:cubicBezTo>
                  <a:cubicBezTo>
                    <a:pt x="65" y="185"/>
                    <a:pt x="65" y="203"/>
                    <a:pt x="58" y="218"/>
                  </a:cubicBezTo>
                  <a:cubicBezTo>
                    <a:pt x="52" y="230"/>
                    <a:pt x="43" y="239"/>
                    <a:pt x="35" y="249"/>
                  </a:cubicBezTo>
                  <a:cubicBezTo>
                    <a:pt x="14" y="330"/>
                    <a:pt x="0" y="409"/>
                    <a:pt x="27" y="491"/>
                  </a:cubicBezTo>
                  <a:cubicBezTo>
                    <a:pt x="46" y="618"/>
                    <a:pt x="10" y="488"/>
                    <a:pt x="82" y="561"/>
                  </a:cubicBezTo>
                  <a:cubicBezTo>
                    <a:pt x="94" y="573"/>
                    <a:pt x="88" y="594"/>
                    <a:pt x="97" y="608"/>
                  </a:cubicBezTo>
                  <a:cubicBezTo>
                    <a:pt x="120" y="645"/>
                    <a:pt x="216" y="644"/>
                    <a:pt x="245" y="647"/>
                  </a:cubicBezTo>
                  <a:cubicBezTo>
                    <a:pt x="279" y="668"/>
                    <a:pt x="362" y="670"/>
                    <a:pt x="362" y="67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22" name=""/>
              <p:cNvSpPr txBox="1"/>
              <p:nvPr/>
            </p:nvSpPr>
            <p:spPr>
              <a:xfrm>
                <a:off x="5105520" y="2362320"/>
                <a:ext cx="2628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3" name=""/>
              <p:cNvSpPr txBox="1"/>
              <p:nvPr/>
            </p:nvSpPr>
            <p:spPr>
              <a:xfrm>
                <a:off x="7772400" y="2514600"/>
                <a:ext cx="1257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4" name=""/>
              <p:cNvSpPr txBox="1"/>
              <p:nvPr/>
            </p:nvSpPr>
            <p:spPr>
              <a:xfrm>
                <a:off x="5334120" y="3124080"/>
                <a:ext cx="163836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25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2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F08.020A_W0882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4943520" cy="2143080"/>
          </a:xfrm>
          <a:prstGeom prst="rect">
            <a:avLst/>
          </a:prstGeom>
          <a:ln w="0">
            <a:noFill/>
          </a:ln>
        </p:spPr>
      </p:pic>
      <p:sp>
        <p:nvSpPr>
          <p:cNvPr id="929" name=""/>
          <p:cNvSpPr/>
          <p:nvPr/>
        </p:nvSpPr>
        <p:spPr>
          <a:xfrm>
            <a:off x="249120" y="152280"/>
            <a:ext cx="41734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AFETY CONSIDERATIONS: AN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879800" y="210960"/>
            <a:ext cx="4051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ouses fed from different distrib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045480" y="973080"/>
            <a:ext cx="2818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raker X-Y opens, hous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powered d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609480" y="3429000"/>
            <a:ext cx="4962600" cy="2714400"/>
            <a:chOff x="609480" y="3429000"/>
            <a:chExt cx="4962600" cy="2714400"/>
          </a:xfrm>
        </p:grpSpPr>
        <p:pic>
          <p:nvPicPr>
            <p:cNvPr id="933" name="F08.020B_W0882" descr=""/>
            <p:cNvPicPr/>
            <p:nvPr/>
          </p:nvPicPr>
          <p:blipFill>
            <a:blip r:embed="rId2"/>
            <a:stretch/>
          </p:blipFill>
          <p:spPr>
            <a:xfrm>
              <a:off x="609480" y="3429000"/>
              <a:ext cx="4962600" cy="21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4" name=""/>
            <p:cNvSpPr/>
            <p:nvPr/>
          </p:nvSpPr>
          <p:spPr>
            <a:xfrm>
              <a:off x="1283040" y="5562720"/>
              <a:ext cx="35503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Good neighbor runs an ext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d  powers house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5" name=""/>
          <p:cNvSpPr/>
          <p:nvPr/>
        </p:nvSpPr>
        <p:spPr>
          <a:xfrm>
            <a:off x="5716800" y="3106800"/>
            <a:ext cx="33048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en technician resets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raker he finds 7200V betwe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ints X-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398560" y="4419720"/>
            <a:ext cx="3693600" cy="3373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en he did not expect to find 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7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3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F08.003_W0856" descr=""/>
          <p:cNvPicPr/>
          <p:nvPr/>
        </p:nvPicPr>
        <p:blipFill>
          <a:blip r:embed="rId1"/>
          <a:stretch/>
        </p:blipFill>
        <p:spPr>
          <a:xfrm>
            <a:off x="82440" y="1312920"/>
            <a:ext cx="4353120" cy="1447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77560" y="135000"/>
            <a:ext cx="2487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DOT CONVEN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554040" y="609480"/>
            <a:ext cx="3441600" cy="2214720"/>
            <a:chOff x="554040" y="609480"/>
            <a:chExt cx="3441600" cy="2214720"/>
          </a:xfrm>
        </p:grpSpPr>
        <p:sp>
          <p:nvSpPr>
            <p:cNvPr id="89" name=""/>
            <p:cNvSpPr/>
            <p:nvPr/>
          </p:nvSpPr>
          <p:spPr>
            <a:xfrm>
              <a:off x="554040" y="1222200"/>
              <a:ext cx="1144440" cy="1497240"/>
            </a:xfrm>
            <a:custGeom>
              <a:avLst/>
              <a:gdLst/>
              <a:ahLst/>
              <a:rect l="l" t="t" r="r" b="b"/>
              <a:pathLst>
                <a:path w="721" h="943">
                  <a:moveTo>
                    <a:pt x="619" y="390"/>
                  </a:moveTo>
                  <a:cubicBezTo>
                    <a:pt x="652" y="305"/>
                    <a:pt x="698" y="230"/>
                    <a:pt x="721" y="141"/>
                  </a:cubicBezTo>
                  <a:cubicBezTo>
                    <a:pt x="702" y="55"/>
                    <a:pt x="694" y="52"/>
                    <a:pt x="627" y="0"/>
                  </a:cubicBezTo>
                  <a:cubicBezTo>
                    <a:pt x="443" y="7"/>
                    <a:pt x="352" y="19"/>
                    <a:pt x="183" y="70"/>
                  </a:cubicBezTo>
                  <a:cubicBezTo>
                    <a:pt x="157" y="90"/>
                    <a:pt x="151" y="90"/>
                    <a:pt x="136" y="117"/>
                  </a:cubicBezTo>
                  <a:cubicBezTo>
                    <a:pt x="125" y="138"/>
                    <a:pt x="105" y="180"/>
                    <a:pt x="105" y="180"/>
                  </a:cubicBezTo>
                  <a:cubicBezTo>
                    <a:pt x="96" y="242"/>
                    <a:pt x="87" y="303"/>
                    <a:pt x="58" y="359"/>
                  </a:cubicBezTo>
                  <a:cubicBezTo>
                    <a:pt x="30" y="485"/>
                    <a:pt x="25" y="603"/>
                    <a:pt x="19" y="733"/>
                  </a:cubicBezTo>
                  <a:cubicBezTo>
                    <a:pt x="22" y="782"/>
                    <a:pt x="0" y="840"/>
                    <a:pt x="27" y="881"/>
                  </a:cubicBezTo>
                  <a:cubicBezTo>
                    <a:pt x="48" y="913"/>
                    <a:pt x="220" y="931"/>
                    <a:pt x="253" y="935"/>
                  </a:cubicBezTo>
                  <a:cubicBezTo>
                    <a:pt x="284" y="939"/>
                    <a:pt x="316" y="940"/>
                    <a:pt x="347" y="943"/>
                  </a:cubicBezTo>
                  <a:cubicBezTo>
                    <a:pt x="401" y="924"/>
                    <a:pt x="400" y="828"/>
                    <a:pt x="425" y="780"/>
                  </a:cubicBezTo>
                  <a:cubicBezTo>
                    <a:pt x="434" y="691"/>
                    <a:pt x="443" y="590"/>
                    <a:pt x="495" y="515"/>
                  </a:cubicBezTo>
                  <a:cubicBezTo>
                    <a:pt x="509" y="474"/>
                    <a:pt x="494" y="506"/>
                    <a:pt x="526" y="468"/>
                  </a:cubicBezTo>
                  <a:cubicBezTo>
                    <a:pt x="569" y="418"/>
                    <a:pt x="552" y="418"/>
                    <a:pt x="619" y="390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820960" y="1141560"/>
              <a:ext cx="1152720" cy="1682640"/>
            </a:xfrm>
            <a:custGeom>
              <a:avLst/>
              <a:gdLst/>
              <a:ahLst/>
              <a:rect l="l" t="t" r="r" b="b"/>
              <a:pathLst>
                <a:path w="726" h="1059">
                  <a:moveTo>
                    <a:pt x="195" y="796"/>
                  </a:moveTo>
                  <a:cubicBezTo>
                    <a:pt x="200" y="833"/>
                    <a:pt x="203" y="870"/>
                    <a:pt x="210" y="906"/>
                  </a:cubicBezTo>
                  <a:cubicBezTo>
                    <a:pt x="227" y="990"/>
                    <a:pt x="292" y="1006"/>
                    <a:pt x="366" y="1015"/>
                  </a:cubicBezTo>
                  <a:cubicBezTo>
                    <a:pt x="565" y="1003"/>
                    <a:pt x="599" y="1059"/>
                    <a:pt x="678" y="945"/>
                  </a:cubicBezTo>
                  <a:cubicBezTo>
                    <a:pt x="683" y="929"/>
                    <a:pt x="688" y="914"/>
                    <a:pt x="693" y="898"/>
                  </a:cubicBezTo>
                  <a:cubicBezTo>
                    <a:pt x="696" y="890"/>
                    <a:pt x="701" y="874"/>
                    <a:pt x="701" y="874"/>
                  </a:cubicBezTo>
                  <a:cubicBezTo>
                    <a:pt x="704" y="768"/>
                    <a:pt x="709" y="661"/>
                    <a:pt x="709" y="555"/>
                  </a:cubicBezTo>
                  <a:cubicBezTo>
                    <a:pt x="709" y="531"/>
                    <a:pt x="726" y="299"/>
                    <a:pt x="670" y="235"/>
                  </a:cubicBezTo>
                  <a:cubicBezTo>
                    <a:pt x="636" y="197"/>
                    <a:pt x="597" y="162"/>
                    <a:pt x="561" y="126"/>
                  </a:cubicBezTo>
                  <a:cubicBezTo>
                    <a:pt x="522" y="87"/>
                    <a:pt x="544" y="99"/>
                    <a:pt x="499" y="87"/>
                  </a:cubicBezTo>
                  <a:cubicBezTo>
                    <a:pt x="455" y="59"/>
                    <a:pt x="402" y="49"/>
                    <a:pt x="351" y="41"/>
                  </a:cubicBezTo>
                  <a:cubicBezTo>
                    <a:pt x="135" y="47"/>
                    <a:pt x="110" y="0"/>
                    <a:pt x="15" y="142"/>
                  </a:cubicBezTo>
                  <a:cubicBezTo>
                    <a:pt x="0" y="246"/>
                    <a:pt x="17" y="352"/>
                    <a:pt x="62" y="446"/>
                  </a:cubicBezTo>
                  <a:cubicBezTo>
                    <a:pt x="73" y="511"/>
                    <a:pt x="61" y="480"/>
                    <a:pt x="101" y="539"/>
                  </a:cubicBezTo>
                  <a:cubicBezTo>
                    <a:pt x="121" y="569"/>
                    <a:pt x="127" y="610"/>
                    <a:pt x="148" y="641"/>
                  </a:cubicBezTo>
                  <a:cubicBezTo>
                    <a:pt x="159" y="684"/>
                    <a:pt x="166" y="730"/>
                    <a:pt x="179" y="773"/>
                  </a:cubicBezTo>
                  <a:cubicBezTo>
                    <a:pt x="187" y="799"/>
                    <a:pt x="179" y="796"/>
                    <a:pt x="195" y="796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96400" y="609480"/>
              <a:ext cx="30992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urrents and voltages foll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assive sign conven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270360" y="1768320"/>
            <a:ext cx="2178720" cy="1766520"/>
            <a:chOff x="270360" y="1768320"/>
            <a:chExt cx="2178720" cy="1766520"/>
          </a:xfrm>
        </p:grpSpPr>
        <p:sp>
          <p:nvSpPr>
            <p:cNvPr id="93" name=""/>
            <p:cNvSpPr/>
            <p:nvPr/>
          </p:nvSpPr>
          <p:spPr>
            <a:xfrm>
              <a:off x="1066680" y="1768320"/>
              <a:ext cx="890640" cy="1225800"/>
            </a:xfrm>
            <a:custGeom>
              <a:avLst/>
              <a:gdLst/>
              <a:ahLst/>
              <a:rect l="l" t="t" r="r" b="b"/>
              <a:pathLst>
                <a:path w="561" h="772">
                  <a:moveTo>
                    <a:pt x="561" y="71"/>
                  </a:moveTo>
                  <a:cubicBezTo>
                    <a:pt x="552" y="56"/>
                    <a:pt x="554" y="32"/>
                    <a:pt x="538" y="24"/>
                  </a:cubicBezTo>
                  <a:cubicBezTo>
                    <a:pt x="521" y="16"/>
                    <a:pt x="501" y="19"/>
                    <a:pt x="483" y="16"/>
                  </a:cubicBezTo>
                  <a:cubicBezTo>
                    <a:pt x="452" y="11"/>
                    <a:pt x="421" y="5"/>
                    <a:pt x="390" y="0"/>
                  </a:cubicBezTo>
                  <a:cubicBezTo>
                    <a:pt x="354" y="12"/>
                    <a:pt x="349" y="39"/>
                    <a:pt x="366" y="78"/>
                  </a:cubicBezTo>
                  <a:cubicBezTo>
                    <a:pt x="387" y="124"/>
                    <a:pt x="536" y="165"/>
                    <a:pt x="553" y="172"/>
                  </a:cubicBezTo>
                  <a:cubicBezTo>
                    <a:pt x="551" y="206"/>
                    <a:pt x="549" y="239"/>
                    <a:pt x="546" y="273"/>
                  </a:cubicBezTo>
                  <a:cubicBezTo>
                    <a:pt x="537" y="390"/>
                    <a:pt x="549" y="638"/>
                    <a:pt x="405" y="702"/>
                  </a:cubicBezTo>
                  <a:cubicBezTo>
                    <a:pt x="335" y="733"/>
                    <a:pt x="254" y="737"/>
                    <a:pt x="179" y="749"/>
                  </a:cubicBezTo>
                  <a:cubicBezTo>
                    <a:pt x="121" y="758"/>
                    <a:pt x="58" y="772"/>
                    <a:pt x="0" y="772"/>
                  </a:cubicBezTo>
                  <a:lnTo>
                    <a:pt x="59" y="758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70360" y="2954160"/>
              <a:ext cx="21787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lux 2 induc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 has + at do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609480" y="3809880"/>
                <a:ext cx="255276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96" name=""/>
          <p:cNvGrpSpPr/>
          <p:nvPr/>
        </p:nvGrpSpPr>
        <p:grpSpPr>
          <a:xfrm>
            <a:off x="4495680" y="76320"/>
            <a:ext cx="4496040" cy="2184120"/>
            <a:chOff x="4495680" y="76320"/>
            <a:chExt cx="4496040" cy="2184120"/>
          </a:xfrm>
        </p:grpSpPr>
        <p:sp>
          <p:nvSpPr>
            <p:cNvPr id="97" name=""/>
            <p:cNvSpPr/>
            <p:nvPr/>
          </p:nvSpPr>
          <p:spPr>
            <a:xfrm>
              <a:off x="4663800" y="7632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F08.005_W0858" descr=""/>
            <p:cNvPicPr/>
            <p:nvPr/>
          </p:nvPicPr>
          <p:blipFill>
            <a:blip r:embed="rId2"/>
            <a:stretch/>
          </p:blipFill>
          <p:spPr>
            <a:xfrm>
              <a:off x="4495680" y="762120"/>
              <a:ext cx="4496040" cy="1498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9" name=""/>
          <p:cNvGrpSpPr/>
          <p:nvPr/>
        </p:nvGrpSpPr>
        <p:grpSpPr>
          <a:xfrm>
            <a:off x="5257800" y="2209680"/>
            <a:ext cx="685800" cy="366480"/>
            <a:chOff x="5257800" y="2209680"/>
            <a:chExt cx="685800" cy="366480"/>
          </a:xfrm>
        </p:grpSpPr>
        <p:sp>
          <p:nvSpPr>
            <p:cNvPr id="100" name=""/>
            <p:cNvSpPr/>
            <p:nvPr/>
          </p:nvSpPr>
          <p:spPr>
            <a:xfrm>
              <a:off x="5257800" y="220968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" name=""/>
                <p:cNvSpPr txBox="1"/>
                <p:nvPr/>
              </p:nvSpPr>
              <p:spPr>
                <a:xfrm>
                  <a:off x="5257800" y="2285640"/>
                  <a:ext cx="582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2" name=""/>
          <p:cNvGrpSpPr/>
          <p:nvPr/>
        </p:nvGrpSpPr>
        <p:grpSpPr>
          <a:xfrm>
            <a:off x="7162920" y="2133720"/>
            <a:ext cx="838080" cy="366480"/>
            <a:chOff x="7162920" y="2133720"/>
            <a:chExt cx="838080" cy="366480"/>
          </a:xfrm>
        </p:grpSpPr>
        <p:sp>
          <p:nvSpPr>
            <p:cNvPr id="103" name=""/>
            <p:cNvSpPr/>
            <p:nvPr/>
          </p:nvSpPr>
          <p:spPr>
            <a:xfrm flipH="1">
              <a:off x="7162920" y="2133720"/>
              <a:ext cx="838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" name=""/>
                <p:cNvSpPr txBox="1"/>
                <p:nvPr/>
              </p:nvSpPr>
              <p:spPr>
                <a:xfrm>
                  <a:off x="7238880" y="2209680"/>
                  <a:ext cx="6202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8370720" y="1143000"/>
                <a:ext cx="77328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+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277920" y="5164200"/>
            <a:ext cx="381096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other cases change polarities 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 directions to convert to th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c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5410080" y="2832120"/>
                <a:ext cx="26924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334120" y="3505320"/>
                <a:ext cx="29080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5867280" y="4267080"/>
                <a:ext cx="185436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"/>
          <p:cNvSpPr/>
          <p:nvPr/>
        </p:nvSpPr>
        <p:spPr>
          <a:xfrm>
            <a:off x="118080" y="76320"/>
            <a:ext cx="29880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344040" y="76320"/>
            <a:ext cx="39495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y high voltage transmission line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236520" y="533520"/>
            <a:ext cx="6546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SE STUDY: Transmit 24MW over 100miles with 95% effici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984720" y="533520"/>
            <a:ext cx="1342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. AT 240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. AT 240k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4" name=""/>
              <p:cNvSpPr txBox="1"/>
              <p:nvPr/>
            </p:nvSpPr>
            <p:spPr>
              <a:xfrm>
                <a:off x="76320" y="851040"/>
                <a:ext cx="5283000" cy="17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iven: Conductor resistance, R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ρl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  <m:e>
                        <m:r>
                          <m:t xml:space="preserve">ρ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esistivity of material </m:t>
                        </m:r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, copper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</m:sup>
                        </m:sSup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/m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length of condu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9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m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cross section </m:t>
                        </m:r>
                        <m:r>
                          <m:t xml:space="preserve">=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5" name=""/>
              <p:cNvSpPr txBox="1"/>
              <p:nvPr/>
            </p:nvSpPr>
            <p:spPr>
              <a:xfrm>
                <a:off x="76320" y="2590920"/>
                <a:ext cx="5640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quired: Maximum losses,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s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rPr>
                        <m:lit/>
                        <m:nor/>
                      </m:rPr>
                      <m:t xml:space="preserve">MW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6" name=""/>
              <p:cNvSpPr txBox="1"/>
              <p:nvPr/>
            </p:nvSpPr>
            <p:spPr>
              <a:xfrm>
                <a:off x="76320" y="3276720"/>
                <a:ext cx="5283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At 240V one needs a current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W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7" name=""/>
              <p:cNvSpPr txBox="1"/>
              <p:nvPr/>
            </p:nvSpPr>
            <p:spPr>
              <a:xfrm>
                <a:off x="63360" y="2895480"/>
                <a:ext cx="30607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nown: Line losses: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ss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8" name=""/>
              <p:cNvSpPr txBox="1"/>
              <p:nvPr/>
            </p:nvSpPr>
            <p:spPr>
              <a:xfrm>
                <a:off x="272880" y="3962520"/>
                <a:ext cx="393732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9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r>
                          <m:t xml:space="preserve">π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9" name=""/>
              <p:cNvSpPr txBox="1"/>
              <p:nvPr/>
            </p:nvSpPr>
            <p:spPr>
              <a:xfrm>
                <a:off x="4191120" y="4191120"/>
                <a:ext cx="13334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4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0" name=""/>
              <p:cNvSpPr txBox="1"/>
              <p:nvPr/>
            </p:nvSpPr>
            <p:spPr>
              <a:xfrm>
                <a:off x="235080" y="4724280"/>
                <a:ext cx="54356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At 240kV one needs a current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W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1" name=""/>
              <p:cNvSpPr txBox="1"/>
              <p:nvPr/>
            </p:nvSpPr>
            <p:spPr>
              <a:xfrm>
                <a:off x="336600" y="5486400"/>
                <a:ext cx="387360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9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r>
                          <m:t xml:space="preserve">π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2" name=""/>
              <p:cNvSpPr txBox="1"/>
              <p:nvPr/>
            </p:nvSpPr>
            <p:spPr>
              <a:xfrm>
                <a:off x="4267080" y="5715000"/>
                <a:ext cx="15624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24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53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5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7" name="F08.021_W0883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4572000" cy="2025720"/>
          </a:xfrm>
          <a:prstGeom prst="rect">
            <a:avLst/>
          </a:prstGeom>
          <a:ln w="0">
            <a:noFill/>
          </a:ln>
        </p:spPr>
      </p:pic>
      <p:sp>
        <p:nvSpPr>
          <p:cNvPr id="958" name=""/>
          <p:cNvSpPr/>
          <p:nvPr/>
        </p:nvSpPr>
        <p:spPr>
          <a:xfrm>
            <a:off x="2485440" y="76320"/>
            <a:ext cx="3573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ating a distribution transfor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9" name=""/>
              <p:cNvSpPr txBox="1"/>
              <p:nvPr/>
            </p:nvSpPr>
            <p:spPr>
              <a:xfrm>
                <a:off x="4952880" y="914400"/>
                <a:ext cx="40132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Households per transforme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aximum current per household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0" name=""/>
              <p:cNvSpPr txBox="1"/>
              <p:nvPr/>
            </p:nvSpPr>
            <p:spPr>
              <a:xfrm>
                <a:off x="3124080" y="2743200"/>
                <a:ext cx="914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1" name=""/>
              <p:cNvSpPr txBox="1"/>
              <p:nvPr/>
            </p:nvSpPr>
            <p:spPr>
              <a:xfrm>
                <a:off x="4267080" y="2743200"/>
                <a:ext cx="16002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8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2" name=""/>
          <p:cNvSpPr/>
          <p:nvPr/>
        </p:nvSpPr>
        <p:spPr>
          <a:xfrm>
            <a:off x="855000" y="2863800"/>
            <a:ext cx="2010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ing rat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851400" y="3564000"/>
            <a:ext cx="2838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ing power r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4" name=""/>
              <p:cNvSpPr txBox="1"/>
              <p:nvPr/>
            </p:nvSpPr>
            <p:spPr>
              <a:xfrm>
                <a:off x="2971800" y="3962520"/>
                <a:ext cx="32004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x secondary current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00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3962520" y="4419720"/>
                <a:ext cx="16891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8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6" name=""/>
              <p:cNvSpPr txBox="1"/>
              <p:nvPr/>
            </p:nvSpPr>
            <p:spPr>
              <a:xfrm>
                <a:off x="3048120" y="5029200"/>
                <a:ext cx="28699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00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80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7" name=""/>
              <p:cNvSpPr txBox="1"/>
              <p:nvPr/>
            </p:nvSpPr>
            <p:spPr>
              <a:xfrm>
                <a:off x="3124080" y="5410080"/>
                <a:ext cx="27813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lso:   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0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2000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68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6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1" name="F08.022A_W0884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000520" cy="2352600"/>
          </a:xfrm>
          <a:prstGeom prst="rect">
            <a:avLst/>
          </a:prstGeom>
          <a:ln w="0">
            <a:noFill/>
          </a:ln>
        </p:spPr>
      </p:pic>
      <p:sp>
        <p:nvSpPr>
          <p:cNvPr id="972" name=""/>
          <p:cNvSpPr/>
          <p:nvPr/>
        </p:nvSpPr>
        <p:spPr>
          <a:xfrm>
            <a:off x="110880" y="5868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2452320" y="76320"/>
            <a:ext cx="6393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a 120V - 12V transformer to build a 108V autotransfor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258840" y="2787480"/>
            <a:ext cx="2823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ventional transfor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5" name=""/>
          <p:cNvGrpSpPr/>
          <p:nvPr/>
        </p:nvGrpSpPr>
        <p:grpSpPr>
          <a:xfrm>
            <a:off x="3505320" y="762120"/>
            <a:ext cx="4790880" cy="2453400"/>
            <a:chOff x="3505320" y="762120"/>
            <a:chExt cx="4790880" cy="2453400"/>
          </a:xfrm>
        </p:grpSpPr>
        <p:pic>
          <p:nvPicPr>
            <p:cNvPr id="976" name="F08.022B_W0884" descr=""/>
            <p:cNvPicPr/>
            <p:nvPr/>
          </p:nvPicPr>
          <p:blipFill>
            <a:blip r:embed="rId2"/>
            <a:stretch/>
          </p:blipFill>
          <p:spPr>
            <a:xfrm>
              <a:off x="3505320" y="762120"/>
              <a:ext cx="4790880" cy="23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>
              <a:off x="4673880" y="2878200"/>
              <a:ext cx="32410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uto transformer conne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8" name=""/>
          <p:cNvGrpSpPr/>
          <p:nvPr/>
        </p:nvGrpSpPr>
        <p:grpSpPr>
          <a:xfrm>
            <a:off x="3892680" y="3263760"/>
            <a:ext cx="4095720" cy="343080"/>
            <a:chOff x="3892680" y="3263760"/>
            <a:chExt cx="4095720" cy="343080"/>
          </a:xfrm>
        </p:grpSpPr>
        <mc:AlternateContent>
          <mc:Choice xmlns:a14="http://schemas.microsoft.com/office/drawing/2010/main" Requires="a14">
            <p:sp>
              <p:nvSpPr>
                <p:cNvPr id="979" name=""/>
                <p:cNvSpPr txBox="1"/>
                <p:nvPr/>
              </p:nvSpPr>
              <p:spPr>
                <a:xfrm>
                  <a:off x="3892680" y="3263760"/>
                  <a:ext cx="135864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xz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xy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yz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80" name=""/>
                <p:cNvSpPr txBox="1"/>
                <p:nvPr/>
              </p:nvSpPr>
              <p:spPr>
                <a:xfrm>
                  <a:off x="6629400" y="3276720"/>
                  <a:ext cx="135900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xz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xy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xz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81" name=""/>
          <p:cNvGrpSpPr/>
          <p:nvPr/>
        </p:nvGrpSpPr>
        <p:grpSpPr>
          <a:xfrm>
            <a:off x="4191120" y="3657600"/>
            <a:ext cx="4162320" cy="2453400"/>
            <a:chOff x="4191120" y="3657600"/>
            <a:chExt cx="4162320" cy="2453400"/>
          </a:xfrm>
        </p:grpSpPr>
        <p:pic>
          <p:nvPicPr>
            <p:cNvPr id="982" name="F08.022C_W0884" descr=""/>
            <p:cNvPicPr/>
            <p:nvPr/>
          </p:nvPicPr>
          <p:blipFill>
            <a:blip r:embed="rId3"/>
            <a:stretch/>
          </p:blipFill>
          <p:spPr>
            <a:xfrm>
              <a:off x="4191120" y="3657600"/>
              <a:ext cx="4162320" cy="23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3" name=""/>
            <p:cNvSpPr/>
            <p:nvPr/>
          </p:nvSpPr>
          <p:spPr>
            <a:xfrm>
              <a:off x="4741560" y="5773680"/>
              <a:ext cx="25293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represent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4" name=""/>
          <p:cNvSpPr/>
          <p:nvPr/>
        </p:nvSpPr>
        <p:spPr>
          <a:xfrm>
            <a:off x="267480" y="3200400"/>
            <a:ext cx="33368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the subtractive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 the 120V - 12V transfor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5" name="F08.023_W0885" descr=""/>
          <p:cNvPicPr/>
          <p:nvPr/>
        </p:nvPicPr>
        <p:blipFill>
          <a:blip r:embed="rId4"/>
          <a:stretch/>
        </p:blipFill>
        <p:spPr>
          <a:xfrm>
            <a:off x="228600" y="3962520"/>
            <a:ext cx="3714840" cy="2352600"/>
          </a:xfrm>
          <a:prstGeom prst="rect">
            <a:avLst/>
          </a:prstGeom>
          <a:ln w="0">
            <a:noFill/>
          </a:ln>
        </p:spPr>
      </p:pic>
      <p:grpSp>
        <p:nvGrpSpPr>
          <p:cNvPr id="986" name=""/>
          <p:cNvGrpSpPr/>
          <p:nvPr/>
        </p:nvGrpSpPr>
        <p:grpSpPr>
          <a:xfrm>
            <a:off x="7322400" y="5714280"/>
            <a:ext cx="1826640" cy="1078560"/>
            <a:chOff x="7322400" y="5714280"/>
            <a:chExt cx="1826640" cy="1078560"/>
          </a:xfrm>
        </p:grpSpPr>
        <p:pic>
          <p:nvPicPr>
            <p:cNvPr id="987" name="stop" descr=""/>
            <p:cNvPicPr/>
            <p:nvPr/>
          </p:nvPicPr>
          <p:blipFill>
            <a:blip r:embed="rId5"/>
            <a:stretch/>
          </p:blipFill>
          <p:spPr>
            <a:xfrm>
              <a:off x="8199360" y="627840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8" name=""/>
            <p:cNvSpPr/>
            <p:nvPr/>
          </p:nvSpPr>
          <p:spPr>
            <a:xfrm>
              <a:off x="7322400" y="5714280"/>
              <a:ext cx="1826640" cy="368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Transform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F08.003_W0856" descr=""/>
          <p:cNvPicPr/>
          <p:nvPr/>
        </p:nvPicPr>
        <p:blipFill>
          <a:blip r:embed="rId1"/>
          <a:stretch/>
        </p:blipFill>
        <p:spPr>
          <a:xfrm>
            <a:off x="66600" y="457200"/>
            <a:ext cx="4353120" cy="144792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76320" y="2286000"/>
            <a:ext cx="4267080" cy="1419120"/>
            <a:chOff x="76320" y="2286000"/>
            <a:chExt cx="4267080" cy="1419120"/>
          </a:xfrm>
        </p:grpSpPr>
        <p:graphicFrame>
          <p:nvGraphicFramePr>
            <p:cNvPr id="117" name=""/>
            <p:cNvGraphicFramePr/>
            <p:nvPr/>
          </p:nvGraphicFramePr>
          <p:xfrm>
            <a:off x="76320" y="2286000"/>
            <a:ext cx="4267080" cy="1419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1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6320" y="2286000"/>
                      <a:ext cx="4267080" cy="141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9" name=""/>
            <p:cNvSpPr/>
            <p:nvPr/>
          </p:nvSpPr>
          <p:spPr>
            <a:xfrm flipH="1">
              <a:off x="1904400" y="2819160"/>
              <a:ext cx="152280" cy="3049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219320" y="3429000"/>
            <a:ext cx="457200" cy="442800"/>
            <a:chOff x="1219320" y="3429000"/>
            <a:chExt cx="457200" cy="442800"/>
          </a:xfrm>
        </p:grpSpPr>
        <p:sp>
          <p:nvSpPr>
            <p:cNvPr id="121" name=""/>
            <p:cNvSpPr/>
            <p:nvPr/>
          </p:nvSpPr>
          <p:spPr>
            <a:xfrm>
              <a:off x="1219320" y="342900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2" name=""/>
                <p:cNvSpPr txBox="1"/>
                <p:nvPr/>
              </p:nvSpPr>
              <p:spPr>
                <a:xfrm>
                  <a:off x="1295280" y="3581280"/>
                  <a:ext cx="330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28600" y="2603520"/>
                <a:ext cx="38088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+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4648320" y="2514600"/>
                <a:ext cx="201924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486400" y="609480"/>
                <a:ext cx="255276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6864480" y="3886200"/>
            <a:ext cx="186156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ivalent to 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gative mu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0" y="4419720"/>
            <a:ext cx="4419720" cy="1469880"/>
            <a:chOff x="0" y="4419720"/>
            <a:chExt cx="4419720" cy="1469880"/>
          </a:xfrm>
        </p:grpSpPr>
        <p:graphicFrame>
          <p:nvGraphicFramePr>
            <p:cNvPr id="128" name=""/>
            <p:cNvGraphicFramePr/>
            <p:nvPr/>
          </p:nvGraphicFramePr>
          <p:xfrm>
            <a:off x="0" y="4419720"/>
            <a:ext cx="4419720" cy="1469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2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0" y="4419720"/>
                      <a:ext cx="4419720" cy="146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0" name=""/>
            <p:cNvSpPr/>
            <p:nvPr/>
          </p:nvSpPr>
          <p:spPr>
            <a:xfrm>
              <a:off x="2286000" y="4952880"/>
              <a:ext cx="228600" cy="3812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666520" y="5715000"/>
            <a:ext cx="685800" cy="366840"/>
            <a:chOff x="2666520" y="5715000"/>
            <a:chExt cx="685800" cy="366840"/>
          </a:xfrm>
        </p:grpSpPr>
        <p:sp>
          <p:nvSpPr>
            <p:cNvPr id="132" name=""/>
            <p:cNvSpPr/>
            <p:nvPr/>
          </p:nvSpPr>
          <p:spPr>
            <a:xfrm flipH="1">
              <a:off x="2666520" y="571500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3" name=""/>
                <p:cNvSpPr txBox="1"/>
                <p:nvPr/>
              </p:nvSpPr>
              <p:spPr>
                <a:xfrm>
                  <a:off x="2819520" y="5791320"/>
                  <a:ext cx="3538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3809880" y="4737240"/>
                <a:ext cx="4050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+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4724280" y="4572000"/>
                <a:ext cx="17146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M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648320" y="5181480"/>
                <a:ext cx="19429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477720" y="58680"/>
            <a:ext cx="3000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re on the dot conven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geaux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E08.001_W0859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5934240" cy="14857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8324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914400"/>
            <a:ext cx="45720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1752480" y="914400"/>
                <a:ext cx="1764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/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 flipH="1">
            <a:off x="4114440" y="990720"/>
            <a:ext cx="60948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133720" y="1905120"/>
                <a:ext cx="27302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M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133720" y="2590920"/>
                <a:ext cx="26794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M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0" name=""/>
          <p:cNvGrpSpPr/>
          <p:nvPr/>
        </p:nvGrpSpPr>
        <p:grpSpPr>
          <a:xfrm>
            <a:off x="5403960" y="2057400"/>
            <a:ext cx="2685960" cy="1168560"/>
            <a:chOff x="5403960" y="2057400"/>
            <a:chExt cx="2685960" cy="1168560"/>
          </a:xfrm>
        </p:grpSpPr>
        <mc:AlternateContent>
          <mc:Choice xmlns:a14="http://schemas.microsoft.com/office/drawing/2010/main" Requires="a14">
            <p:sp>
              <p:nvSpPr>
                <p:cNvPr id="151" name=""/>
                <p:cNvSpPr txBox="1"/>
                <p:nvPr/>
              </p:nvSpPr>
              <p:spPr>
                <a:xfrm>
                  <a:off x="5403960" y="2057400"/>
                  <a:ext cx="243828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i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M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2" name=""/>
                <p:cNvSpPr txBox="1"/>
                <p:nvPr/>
              </p:nvSpPr>
              <p:spPr>
                <a:xfrm>
                  <a:off x="5410080" y="2666880"/>
                  <a:ext cx="267984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M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3" name=""/>
          <p:cNvSpPr/>
          <p:nvPr/>
        </p:nvSpPr>
        <p:spPr>
          <a:xfrm>
            <a:off x="153360" y="1963800"/>
            <a:ext cx="12506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vert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c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743200" y="152280"/>
                <a:ext cx="3365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rite the equations for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5" name=""/>
          <p:cNvGrpSpPr/>
          <p:nvPr/>
        </p:nvGrpSpPr>
        <p:grpSpPr>
          <a:xfrm>
            <a:off x="66600" y="3411360"/>
            <a:ext cx="6905880" cy="1922760"/>
            <a:chOff x="66600" y="3411360"/>
            <a:chExt cx="6905880" cy="1922760"/>
          </a:xfrm>
        </p:grpSpPr>
        <p:pic>
          <p:nvPicPr>
            <p:cNvPr id="156" name="F08.003_W0856" descr=""/>
            <p:cNvPicPr/>
            <p:nvPr/>
          </p:nvPicPr>
          <p:blipFill>
            <a:blip r:embed="rId2"/>
            <a:stretch/>
          </p:blipFill>
          <p:spPr>
            <a:xfrm>
              <a:off x="66600" y="3886200"/>
              <a:ext cx="4353120" cy="1447920"/>
            </a:xfrm>
            <a:prstGeom prst="rect">
              <a:avLst/>
            </a:prstGeom>
            <a:ln w="9360">
              <a:solidFill>
                <a:srgbClr val="3333cc"/>
              </a:solidFill>
              <a:miter/>
            </a:ln>
          </p:spPr>
        </p:pic>
        <p:sp>
          <p:nvSpPr>
            <p:cNvPr id="157" name=""/>
            <p:cNvSpPr/>
            <p:nvPr/>
          </p:nvSpPr>
          <p:spPr>
            <a:xfrm>
              <a:off x="245880" y="3411360"/>
              <a:ext cx="394812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ORS AND MUTUAL INDUCT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8" name=""/>
                <p:cNvSpPr txBox="1"/>
                <p:nvPr/>
              </p:nvSpPr>
              <p:spPr>
                <a:xfrm>
                  <a:off x="4419720" y="3962520"/>
                  <a:ext cx="2552760" cy="11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f>
                            <m:num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t xml:space="preserve">M</m:t>
                          </m:r>
                          <m:f>
                            <m:num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M</m:t>
                          </m:r>
                          <m:f>
                            <m:num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f>
                            <m:num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9" name=""/>
          <p:cNvGrpSpPr/>
          <p:nvPr/>
        </p:nvGrpSpPr>
        <p:grpSpPr>
          <a:xfrm>
            <a:off x="3352680" y="5410080"/>
            <a:ext cx="5135400" cy="648000"/>
            <a:chOff x="3352680" y="5410080"/>
            <a:chExt cx="5135400" cy="648000"/>
          </a:xfrm>
        </p:grpSpPr>
        <mc:AlternateContent>
          <mc:Choice xmlns:a14="http://schemas.microsoft.com/office/drawing/2010/main" Requires="a14">
            <p:sp>
              <p:nvSpPr>
                <p:cNvPr id="160" name=""/>
                <p:cNvSpPr txBox="1"/>
                <p:nvPr/>
              </p:nvSpPr>
              <p:spPr>
                <a:xfrm>
                  <a:off x="3352680" y="5410080"/>
                  <a:ext cx="1994040" cy="6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jωL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jω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jω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jωL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61" name=""/>
            <p:cNvSpPr/>
            <p:nvPr/>
          </p:nvSpPr>
          <p:spPr>
            <a:xfrm>
              <a:off x="5602320" y="5410080"/>
              <a:ext cx="288576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or model for mutuall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upled linear induct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947520" y="5486400"/>
            <a:ext cx="2219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suming comple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ponential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304920" y="533520"/>
          <a:ext cx="3582720" cy="138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533520"/>
                    <a:ext cx="3582720" cy="13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31320" y="190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11640" y="0"/>
            <a:ext cx="65494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oupled inductors can be connected in four different way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model for each c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96480" y="1905120"/>
            <a:ext cx="3651480" cy="2100240"/>
            <a:chOff x="96480" y="1905120"/>
            <a:chExt cx="3651480" cy="2100240"/>
          </a:xfrm>
        </p:grpSpPr>
        <p:graphicFrame>
          <p:nvGraphicFramePr>
            <p:cNvPr id="173" name=""/>
            <p:cNvGraphicFramePr/>
            <p:nvPr/>
          </p:nvGraphicFramePr>
          <p:xfrm>
            <a:off x="152280" y="2227320"/>
            <a:ext cx="3595680" cy="1778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52280" y="2227320"/>
                      <a:ext cx="3595680" cy="177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5" name=""/>
            <p:cNvSpPr/>
            <p:nvPr/>
          </p:nvSpPr>
          <p:spPr>
            <a:xfrm>
              <a:off x="96480" y="1905120"/>
              <a:ext cx="807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SE 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598320" y="2851200"/>
            <a:ext cx="2779920" cy="290520"/>
            <a:chOff x="598320" y="2851200"/>
            <a:chExt cx="2779920" cy="290520"/>
          </a:xfrm>
        </p:grpSpPr>
        <mc:AlternateContent>
          <mc:Choice xmlns:a14="http://schemas.microsoft.com/office/drawing/2010/main" Requires="a14">
            <p:sp>
              <p:nvSpPr>
                <p:cNvPr id="177" name=""/>
                <p:cNvSpPr txBox="1"/>
                <p:nvPr/>
              </p:nvSpPr>
              <p:spPr>
                <a:xfrm>
                  <a:off x="598320" y="2851200"/>
                  <a:ext cx="621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8" name=""/>
                <p:cNvSpPr txBox="1"/>
                <p:nvPr/>
              </p:nvSpPr>
              <p:spPr>
                <a:xfrm>
                  <a:off x="2730600" y="2851200"/>
                  <a:ext cx="647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4648320" y="2590920"/>
                <a:ext cx="1879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80" name=""/>
          <p:cNvGrpSpPr/>
          <p:nvPr/>
        </p:nvGrpSpPr>
        <p:grpSpPr>
          <a:xfrm>
            <a:off x="457200" y="1981080"/>
            <a:ext cx="3891240" cy="398520"/>
            <a:chOff x="457200" y="1981080"/>
            <a:chExt cx="3891240" cy="398520"/>
          </a:xfrm>
        </p:grpSpPr>
        <p:sp>
          <p:nvSpPr>
            <p:cNvPr id="181" name=""/>
            <p:cNvSpPr/>
            <p:nvPr/>
          </p:nvSpPr>
          <p:spPr>
            <a:xfrm>
              <a:off x="457200" y="23796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438280" y="237960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23800" y="1981080"/>
              <a:ext cx="2024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urrents into do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93960" y="4097160"/>
            <a:ext cx="3717720" cy="2760840"/>
            <a:chOff x="93960" y="4097160"/>
            <a:chExt cx="3717720" cy="2760840"/>
          </a:xfrm>
        </p:grpSpPr>
        <p:graphicFrame>
          <p:nvGraphicFramePr>
            <p:cNvPr id="185" name=""/>
            <p:cNvGraphicFramePr/>
            <p:nvPr/>
          </p:nvGraphicFramePr>
          <p:xfrm>
            <a:off x="228600" y="4278240"/>
            <a:ext cx="3583080" cy="25797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8600" y="4278240"/>
                      <a:ext cx="3583080" cy="257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7" name=""/>
            <p:cNvSpPr/>
            <p:nvPr/>
          </p:nvSpPr>
          <p:spPr>
            <a:xfrm>
              <a:off x="93960" y="4097160"/>
              <a:ext cx="8438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SE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609480" y="4952880"/>
            <a:ext cx="2779920" cy="290520"/>
            <a:chOff x="609480" y="4952880"/>
            <a:chExt cx="2779920" cy="290520"/>
          </a:xfrm>
        </p:grpSpPr>
        <mc:AlternateContent>
          <mc:Choice xmlns:a14="http://schemas.microsoft.com/office/drawing/2010/main" Requires="a14">
            <p:sp>
              <p:nvSpPr>
                <p:cNvPr id="189" name=""/>
                <p:cNvSpPr txBox="1"/>
                <p:nvPr/>
              </p:nvSpPr>
              <p:spPr>
                <a:xfrm>
                  <a:off x="609480" y="4952880"/>
                  <a:ext cx="621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0" name=""/>
                <p:cNvSpPr txBox="1"/>
                <p:nvPr/>
              </p:nvSpPr>
              <p:spPr>
                <a:xfrm>
                  <a:off x="2741760" y="4952880"/>
                  <a:ext cx="647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1" name=""/>
          <p:cNvGrpSpPr/>
          <p:nvPr/>
        </p:nvGrpSpPr>
        <p:grpSpPr>
          <a:xfrm>
            <a:off x="490680" y="4038480"/>
            <a:ext cx="3891240" cy="398520"/>
            <a:chOff x="490680" y="4038480"/>
            <a:chExt cx="3891240" cy="398520"/>
          </a:xfrm>
        </p:grpSpPr>
        <p:sp>
          <p:nvSpPr>
            <p:cNvPr id="192" name=""/>
            <p:cNvSpPr/>
            <p:nvPr/>
          </p:nvSpPr>
          <p:spPr>
            <a:xfrm>
              <a:off x="490680" y="44370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471760" y="443700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357280" y="4038480"/>
              <a:ext cx="2024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urrents into do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04920" y="4495680"/>
            <a:ext cx="2311200" cy="214560"/>
            <a:chOff x="304920" y="4495680"/>
            <a:chExt cx="2311200" cy="214560"/>
          </a:xfrm>
        </p:grpSpPr>
        <mc:AlternateContent>
          <mc:Choice xmlns:a14="http://schemas.microsoft.com/office/drawing/2010/main" Requires="a14">
            <p:sp>
              <p:nvSpPr>
                <p:cNvPr id="196" name=""/>
                <p:cNvSpPr txBox="1"/>
                <p:nvPr/>
              </p:nvSpPr>
              <p:spPr>
                <a:xfrm>
                  <a:off x="304920" y="4495680"/>
                  <a:ext cx="16344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7" name=""/>
                <p:cNvSpPr txBox="1"/>
                <p:nvPr/>
              </p:nvSpPr>
              <p:spPr>
                <a:xfrm>
                  <a:off x="2286000" y="4495680"/>
                  <a:ext cx="33012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8" name=""/>
          <p:cNvGrpSpPr/>
          <p:nvPr/>
        </p:nvGrpSpPr>
        <p:grpSpPr>
          <a:xfrm>
            <a:off x="228600" y="2438280"/>
            <a:ext cx="2227320" cy="214560"/>
            <a:chOff x="228600" y="2438280"/>
            <a:chExt cx="2227320" cy="214560"/>
          </a:xfrm>
        </p:grpSpPr>
        <mc:AlternateContent>
          <mc:Choice xmlns:a14="http://schemas.microsoft.com/office/drawing/2010/main" Requires="a14">
            <p:sp>
              <p:nvSpPr>
                <p:cNvPr id="199" name=""/>
                <p:cNvSpPr txBox="1"/>
                <p:nvPr/>
              </p:nvSpPr>
              <p:spPr>
                <a:xfrm>
                  <a:off x="228600" y="2438280"/>
                  <a:ext cx="16344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0" name=""/>
                <p:cNvSpPr txBox="1"/>
                <p:nvPr/>
              </p:nvSpPr>
              <p:spPr>
                <a:xfrm>
                  <a:off x="2292480" y="2438280"/>
                  <a:ext cx="16344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4876920" y="2286000"/>
                <a:ext cx="1041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4952880" y="4038480"/>
                <a:ext cx="1028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4724280" y="4419720"/>
                <a:ext cx="18669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4635360" y="3276720"/>
                <a:ext cx="29847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j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jω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4419720" y="5181480"/>
                <a:ext cx="2222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j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6" name=""/>
          <p:cNvGrpSpPr/>
          <p:nvPr/>
        </p:nvGrpSpPr>
        <p:grpSpPr>
          <a:xfrm>
            <a:off x="5133960" y="5456160"/>
            <a:ext cx="1249200" cy="436680"/>
            <a:chOff x="5133960" y="5456160"/>
            <a:chExt cx="1249200" cy="436680"/>
          </a:xfrm>
        </p:grpSpPr>
        <p:sp>
          <p:nvSpPr>
            <p:cNvPr id="207" name=""/>
            <p:cNvSpPr/>
            <p:nvPr/>
          </p:nvSpPr>
          <p:spPr>
            <a:xfrm>
              <a:off x="5133960" y="5456160"/>
              <a:ext cx="1249200" cy="84240"/>
            </a:xfrm>
            <a:custGeom>
              <a:avLst/>
              <a:gdLst/>
              <a:ahLst/>
              <a:rect l="l" t="t" r="r" b="b"/>
              <a:pathLst>
                <a:path w="787" h="53">
                  <a:moveTo>
                    <a:pt x="0" y="8"/>
                  </a:moveTo>
                  <a:cubicBezTo>
                    <a:pt x="63" y="27"/>
                    <a:pt x="138" y="7"/>
                    <a:pt x="203" y="0"/>
                  </a:cubicBezTo>
                  <a:cubicBezTo>
                    <a:pt x="247" y="6"/>
                    <a:pt x="293" y="8"/>
                    <a:pt x="335" y="23"/>
                  </a:cubicBezTo>
                  <a:cubicBezTo>
                    <a:pt x="330" y="31"/>
                    <a:pt x="309" y="46"/>
                    <a:pt x="319" y="47"/>
                  </a:cubicBezTo>
                  <a:cubicBezTo>
                    <a:pt x="375" y="53"/>
                    <a:pt x="450" y="21"/>
                    <a:pt x="506" y="8"/>
                  </a:cubicBezTo>
                  <a:cubicBezTo>
                    <a:pt x="587" y="11"/>
                    <a:pt x="667" y="23"/>
                    <a:pt x="748" y="23"/>
                  </a:cubicBezTo>
                  <a:cubicBezTo>
                    <a:pt x="761" y="23"/>
                    <a:pt x="774" y="15"/>
                    <a:pt x="787" y="1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8" name=""/>
                <p:cNvSpPr txBox="1"/>
                <p:nvPr/>
              </p:nvSpPr>
              <p:spPr>
                <a:xfrm>
                  <a:off x="5562720" y="5562720"/>
                  <a:ext cx="33012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5410080" y="5932440"/>
                <a:ext cx="37083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imposes a physical constrain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on the value of </m:t>
                        </m:r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10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1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" name=""/>
          <p:cNvGraphicFramePr/>
          <p:nvPr/>
        </p:nvGraphicFramePr>
        <p:xfrm>
          <a:off x="152280" y="533520"/>
          <a:ext cx="3748320" cy="25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33520"/>
                    <a:ext cx="3748320" cy="25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109800" y="76320"/>
            <a:ext cx="843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SE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457200" y="228600"/>
            <a:ext cx="3891240" cy="398520"/>
            <a:chOff x="457200" y="228600"/>
            <a:chExt cx="3891240" cy="398520"/>
          </a:xfrm>
        </p:grpSpPr>
        <p:sp>
          <p:nvSpPr>
            <p:cNvPr id="219" name=""/>
            <p:cNvSpPr/>
            <p:nvPr/>
          </p:nvSpPr>
          <p:spPr>
            <a:xfrm>
              <a:off x="457200" y="62712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38280" y="62712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323800" y="228600"/>
              <a:ext cx="2024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urrents into do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61800" y="647640"/>
            <a:ext cx="2284560" cy="290520"/>
            <a:chOff x="361800" y="647640"/>
            <a:chExt cx="2284560" cy="290520"/>
          </a:xfrm>
        </p:grpSpPr>
        <mc:AlternateContent>
          <mc:Choice xmlns:a14="http://schemas.microsoft.com/office/drawing/2010/main" Requires="a14">
            <p:sp>
              <p:nvSpPr>
                <p:cNvPr id="223" name=""/>
                <p:cNvSpPr txBox="1"/>
                <p:nvPr/>
              </p:nvSpPr>
              <p:spPr>
                <a:xfrm>
                  <a:off x="361800" y="64764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4" name=""/>
                <p:cNvSpPr txBox="1"/>
                <p:nvPr/>
              </p:nvSpPr>
              <p:spPr>
                <a:xfrm>
                  <a:off x="2406600" y="64764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5" name=""/>
          <p:cNvGrpSpPr/>
          <p:nvPr/>
        </p:nvGrpSpPr>
        <p:grpSpPr>
          <a:xfrm>
            <a:off x="696960" y="1147680"/>
            <a:ext cx="2743200" cy="279360"/>
            <a:chOff x="696960" y="1147680"/>
            <a:chExt cx="2743200" cy="279360"/>
          </a:xfrm>
        </p:grpSpPr>
        <mc:AlternateContent>
          <mc:Choice xmlns:a14="http://schemas.microsoft.com/office/drawing/2010/main" Requires="a14">
            <p:sp>
              <p:nvSpPr>
                <p:cNvPr id="226" name=""/>
                <p:cNvSpPr txBox="1"/>
                <p:nvPr/>
              </p:nvSpPr>
              <p:spPr>
                <a:xfrm>
                  <a:off x="696960" y="1147680"/>
                  <a:ext cx="59688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7" name=""/>
                <p:cNvSpPr txBox="1"/>
                <p:nvPr/>
              </p:nvSpPr>
              <p:spPr>
                <a:xfrm>
                  <a:off x="2843280" y="1147680"/>
                  <a:ext cx="59688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5410080" y="76320"/>
                <a:ext cx="978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5029200" y="380880"/>
                <a:ext cx="1943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6705720" y="76320"/>
                <a:ext cx="1244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5029200" y="1066680"/>
                <a:ext cx="2438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jωM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5016600" y="1752480"/>
                <a:ext cx="26794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jω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ω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33" name=""/>
          <p:cNvGrpSpPr/>
          <p:nvPr/>
        </p:nvGrpSpPr>
        <p:grpSpPr>
          <a:xfrm>
            <a:off x="4724280" y="1752480"/>
            <a:ext cx="4267440" cy="685800"/>
            <a:chOff x="4724280" y="1752480"/>
            <a:chExt cx="4267440" cy="685800"/>
          </a:xfrm>
        </p:grpSpPr>
        <mc:AlternateContent>
          <mc:Choice xmlns:a14="http://schemas.microsoft.com/office/drawing/2010/main" Requires="a14">
            <p:sp>
              <p:nvSpPr>
                <p:cNvPr id="234" name=""/>
                <p:cNvSpPr txBox="1"/>
                <p:nvPr/>
              </p:nvSpPr>
              <p:spPr>
                <a:xfrm>
                  <a:off x="7772400" y="1752480"/>
                  <a:ext cx="1104840" cy="6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f>
                            <m:fPr>
                              <m:type m:val="lin"/>
                            </m:fPr>
                            <m:num/>
                            <m:den>
                              <m:r>
                                <m:t xml:space="preserve">(</m:t>
                              </m:r>
                            </m:den>
                          </m:f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M</m:t>
                          </m:r>
                          <m:r>
                            <m:t xml:space="preserve">)</m:t>
                          </m:r>
                        </m:e>
                        <m:e>
                          <m:f>
                            <m:fPr>
                              <m:type m:val="lin"/>
                            </m:fPr>
                            <m:num/>
                            <m:den>
                              <m:r>
                                <m:t xml:space="preserve">(</m:t>
                              </m:r>
                            </m:den>
                          </m:f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M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35" name=""/>
            <p:cNvSpPr/>
            <p:nvPr/>
          </p:nvSpPr>
          <p:spPr>
            <a:xfrm>
              <a:off x="4724280" y="2438280"/>
              <a:ext cx="426744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4197240" y="2529000"/>
                <a:ext cx="4724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jω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1981080" y="2590920"/>
                <a:ext cx="213372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jω</m:t>
                    </m:r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38" name=""/>
          <p:cNvGraphicFramePr/>
          <p:nvPr/>
        </p:nvGraphicFramePr>
        <p:xfrm>
          <a:off x="4419720" y="3429000"/>
          <a:ext cx="3773520" cy="196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3429000"/>
                    <a:ext cx="3773520" cy="19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0" name=""/>
          <p:cNvGrpSpPr/>
          <p:nvPr/>
        </p:nvGrpSpPr>
        <p:grpSpPr>
          <a:xfrm>
            <a:off x="0" y="3411360"/>
            <a:ext cx="3762360" cy="3067200"/>
            <a:chOff x="0" y="3411360"/>
            <a:chExt cx="3762360" cy="3067200"/>
          </a:xfrm>
        </p:grpSpPr>
        <p:graphicFrame>
          <p:nvGraphicFramePr>
            <p:cNvPr id="241" name=""/>
            <p:cNvGraphicFramePr/>
            <p:nvPr/>
          </p:nvGraphicFramePr>
          <p:xfrm>
            <a:off x="0" y="3962520"/>
            <a:ext cx="3762360" cy="2516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4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0" y="3962520"/>
                      <a:ext cx="3762360" cy="251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3" name=""/>
            <p:cNvSpPr/>
            <p:nvPr/>
          </p:nvSpPr>
          <p:spPr>
            <a:xfrm>
              <a:off x="169920" y="3411360"/>
              <a:ext cx="8438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SE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304920" y="3581280"/>
            <a:ext cx="3891240" cy="398520"/>
            <a:chOff x="304920" y="3581280"/>
            <a:chExt cx="3891240" cy="398520"/>
          </a:xfrm>
        </p:grpSpPr>
        <p:sp>
          <p:nvSpPr>
            <p:cNvPr id="245" name=""/>
            <p:cNvSpPr/>
            <p:nvPr/>
          </p:nvSpPr>
          <p:spPr>
            <a:xfrm>
              <a:off x="304920" y="39798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286000" y="397980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71520" y="3581280"/>
              <a:ext cx="2024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urrents into do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228600" y="4038480"/>
            <a:ext cx="2367000" cy="290520"/>
            <a:chOff x="228600" y="4038480"/>
            <a:chExt cx="2367000" cy="290520"/>
          </a:xfrm>
        </p:grpSpPr>
        <mc:AlternateContent>
          <mc:Choice xmlns:a14="http://schemas.microsoft.com/office/drawing/2010/main" Requires="a14">
            <p:sp>
              <p:nvSpPr>
                <p:cNvPr id="249" name=""/>
                <p:cNvSpPr txBox="1"/>
                <p:nvPr/>
              </p:nvSpPr>
              <p:spPr>
                <a:xfrm>
                  <a:off x="228600" y="403848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0" name=""/>
                <p:cNvSpPr txBox="1"/>
                <p:nvPr/>
              </p:nvSpPr>
              <p:spPr>
                <a:xfrm>
                  <a:off x="2190600" y="4038480"/>
                  <a:ext cx="405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1" name=""/>
          <p:cNvGrpSpPr/>
          <p:nvPr/>
        </p:nvGrpSpPr>
        <p:grpSpPr>
          <a:xfrm>
            <a:off x="609480" y="4572000"/>
            <a:ext cx="2876760" cy="279360"/>
            <a:chOff x="609480" y="4572000"/>
            <a:chExt cx="2876760" cy="279360"/>
          </a:xfrm>
        </p:grpSpPr>
        <mc:AlternateContent>
          <mc:Choice xmlns:a14="http://schemas.microsoft.com/office/drawing/2010/main" Requires="a14">
            <p:sp>
              <p:nvSpPr>
                <p:cNvPr id="252" name=""/>
                <p:cNvSpPr txBox="1"/>
                <p:nvPr/>
              </p:nvSpPr>
              <p:spPr>
                <a:xfrm>
                  <a:off x="609480" y="4572000"/>
                  <a:ext cx="59688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3" name=""/>
                <p:cNvSpPr txBox="1"/>
                <p:nvPr/>
              </p:nvSpPr>
              <p:spPr>
                <a:xfrm>
                  <a:off x="2624040" y="4572000"/>
                  <a:ext cx="86220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4" name=""/>
          <p:cNvGrpSpPr/>
          <p:nvPr/>
        </p:nvGrpSpPr>
        <p:grpSpPr>
          <a:xfrm>
            <a:off x="5791320" y="3886200"/>
            <a:ext cx="1676160" cy="457200"/>
            <a:chOff x="5791320" y="3886200"/>
            <a:chExt cx="1676160" cy="457200"/>
          </a:xfrm>
        </p:grpSpPr>
        <p:sp>
          <p:nvSpPr>
            <p:cNvPr id="255" name=""/>
            <p:cNvSpPr/>
            <p:nvPr/>
          </p:nvSpPr>
          <p:spPr>
            <a:xfrm>
              <a:off x="6019560" y="3886200"/>
              <a:ext cx="0" cy="3808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6" name=""/>
                <p:cNvSpPr txBox="1"/>
                <p:nvPr/>
              </p:nvSpPr>
              <p:spPr>
                <a:xfrm>
                  <a:off x="5791320" y="3886200"/>
                  <a:ext cx="201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57" name=""/>
            <p:cNvSpPr/>
            <p:nvPr/>
          </p:nvSpPr>
          <p:spPr>
            <a:xfrm>
              <a:off x="7467480" y="3886200"/>
              <a:ext cx="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8" name=""/>
                <p:cNvSpPr txBox="1"/>
                <p:nvPr/>
              </p:nvSpPr>
              <p:spPr>
                <a:xfrm>
                  <a:off x="7162560" y="3886200"/>
                  <a:ext cx="2394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7848720" y="3809880"/>
                <a:ext cx="977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4451400" y="5181480"/>
                <a:ext cx="21081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7010280" y="5334120"/>
                <a:ext cx="182880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62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6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F08.007_W0861" descr=""/>
          <p:cNvPicPr/>
          <p:nvPr/>
        </p:nvPicPr>
        <p:blipFill>
          <a:blip r:embed="rId1"/>
          <a:stretch/>
        </p:blipFill>
        <p:spPr>
          <a:xfrm>
            <a:off x="1238400" y="927000"/>
            <a:ext cx="4095720" cy="13716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31320" y="190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2362320" y="152280"/>
                <a:ext cx="25146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THE VOLTAGE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3048120" y="1397160"/>
                <a:ext cx="2397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3352680" y="1397160"/>
                <a:ext cx="2653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72" name=""/>
          <p:cNvGrpSpPr/>
          <p:nvPr/>
        </p:nvGrpSpPr>
        <p:grpSpPr>
          <a:xfrm>
            <a:off x="3733560" y="560520"/>
            <a:ext cx="609480" cy="366480"/>
            <a:chOff x="3733560" y="560520"/>
            <a:chExt cx="609480" cy="366480"/>
          </a:xfrm>
        </p:grpSpPr>
        <p:sp>
          <p:nvSpPr>
            <p:cNvPr id="273" name=""/>
            <p:cNvSpPr/>
            <p:nvPr/>
          </p:nvSpPr>
          <p:spPr>
            <a:xfrm flipH="1">
              <a:off x="3733560" y="927000"/>
              <a:ext cx="609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4" name=""/>
                <p:cNvSpPr txBox="1"/>
                <p:nvPr/>
              </p:nvSpPr>
              <p:spPr>
                <a:xfrm>
                  <a:off x="3886200" y="560520"/>
                  <a:ext cx="404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5" name=""/>
          <p:cNvGrpSpPr/>
          <p:nvPr/>
        </p:nvGrpSpPr>
        <p:grpSpPr>
          <a:xfrm>
            <a:off x="1447920" y="1231920"/>
            <a:ext cx="2273040" cy="1356840"/>
            <a:chOff x="1447920" y="1231920"/>
            <a:chExt cx="2273040" cy="1356840"/>
          </a:xfrm>
        </p:grpSpPr>
        <mc:AlternateContent>
          <mc:Choice xmlns:a14="http://schemas.microsoft.com/office/drawing/2010/main" Requires="a14">
            <p:sp>
              <p:nvSpPr>
                <p:cNvPr id="276" name=""/>
                <p:cNvSpPr txBox="1"/>
                <p:nvPr/>
              </p:nvSpPr>
              <p:spPr>
                <a:xfrm>
                  <a:off x="1447920" y="2298600"/>
                  <a:ext cx="2273040" cy="29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KVL:  </m:t>
                      </m:r>
                      <m:r>
                        <m:rPr>
                          <m:lit/>
                          <m:nor/>
                        </m:rPr>
                        <m:t xml:space="preserve">24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rPr>
                          <m:lit/>
                          <m:nor/>
                        </m:rPr>
                        <m:t xml:space="preserve">°=</m:t>
                      </m:r>
                      <m:r>
                        <m:t xml:space="preserve">2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77" name=""/>
            <p:cNvSpPr/>
            <p:nvPr/>
          </p:nvSpPr>
          <p:spPr>
            <a:xfrm>
              <a:off x="2133360" y="1231920"/>
              <a:ext cx="860040" cy="788760"/>
            </a:xfrm>
            <a:custGeom>
              <a:avLst/>
              <a:gdLst/>
              <a:ahLst/>
              <a:rect l="l" t="t" r="r" b="b"/>
              <a:pathLst>
                <a:path w="542" h="497">
                  <a:moveTo>
                    <a:pt x="401" y="497"/>
                  </a:moveTo>
                  <a:cubicBezTo>
                    <a:pt x="373" y="487"/>
                    <a:pt x="353" y="473"/>
                    <a:pt x="323" y="466"/>
                  </a:cubicBezTo>
                  <a:cubicBezTo>
                    <a:pt x="261" y="469"/>
                    <a:pt x="198" y="482"/>
                    <a:pt x="136" y="474"/>
                  </a:cubicBezTo>
                  <a:cubicBezTo>
                    <a:pt x="95" y="469"/>
                    <a:pt x="27" y="468"/>
                    <a:pt x="20" y="427"/>
                  </a:cubicBezTo>
                  <a:cubicBezTo>
                    <a:pt x="0" y="311"/>
                    <a:pt x="51" y="193"/>
                    <a:pt x="66" y="76"/>
                  </a:cubicBezTo>
                  <a:cubicBezTo>
                    <a:pt x="542" y="90"/>
                    <a:pt x="258" y="0"/>
                    <a:pt x="355" y="193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3124080" y="1370160"/>
            <a:ext cx="2502000" cy="1600200"/>
            <a:chOff x="3124080" y="1370160"/>
            <a:chExt cx="2502000" cy="1600200"/>
          </a:xfrm>
        </p:grpSpPr>
        <p:sp>
          <p:nvSpPr>
            <p:cNvPr id="279" name=""/>
            <p:cNvSpPr/>
            <p:nvPr/>
          </p:nvSpPr>
          <p:spPr>
            <a:xfrm>
              <a:off x="4078440" y="1370160"/>
              <a:ext cx="606240" cy="789120"/>
            </a:xfrm>
            <a:custGeom>
              <a:avLst/>
              <a:gdLst/>
              <a:ahLst/>
              <a:rect l="l" t="t" r="r" b="b"/>
              <a:pathLst>
                <a:path w="382" h="497">
                  <a:moveTo>
                    <a:pt x="356" y="497"/>
                  </a:moveTo>
                  <a:cubicBezTo>
                    <a:pt x="248" y="469"/>
                    <a:pt x="142" y="471"/>
                    <a:pt x="29" y="466"/>
                  </a:cubicBezTo>
                  <a:cubicBezTo>
                    <a:pt x="0" y="297"/>
                    <a:pt x="30" y="285"/>
                    <a:pt x="91" y="61"/>
                  </a:cubicBezTo>
                  <a:cubicBezTo>
                    <a:pt x="382" y="71"/>
                    <a:pt x="294" y="0"/>
                    <a:pt x="294" y="333"/>
                  </a:cubicBezTo>
                </a:path>
              </a:pathLst>
            </a:custGeom>
            <a:noFill/>
            <a:ln w="25560">
              <a:solidFill>
                <a:srgbClr val="0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0" name=""/>
                <p:cNvSpPr txBox="1"/>
                <p:nvPr/>
              </p:nvSpPr>
              <p:spPr>
                <a:xfrm>
                  <a:off x="3124080" y="2679840"/>
                  <a:ext cx="2502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KVL:  -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2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2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1320840" y="2984400"/>
                <a:ext cx="3251160" cy="9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UTUAL INDUCTANCE CIRCUIT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6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4572000" y="3365640"/>
                <a:ext cx="800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2209680" y="2603520"/>
                <a:ext cx="27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1257480" y="4127400"/>
                <a:ext cx="24764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1150920" y="2370240"/>
            <a:ext cx="255600" cy="1114200"/>
          </a:xfrm>
          <a:custGeom>
            <a:avLst/>
            <a:gdLst/>
            <a:ahLst/>
            <a:rect l="l" t="t" r="r" b="b"/>
            <a:pathLst>
              <a:path w="161" h="705">
                <a:moveTo>
                  <a:pt x="75" y="695"/>
                </a:moveTo>
                <a:cubicBezTo>
                  <a:pt x="57" y="692"/>
                  <a:pt x="23" y="705"/>
                  <a:pt x="20" y="687"/>
                </a:cubicBezTo>
                <a:cubicBezTo>
                  <a:pt x="0" y="556"/>
                  <a:pt x="13" y="422"/>
                  <a:pt x="13" y="290"/>
                </a:cubicBezTo>
                <a:cubicBezTo>
                  <a:pt x="13" y="225"/>
                  <a:pt x="16" y="160"/>
                  <a:pt x="20" y="95"/>
                </a:cubicBezTo>
                <a:cubicBezTo>
                  <a:pt x="21" y="74"/>
                  <a:pt x="14" y="48"/>
                  <a:pt x="28" y="33"/>
                </a:cubicBezTo>
                <a:cubicBezTo>
                  <a:pt x="58" y="0"/>
                  <a:pt x="117" y="25"/>
                  <a:pt x="161" y="25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494160" y="3000240"/>
            <a:ext cx="1249200" cy="841680"/>
          </a:xfrm>
          <a:custGeom>
            <a:avLst/>
            <a:gdLst/>
            <a:ahLst/>
            <a:rect l="l" t="t" r="r" b="b"/>
            <a:pathLst>
              <a:path w="787" h="530">
                <a:moveTo>
                  <a:pt x="0" y="530"/>
                </a:moveTo>
                <a:cubicBezTo>
                  <a:pt x="28" y="507"/>
                  <a:pt x="59" y="486"/>
                  <a:pt x="85" y="460"/>
                </a:cubicBezTo>
                <a:cubicBezTo>
                  <a:pt x="123" y="422"/>
                  <a:pt x="119" y="395"/>
                  <a:pt x="163" y="374"/>
                </a:cubicBezTo>
                <a:cubicBezTo>
                  <a:pt x="191" y="360"/>
                  <a:pt x="219" y="344"/>
                  <a:pt x="249" y="335"/>
                </a:cubicBezTo>
                <a:cubicBezTo>
                  <a:pt x="282" y="325"/>
                  <a:pt x="350" y="312"/>
                  <a:pt x="350" y="312"/>
                </a:cubicBezTo>
                <a:cubicBezTo>
                  <a:pt x="426" y="273"/>
                  <a:pt x="523" y="264"/>
                  <a:pt x="607" y="249"/>
                </a:cubicBezTo>
                <a:cubicBezTo>
                  <a:pt x="642" y="233"/>
                  <a:pt x="677" y="223"/>
                  <a:pt x="709" y="202"/>
                </a:cubicBezTo>
                <a:cubicBezTo>
                  <a:pt x="727" y="159"/>
                  <a:pt x="746" y="131"/>
                  <a:pt x="771" y="93"/>
                </a:cubicBezTo>
                <a:cubicBezTo>
                  <a:pt x="779" y="62"/>
                  <a:pt x="787" y="32"/>
                  <a:pt x="787" y="0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776680" y="349200"/>
            <a:ext cx="1828800" cy="1963800"/>
          </a:xfrm>
          <a:custGeom>
            <a:avLst/>
            <a:gdLst/>
            <a:ahLst/>
            <a:rect l="l" t="t" r="r" b="b"/>
            <a:pathLst>
              <a:path w="1152" h="1237">
                <a:moveTo>
                  <a:pt x="1114" y="400"/>
                </a:moveTo>
                <a:cubicBezTo>
                  <a:pt x="1124" y="308"/>
                  <a:pt x="1152" y="182"/>
                  <a:pt x="1130" y="88"/>
                </a:cubicBezTo>
                <a:cubicBezTo>
                  <a:pt x="1129" y="85"/>
                  <a:pt x="1085" y="74"/>
                  <a:pt x="1067" y="72"/>
                </a:cubicBezTo>
                <a:cubicBezTo>
                  <a:pt x="1033" y="68"/>
                  <a:pt x="1000" y="67"/>
                  <a:pt x="966" y="64"/>
                </a:cubicBezTo>
                <a:cubicBezTo>
                  <a:pt x="572" y="85"/>
                  <a:pt x="727" y="0"/>
                  <a:pt x="623" y="150"/>
                </a:cubicBezTo>
                <a:cubicBezTo>
                  <a:pt x="605" y="204"/>
                  <a:pt x="610" y="280"/>
                  <a:pt x="568" y="322"/>
                </a:cubicBezTo>
                <a:cubicBezTo>
                  <a:pt x="551" y="339"/>
                  <a:pt x="543" y="336"/>
                  <a:pt x="522" y="345"/>
                </a:cubicBezTo>
                <a:cubicBezTo>
                  <a:pt x="446" y="379"/>
                  <a:pt x="333" y="385"/>
                  <a:pt x="249" y="392"/>
                </a:cubicBezTo>
                <a:cubicBezTo>
                  <a:pt x="201" y="409"/>
                  <a:pt x="182" y="453"/>
                  <a:pt x="155" y="493"/>
                </a:cubicBezTo>
                <a:cubicBezTo>
                  <a:pt x="150" y="501"/>
                  <a:pt x="145" y="508"/>
                  <a:pt x="140" y="516"/>
                </a:cubicBezTo>
                <a:cubicBezTo>
                  <a:pt x="135" y="523"/>
                  <a:pt x="139" y="536"/>
                  <a:pt x="132" y="540"/>
                </a:cubicBezTo>
                <a:cubicBezTo>
                  <a:pt x="103" y="556"/>
                  <a:pt x="39" y="571"/>
                  <a:pt x="39" y="571"/>
                </a:cubicBezTo>
                <a:cubicBezTo>
                  <a:pt x="9" y="610"/>
                  <a:pt x="7" y="631"/>
                  <a:pt x="0" y="680"/>
                </a:cubicBezTo>
                <a:cubicBezTo>
                  <a:pt x="2" y="761"/>
                  <a:pt x="1" y="842"/>
                  <a:pt x="7" y="922"/>
                </a:cubicBezTo>
                <a:cubicBezTo>
                  <a:pt x="12" y="989"/>
                  <a:pt x="36" y="1066"/>
                  <a:pt x="78" y="1117"/>
                </a:cubicBezTo>
                <a:cubicBezTo>
                  <a:pt x="98" y="1141"/>
                  <a:pt x="97" y="1165"/>
                  <a:pt x="140" y="1171"/>
                </a:cubicBezTo>
                <a:cubicBezTo>
                  <a:pt x="161" y="1174"/>
                  <a:pt x="181" y="1176"/>
                  <a:pt x="202" y="1179"/>
                </a:cubicBezTo>
                <a:cubicBezTo>
                  <a:pt x="295" y="1224"/>
                  <a:pt x="426" y="1224"/>
                  <a:pt x="530" y="1233"/>
                </a:cubicBezTo>
                <a:cubicBezTo>
                  <a:pt x="574" y="1231"/>
                  <a:pt x="619" y="1237"/>
                  <a:pt x="662" y="1226"/>
                </a:cubicBezTo>
                <a:cubicBezTo>
                  <a:pt x="675" y="1223"/>
                  <a:pt x="678" y="1205"/>
                  <a:pt x="685" y="1194"/>
                </a:cubicBezTo>
                <a:cubicBezTo>
                  <a:pt x="708" y="1156"/>
                  <a:pt x="715" y="1126"/>
                  <a:pt x="748" y="1093"/>
                </a:cubicBezTo>
                <a:cubicBezTo>
                  <a:pt x="760" y="1053"/>
                  <a:pt x="782" y="1017"/>
                  <a:pt x="794" y="976"/>
                </a:cubicBezTo>
                <a:cubicBezTo>
                  <a:pt x="810" y="848"/>
                  <a:pt x="869" y="735"/>
                  <a:pt x="974" y="657"/>
                </a:cubicBezTo>
                <a:cubicBezTo>
                  <a:pt x="1007" y="589"/>
                  <a:pt x="1031" y="537"/>
                  <a:pt x="1083" y="485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1676520" y="1003320"/>
            <a:ext cx="609480" cy="290520"/>
            <a:chOff x="1676520" y="1003320"/>
            <a:chExt cx="609480" cy="290520"/>
          </a:xfrm>
        </p:grpSpPr>
        <p:sp>
          <p:nvSpPr>
            <p:cNvPr id="289" name=""/>
            <p:cNvSpPr/>
            <p:nvPr/>
          </p:nvSpPr>
          <p:spPr>
            <a:xfrm>
              <a:off x="1828800" y="115560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0" name=""/>
                <p:cNvSpPr txBox="1"/>
                <p:nvPr/>
              </p:nvSpPr>
              <p:spPr>
                <a:xfrm>
                  <a:off x="1676520" y="100332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91" name=""/>
          <p:cNvGrpSpPr/>
          <p:nvPr/>
        </p:nvGrpSpPr>
        <p:grpSpPr>
          <a:xfrm>
            <a:off x="1219320" y="4127400"/>
            <a:ext cx="3581280" cy="685800"/>
            <a:chOff x="1219320" y="4127400"/>
            <a:chExt cx="3581280" cy="685800"/>
          </a:xfrm>
        </p:grpSpPr>
        <mc:AlternateContent>
          <mc:Choice xmlns:a14="http://schemas.microsoft.com/office/drawing/2010/main" Requires="a14">
            <p:sp>
              <p:nvSpPr>
                <p:cNvPr id="292" name=""/>
                <p:cNvSpPr txBox="1"/>
                <p:nvPr/>
              </p:nvSpPr>
              <p:spPr>
                <a:xfrm>
                  <a:off x="3810240" y="4127400"/>
                  <a:ext cx="85068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f>
                            <m:fPr>
                              <m:type m:val="lin"/>
                            </m:fPr>
                            <m:num/>
                            <m:den>
                              <m:r>
                                <m:t xml:space="preserve">j</m:t>
                              </m:r>
                            </m:den>
                          </m:f>
                          <m:r>
                            <m:t xml:space="preserve">2</m:t>
                          </m:r>
                        </m:e>
                        <m:e>
                          <m:f>
                            <m:fPr>
                              <m:type m:val="lin"/>
                            </m:fPr>
                            <m:num/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j</m:t>
                          </m:r>
                          <m:r>
                            <m:t xml:space="preserve">4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93" name=""/>
            <p:cNvSpPr/>
            <p:nvPr/>
          </p:nvSpPr>
          <p:spPr>
            <a:xfrm>
              <a:off x="1219320" y="4813200"/>
              <a:ext cx="35812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1981080" y="4889520"/>
                <a:ext cx="22100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1143000" y="5270400"/>
                <a:ext cx="12952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j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2514600" y="5270400"/>
                <a:ext cx="671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3200400" y="5270400"/>
                <a:ext cx="698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1143000" y="5880240"/>
                <a:ext cx="1625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2755800" y="5880240"/>
                <a:ext cx="1435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4191120" y="6032520"/>
                <a:ext cx="12826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t xml:space="preserve">∠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1" name=""/>
          <p:cNvSpPr/>
          <p:nvPr/>
        </p:nvSpPr>
        <p:spPr>
          <a:xfrm>
            <a:off x="5479200" y="685800"/>
            <a:ext cx="35748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Coupled inductors. Define the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s and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580800" y="2057400"/>
            <a:ext cx="252612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Write loop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terms of coup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tor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731640" y="3048120"/>
            <a:ext cx="23799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Write equations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upled 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851440" y="4114800"/>
            <a:ext cx="321948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. Replace into loop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do the alge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0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31320" y="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F08.008_W0862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3552840" cy="243828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2316600" y="0"/>
            <a:ext cx="2859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rite the  mesh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1741320" y="1384200"/>
                <a:ext cx="2397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14" name=""/>
          <p:cNvGrpSpPr/>
          <p:nvPr/>
        </p:nvGrpSpPr>
        <p:grpSpPr>
          <a:xfrm>
            <a:off x="1447920" y="700200"/>
            <a:ext cx="620640" cy="671400"/>
            <a:chOff x="1447920" y="700200"/>
            <a:chExt cx="620640" cy="671400"/>
          </a:xfrm>
        </p:grpSpPr>
        <p:sp>
          <p:nvSpPr>
            <p:cNvPr id="315" name=""/>
            <p:cNvSpPr/>
            <p:nvPr/>
          </p:nvSpPr>
          <p:spPr>
            <a:xfrm>
              <a:off x="1752480" y="990720"/>
              <a:ext cx="0" cy="3808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6" name=""/>
                <p:cNvSpPr txBox="1"/>
                <p:nvPr/>
              </p:nvSpPr>
              <p:spPr>
                <a:xfrm>
                  <a:off x="1447920" y="700200"/>
                  <a:ext cx="620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2362320" y="1371600"/>
                <a:ext cx="2649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18" name=""/>
          <p:cNvGrpSpPr/>
          <p:nvPr/>
        </p:nvGrpSpPr>
        <p:grpSpPr>
          <a:xfrm>
            <a:off x="2286000" y="685800"/>
            <a:ext cx="647640" cy="685800"/>
            <a:chOff x="2286000" y="685800"/>
            <a:chExt cx="647640" cy="685800"/>
          </a:xfrm>
        </p:grpSpPr>
        <p:sp>
          <p:nvSpPr>
            <p:cNvPr id="319" name=""/>
            <p:cNvSpPr/>
            <p:nvPr/>
          </p:nvSpPr>
          <p:spPr>
            <a:xfrm>
              <a:off x="2590560" y="914400"/>
              <a:ext cx="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0" name=""/>
                <p:cNvSpPr txBox="1"/>
                <p:nvPr/>
              </p:nvSpPr>
              <p:spPr>
                <a:xfrm>
                  <a:off x="2286000" y="685800"/>
                  <a:ext cx="647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21" name=""/>
          <p:cNvSpPr/>
          <p:nvPr/>
        </p:nvSpPr>
        <p:spPr>
          <a:xfrm>
            <a:off x="93960" y="3182760"/>
            <a:ext cx="4268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Define variables for coupled 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90360" y="3564000"/>
            <a:ext cx="4591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 Write loop equations in terms of coup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tor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838080" y="4191120"/>
                <a:ext cx="2057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76320" y="4800600"/>
                <a:ext cx="3898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304920" y="5410080"/>
                <a:ext cx="34034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5105520" y="838080"/>
                <a:ext cx="32256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jω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ω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7" name=""/>
          <p:cNvSpPr/>
          <p:nvPr/>
        </p:nvSpPr>
        <p:spPr>
          <a:xfrm>
            <a:off x="4705560" y="439560"/>
            <a:ext cx="4251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Write equations for coupled 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700880" y="1582560"/>
            <a:ext cx="3655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. Replace into loop equations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arrange te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4800600" y="2209680"/>
                <a:ext cx="3708360" cy="138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jω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jωM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jω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4280040" y="3822840"/>
                <a:ext cx="4863960" cy="17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jωM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jω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jωM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jωM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jω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jωM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4724280" y="5638680"/>
                <a:ext cx="33274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jωM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jω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32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3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9T18:57:55Z</dcterms:created>
  <dc:creator>Jorge Aravena</dc:creator>
  <dc:description/>
  <dc:language>en-US</dc:language>
  <cp:lastModifiedBy>student</cp:lastModifiedBy>
  <dcterms:modified xsi:type="dcterms:W3CDTF">2001-08-08T17:22:51Z</dcterms:modified>
  <cp:revision>14</cp:revision>
  <dc:subject/>
  <dc:title>No Slide Title</dc:title>
</cp:coreProperties>
</file>