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48.wmf" ContentType="image/x-wmf"/>
  <Override PartName="/ppt/media/image53.png" ContentType="image/png"/>
  <Override PartName="/ppt/media/image5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310-0DD6-465A-A14D-917BD53A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DA2-73E0-4B30-9C93-40156596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101-713E-4494-B361-9323C2F0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423-4FEB-483D-9A72-D9D42E61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F43-86FC-48A3-AA08-989BF162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741-D7EB-4ADF-B3BB-C0E0135A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6AF-8EE7-4DF8-A91D-D32ABB8C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A16-E21E-4B14-8ABB-686AD02F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23F-FBBC-4768-B211-8258EEA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E3A-074E-4C47-A3A6-BFAED86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08F-AFF2-417D-97AE-D94BAD85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AFA-927E-43D2-B4CA-18A09537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9D63-A814-4AAA-A6C8-25392EBB5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6.wmf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47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image" Target="../media/image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1880" y="3182760"/>
            <a:ext cx="341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Wy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10" name="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1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25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28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0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31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700880" cy="4161600"/>
            <a:chOff x="152280" y="1492200"/>
            <a:chExt cx="4700880" cy="4161600"/>
          </a:xfrm>
        </p:grpSpPr>
        <p:sp>
          <p:nvSpPr>
            <p:cNvPr id="435" name=""/>
            <p:cNvSpPr/>
            <p:nvPr/>
          </p:nvSpPr>
          <p:spPr>
            <a:xfrm>
              <a:off x="1950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6419880" cy="403848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84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06040" y="-15840"/>
            <a:ext cx="555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MENTAL COST OF 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129960" y="365040"/>
            <a:ext cx="944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much capacitance is required to improve the power factor by a fixed amount (say 0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4552920" cy="5428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5229360" cy="57168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6553080" y="717480"/>
            <a:ext cx="2171880" cy="730080"/>
            <a:chOff x="6553080" y="717480"/>
            <a:chExt cx="2171880" cy="730080"/>
          </a:xfrm>
        </p:grpSpPr>
        <p:sp>
          <p:nvSpPr>
            <p:cNvPr id="685" name=""/>
            <p:cNvSpPr/>
            <p:nvPr/>
          </p:nvSpPr>
          <p:spPr>
            <a:xfrm>
              <a:off x="6837120" y="717480"/>
              <a:ext cx="1064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red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4"/>
            <a:stretch/>
          </p:blipFill>
          <p:spPr>
            <a:xfrm>
              <a:off x="6553080" y="1038240"/>
              <a:ext cx="217188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"/>
          <p:cNvGrpSpPr/>
          <p:nvPr/>
        </p:nvGrpSpPr>
        <p:grpSpPr>
          <a:xfrm>
            <a:off x="4797360" y="1109520"/>
            <a:ext cx="2023560" cy="903240"/>
            <a:chOff x="4797360" y="1109520"/>
            <a:chExt cx="2023560" cy="903240"/>
          </a:xfrm>
        </p:grpSpPr>
        <p:sp>
          <p:nvSpPr>
            <p:cNvPr id="688" name=""/>
            <p:cNvSpPr/>
            <p:nvPr/>
          </p:nvSpPr>
          <p:spPr>
            <a:xfrm>
              <a:off x="4797360" y="1109520"/>
              <a:ext cx="674640" cy="644760"/>
            </a:xfrm>
            <a:custGeom>
              <a:avLst/>
              <a:gdLst/>
              <a:ahLst/>
              <a:rect l="l" t="t" r="r" b="b"/>
              <a:pathLst>
                <a:path w="425" h="406">
                  <a:moveTo>
                    <a:pt x="425" y="264"/>
                  </a:moveTo>
                  <a:cubicBezTo>
                    <a:pt x="407" y="209"/>
                    <a:pt x="384" y="100"/>
                    <a:pt x="330" y="56"/>
                  </a:cubicBezTo>
                  <a:cubicBezTo>
                    <a:pt x="291" y="24"/>
                    <a:pt x="236" y="9"/>
                    <a:pt x="188" y="0"/>
                  </a:cubicBezTo>
                  <a:cubicBezTo>
                    <a:pt x="147" y="8"/>
                    <a:pt x="106" y="15"/>
                    <a:pt x="66" y="28"/>
                  </a:cubicBezTo>
                  <a:cubicBezTo>
                    <a:pt x="32" y="50"/>
                    <a:pt x="12" y="65"/>
                    <a:pt x="0" y="104"/>
                  </a:cubicBezTo>
                  <a:cubicBezTo>
                    <a:pt x="9" y="176"/>
                    <a:pt x="19" y="266"/>
                    <a:pt x="75" y="321"/>
                  </a:cubicBezTo>
                  <a:cubicBezTo>
                    <a:pt x="94" y="340"/>
                    <a:pt x="107" y="368"/>
                    <a:pt x="132" y="377"/>
                  </a:cubicBezTo>
                  <a:cubicBezTo>
                    <a:pt x="200" y="400"/>
                    <a:pt x="169" y="391"/>
                    <a:pt x="226" y="406"/>
                  </a:cubicBezTo>
                  <a:cubicBezTo>
                    <a:pt x="271" y="396"/>
                    <a:pt x="311" y="394"/>
                    <a:pt x="349" y="368"/>
                  </a:cubicBezTo>
                  <a:cubicBezTo>
                    <a:pt x="370" y="338"/>
                    <a:pt x="394" y="318"/>
                    <a:pt x="406" y="283"/>
                  </a:cubicBezTo>
                  <a:cubicBezTo>
                    <a:pt x="396" y="88"/>
                    <a:pt x="396" y="157"/>
                    <a:pt x="396" y="7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16560" y="1432080"/>
              <a:ext cx="14043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plied b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0" y="1657080"/>
            <a:ext cx="5366880" cy="1133640"/>
            <a:chOff x="0" y="1657080"/>
            <a:chExt cx="5366880" cy="1133640"/>
          </a:xfrm>
        </p:grpSpPr>
        <p:pic>
          <p:nvPicPr>
            <p:cNvPr id="691" name="" descr=""/>
            <p:cNvPicPr/>
            <p:nvPr/>
          </p:nvPicPr>
          <p:blipFill>
            <a:blip r:embed="rId5"/>
            <a:stretch/>
          </p:blipFill>
          <p:spPr>
            <a:xfrm>
              <a:off x="0" y="2057400"/>
              <a:ext cx="2162160" cy="733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2" name=""/>
            <p:cNvCxnSpPr/>
            <p:nvPr/>
          </p:nvCxnSpPr>
          <p:spPr>
            <a:xfrm flipH="1">
              <a:off x="990360" y="1657080"/>
              <a:ext cx="4148640" cy="400680"/>
            </a:xfrm>
            <a:prstGeom prst="bentConnector4">
              <a:avLst>
                <a:gd name="adj1" fmla="val -5502"/>
                <a:gd name="adj2" fmla="val 85701"/>
              </a:avLst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693" name=""/>
          <p:cNvGrpSpPr/>
          <p:nvPr/>
        </p:nvGrpSpPr>
        <p:grpSpPr>
          <a:xfrm>
            <a:off x="474840" y="644400"/>
            <a:ext cx="4068720" cy="2098800"/>
            <a:chOff x="474840" y="644400"/>
            <a:chExt cx="4068720" cy="2098800"/>
          </a:xfrm>
        </p:grpSpPr>
        <p:pic>
          <p:nvPicPr>
            <p:cNvPr id="694" name="" descr=""/>
            <p:cNvPicPr/>
            <p:nvPr/>
          </p:nvPicPr>
          <p:blipFill>
            <a:blip r:embed="rId6"/>
            <a:stretch/>
          </p:blipFill>
          <p:spPr>
            <a:xfrm>
              <a:off x="2133720" y="2057400"/>
              <a:ext cx="223812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5" name=""/>
            <p:cNvGrpSpPr/>
            <p:nvPr/>
          </p:nvGrpSpPr>
          <p:grpSpPr>
            <a:xfrm>
              <a:off x="474840" y="644400"/>
              <a:ext cx="4068720" cy="2098800"/>
              <a:chOff x="474840" y="644400"/>
              <a:chExt cx="4068720" cy="2098800"/>
            </a:xfrm>
          </p:grpSpPr>
          <p:sp>
            <p:nvSpPr>
              <p:cNvPr id="696" name=""/>
              <p:cNvSpPr/>
              <p:nvPr/>
            </p:nvSpPr>
            <p:spPr>
              <a:xfrm>
                <a:off x="3867120" y="644400"/>
                <a:ext cx="676440" cy="709560"/>
              </a:xfrm>
              <a:custGeom>
                <a:avLst/>
                <a:gdLst/>
                <a:ahLst/>
                <a:rect l="l" t="t" r="r" b="b"/>
                <a:pathLst>
                  <a:path w="426" h="447">
                    <a:moveTo>
                      <a:pt x="406" y="189"/>
                    </a:moveTo>
                    <a:cubicBezTo>
                      <a:pt x="420" y="151"/>
                      <a:pt x="426" y="146"/>
                      <a:pt x="406" y="94"/>
                    </a:cubicBezTo>
                    <a:cubicBezTo>
                      <a:pt x="375" y="14"/>
                      <a:pt x="312" y="9"/>
                      <a:pt x="236" y="0"/>
                    </a:cubicBezTo>
                    <a:cubicBezTo>
                      <a:pt x="168" y="8"/>
                      <a:pt x="111" y="27"/>
                      <a:pt x="47" y="47"/>
                    </a:cubicBezTo>
                    <a:cubicBezTo>
                      <a:pt x="5" y="112"/>
                      <a:pt x="18" y="83"/>
                      <a:pt x="0" y="132"/>
                    </a:cubicBezTo>
                    <a:cubicBezTo>
                      <a:pt x="9" y="197"/>
                      <a:pt x="20" y="275"/>
                      <a:pt x="57" y="331"/>
                    </a:cubicBezTo>
                    <a:cubicBezTo>
                      <a:pt x="77" y="392"/>
                      <a:pt x="76" y="406"/>
                      <a:pt x="132" y="444"/>
                    </a:cubicBezTo>
                    <a:cubicBezTo>
                      <a:pt x="167" y="439"/>
                      <a:pt x="208" y="447"/>
                      <a:pt x="236" y="425"/>
                    </a:cubicBezTo>
                    <a:cubicBezTo>
                      <a:pt x="255" y="410"/>
                      <a:pt x="266" y="386"/>
                      <a:pt x="283" y="368"/>
                    </a:cubicBezTo>
                    <a:cubicBezTo>
                      <a:pt x="306" y="304"/>
                      <a:pt x="320" y="227"/>
                      <a:pt x="359" y="170"/>
                    </a:cubicBezTo>
                    <a:cubicBezTo>
                      <a:pt x="379" y="110"/>
                      <a:pt x="378" y="133"/>
                      <a:pt x="378" y="104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74840" y="1992240"/>
                <a:ext cx="601560" cy="750960"/>
              </a:xfrm>
              <a:custGeom>
                <a:avLst/>
                <a:gdLst/>
                <a:ahLst/>
                <a:rect l="l" t="t" r="r" b="b"/>
                <a:pathLst>
                  <a:path w="379" h="473">
                    <a:moveTo>
                      <a:pt x="379" y="160"/>
                    </a:moveTo>
                    <a:cubicBezTo>
                      <a:pt x="376" y="144"/>
                      <a:pt x="376" y="128"/>
                      <a:pt x="369" y="113"/>
                    </a:cubicBezTo>
                    <a:cubicBezTo>
                      <a:pt x="332" y="33"/>
                      <a:pt x="274" y="23"/>
                      <a:pt x="199" y="0"/>
                    </a:cubicBezTo>
                    <a:cubicBezTo>
                      <a:pt x="143" y="8"/>
                      <a:pt x="121" y="8"/>
                      <a:pt x="77" y="38"/>
                    </a:cubicBezTo>
                    <a:cubicBezTo>
                      <a:pt x="58" y="66"/>
                      <a:pt x="48" y="95"/>
                      <a:pt x="29" y="123"/>
                    </a:cubicBezTo>
                    <a:cubicBezTo>
                      <a:pt x="0" y="215"/>
                      <a:pt x="16" y="382"/>
                      <a:pt x="77" y="472"/>
                    </a:cubicBezTo>
                    <a:cubicBezTo>
                      <a:pt x="118" y="469"/>
                      <a:pt x="160" y="473"/>
                      <a:pt x="199" y="463"/>
                    </a:cubicBezTo>
                    <a:cubicBezTo>
                      <a:pt x="235" y="453"/>
                      <a:pt x="284" y="406"/>
                      <a:pt x="313" y="378"/>
                    </a:cubicBezTo>
                    <a:cubicBezTo>
                      <a:pt x="323" y="347"/>
                      <a:pt x="340" y="324"/>
                      <a:pt x="351" y="293"/>
                    </a:cubicBezTo>
                    <a:cubicBezTo>
                      <a:pt x="361" y="184"/>
                      <a:pt x="346" y="226"/>
                      <a:pt x="379" y="16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38280" y="2666880"/>
                <a:ext cx="1752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" name=""/>
          <p:cNvGrpSpPr/>
          <p:nvPr/>
        </p:nvGrpSpPr>
        <p:grpSpPr>
          <a:xfrm>
            <a:off x="0" y="1219320"/>
            <a:ext cx="8763120" cy="1523880"/>
            <a:chOff x="0" y="1219320"/>
            <a:chExt cx="8763120" cy="1523880"/>
          </a:xfrm>
        </p:grpSpPr>
        <p:pic>
          <p:nvPicPr>
            <p:cNvPr id="700" name="" descr=""/>
            <p:cNvPicPr/>
            <p:nvPr/>
          </p:nvPicPr>
          <p:blipFill>
            <a:blip r:embed="rId7"/>
            <a:stretch/>
          </p:blipFill>
          <p:spPr>
            <a:xfrm>
              <a:off x="4419720" y="2066760"/>
              <a:ext cx="4267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0" y="121932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0" y="1828800"/>
              <a:ext cx="175248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34320" y="144792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3882960" y="2727360"/>
            <a:ext cx="5235480" cy="3193920"/>
            <a:chOff x="3882960" y="2727360"/>
            <a:chExt cx="5235480" cy="3193920"/>
          </a:xfrm>
        </p:grpSpPr>
        <p:sp>
          <p:nvSpPr>
            <p:cNvPr id="705" name=""/>
            <p:cNvSpPr/>
            <p:nvPr/>
          </p:nvSpPr>
          <p:spPr>
            <a:xfrm>
              <a:off x="6496200" y="272736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Lucida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st expensive 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6" name=""/>
            <p:cNvGraphicFramePr/>
            <p:nvPr/>
          </p:nvGraphicFramePr>
          <p:xfrm>
            <a:off x="8610480" y="2819520"/>
            <a:ext cx="50796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610480" y="2819520"/>
                      <a:ext cx="5079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8" name=""/>
            <p:cNvSpPr/>
            <p:nvPr/>
          </p:nvSpPr>
          <p:spPr>
            <a:xfrm>
              <a:off x="3882960" y="5156280"/>
              <a:ext cx="1184400" cy="76500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680" y="340"/>
                  </a:moveTo>
                  <a:cubicBezTo>
                    <a:pt x="677" y="315"/>
                    <a:pt x="677" y="289"/>
                    <a:pt x="670" y="265"/>
                  </a:cubicBezTo>
                  <a:cubicBezTo>
                    <a:pt x="667" y="254"/>
                    <a:pt x="656" y="246"/>
                    <a:pt x="651" y="236"/>
                  </a:cubicBezTo>
                  <a:cubicBezTo>
                    <a:pt x="560" y="50"/>
                    <a:pt x="358" y="47"/>
                    <a:pt x="179" y="0"/>
                  </a:cubicBezTo>
                  <a:cubicBezTo>
                    <a:pt x="118" y="8"/>
                    <a:pt x="78" y="9"/>
                    <a:pt x="37" y="57"/>
                  </a:cubicBezTo>
                  <a:cubicBezTo>
                    <a:pt x="17" y="81"/>
                    <a:pt x="0" y="142"/>
                    <a:pt x="0" y="142"/>
                  </a:cubicBezTo>
                  <a:cubicBezTo>
                    <a:pt x="5" y="178"/>
                    <a:pt x="6" y="223"/>
                    <a:pt x="28" y="255"/>
                  </a:cubicBezTo>
                  <a:cubicBezTo>
                    <a:pt x="68" y="312"/>
                    <a:pt x="132" y="335"/>
                    <a:pt x="188" y="369"/>
                  </a:cubicBezTo>
                  <a:cubicBezTo>
                    <a:pt x="289" y="430"/>
                    <a:pt x="395" y="458"/>
                    <a:pt x="510" y="482"/>
                  </a:cubicBezTo>
                  <a:cubicBezTo>
                    <a:pt x="574" y="476"/>
                    <a:pt x="621" y="472"/>
                    <a:pt x="680" y="454"/>
                  </a:cubicBezTo>
                  <a:cubicBezTo>
                    <a:pt x="709" y="434"/>
                    <a:pt x="746" y="410"/>
                    <a:pt x="717" y="369"/>
                  </a:cubicBezTo>
                  <a:cubicBezTo>
                    <a:pt x="708" y="356"/>
                    <a:pt x="692" y="350"/>
                    <a:pt x="680" y="34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514560" y="3260880"/>
            <a:ext cx="2153880" cy="701640"/>
            <a:chOff x="6514560" y="3260880"/>
            <a:chExt cx="2153880" cy="701640"/>
          </a:xfrm>
        </p:grpSpPr>
        <p:sp>
          <p:nvSpPr>
            <p:cNvPr id="710" name=""/>
            <p:cNvSpPr/>
            <p:nvPr/>
          </p:nvSpPr>
          <p:spPr>
            <a:xfrm>
              <a:off x="6514560" y="3260880"/>
              <a:ext cx="215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Lucida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y expensive 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7315200" y="3657600"/>
            <a:ext cx="901800" cy="304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15200" y="3657600"/>
                      <a:ext cx="9018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13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1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722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7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726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727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9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40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41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721440" y="2895480"/>
            <a:ext cx="8422560" cy="1676520"/>
            <a:chOff x="721440" y="2895480"/>
            <a:chExt cx="8422560" cy="1676520"/>
          </a:xfrm>
        </p:grpSpPr>
        <p:grpSp>
          <p:nvGrpSpPr>
            <p:cNvPr id="767" name=""/>
            <p:cNvGrpSpPr/>
            <p:nvPr/>
          </p:nvGrpSpPr>
          <p:grpSpPr>
            <a:xfrm>
              <a:off x="3124080" y="2895480"/>
              <a:ext cx="6019920" cy="1676520"/>
              <a:chOff x="3124080" y="2895480"/>
              <a:chExt cx="6019920" cy="1676520"/>
            </a:xfrm>
          </p:grpSpPr>
          <p:pic>
            <p:nvPicPr>
              <p:cNvPr id="7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895480"/>
                <a:ext cx="597240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1960" y="3686040"/>
                <a:ext cx="5972040" cy="885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0" name=""/>
            <p:cNvSpPr/>
            <p:nvPr/>
          </p:nvSpPr>
          <p:spPr>
            <a:xfrm>
              <a:off x="721440" y="3505320"/>
              <a:ext cx="22867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ju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3680" y="442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499120" y="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A 3-PHASE E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76320" y="895320"/>
            <a:ext cx="5076720" cy="1924200"/>
          </a:xfrm>
          <a:prstGeom prst="rect">
            <a:avLst/>
          </a:prstGeom>
          <a:ln w="0">
            <a:noFill/>
          </a:ln>
        </p:spPr>
      </p:pic>
      <p:grpSp>
        <p:nvGrpSpPr>
          <p:cNvPr id="774" name=""/>
          <p:cNvGrpSpPr/>
          <p:nvPr/>
        </p:nvGrpSpPr>
        <p:grpSpPr>
          <a:xfrm>
            <a:off x="0" y="371520"/>
            <a:ext cx="6495840" cy="619200"/>
            <a:chOff x="0" y="371520"/>
            <a:chExt cx="6495840" cy="619200"/>
          </a:xfrm>
        </p:grpSpPr>
        <p:pic>
          <p:nvPicPr>
            <p:cNvPr id="775" name="" descr=""/>
            <p:cNvPicPr/>
            <p:nvPr/>
          </p:nvPicPr>
          <p:blipFill>
            <a:blip r:embed="rId4"/>
            <a:stretch/>
          </p:blipFill>
          <p:spPr>
            <a:xfrm>
              <a:off x="304560" y="371520"/>
              <a:ext cx="47340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5"/>
            <a:stretch/>
          </p:blipFill>
          <p:spPr>
            <a:xfrm>
              <a:off x="0" y="676440"/>
              <a:ext cx="649584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"/>
          <p:cNvGrpSpPr/>
          <p:nvPr/>
        </p:nvGrpSpPr>
        <p:grpSpPr>
          <a:xfrm>
            <a:off x="5638680" y="136440"/>
            <a:ext cx="3229200" cy="3063960"/>
            <a:chOff x="5638680" y="136440"/>
            <a:chExt cx="3229200" cy="3063960"/>
          </a:xfrm>
        </p:grpSpPr>
        <p:pic>
          <p:nvPicPr>
            <p:cNvPr id="778" name="" descr=""/>
            <p:cNvPicPr/>
            <p:nvPr/>
          </p:nvPicPr>
          <p:blipFill>
            <a:blip r:embed="rId6"/>
            <a:stretch/>
          </p:blipFill>
          <p:spPr>
            <a:xfrm>
              <a:off x="5638680" y="314280"/>
              <a:ext cx="322920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6555960" y="136440"/>
              <a:ext cx="220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Adju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0" name="" descr=""/>
          <p:cNvPicPr/>
          <p:nvPr/>
        </p:nvPicPr>
        <p:blipFill>
          <a:blip r:embed="rId7"/>
          <a:stretch/>
        </p:blipFill>
        <p:spPr>
          <a:xfrm>
            <a:off x="5943600" y="4648320"/>
            <a:ext cx="1762200" cy="352440"/>
          </a:xfrm>
          <a:prstGeom prst="rect">
            <a:avLst/>
          </a:prstGeom>
          <a:ln w="0">
            <a:noFill/>
          </a:ln>
        </p:spPr>
      </p:pic>
      <p:grpSp>
        <p:nvGrpSpPr>
          <p:cNvPr id="781" name=""/>
          <p:cNvGrpSpPr/>
          <p:nvPr/>
        </p:nvGrpSpPr>
        <p:grpSpPr>
          <a:xfrm>
            <a:off x="0" y="1600200"/>
            <a:ext cx="5023080" cy="4943520"/>
            <a:chOff x="0" y="1600200"/>
            <a:chExt cx="5023080" cy="4943520"/>
          </a:xfrm>
        </p:grpSpPr>
        <p:pic>
          <p:nvPicPr>
            <p:cNvPr id="782" name="" descr=""/>
            <p:cNvPicPr/>
            <p:nvPr/>
          </p:nvPicPr>
          <p:blipFill>
            <a:blip r:embed="rId8"/>
            <a:stretch/>
          </p:blipFill>
          <p:spPr>
            <a:xfrm>
              <a:off x="1143000" y="5791320"/>
              <a:ext cx="223848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0" y="1600200"/>
              <a:ext cx="1014480" cy="826920"/>
            </a:xfrm>
            <a:custGeom>
              <a:avLst/>
              <a:gdLst/>
              <a:ahLst/>
              <a:rect l="l" t="t" r="r" b="b"/>
              <a:pathLst>
                <a:path w="639" h="521">
                  <a:moveTo>
                    <a:pt x="639" y="191"/>
                  </a:moveTo>
                  <a:cubicBezTo>
                    <a:pt x="596" y="148"/>
                    <a:pt x="568" y="84"/>
                    <a:pt x="507" y="58"/>
                  </a:cubicBezTo>
                  <a:cubicBezTo>
                    <a:pt x="431" y="26"/>
                    <a:pt x="323" y="27"/>
                    <a:pt x="242" y="21"/>
                  </a:cubicBezTo>
                  <a:cubicBezTo>
                    <a:pt x="79" y="30"/>
                    <a:pt x="99" y="0"/>
                    <a:pt x="34" y="96"/>
                  </a:cubicBezTo>
                  <a:cubicBezTo>
                    <a:pt x="5" y="187"/>
                    <a:pt x="0" y="180"/>
                    <a:pt x="25" y="313"/>
                  </a:cubicBezTo>
                  <a:cubicBezTo>
                    <a:pt x="32" y="349"/>
                    <a:pt x="90" y="390"/>
                    <a:pt x="119" y="408"/>
                  </a:cubicBezTo>
                  <a:cubicBezTo>
                    <a:pt x="229" y="476"/>
                    <a:pt x="353" y="497"/>
                    <a:pt x="478" y="521"/>
                  </a:cubicBezTo>
                  <a:cubicBezTo>
                    <a:pt x="540" y="509"/>
                    <a:pt x="565" y="499"/>
                    <a:pt x="601" y="446"/>
                  </a:cubicBezTo>
                  <a:cubicBezTo>
                    <a:pt x="626" y="339"/>
                    <a:pt x="595" y="466"/>
                    <a:pt x="620" y="379"/>
                  </a:cubicBezTo>
                  <a:cubicBezTo>
                    <a:pt x="624" y="367"/>
                    <a:pt x="629" y="342"/>
                    <a:pt x="629" y="3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280" y="5089680"/>
              <a:ext cx="4735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ed by 120V(RMS) – standard wall out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transformer with turns rat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69400" y="5089680"/>
            <a:ext cx="3855240" cy="625320"/>
            <a:chOff x="5369400" y="5089680"/>
            <a:chExt cx="3855240" cy="625320"/>
          </a:xfrm>
        </p:grpSpPr>
        <p:sp>
          <p:nvSpPr>
            <p:cNvPr id="786" name=""/>
            <p:cNvSpPr/>
            <p:nvPr/>
          </p:nvSpPr>
          <p:spPr>
            <a:xfrm>
              <a:off x="5369400" y="5089680"/>
              <a:ext cx="38552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tentiometers are more restri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7" name=""/>
            <p:cNvGraphicFramePr/>
            <p:nvPr/>
          </p:nvGraphicFramePr>
          <p:xfrm>
            <a:off x="6400800" y="5410080"/>
            <a:ext cx="105408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00800" y="5410080"/>
                      <a:ext cx="1054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44080" y="136440"/>
            <a:ext cx="3592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5076720" cy="19242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158920" y="404640"/>
            <a:ext cx="1303560" cy="1124280"/>
          </a:xfrm>
          <a:custGeom>
            <a:avLst/>
            <a:gdLst/>
            <a:ahLst/>
            <a:rect l="l" t="t" r="r" b="b"/>
            <a:pathLst>
              <a:path w="821" h="708">
                <a:moveTo>
                  <a:pt x="765" y="236"/>
                </a:moveTo>
                <a:cubicBezTo>
                  <a:pt x="783" y="181"/>
                  <a:pt x="774" y="126"/>
                  <a:pt x="727" y="94"/>
                </a:cubicBezTo>
                <a:cubicBezTo>
                  <a:pt x="692" y="43"/>
                  <a:pt x="728" y="82"/>
                  <a:pt x="661" y="57"/>
                </a:cubicBezTo>
                <a:cubicBezTo>
                  <a:pt x="650" y="53"/>
                  <a:pt x="643" y="42"/>
                  <a:pt x="632" y="38"/>
                </a:cubicBezTo>
                <a:cubicBezTo>
                  <a:pt x="581" y="19"/>
                  <a:pt x="524" y="17"/>
                  <a:pt x="472" y="0"/>
                </a:cubicBezTo>
                <a:cubicBezTo>
                  <a:pt x="352" y="5"/>
                  <a:pt x="268" y="2"/>
                  <a:pt x="160" y="28"/>
                </a:cubicBezTo>
                <a:cubicBezTo>
                  <a:pt x="114" y="59"/>
                  <a:pt x="86" y="77"/>
                  <a:pt x="56" y="123"/>
                </a:cubicBezTo>
                <a:cubicBezTo>
                  <a:pt x="53" y="132"/>
                  <a:pt x="51" y="142"/>
                  <a:pt x="47" y="151"/>
                </a:cubicBezTo>
                <a:cubicBezTo>
                  <a:pt x="42" y="161"/>
                  <a:pt x="32" y="169"/>
                  <a:pt x="28" y="179"/>
                </a:cubicBezTo>
                <a:cubicBezTo>
                  <a:pt x="14" y="212"/>
                  <a:pt x="6" y="258"/>
                  <a:pt x="0" y="293"/>
                </a:cubicBezTo>
                <a:cubicBezTo>
                  <a:pt x="12" y="452"/>
                  <a:pt x="43" y="614"/>
                  <a:pt x="217" y="670"/>
                </a:cubicBezTo>
                <a:cubicBezTo>
                  <a:pt x="249" y="692"/>
                  <a:pt x="274" y="699"/>
                  <a:pt x="311" y="708"/>
                </a:cubicBezTo>
                <a:cubicBezTo>
                  <a:pt x="349" y="699"/>
                  <a:pt x="388" y="690"/>
                  <a:pt x="425" y="680"/>
                </a:cubicBezTo>
                <a:cubicBezTo>
                  <a:pt x="444" y="675"/>
                  <a:pt x="481" y="661"/>
                  <a:pt x="481" y="661"/>
                </a:cubicBezTo>
                <a:cubicBezTo>
                  <a:pt x="543" y="620"/>
                  <a:pt x="486" y="651"/>
                  <a:pt x="614" y="633"/>
                </a:cubicBezTo>
                <a:cubicBezTo>
                  <a:pt x="647" y="628"/>
                  <a:pt x="685" y="615"/>
                  <a:pt x="717" y="604"/>
                </a:cubicBezTo>
                <a:cubicBezTo>
                  <a:pt x="736" y="568"/>
                  <a:pt x="765" y="546"/>
                  <a:pt x="783" y="510"/>
                </a:cubicBezTo>
                <a:cubicBezTo>
                  <a:pt x="800" y="476"/>
                  <a:pt x="809" y="433"/>
                  <a:pt x="821" y="397"/>
                </a:cubicBezTo>
                <a:cubicBezTo>
                  <a:pt x="809" y="292"/>
                  <a:pt x="811" y="311"/>
                  <a:pt x="736" y="236"/>
                </a:cubicBezTo>
                <a:cubicBezTo>
                  <a:pt x="729" y="229"/>
                  <a:pt x="755" y="236"/>
                  <a:pt x="765" y="23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527800" y="152280"/>
          <a:ext cx="163512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7800" y="152280"/>
                    <a:ext cx="1635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"/>
          <p:cNvSpPr/>
          <p:nvPr/>
        </p:nvSpPr>
        <p:spPr>
          <a:xfrm>
            <a:off x="5424120" y="669960"/>
            <a:ext cx="3547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RC network for -60 deg (l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inverter for -180 phase 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80880" y="2362320"/>
            <a:ext cx="5648400" cy="2552760"/>
            <a:chOff x="380880" y="2362320"/>
            <a:chExt cx="5648400" cy="2552760"/>
          </a:xfrm>
        </p:grpSpPr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380880" y="2362320"/>
              <a:ext cx="564840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2473920" y="2955960"/>
              <a:ext cx="810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1" name=""/>
          <p:cNvGraphicFramePr/>
          <p:nvPr/>
        </p:nvGraphicFramePr>
        <p:xfrm>
          <a:off x="76320" y="5181480"/>
          <a:ext cx="4038480" cy="6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181480"/>
                    <a:ext cx="40384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49400" y="1676520"/>
            <a:ext cx="8767440" cy="3405240"/>
            <a:chOff x="149400" y="1676520"/>
            <a:chExt cx="8767440" cy="3405240"/>
          </a:xfrm>
        </p:grpSpPr>
        <p:graphicFrame>
          <p:nvGraphicFramePr>
            <p:cNvPr id="807" name=""/>
            <p:cNvGraphicFramePr/>
            <p:nvPr/>
          </p:nvGraphicFramePr>
          <p:xfrm>
            <a:off x="5295960" y="1676520"/>
            <a:ext cx="3620880" cy="1434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95960" y="1676520"/>
                      <a:ext cx="3620880" cy="14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149400" y="2068560"/>
              <a:ext cx="2158920" cy="3013200"/>
            </a:xfrm>
            <a:custGeom>
              <a:avLst/>
              <a:gdLst/>
              <a:ahLst/>
              <a:rect l="l" t="t" r="r" b="b"/>
              <a:pathLst>
                <a:path w="1360" h="1898">
                  <a:moveTo>
                    <a:pt x="0" y="1331"/>
                  </a:moveTo>
                  <a:cubicBezTo>
                    <a:pt x="17" y="1379"/>
                    <a:pt x="19" y="1449"/>
                    <a:pt x="48" y="1492"/>
                  </a:cubicBezTo>
                  <a:cubicBezTo>
                    <a:pt x="55" y="1503"/>
                    <a:pt x="68" y="1510"/>
                    <a:pt x="76" y="1520"/>
                  </a:cubicBezTo>
                  <a:cubicBezTo>
                    <a:pt x="100" y="1549"/>
                    <a:pt x="117" y="1587"/>
                    <a:pt x="142" y="1615"/>
                  </a:cubicBezTo>
                  <a:cubicBezTo>
                    <a:pt x="196" y="1675"/>
                    <a:pt x="264" y="1723"/>
                    <a:pt x="340" y="1747"/>
                  </a:cubicBezTo>
                  <a:cubicBezTo>
                    <a:pt x="396" y="1783"/>
                    <a:pt x="465" y="1797"/>
                    <a:pt x="529" y="1813"/>
                  </a:cubicBezTo>
                  <a:cubicBezTo>
                    <a:pt x="664" y="1847"/>
                    <a:pt x="796" y="1883"/>
                    <a:pt x="935" y="1898"/>
                  </a:cubicBezTo>
                  <a:cubicBezTo>
                    <a:pt x="985" y="1895"/>
                    <a:pt x="1036" y="1894"/>
                    <a:pt x="1086" y="1889"/>
                  </a:cubicBezTo>
                  <a:cubicBezTo>
                    <a:pt x="1195" y="1878"/>
                    <a:pt x="1254" y="1749"/>
                    <a:pt x="1322" y="1681"/>
                  </a:cubicBezTo>
                  <a:cubicBezTo>
                    <a:pt x="1335" y="1631"/>
                    <a:pt x="1348" y="1580"/>
                    <a:pt x="1360" y="1530"/>
                  </a:cubicBezTo>
                  <a:cubicBezTo>
                    <a:pt x="1354" y="1395"/>
                    <a:pt x="1345" y="1282"/>
                    <a:pt x="1322" y="1152"/>
                  </a:cubicBezTo>
                  <a:cubicBezTo>
                    <a:pt x="1316" y="1063"/>
                    <a:pt x="1312" y="983"/>
                    <a:pt x="1294" y="897"/>
                  </a:cubicBezTo>
                  <a:cubicBezTo>
                    <a:pt x="1287" y="827"/>
                    <a:pt x="1280" y="765"/>
                    <a:pt x="1256" y="699"/>
                  </a:cubicBezTo>
                  <a:cubicBezTo>
                    <a:pt x="1247" y="636"/>
                    <a:pt x="1233" y="572"/>
                    <a:pt x="1219" y="510"/>
                  </a:cubicBezTo>
                  <a:cubicBezTo>
                    <a:pt x="1209" y="465"/>
                    <a:pt x="1184" y="430"/>
                    <a:pt x="1171" y="387"/>
                  </a:cubicBezTo>
                  <a:cubicBezTo>
                    <a:pt x="1138" y="279"/>
                    <a:pt x="1121" y="160"/>
                    <a:pt x="1011" y="104"/>
                  </a:cubicBezTo>
                  <a:cubicBezTo>
                    <a:pt x="925" y="60"/>
                    <a:pt x="779" y="28"/>
                    <a:pt x="680" y="19"/>
                  </a:cubicBezTo>
                  <a:cubicBezTo>
                    <a:pt x="601" y="11"/>
                    <a:pt x="444" y="0"/>
                    <a:pt x="444" y="0"/>
                  </a:cubicBezTo>
                  <a:cubicBezTo>
                    <a:pt x="367" y="7"/>
                    <a:pt x="331" y="12"/>
                    <a:pt x="265" y="28"/>
                  </a:cubicBezTo>
                  <a:cubicBezTo>
                    <a:pt x="223" y="70"/>
                    <a:pt x="174" y="100"/>
                    <a:pt x="133" y="142"/>
                  </a:cubicBezTo>
                  <a:cubicBezTo>
                    <a:pt x="113" y="192"/>
                    <a:pt x="95" y="229"/>
                    <a:pt x="85" y="283"/>
                  </a:cubicBezTo>
                  <a:cubicBezTo>
                    <a:pt x="80" y="418"/>
                    <a:pt x="88" y="710"/>
                    <a:pt x="38" y="850"/>
                  </a:cubicBezTo>
                  <a:cubicBezTo>
                    <a:pt x="28" y="936"/>
                    <a:pt x="16" y="996"/>
                    <a:pt x="10" y="1086"/>
                  </a:cubicBezTo>
                  <a:cubicBezTo>
                    <a:pt x="16" y="1125"/>
                    <a:pt x="19" y="1152"/>
                    <a:pt x="29" y="1190"/>
                  </a:cubicBezTo>
                  <a:cubicBezTo>
                    <a:pt x="31" y="1200"/>
                    <a:pt x="38" y="1218"/>
                    <a:pt x="38" y="1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6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9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4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44080" y="136440"/>
            <a:ext cx="3592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5076720" cy="192420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3225960" y="270000"/>
            <a:ext cx="2035080" cy="1663560"/>
          </a:xfrm>
          <a:custGeom>
            <a:avLst/>
            <a:gdLst/>
            <a:ahLst/>
            <a:rect l="l" t="t" r="r" b="b"/>
            <a:pathLst>
              <a:path w="1282" h="1048">
                <a:moveTo>
                  <a:pt x="1263" y="736"/>
                </a:moveTo>
                <a:cubicBezTo>
                  <a:pt x="1269" y="702"/>
                  <a:pt x="1282" y="636"/>
                  <a:pt x="1282" y="604"/>
                </a:cubicBezTo>
                <a:cubicBezTo>
                  <a:pt x="1282" y="522"/>
                  <a:pt x="1239" y="396"/>
                  <a:pt x="1169" y="349"/>
                </a:cubicBezTo>
                <a:cubicBezTo>
                  <a:pt x="1147" y="280"/>
                  <a:pt x="1180" y="362"/>
                  <a:pt x="1131" y="302"/>
                </a:cubicBezTo>
                <a:cubicBezTo>
                  <a:pt x="1125" y="294"/>
                  <a:pt x="1127" y="282"/>
                  <a:pt x="1122" y="274"/>
                </a:cubicBezTo>
                <a:cubicBezTo>
                  <a:pt x="1109" y="253"/>
                  <a:pt x="1093" y="234"/>
                  <a:pt x="1075" y="217"/>
                </a:cubicBezTo>
                <a:cubicBezTo>
                  <a:pt x="1019" y="162"/>
                  <a:pt x="922" y="87"/>
                  <a:pt x="848" y="57"/>
                </a:cubicBezTo>
                <a:cubicBezTo>
                  <a:pt x="814" y="43"/>
                  <a:pt x="779" y="30"/>
                  <a:pt x="744" y="19"/>
                </a:cubicBezTo>
                <a:cubicBezTo>
                  <a:pt x="719" y="11"/>
                  <a:pt x="669" y="0"/>
                  <a:pt x="669" y="0"/>
                </a:cubicBezTo>
                <a:cubicBezTo>
                  <a:pt x="622" y="3"/>
                  <a:pt x="574" y="3"/>
                  <a:pt x="527" y="9"/>
                </a:cubicBezTo>
                <a:cubicBezTo>
                  <a:pt x="448" y="19"/>
                  <a:pt x="376" y="59"/>
                  <a:pt x="300" y="76"/>
                </a:cubicBezTo>
                <a:cubicBezTo>
                  <a:pt x="238" y="90"/>
                  <a:pt x="179" y="93"/>
                  <a:pt x="130" y="142"/>
                </a:cubicBezTo>
                <a:cubicBezTo>
                  <a:pt x="88" y="184"/>
                  <a:pt x="69" y="235"/>
                  <a:pt x="36" y="283"/>
                </a:cubicBezTo>
                <a:cubicBezTo>
                  <a:pt x="4" y="405"/>
                  <a:pt x="0" y="561"/>
                  <a:pt x="74" y="670"/>
                </a:cubicBezTo>
                <a:cubicBezTo>
                  <a:pt x="118" y="811"/>
                  <a:pt x="319" y="798"/>
                  <a:pt x="433" y="812"/>
                </a:cubicBezTo>
                <a:cubicBezTo>
                  <a:pt x="473" y="825"/>
                  <a:pt x="486" y="844"/>
                  <a:pt x="518" y="869"/>
                </a:cubicBezTo>
                <a:cubicBezTo>
                  <a:pt x="613" y="942"/>
                  <a:pt x="539" y="885"/>
                  <a:pt x="602" y="916"/>
                </a:cubicBezTo>
                <a:cubicBezTo>
                  <a:pt x="619" y="924"/>
                  <a:pt x="633" y="936"/>
                  <a:pt x="650" y="944"/>
                </a:cubicBezTo>
                <a:cubicBezTo>
                  <a:pt x="668" y="952"/>
                  <a:pt x="706" y="963"/>
                  <a:pt x="706" y="963"/>
                </a:cubicBezTo>
                <a:cubicBezTo>
                  <a:pt x="762" y="1000"/>
                  <a:pt x="840" y="995"/>
                  <a:pt x="905" y="1001"/>
                </a:cubicBezTo>
                <a:cubicBezTo>
                  <a:pt x="933" y="1010"/>
                  <a:pt x="962" y="1020"/>
                  <a:pt x="990" y="1029"/>
                </a:cubicBezTo>
                <a:cubicBezTo>
                  <a:pt x="1009" y="1035"/>
                  <a:pt x="1046" y="1048"/>
                  <a:pt x="1046" y="1048"/>
                </a:cubicBezTo>
                <a:cubicBezTo>
                  <a:pt x="1106" y="1034"/>
                  <a:pt x="1126" y="1004"/>
                  <a:pt x="1160" y="954"/>
                </a:cubicBezTo>
                <a:cubicBezTo>
                  <a:pt x="1167" y="932"/>
                  <a:pt x="1169" y="909"/>
                  <a:pt x="1178" y="888"/>
                </a:cubicBezTo>
                <a:cubicBezTo>
                  <a:pt x="1189" y="862"/>
                  <a:pt x="1216" y="812"/>
                  <a:pt x="1216" y="812"/>
                </a:cubicBezTo>
                <a:cubicBezTo>
                  <a:pt x="1228" y="741"/>
                  <a:pt x="1209" y="764"/>
                  <a:pt x="1263" y="73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019920" y="189000"/>
            <a:ext cx="2428920" cy="944640"/>
            <a:chOff x="6019920" y="189000"/>
            <a:chExt cx="2428920" cy="944640"/>
          </a:xfrm>
        </p:grpSpPr>
        <p:graphicFrame>
          <p:nvGraphicFramePr>
            <p:cNvPr id="814" name=""/>
            <p:cNvGraphicFramePr/>
            <p:nvPr/>
          </p:nvGraphicFramePr>
          <p:xfrm>
            <a:off x="6019920" y="189000"/>
            <a:ext cx="2209680" cy="785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89000"/>
                      <a:ext cx="220968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6" name="" descr=""/>
            <p:cNvPicPr/>
            <p:nvPr/>
          </p:nvPicPr>
          <p:blipFill>
            <a:blip r:embed="rId4"/>
            <a:stretch/>
          </p:blipFill>
          <p:spPr>
            <a:xfrm>
              <a:off x="6324480" y="685800"/>
              <a:ext cx="2124360" cy="44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7" name="" descr=""/>
          <p:cNvPicPr/>
          <p:nvPr/>
        </p:nvPicPr>
        <p:blipFill>
          <a:blip r:embed="rId5"/>
          <a:stretch/>
        </p:blipFill>
        <p:spPr>
          <a:xfrm>
            <a:off x="685800" y="2286000"/>
            <a:ext cx="4714920" cy="19144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6"/>
          <a:stretch/>
        </p:blipFill>
        <p:spPr>
          <a:xfrm>
            <a:off x="0" y="4267080"/>
            <a:ext cx="3362400" cy="84780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3505320" y="658800"/>
            <a:ext cx="4933800" cy="4227480"/>
            <a:chOff x="3505320" y="658800"/>
            <a:chExt cx="4933800" cy="4227480"/>
          </a:xfrm>
        </p:grpSpPr>
        <p:graphicFrame>
          <p:nvGraphicFramePr>
            <p:cNvPr id="820" name=""/>
            <p:cNvGraphicFramePr/>
            <p:nvPr/>
          </p:nvGraphicFramePr>
          <p:xfrm>
            <a:off x="3505320" y="4572000"/>
            <a:ext cx="380880" cy="25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05320" y="4572000"/>
                      <a:ext cx="38088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2" name="" descr=""/>
            <p:cNvPicPr/>
            <p:nvPr/>
          </p:nvPicPr>
          <p:blipFill>
            <a:blip r:embed="rId9"/>
            <a:stretch/>
          </p:blipFill>
          <p:spPr>
            <a:xfrm>
              <a:off x="3962520" y="4495680"/>
              <a:ext cx="1514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6242040" y="658800"/>
              <a:ext cx="2197080" cy="809640"/>
            </a:xfrm>
            <a:custGeom>
              <a:avLst/>
              <a:gdLst/>
              <a:ahLst/>
              <a:rect l="l" t="t" r="r" b="b"/>
              <a:pathLst>
                <a:path w="1384" h="510">
                  <a:moveTo>
                    <a:pt x="100" y="0"/>
                  </a:moveTo>
                  <a:cubicBezTo>
                    <a:pt x="84" y="3"/>
                    <a:pt x="66" y="0"/>
                    <a:pt x="53" y="10"/>
                  </a:cubicBezTo>
                  <a:cubicBezTo>
                    <a:pt x="35" y="24"/>
                    <a:pt x="15" y="67"/>
                    <a:pt x="15" y="67"/>
                  </a:cubicBezTo>
                  <a:cubicBezTo>
                    <a:pt x="0" y="127"/>
                    <a:pt x="2" y="102"/>
                    <a:pt x="15" y="189"/>
                  </a:cubicBezTo>
                  <a:cubicBezTo>
                    <a:pt x="50" y="428"/>
                    <a:pt x="338" y="445"/>
                    <a:pt x="525" y="473"/>
                  </a:cubicBezTo>
                  <a:cubicBezTo>
                    <a:pt x="632" y="507"/>
                    <a:pt x="775" y="497"/>
                    <a:pt x="874" y="501"/>
                  </a:cubicBezTo>
                  <a:cubicBezTo>
                    <a:pt x="968" y="510"/>
                    <a:pt x="1046" y="497"/>
                    <a:pt x="1139" y="482"/>
                  </a:cubicBezTo>
                  <a:cubicBezTo>
                    <a:pt x="1173" y="468"/>
                    <a:pt x="1212" y="465"/>
                    <a:pt x="1243" y="444"/>
                  </a:cubicBezTo>
                  <a:cubicBezTo>
                    <a:pt x="1283" y="417"/>
                    <a:pt x="1261" y="430"/>
                    <a:pt x="1309" y="407"/>
                  </a:cubicBezTo>
                  <a:cubicBezTo>
                    <a:pt x="1356" y="358"/>
                    <a:pt x="1371" y="275"/>
                    <a:pt x="1384" y="208"/>
                  </a:cubicBezTo>
                  <a:cubicBezTo>
                    <a:pt x="1376" y="155"/>
                    <a:pt x="1370" y="138"/>
                    <a:pt x="1346" y="95"/>
                  </a:cubicBezTo>
                  <a:cubicBezTo>
                    <a:pt x="1339" y="83"/>
                    <a:pt x="1338" y="67"/>
                    <a:pt x="1328" y="57"/>
                  </a:cubicBezTo>
                  <a:cubicBezTo>
                    <a:pt x="1321" y="50"/>
                    <a:pt x="1309" y="51"/>
                    <a:pt x="1299" y="48"/>
                  </a:cubicBezTo>
                  <a:cubicBezTo>
                    <a:pt x="1234" y="4"/>
                    <a:pt x="1063" y="48"/>
                    <a:pt x="1063" y="48"/>
                  </a:cubicBezTo>
                  <a:cubicBezTo>
                    <a:pt x="871" y="30"/>
                    <a:pt x="1020" y="49"/>
                    <a:pt x="922" y="29"/>
                  </a:cubicBezTo>
                  <a:cubicBezTo>
                    <a:pt x="903" y="25"/>
                    <a:pt x="884" y="23"/>
                    <a:pt x="865" y="19"/>
                  </a:cubicBezTo>
                  <a:cubicBezTo>
                    <a:pt x="855" y="17"/>
                    <a:pt x="837" y="10"/>
                    <a:pt x="837" y="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644640" y="5013360"/>
            <a:ext cx="5497920" cy="1835280"/>
            <a:chOff x="3644640" y="5013360"/>
            <a:chExt cx="5497920" cy="1835280"/>
          </a:xfrm>
        </p:grpSpPr>
        <p:sp>
          <p:nvSpPr>
            <p:cNvPr id="825" name=""/>
            <p:cNvSpPr/>
            <p:nvPr/>
          </p:nvSpPr>
          <p:spPr>
            <a:xfrm>
              <a:off x="3644640" y="5013360"/>
              <a:ext cx="26085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10k RESISTOR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IFORM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0"/>
            <a:stretch/>
          </p:blipFill>
          <p:spPr>
            <a:xfrm>
              <a:off x="8410680" y="6481800"/>
              <a:ext cx="731880" cy="3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772480" cy="29908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288000" y="136440"/>
            <a:ext cx="4600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–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0" y="4038480"/>
          <a:ext cx="9144000" cy="11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38480"/>
                    <a:ext cx="914400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3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834" name="" descr=""/>
            <p:cNvPicPr/>
            <p:nvPr/>
          </p:nvPicPr>
          <p:blipFill>
            <a:blip r:embed="rId4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65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6320" y="457200"/>
                <a:ext cx="6300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Jorge Aravena</cp:lastModifiedBy>
  <dcterms:modified xsi:type="dcterms:W3CDTF">2004-09-15T22:03:20Z</dcterms:modified>
  <cp:revision>26</cp:revision>
  <dc:subject/>
  <dc:title>No Slide Title</dc:title>
</cp:coreProperties>
</file>