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67.png" ContentType="image/png"/>
  <Override PartName="/ppt/media/image6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DE3-3A67-4AC0-91C5-CAAAA71C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5C6-E04C-458B-B06B-FD0B563A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2A3-40CD-4523-8FFC-44446A40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62F-E32A-4D50-8012-3C15A07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3ED-599C-4C40-A0C1-536C02DD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727-6E8A-4EC0-BB33-8858C8A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8CD-E68A-4F38-9867-68E15537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4ED-C519-44F0-9DE0-DF9D63DF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4E3-68C1-4E3F-A84D-883848F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570-E4C4-4CAC-9C08-1D2B965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BE0-606A-433D-962D-57C731F3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921-DA94-4D97-A2EA-BE543D6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B02F-A54B-4673-B0FB-970B96C1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320" y="45720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905120" y="45720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5720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3" dur="indefinite" restart="never" nodeType="tmRoot">
          <p:childTnLst>
            <p:seq>
              <p:cTn id="2054" dur="indefinite" nodeType="mainSeq">
                <p:childTnLst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8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91440" y="990720"/>
            <a:ext cx="2728080" cy="2148480"/>
            <a:chOff x="91440" y="990720"/>
            <a:chExt cx="2728080" cy="2148480"/>
          </a:xfrm>
        </p:grpSpPr>
        <p:grpSp>
          <p:nvGrpSpPr>
            <p:cNvPr id="852" name=""/>
            <p:cNvGrpSpPr/>
            <p:nvPr/>
          </p:nvGrpSpPr>
          <p:grpSpPr>
            <a:xfrm>
              <a:off x="914400" y="990720"/>
              <a:ext cx="1803240" cy="366480"/>
              <a:chOff x="914400" y="990720"/>
              <a:chExt cx="1803240" cy="366480"/>
            </a:xfrm>
          </p:grpSpPr>
          <mc:AlternateContent>
            <mc:Choice xmlns:a14="http://schemas.microsoft.com/office/drawing/2010/main" Requires="a14">
              <p:sp>
                <p:nvSpPr>
                  <p:cNvPr id="853" name=""/>
                  <p:cNvSpPr txBox="1"/>
                  <p:nvPr/>
                </p:nvSpPr>
                <p:spPr>
                  <a:xfrm>
                    <a:off x="914400" y="106668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4" name=""/>
                  <p:cNvSpPr txBox="1"/>
                  <p:nvPr/>
                </p:nvSpPr>
                <p:spPr>
                  <a:xfrm>
                    <a:off x="2057400" y="99072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55" name=""/>
            <p:cNvGrpSpPr/>
            <p:nvPr/>
          </p:nvGrpSpPr>
          <p:grpSpPr>
            <a:xfrm>
              <a:off x="91440" y="2801880"/>
              <a:ext cx="2728080" cy="337320"/>
              <a:chOff x="91440" y="2801880"/>
              <a:chExt cx="2728080" cy="337320"/>
            </a:xfrm>
          </p:grpSpPr>
          <p:sp>
            <p:nvSpPr>
              <p:cNvPr id="856" name=""/>
              <p:cNvSpPr/>
              <p:nvPr/>
            </p:nvSpPr>
            <p:spPr>
              <a:xfrm>
                <a:off x="91440" y="2801880"/>
                <a:ext cx="87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r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t&g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7" name=""/>
                  <p:cNvSpPr txBox="1"/>
                  <p:nvPr/>
                </p:nvSpPr>
                <p:spPr>
                  <a:xfrm>
                    <a:off x="1219320" y="2819520"/>
                    <a:ext cx="1600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1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6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23840" y="3505320"/>
            <a:ext cx="8786520" cy="3089160"/>
            <a:chOff x="123840" y="3505320"/>
            <a:chExt cx="8786520" cy="3089160"/>
          </a:xfrm>
        </p:grpSpPr>
        <p:sp>
          <p:nvSpPr>
            <p:cNvPr id="879" name=""/>
            <p:cNvSpPr/>
            <p:nvPr/>
          </p:nvSpPr>
          <p:spPr>
            <a:xfrm>
              <a:off x="7502760" y="3533760"/>
              <a:ext cx="14076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23840" y="3505320"/>
              <a:ext cx="7539120" cy="3089160"/>
              <a:chOff x="123840" y="3505320"/>
              <a:chExt cx="7539120" cy="3089160"/>
            </a:xfrm>
          </p:grpSpPr>
          <mc:AlternateContent>
            <mc:Choice xmlns:a14="http://schemas.microsoft.com/office/drawing/2010/main" Requires="a14">
              <p:sp>
                <p:nvSpPr>
                  <p:cNvPr id="881" name=""/>
                  <p:cNvSpPr txBox="1"/>
                  <p:nvPr/>
                </p:nvSpPr>
                <p:spPr>
                  <a:xfrm>
                    <a:off x="4724280" y="3505320"/>
                    <a:ext cx="264168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2" name=""/>
              <p:cNvSpPr/>
              <p:nvPr/>
            </p:nvSpPr>
            <p:spPr>
              <a:xfrm>
                <a:off x="123840" y="4095720"/>
                <a:ext cx="7539120" cy="2498760"/>
              </a:xfrm>
              <a:custGeom>
                <a:avLst/>
                <a:gdLst/>
                <a:ahLst/>
                <a:rect l="l" t="t" r="r" b="b"/>
                <a:pathLst>
                  <a:path w="4749" h="1574">
                    <a:moveTo>
                      <a:pt x="0" y="1550"/>
                    </a:moveTo>
                    <a:cubicBezTo>
                      <a:pt x="702" y="1558"/>
                      <a:pt x="1402" y="1569"/>
                      <a:pt x="2104" y="1574"/>
                    </a:cubicBezTo>
                    <a:cubicBezTo>
                      <a:pt x="2286" y="1571"/>
                      <a:pt x="2467" y="1571"/>
                      <a:pt x="2649" y="1566"/>
                    </a:cubicBezTo>
                    <a:cubicBezTo>
                      <a:pt x="2685" y="1565"/>
                      <a:pt x="2715" y="1550"/>
                      <a:pt x="2751" y="1550"/>
                    </a:cubicBezTo>
                    <a:cubicBezTo>
                      <a:pt x="2758" y="1457"/>
                      <a:pt x="2787" y="1377"/>
                      <a:pt x="2797" y="1285"/>
                    </a:cubicBezTo>
                    <a:cubicBezTo>
                      <a:pt x="2793" y="1056"/>
                      <a:pt x="2791" y="852"/>
                      <a:pt x="2766" y="631"/>
                    </a:cubicBezTo>
                    <a:cubicBezTo>
                      <a:pt x="2754" y="527"/>
                      <a:pt x="2743" y="319"/>
                      <a:pt x="2743" y="319"/>
                    </a:cubicBezTo>
                    <a:cubicBezTo>
                      <a:pt x="2746" y="257"/>
                      <a:pt x="2736" y="193"/>
                      <a:pt x="2751" y="132"/>
                    </a:cubicBezTo>
                    <a:cubicBezTo>
                      <a:pt x="2755" y="114"/>
                      <a:pt x="2797" y="101"/>
                      <a:pt x="2797" y="101"/>
                    </a:cubicBezTo>
                    <a:cubicBezTo>
                      <a:pt x="2792" y="91"/>
                      <a:pt x="2773" y="77"/>
                      <a:pt x="2782" y="70"/>
                    </a:cubicBezTo>
                    <a:cubicBezTo>
                      <a:pt x="2798" y="57"/>
                      <a:pt x="2823" y="64"/>
                      <a:pt x="2844" y="62"/>
                    </a:cubicBezTo>
                    <a:cubicBezTo>
                      <a:pt x="2870" y="59"/>
                      <a:pt x="2896" y="57"/>
                      <a:pt x="2922" y="54"/>
                    </a:cubicBezTo>
                    <a:cubicBezTo>
                      <a:pt x="3125" y="59"/>
                      <a:pt x="3329" y="71"/>
                      <a:pt x="3530" y="38"/>
                    </a:cubicBezTo>
                    <a:cubicBezTo>
                      <a:pt x="3693" y="11"/>
                      <a:pt x="3514" y="32"/>
                      <a:pt x="3717" y="15"/>
                    </a:cubicBezTo>
                    <a:cubicBezTo>
                      <a:pt x="3774" y="10"/>
                      <a:pt x="3888" y="0"/>
                      <a:pt x="3888" y="0"/>
                    </a:cubicBezTo>
                    <a:cubicBezTo>
                      <a:pt x="3947" y="7"/>
                      <a:pt x="4009" y="44"/>
                      <a:pt x="4068" y="46"/>
                    </a:cubicBezTo>
                    <a:cubicBezTo>
                      <a:pt x="4200" y="51"/>
                      <a:pt x="4333" y="51"/>
                      <a:pt x="4465" y="54"/>
                    </a:cubicBezTo>
                    <a:cubicBezTo>
                      <a:pt x="4520" y="60"/>
                      <a:pt x="4574" y="70"/>
                      <a:pt x="4629" y="54"/>
                    </a:cubicBezTo>
                    <a:cubicBezTo>
                      <a:pt x="4749" y="19"/>
                      <a:pt x="4627" y="23"/>
                      <a:pt x="4699" y="23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3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6560" y="457200"/>
            <a:ext cx="4555440" cy="2239560"/>
            <a:chOff x="16560" y="457200"/>
            <a:chExt cx="4555440" cy="2239560"/>
          </a:xfrm>
        </p:grpSpPr>
        <p:sp>
          <p:nvSpPr>
            <p:cNvPr id="889" name=""/>
            <p:cNvSpPr/>
            <p:nvPr/>
          </p:nvSpPr>
          <p:spPr>
            <a:xfrm>
              <a:off x="16560" y="2116080"/>
              <a:ext cx="4509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write the 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i(t), t&gt;0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it using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57600" y="457200"/>
              <a:ext cx="914400" cy="160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4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6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8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901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3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5031720" y="7632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7" name="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47160" y="1447920"/>
            <a:ext cx="2772360" cy="2058120"/>
            <a:chOff x="47160" y="1447920"/>
            <a:chExt cx="2772360" cy="2058120"/>
          </a:xfrm>
        </p:grpSpPr>
        <p:sp>
          <p:nvSpPr>
            <p:cNvPr id="920" name=""/>
            <p:cNvSpPr/>
            <p:nvPr/>
          </p:nvSpPr>
          <p:spPr>
            <a:xfrm>
              <a:off x="47160" y="3168720"/>
              <a:ext cx="179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2480" y="1447920"/>
              <a:ext cx="10670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Jorge Aravena</cp:lastModifiedBy>
  <dcterms:modified xsi:type="dcterms:W3CDTF">2004-09-16T17:49:46Z</dcterms:modified>
  <cp:revision>30</cp:revision>
  <dc:subject/>
  <dc:title>No Slide Title</dc:title>
</cp:coreProperties>
</file>