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D4DC-C5F1-48B6-85B8-16244955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1E28-4D36-4A0E-B826-B4804E6B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4BF-8D9A-4481-9008-CC757A3D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7FA-D271-41B7-9FB7-3451AABB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E64-1624-4387-AEF7-453102D0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67AE-D131-4D10-8204-7FFF5AAA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D9E-EEC5-4B89-9129-3C70FE72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04B-A894-4A8F-A8D2-4AFC2631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6F3-8145-4522-8EB9-71AF5656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763C-CD5C-4061-B6FF-FF945B1E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13E6-9566-4EBC-99FF-407E9581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63B3-A7E3-4F58-9C0A-FAD9D1C0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82D4-4E60-4E52-B72D-D605DA985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19760" y="76320"/>
            <a:ext cx="47314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WO-PORT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0880" y="2971800"/>
            <a:ext cx="791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many situations one is not interested in the internal organization o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. A description relating input and output variables may be 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6200" y="3657600"/>
            <a:ext cx="8440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two-port model is a description of a network that relates voltages and 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wo pairs of termi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72080" y="4302000"/>
            <a:ext cx="7457040" cy="2283840"/>
            <a:chOff x="172080" y="4302000"/>
            <a:chExt cx="7457040" cy="2283840"/>
          </a:xfrm>
        </p:grpSpPr>
        <p:sp>
          <p:nvSpPr>
            <p:cNvPr id="45" name=""/>
            <p:cNvSpPr/>
            <p:nvPr/>
          </p:nvSpPr>
          <p:spPr>
            <a:xfrm>
              <a:off x="2942280" y="5105520"/>
              <a:ext cx="276552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mitt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72080" y="4302000"/>
              <a:ext cx="2195280" cy="3682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LEARNING GO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98160" y="4782960"/>
              <a:ext cx="431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udy the basic types of two-port mod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21200" y="6248520"/>
              <a:ext cx="5407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stand how to convert one model into an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362320" y="685800"/>
            <a:ext cx="44193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622240" y="76320"/>
            <a:ext cx="5942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current on a 4 Ohm load with a 24V inpu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6320" y="546120"/>
            <a:ext cx="2614320" cy="1282680"/>
            <a:chOff x="76320" y="546120"/>
            <a:chExt cx="2614320" cy="1282680"/>
          </a:xfrm>
        </p:grpSpPr>
        <p:grpSp>
          <p:nvGrpSpPr>
            <p:cNvPr id="237" name=""/>
            <p:cNvGrpSpPr/>
            <p:nvPr/>
          </p:nvGrpSpPr>
          <p:grpSpPr>
            <a:xfrm>
              <a:off x="457200" y="546120"/>
              <a:ext cx="380880" cy="304560"/>
              <a:chOff x="457200" y="546120"/>
              <a:chExt cx="380880" cy="304560"/>
            </a:xfrm>
          </p:grpSpPr>
          <p:sp>
            <p:nvSpPr>
              <p:cNvPr id="238" name=""/>
              <p:cNvSpPr/>
              <p:nvPr/>
            </p:nvSpPr>
            <p:spPr>
              <a:xfrm>
                <a:off x="457200" y="850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457200" y="546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76320" y="1003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41" name=""/>
            <p:cNvGrpSpPr/>
            <p:nvPr/>
          </p:nvGrpSpPr>
          <p:grpSpPr>
            <a:xfrm>
              <a:off x="1980720" y="546120"/>
              <a:ext cx="533160" cy="304560"/>
              <a:chOff x="1980720" y="546120"/>
              <a:chExt cx="533160" cy="304560"/>
            </a:xfrm>
          </p:grpSpPr>
          <p:sp>
            <p:nvSpPr>
              <p:cNvPr id="242" name=""/>
              <p:cNvSpPr/>
              <p:nvPr/>
            </p:nvSpPr>
            <p:spPr>
              <a:xfrm flipH="1">
                <a:off x="1980720" y="850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2209680" y="546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425680" y="1003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80880" y="2133720"/>
                <a:ext cx="1930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914400" y="3048120"/>
                <a:ext cx="195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334120" y="838080"/>
            <a:ext cx="2754360" cy="1333800"/>
            <a:chOff x="5334120" y="838080"/>
            <a:chExt cx="2754360" cy="1333800"/>
          </a:xfrm>
        </p:grpSpPr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5472000" y="8380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7529400" y="1371600"/>
              <a:ext cx="15264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05720" y="106668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605720" y="18284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7758000" y="1523880"/>
                  <a:ext cx="3304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5334120" y="1170000"/>
                  <a:ext cx="44280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V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43600" y="2286000"/>
                <a:ext cx="1359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5" name=""/>
          <p:cNvGrpSpPr/>
          <p:nvPr/>
        </p:nvGrpSpPr>
        <p:grpSpPr>
          <a:xfrm>
            <a:off x="4876920" y="698400"/>
            <a:ext cx="2894760" cy="1359000"/>
            <a:chOff x="4876920" y="698400"/>
            <a:chExt cx="2894760" cy="1359000"/>
          </a:xfrm>
        </p:grpSpPr>
        <p:grpSp>
          <p:nvGrpSpPr>
            <p:cNvPr id="256" name=""/>
            <p:cNvGrpSpPr/>
            <p:nvPr/>
          </p:nvGrpSpPr>
          <p:grpSpPr>
            <a:xfrm>
              <a:off x="5410080" y="698400"/>
              <a:ext cx="380880" cy="304560"/>
              <a:chOff x="5410080" y="698400"/>
              <a:chExt cx="380880" cy="304560"/>
            </a:xfrm>
          </p:grpSpPr>
          <p:sp>
            <p:nvSpPr>
              <p:cNvPr id="257" name=""/>
              <p:cNvSpPr/>
              <p:nvPr/>
            </p:nvSpPr>
            <p:spPr>
              <a:xfrm>
                <a:off x="541008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8" name=""/>
                  <p:cNvSpPr txBox="1"/>
                  <p:nvPr/>
                </p:nvSpPr>
                <p:spPr>
                  <a:xfrm>
                    <a:off x="541008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487692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60" name=""/>
            <p:cNvGrpSpPr/>
            <p:nvPr/>
          </p:nvGrpSpPr>
          <p:grpSpPr>
            <a:xfrm>
              <a:off x="7238520" y="698400"/>
              <a:ext cx="533160" cy="304560"/>
              <a:chOff x="7238520" y="698400"/>
              <a:chExt cx="533160" cy="304560"/>
            </a:xfrm>
          </p:grpSpPr>
          <p:sp>
            <p:nvSpPr>
              <p:cNvPr id="261" name=""/>
              <p:cNvSpPr/>
              <p:nvPr/>
            </p:nvSpPr>
            <p:spPr>
              <a:xfrm flipH="1">
                <a:off x="723852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746748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7162920" y="1231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29000" y="3048120"/>
                <a:ext cx="34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546360" y="3429000"/>
                <a:ext cx="3463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257800" y="3886200"/>
                <a:ext cx="1397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858000" y="4267080"/>
                <a:ext cx="5824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4572000" y="4572000"/>
            <a:ext cx="2209680" cy="366840"/>
            <a:chOff x="4572000" y="4572000"/>
            <a:chExt cx="2209680" cy="366840"/>
          </a:xfrm>
        </p:grpSpPr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5181480" y="4648320"/>
                  <a:ext cx="1524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9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"/>
            <p:cNvSpPr/>
            <p:nvPr/>
          </p:nvSpPr>
          <p:spPr>
            <a:xfrm>
              <a:off x="4572000" y="4572000"/>
              <a:ext cx="22096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19920" y="5181480"/>
                <a:ext cx="1206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191120" cy="17906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143880" y="60480"/>
            <a:ext cx="2885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HYBRI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720960" y="2590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86200" y="3657600"/>
                <a:ext cx="51055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input impedance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reverse voltage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forward current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output admit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533960" y="5087880"/>
            <a:ext cx="6249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parameters are very common in modeling 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0680" y="3429000"/>
            <a:ext cx="3597120" cy="1623960"/>
            <a:chOff x="220680" y="3429000"/>
            <a:chExt cx="3597120" cy="162396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228600" y="3429000"/>
                  <a:ext cx="35812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220680" y="4267080"/>
                  <a:ext cx="359712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650320" y="58680"/>
            <a:ext cx="4441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297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298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9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00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2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308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2181240" cy="1333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28440" y="76320"/>
            <a:ext cx="461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09760" y="927000"/>
            <a:ext cx="2614320" cy="1282680"/>
            <a:chOff x="509760" y="927000"/>
            <a:chExt cx="2614320" cy="1282680"/>
          </a:xfrm>
        </p:grpSpPr>
        <p:grpSp>
          <p:nvGrpSpPr>
            <p:cNvPr id="319" name=""/>
            <p:cNvGrpSpPr/>
            <p:nvPr/>
          </p:nvGrpSpPr>
          <p:grpSpPr>
            <a:xfrm>
              <a:off x="890640" y="927000"/>
              <a:ext cx="380880" cy="304560"/>
              <a:chOff x="890640" y="927000"/>
              <a:chExt cx="380880" cy="304560"/>
            </a:xfrm>
          </p:grpSpPr>
          <p:sp>
            <p:nvSpPr>
              <p:cNvPr id="320" name=""/>
              <p:cNvSpPr/>
              <p:nvPr/>
            </p:nvSpPr>
            <p:spPr>
              <a:xfrm>
                <a:off x="890640" y="12315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1" name=""/>
                  <p:cNvSpPr txBox="1"/>
                  <p:nvPr/>
                </p:nvSpPr>
                <p:spPr>
                  <a:xfrm>
                    <a:off x="890640" y="9270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509760" y="1384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23" name=""/>
            <p:cNvGrpSpPr/>
            <p:nvPr/>
          </p:nvGrpSpPr>
          <p:grpSpPr>
            <a:xfrm>
              <a:off x="2414160" y="927000"/>
              <a:ext cx="533160" cy="304560"/>
              <a:chOff x="2414160" y="927000"/>
              <a:chExt cx="533160" cy="304560"/>
            </a:xfrm>
          </p:grpSpPr>
          <p:sp>
            <p:nvSpPr>
              <p:cNvPr id="324" name=""/>
              <p:cNvSpPr/>
              <p:nvPr/>
            </p:nvSpPr>
            <p:spPr>
              <a:xfrm flipH="1">
                <a:off x="2414160" y="1231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5" name=""/>
                  <p:cNvSpPr txBox="1"/>
                  <p:nvPr/>
                </p:nvSpPr>
                <p:spPr>
                  <a:xfrm>
                    <a:off x="2643120" y="927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2859120" y="1384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809880" y="1447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819520" y="3200400"/>
            <a:ext cx="0" cy="1066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57200" y="2832120"/>
            <a:ext cx="2437560" cy="1282680"/>
            <a:chOff x="457200" y="2832120"/>
            <a:chExt cx="2437560" cy="1282680"/>
          </a:xfrm>
        </p:grpSpPr>
        <p:grpSp>
          <p:nvGrpSpPr>
            <p:cNvPr id="331" name=""/>
            <p:cNvGrpSpPr/>
            <p:nvPr/>
          </p:nvGrpSpPr>
          <p:grpSpPr>
            <a:xfrm>
              <a:off x="838080" y="2832120"/>
              <a:ext cx="380880" cy="304560"/>
              <a:chOff x="838080" y="2832120"/>
              <a:chExt cx="380880" cy="304560"/>
            </a:xfrm>
          </p:grpSpPr>
          <p:sp>
            <p:nvSpPr>
              <p:cNvPr id="332" name=""/>
              <p:cNvSpPr/>
              <p:nvPr/>
            </p:nvSpPr>
            <p:spPr>
              <a:xfrm>
                <a:off x="838080" y="3136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3" name=""/>
                  <p:cNvSpPr txBox="1"/>
                  <p:nvPr/>
                </p:nvSpPr>
                <p:spPr>
                  <a:xfrm>
                    <a:off x="838080" y="2832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457200" y="3289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35" name=""/>
            <p:cNvGrpSpPr/>
            <p:nvPr/>
          </p:nvGrpSpPr>
          <p:grpSpPr>
            <a:xfrm>
              <a:off x="2361600" y="2832120"/>
              <a:ext cx="533160" cy="304560"/>
              <a:chOff x="2361600" y="2832120"/>
              <a:chExt cx="533160" cy="30456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2361600" y="3136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7" name=""/>
                  <p:cNvSpPr txBox="1"/>
                  <p:nvPr/>
                </p:nvSpPr>
                <p:spPr>
                  <a:xfrm>
                    <a:off x="2590560" y="2832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895480" y="3657600"/>
                <a:ext cx="59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57200" y="441972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4876920"/>
                <a:ext cx="2387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105520" y="2438280"/>
            <a:ext cx="2181240" cy="133380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4929120" y="2286000"/>
            <a:ext cx="2614680" cy="1282680"/>
            <a:chOff x="4929120" y="2286000"/>
            <a:chExt cx="2614680" cy="1282680"/>
          </a:xfrm>
        </p:grpSpPr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4929120" y="2743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44" name=""/>
            <p:cNvGrpSpPr/>
            <p:nvPr/>
          </p:nvGrpSpPr>
          <p:grpSpPr>
            <a:xfrm>
              <a:off x="6833880" y="2286000"/>
              <a:ext cx="533160" cy="304560"/>
              <a:chOff x="6833880" y="2286000"/>
              <a:chExt cx="533160" cy="304560"/>
            </a:xfrm>
          </p:grpSpPr>
          <p:sp>
            <p:nvSpPr>
              <p:cNvPr id="345" name=""/>
              <p:cNvSpPr/>
              <p:nvPr/>
            </p:nvSpPr>
            <p:spPr>
              <a:xfrm flipH="1">
                <a:off x="6833880" y="2590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6" name=""/>
                  <p:cNvSpPr txBox="1"/>
                  <p:nvPr/>
                </p:nvSpPr>
                <p:spPr>
                  <a:xfrm>
                    <a:off x="7062840" y="2286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7278840" y="2743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8" name=""/>
          <p:cNvGrpSpPr/>
          <p:nvPr/>
        </p:nvGrpSpPr>
        <p:grpSpPr>
          <a:xfrm>
            <a:off x="5257800" y="2819520"/>
            <a:ext cx="711360" cy="366480"/>
            <a:chOff x="5257800" y="2819520"/>
            <a:chExt cx="711360" cy="366480"/>
          </a:xfrm>
        </p:grpSpPr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5410080" y="2895480"/>
                  <a:ext cx="559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0" name=""/>
            <p:cNvSpPr/>
            <p:nvPr/>
          </p:nvSpPr>
          <p:spPr>
            <a:xfrm>
              <a:off x="5257800" y="28195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257800" y="3962520"/>
                <a:ext cx="2108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486400" y="4724280"/>
                <a:ext cx="2006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57200" y="609480"/>
            <a:ext cx="2666880" cy="1333800"/>
            <a:chOff x="457200" y="609480"/>
            <a:chExt cx="2666880" cy="1333800"/>
          </a:xfrm>
        </p:grpSpPr>
        <p:pic>
          <p:nvPicPr>
            <p:cNvPr id="358" name="" descr=""/>
            <p:cNvPicPr/>
            <p:nvPr/>
          </p:nvPicPr>
          <p:blipFill>
            <a:blip r:embed="rId1"/>
            <a:stretch/>
          </p:blipFill>
          <p:spPr>
            <a:xfrm>
              <a:off x="457200" y="6094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514600" y="1143000"/>
              <a:ext cx="15228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590920" y="167616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2590920" y="9140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2743200" y="1295280"/>
                  <a:ext cx="38088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3" name=""/>
          <p:cNvSpPr/>
          <p:nvPr/>
        </p:nvSpPr>
        <p:spPr>
          <a:xfrm>
            <a:off x="2702520" y="58680"/>
            <a:ext cx="501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input impedance of the two-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657600" y="533520"/>
                <a:ext cx="2070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5" name=""/>
          <p:cNvGrpSpPr/>
          <p:nvPr/>
        </p:nvGrpSpPr>
        <p:grpSpPr>
          <a:xfrm>
            <a:off x="304920" y="469800"/>
            <a:ext cx="2437920" cy="1346400"/>
            <a:chOff x="304920" y="469800"/>
            <a:chExt cx="2437920" cy="1346400"/>
          </a:xfrm>
        </p:grpSpPr>
        <p:grpSp>
          <p:nvGrpSpPr>
            <p:cNvPr id="366" name=""/>
            <p:cNvGrpSpPr/>
            <p:nvPr/>
          </p:nvGrpSpPr>
          <p:grpSpPr>
            <a:xfrm>
              <a:off x="685800" y="469800"/>
              <a:ext cx="380880" cy="304560"/>
              <a:chOff x="685800" y="469800"/>
              <a:chExt cx="380880" cy="30456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800" y="7743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8" name=""/>
                  <p:cNvSpPr txBox="1"/>
                  <p:nvPr/>
                </p:nvSpPr>
                <p:spPr>
                  <a:xfrm>
                    <a:off x="685800" y="469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304920" y="927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70" name=""/>
            <p:cNvGrpSpPr/>
            <p:nvPr/>
          </p:nvGrpSpPr>
          <p:grpSpPr>
            <a:xfrm>
              <a:off x="2209680" y="469800"/>
              <a:ext cx="533160" cy="304560"/>
              <a:chOff x="2209680" y="469800"/>
              <a:chExt cx="533160" cy="30456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2209680" y="7743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2" name=""/>
                  <p:cNvSpPr txBox="1"/>
                  <p:nvPr/>
                </p:nvSpPr>
                <p:spPr>
                  <a:xfrm>
                    <a:off x="2438640" y="469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98144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276720" y="1371600"/>
                <a:ext cx="4064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6629400" y="457200"/>
                <a:ext cx="787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3733920" y="182880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00800" y="2057400"/>
                <a:ext cx="165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86200" y="2757600"/>
                <a:ext cx="2286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2247840"/>
                <a:ext cx="22100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438280" y="3962520"/>
                <a:ext cx="4000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1" name=""/>
          <p:cNvGrpSpPr/>
          <p:nvPr/>
        </p:nvGrpSpPr>
        <p:grpSpPr>
          <a:xfrm>
            <a:off x="686520" y="4782960"/>
            <a:ext cx="3606120" cy="1033560"/>
            <a:chOff x="686520" y="4782960"/>
            <a:chExt cx="3606120" cy="1033560"/>
          </a:xfrm>
        </p:grpSpPr>
        <p:sp>
          <p:nvSpPr>
            <p:cNvPr id="382" name=""/>
            <p:cNvSpPr/>
            <p:nvPr/>
          </p:nvSpPr>
          <p:spPr>
            <a:xfrm>
              <a:off x="686520" y="4782960"/>
              <a:ext cx="136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er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1828800" y="5257800"/>
                  <a:ext cx="24638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7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190760" cy="17906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2574720" y="60480"/>
            <a:ext cx="38718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RANSMISSION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886200" y="25909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47680" y="3429000"/>
                <a:ext cx="2603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2280" y="4343400"/>
                <a:ext cx="29466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505320" y="3733920"/>
                <a:ext cx="548640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 circuit voltage ratio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transfer imped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open-circuit transfer admit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current rati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6663240" y="60480"/>
            <a:ext cx="22960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BC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8220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276720" cy="1611360"/>
          </a:xfrm>
          <a:prstGeom prst="rect">
            <a:avLst/>
          </a:prstGeom>
          <a:ln w="0">
            <a:noFill/>
          </a:ln>
        </p:spPr>
      </p:pic>
      <p:grpSp>
        <p:nvGrpSpPr>
          <p:cNvPr id="401" name=""/>
          <p:cNvGrpSpPr/>
          <p:nvPr/>
        </p:nvGrpSpPr>
        <p:grpSpPr>
          <a:xfrm>
            <a:off x="5391000" y="685800"/>
            <a:ext cx="2946600" cy="2398680"/>
            <a:chOff x="5391000" y="685800"/>
            <a:chExt cx="2946600" cy="2398680"/>
          </a:xfrm>
        </p:grpSpPr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6095880" y="68580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5486400" y="1447920"/>
                  <a:ext cx="260352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5391000" y="2362320"/>
                  <a:ext cx="29466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5" name=""/>
          <p:cNvSpPr/>
          <p:nvPr/>
        </p:nvSpPr>
        <p:spPr>
          <a:xfrm>
            <a:off x="5105520" y="1371600"/>
            <a:ext cx="1447560" cy="9907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57200" y="3886200"/>
                <a:ext cx="2590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6934320" y="1447920"/>
            <a:ext cx="1295280" cy="7617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57200" y="5181480"/>
                <a:ext cx="2070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57200" y="350532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5486400" y="3657600"/>
                <a:ext cx="13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7010280" y="2362320"/>
            <a:ext cx="1676520" cy="761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572000" y="3962520"/>
                <a:ext cx="2603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7543800" y="4419720"/>
                <a:ext cx="1282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5105520" y="2362320"/>
            <a:ext cx="167616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572000" y="5257800"/>
                <a:ext cx="4076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019920" y="601992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2200320" cy="1305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9676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105520" y="533520"/>
            <a:ext cx="2946240" cy="2398680"/>
            <a:chOff x="5105520" y="533520"/>
            <a:chExt cx="2946240" cy="2398680"/>
          </a:xfrm>
        </p:grpSpPr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5810040" y="533520"/>
                  <a:ext cx="1422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5200560" y="1295640"/>
                  <a:ext cx="260316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5105520" y="2210040"/>
                  <a:ext cx="294624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7" name=""/>
          <p:cNvGrpSpPr/>
          <p:nvPr/>
        </p:nvGrpSpPr>
        <p:grpSpPr>
          <a:xfrm>
            <a:off x="380880" y="698400"/>
            <a:ext cx="2614320" cy="1282680"/>
            <a:chOff x="380880" y="698400"/>
            <a:chExt cx="2614320" cy="1282680"/>
          </a:xfrm>
        </p:grpSpPr>
        <p:grpSp>
          <p:nvGrpSpPr>
            <p:cNvPr id="428" name=""/>
            <p:cNvGrpSpPr/>
            <p:nvPr/>
          </p:nvGrpSpPr>
          <p:grpSpPr>
            <a:xfrm>
              <a:off x="761760" y="698400"/>
              <a:ext cx="380880" cy="304560"/>
              <a:chOff x="761760" y="698400"/>
              <a:chExt cx="380880" cy="304560"/>
            </a:xfrm>
          </p:grpSpPr>
          <p:sp>
            <p:nvSpPr>
              <p:cNvPr id="429" name=""/>
              <p:cNvSpPr/>
              <p:nvPr/>
            </p:nvSpPr>
            <p:spPr>
              <a:xfrm>
                <a:off x="76176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0" name=""/>
                  <p:cNvSpPr txBox="1"/>
                  <p:nvPr/>
                </p:nvSpPr>
                <p:spPr>
                  <a:xfrm>
                    <a:off x="76176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38088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32" name=""/>
            <p:cNvGrpSpPr/>
            <p:nvPr/>
          </p:nvGrpSpPr>
          <p:grpSpPr>
            <a:xfrm>
              <a:off x="2285280" y="698400"/>
              <a:ext cx="533160" cy="304560"/>
              <a:chOff x="2285280" y="698400"/>
              <a:chExt cx="533160" cy="304560"/>
            </a:xfrm>
          </p:grpSpPr>
          <p:sp>
            <p:nvSpPr>
              <p:cNvPr id="433" name=""/>
              <p:cNvSpPr/>
              <p:nvPr/>
            </p:nvSpPr>
            <p:spPr>
              <a:xfrm flipH="1">
                <a:off x="228528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4" name=""/>
                  <p:cNvSpPr txBox="1"/>
                  <p:nvPr/>
                </p:nvSpPr>
                <p:spPr>
                  <a:xfrm>
                    <a:off x="251424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2730240" y="11556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85800" y="2666880"/>
                <a:ext cx="1231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304920" y="3124080"/>
                <a:ext cx="2336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8" name=""/>
          <p:cNvGrpSpPr/>
          <p:nvPr/>
        </p:nvGrpSpPr>
        <p:grpSpPr>
          <a:xfrm>
            <a:off x="1600200" y="1219320"/>
            <a:ext cx="457200" cy="290520"/>
            <a:chOff x="1600200" y="1219320"/>
            <a:chExt cx="457200" cy="290520"/>
          </a:xfrm>
        </p:grpSpPr>
        <p:sp>
          <p:nvSpPr>
            <p:cNvPr id="439" name=""/>
            <p:cNvSpPr/>
            <p:nvPr/>
          </p:nvSpPr>
          <p:spPr>
            <a:xfrm>
              <a:off x="1600200" y="12193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1600200" y="12193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46160" y="373392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410080" y="3429000"/>
                <a:ext cx="127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5410080" y="3809880"/>
                <a:ext cx="2374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410080" y="4419720"/>
                <a:ext cx="3327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6324480" y="5029200"/>
                <a:ext cx="9144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750400" y="85680"/>
            <a:ext cx="3603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RAMETER CON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4680" y="668160"/>
            <a:ext cx="8735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all parameters exist, they can be related by conventional algebraic manipul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an example consider the relationship between Z and Y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286000" y="1295280"/>
                <a:ext cx="454644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2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2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6934320" y="2057400"/>
                <a:ext cx="1663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184480" y="2971800"/>
                <a:ext cx="26924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00760" y="2971800"/>
                <a:ext cx="2116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403440" y="404496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th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9600" y="4408560"/>
                <a:ext cx="9064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following conversion table, the symbol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stands for the determinant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rresponding matri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685880" y="5181480"/>
                <a:ext cx="6381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733320" y="-28440"/>
            <a:ext cx="7677360" cy="67341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00200" y="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03848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67320" y="60480"/>
            <a:ext cx="35913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DMITT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4160" y="2689200"/>
            <a:ext cx="769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dmittance parameters describe the currents in terms of th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733920" y="312588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864400" y="3087720"/>
            <a:ext cx="300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rst subindex identif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port. The 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put 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9280" y="3087720"/>
                <a:ext cx="352908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determines the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owing into port 2 whe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rt is short-circuited and 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oltage is applied to port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879840" y="4459320"/>
            <a:ext cx="7393680" cy="2017800"/>
            <a:chOff x="879840" y="4459320"/>
            <a:chExt cx="7393680" cy="2017800"/>
          </a:xfrm>
        </p:grpSpPr>
        <p:sp>
          <p:nvSpPr>
            <p:cNvPr id="59" name=""/>
            <p:cNvSpPr/>
            <p:nvPr/>
          </p:nvSpPr>
          <p:spPr>
            <a:xfrm>
              <a:off x="879840" y="4459320"/>
              <a:ext cx="739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utation of the parameters follows directly from the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200400" y="4840200"/>
                  <a:ext cx="26924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3200400" y="5754600"/>
                  <a:ext cx="274320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0" y="1171440"/>
            <a:ext cx="5581800" cy="30956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223000" y="34920"/>
            <a:ext cx="4656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TERCONNECTION OF TWO-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9840" y="457200"/>
            <a:ext cx="8276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erconnections permit the description of complex systems in terms of simp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onents or sub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51280" y="1066680"/>
            <a:ext cx="778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asic interconnections to be considered are: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parallel, series and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65560" y="1523880"/>
            <a:ext cx="3603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: Voltage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f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the sum of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0" y="5724360"/>
            <a:ext cx="8208000" cy="1133640"/>
            <a:chOff x="0" y="5724360"/>
            <a:chExt cx="8208000" cy="1133640"/>
          </a:xfrm>
        </p:grpSpPr>
        <p:pic>
          <p:nvPicPr>
            <p:cNvPr id="472" name="" descr=""/>
            <p:cNvPicPr/>
            <p:nvPr/>
          </p:nvPicPr>
          <p:blipFill>
            <a:blip r:embed="rId2"/>
            <a:stretch/>
          </p:blipFill>
          <p:spPr>
            <a:xfrm>
              <a:off x="0" y="5724360"/>
              <a:ext cx="478152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5425920" y="5788080"/>
              <a:ext cx="278208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CAD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utput of first sub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s as input for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5608800" y="2421000"/>
            <a:ext cx="346356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ules used to deriv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interconnection assume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ch subsystem behaves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manner before and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219320" y="4238640"/>
            <a:ext cx="7997400" cy="1552320"/>
            <a:chOff x="1219320" y="4238640"/>
            <a:chExt cx="7997400" cy="1552320"/>
          </a:xfrm>
        </p:grpSpPr>
        <p:sp>
          <p:nvSpPr>
            <p:cNvPr id="479" name=""/>
            <p:cNvSpPr/>
            <p:nvPr/>
          </p:nvSpPr>
          <p:spPr>
            <a:xfrm>
              <a:off x="5230440" y="4373280"/>
              <a:ext cx="39862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: Currents are the s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of interconnection is the 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f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0" name="" descr=""/>
            <p:cNvPicPr/>
            <p:nvPr/>
          </p:nvPicPr>
          <p:blipFill>
            <a:blip r:embed="rId4"/>
            <a:stretch/>
          </p:blipFill>
          <p:spPr>
            <a:xfrm>
              <a:off x="1219320" y="4238640"/>
              <a:ext cx="3885840" cy="155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77760" y="3521160"/>
          <a:ext cx="490212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60" y="3521160"/>
                    <a:ext cx="49021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272200" y="3521160"/>
                <a:ext cx="2514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a similar manner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166680" y="4282920"/>
                <a:ext cx="31496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367080" y="4435560"/>
                <a:ext cx="1486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6326280" y="4968720"/>
                <a:ext cx="1600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30640" y="443556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4"/>
          <a:stretch/>
        </p:blipFill>
        <p:spPr>
          <a:xfrm>
            <a:off x="57240" y="396720"/>
            <a:ext cx="5581440" cy="309564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59840" y="136440"/>
            <a:ext cx="59673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Interconnection: Description Using Y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38120" y="1233360"/>
            <a:ext cx="7715160" cy="1716120"/>
            <a:chOff x="438120" y="1233360"/>
            <a:chExt cx="7715160" cy="1716120"/>
          </a:xfrm>
        </p:grpSpPr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6021360" y="1311120"/>
                  <a:ext cx="2131920" cy="163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nterconnect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description</m:t>
                          </m:r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e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YV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95" name=""/>
            <p:cNvSpPr/>
            <p:nvPr/>
          </p:nvSpPr>
          <p:spPr>
            <a:xfrm>
              <a:off x="438120" y="1233360"/>
              <a:ext cx="838080" cy="1629000"/>
            </a:xfrm>
            <a:custGeom>
              <a:avLst/>
              <a:gdLst/>
              <a:ahLst/>
              <a:rect l="l" t="t" r="r" b="b"/>
              <a:pathLst>
                <a:path w="528" h="1026">
                  <a:moveTo>
                    <a:pt x="121" y="62"/>
                  </a:moveTo>
                  <a:cubicBezTo>
                    <a:pt x="88" y="84"/>
                    <a:pt x="67" y="105"/>
                    <a:pt x="45" y="138"/>
                  </a:cubicBezTo>
                  <a:cubicBezTo>
                    <a:pt x="35" y="169"/>
                    <a:pt x="27" y="201"/>
                    <a:pt x="17" y="232"/>
                  </a:cubicBezTo>
                  <a:cubicBezTo>
                    <a:pt x="0" y="344"/>
                    <a:pt x="4" y="285"/>
                    <a:pt x="17" y="450"/>
                  </a:cubicBezTo>
                  <a:cubicBezTo>
                    <a:pt x="34" y="664"/>
                    <a:pt x="76" y="820"/>
                    <a:pt x="196" y="997"/>
                  </a:cubicBezTo>
                  <a:cubicBezTo>
                    <a:pt x="202" y="1005"/>
                    <a:pt x="215" y="1003"/>
                    <a:pt x="224" y="1007"/>
                  </a:cubicBezTo>
                  <a:cubicBezTo>
                    <a:pt x="234" y="1012"/>
                    <a:pt x="243" y="1020"/>
                    <a:pt x="253" y="1026"/>
                  </a:cubicBezTo>
                  <a:cubicBezTo>
                    <a:pt x="343" y="1012"/>
                    <a:pt x="377" y="994"/>
                    <a:pt x="442" y="931"/>
                  </a:cubicBezTo>
                  <a:cubicBezTo>
                    <a:pt x="475" y="849"/>
                    <a:pt x="496" y="771"/>
                    <a:pt x="517" y="686"/>
                  </a:cubicBezTo>
                  <a:cubicBezTo>
                    <a:pt x="520" y="654"/>
                    <a:pt x="527" y="623"/>
                    <a:pt x="527" y="591"/>
                  </a:cubicBezTo>
                  <a:cubicBezTo>
                    <a:pt x="527" y="427"/>
                    <a:pt x="528" y="333"/>
                    <a:pt x="498" y="195"/>
                  </a:cubicBezTo>
                  <a:cubicBezTo>
                    <a:pt x="492" y="169"/>
                    <a:pt x="493" y="141"/>
                    <a:pt x="479" y="119"/>
                  </a:cubicBezTo>
                  <a:cubicBezTo>
                    <a:pt x="467" y="100"/>
                    <a:pt x="461" y="74"/>
                    <a:pt x="442" y="62"/>
                  </a:cubicBezTo>
                  <a:cubicBezTo>
                    <a:pt x="402" y="37"/>
                    <a:pt x="362" y="30"/>
                    <a:pt x="319" y="15"/>
                  </a:cubicBezTo>
                  <a:cubicBezTo>
                    <a:pt x="206" y="22"/>
                    <a:pt x="183" y="0"/>
                    <a:pt x="121" y="62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70560" y="1244520"/>
              <a:ext cx="774720" cy="1528920"/>
            </a:xfrm>
            <a:custGeom>
              <a:avLst/>
              <a:gdLst/>
              <a:ahLst/>
              <a:rect l="l" t="t" r="r" b="b"/>
              <a:pathLst>
                <a:path w="488" h="963">
                  <a:moveTo>
                    <a:pt x="416" y="236"/>
                  </a:moveTo>
                  <a:cubicBezTo>
                    <a:pt x="435" y="163"/>
                    <a:pt x="460" y="26"/>
                    <a:pt x="379" y="0"/>
                  </a:cubicBezTo>
                  <a:cubicBezTo>
                    <a:pt x="340" y="7"/>
                    <a:pt x="303" y="17"/>
                    <a:pt x="265" y="28"/>
                  </a:cubicBezTo>
                  <a:cubicBezTo>
                    <a:pt x="246" y="34"/>
                    <a:pt x="209" y="47"/>
                    <a:pt x="209" y="47"/>
                  </a:cubicBezTo>
                  <a:cubicBezTo>
                    <a:pt x="157" y="81"/>
                    <a:pt x="136" y="136"/>
                    <a:pt x="86" y="170"/>
                  </a:cubicBezTo>
                  <a:cubicBezTo>
                    <a:pt x="83" y="179"/>
                    <a:pt x="82" y="189"/>
                    <a:pt x="77" y="198"/>
                  </a:cubicBezTo>
                  <a:cubicBezTo>
                    <a:pt x="66" y="218"/>
                    <a:pt x="47" y="233"/>
                    <a:pt x="39" y="255"/>
                  </a:cubicBezTo>
                  <a:cubicBezTo>
                    <a:pt x="28" y="286"/>
                    <a:pt x="18" y="317"/>
                    <a:pt x="10" y="349"/>
                  </a:cubicBezTo>
                  <a:cubicBezTo>
                    <a:pt x="16" y="495"/>
                    <a:pt x="0" y="656"/>
                    <a:pt x="86" y="783"/>
                  </a:cubicBezTo>
                  <a:cubicBezTo>
                    <a:pt x="98" y="822"/>
                    <a:pt x="109" y="837"/>
                    <a:pt x="143" y="859"/>
                  </a:cubicBezTo>
                  <a:cubicBezTo>
                    <a:pt x="162" y="888"/>
                    <a:pt x="226" y="934"/>
                    <a:pt x="256" y="944"/>
                  </a:cubicBezTo>
                  <a:cubicBezTo>
                    <a:pt x="275" y="950"/>
                    <a:pt x="313" y="963"/>
                    <a:pt x="313" y="963"/>
                  </a:cubicBezTo>
                  <a:cubicBezTo>
                    <a:pt x="346" y="941"/>
                    <a:pt x="369" y="935"/>
                    <a:pt x="398" y="906"/>
                  </a:cubicBezTo>
                  <a:cubicBezTo>
                    <a:pt x="426" y="849"/>
                    <a:pt x="437" y="822"/>
                    <a:pt x="454" y="765"/>
                  </a:cubicBezTo>
                  <a:cubicBezTo>
                    <a:pt x="460" y="746"/>
                    <a:pt x="473" y="708"/>
                    <a:pt x="473" y="708"/>
                  </a:cubicBezTo>
                  <a:cubicBezTo>
                    <a:pt x="486" y="501"/>
                    <a:pt x="488" y="553"/>
                    <a:pt x="473" y="311"/>
                  </a:cubicBezTo>
                  <a:cubicBezTo>
                    <a:pt x="468" y="230"/>
                    <a:pt x="481" y="248"/>
                    <a:pt x="416" y="23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02320" y="135000"/>
            <a:ext cx="4479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 interconnection using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5334120" y="990720"/>
                <a:ext cx="3365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cription of each subsyste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609480" y="2451240"/>
                <a:ext cx="3060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2209680" y="289548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5867280" y="2286000"/>
                <a:ext cx="19494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65760" y="88920"/>
            <a:ext cx="3986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: Current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of interconnection is the 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76320" y="533520"/>
            <a:ext cx="4647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00960" y="135000"/>
            <a:ext cx="54050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using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1066680" y="2095560"/>
                <a:ext cx="31496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542880" y="3510000"/>
                <a:ext cx="35719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561960" y="4576680"/>
                <a:ext cx="35337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11" name=""/>
          <p:cNvGrpSpPr/>
          <p:nvPr/>
        </p:nvGrpSpPr>
        <p:grpSpPr>
          <a:xfrm>
            <a:off x="5383080" y="2209680"/>
            <a:ext cx="3532320" cy="2314800"/>
            <a:chOff x="5383080" y="2209680"/>
            <a:chExt cx="3532320" cy="2314800"/>
          </a:xfrm>
        </p:grpSpPr>
        <p:grpSp>
          <p:nvGrpSpPr>
            <p:cNvPr id="512" name=""/>
            <p:cNvGrpSpPr/>
            <p:nvPr/>
          </p:nvGrpSpPr>
          <p:grpSpPr>
            <a:xfrm>
              <a:off x="5383080" y="2209680"/>
              <a:ext cx="3532320" cy="1600200"/>
              <a:chOff x="5383080" y="2209680"/>
              <a:chExt cx="3532320" cy="1600200"/>
            </a:xfrm>
          </p:grpSpPr>
          <p:pic>
            <p:nvPicPr>
              <p:cNvPr id="5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83080" y="2209680"/>
                <a:ext cx="3532320" cy="10764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514" name=""/>
                  <p:cNvSpPr txBox="1"/>
                  <p:nvPr/>
                </p:nvSpPr>
                <p:spPr>
                  <a:xfrm>
                    <a:off x="6573960" y="3332160"/>
                    <a:ext cx="1170000" cy="47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15" name=""/>
                <p:cNvSpPr txBox="1"/>
                <p:nvPr/>
              </p:nvSpPr>
              <p:spPr>
                <a:xfrm>
                  <a:off x="6248520" y="3886200"/>
                  <a:ext cx="211428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3200400" y="5486400"/>
                <a:ext cx="3886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7" name=""/>
          <p:cNvSpPr/>
          <p:nvPr/>
        </p:nvSpPr>
        <p:spPr>
          <a:xfrm>
            <a:off x="25560" y="3538440"/>
            <a:ext cx="3762360" cy="2884680"/>
          </a:xfrm>
          <a:custGeom>
            <a:avLst/>
            <a:gdLst/>
            <a:ahLst/>
            <a:rect l="l" t="t" r="r" b="b"/>
            <a:pathLst>
              <a:path w="2370" h="1817">
                <a:moveTo>
                  <a:pt x="2352" y="1346"/>
                </a:moveTo>
                <a:cubicBezTo>
                  <a:pt x="2305" y="1494"/>
                  <a:pt x="2370" y="1606"/>
                  <a:pt x="2287" y="1736"/>
                </a:cubicBezTo>
                <a:cubicBezTo>
                  <a:pt x="2272" y="1798"/>
                  <a:pt x="2244" y="1795"/>
                  <a:pt x="2182" y="1817"/>
                </a:cubicBezTo>
                <a:cubicBezTo>
                  <a:pt x="2116" y="1810"/>
                  <a:pt x="2058" y="1797"/>
                  <a:pt x="1995" y="1776"/>
                </a:cubicBezTo>
                <a:cubicBezTo>
                  <a:pt x="1990" y="1754"/>
                  <a:pt x="1983" y="1733"/>
                  <a:pt x="1979" y="1711"/>
                </a:cubicBezTo>
                <a:cubicBezTo>
                  <a:pt x="1972" y="1668"/>
                  <a:pt x="1963" y="1582"/>
                  <a:pt x="1963" y="1582"/>
                </a:cubicBezTo>
                <a:cubicBezTo>
                  <a:pt x="1966" y="1522"/>
                  <a:pt x="2022" y="1434"/>
                  <a:pt x="1971" y="1403"/>
                </a:cubicBezTo>
                <a:cubicBezTo>
                  <a:pt x="1892" y="1355"/>
                  <a:pt x="1787" y="1413"/>
                  <a:pt x="1695" y="1419"/>
                </a:cubicBezTo>
                <a:cubicBezTo>
                  <a:pt x="1531" y="1430"/>
                  <a:pt x="1373" y="1461"/>
                  <a:pt x="1208" y="1468"/>
                </a:cubicBezTo>
                <a:cubicBezTo>
                  <a:pt x="1095" y="1482"/>
                  <a:pt x="980" y="1488"/>
                  <a:pt x="868" y="1509"/>
                </a:cubicBezTo>
                <a:cubicBezTo>
                  <a:pt x="599" y="1505"/>
                  <a:pt x="336" y="1520"/>
                  <a:pt x="73" y="1468"/>
                </a:cubicBezTo>
                <a:cubicBezTo>
                  <a:pt x="32" y="1440"/>
                  <a:pt x="25" y="1420"/>
                  <a:pt x="16" y="1371"/>
                </a:cubicBezTo>
                <a:cubicBezTo>
                  <a:pt x="0" y="1145"/>
                  <a:pt x="33" y="934"/>
                  <a:pt x="106" y="722"/>
                </a:cubicBezTo>
                <a:cubicBezTo>
                  <a:pt x="120" y="637"/>
                  <a:pt x="139" y="539"/>
                  <a:pt x="179" y="463"/>
                </a:cubicBezTo>
                <a:cubicBezTo>
                  <a:pt x="187" y="413"/>
                  <a:pt x="191" y="351"/>
                  <a:pt x="219" y="309"/>
                </a:cubicBezTo>
                <a:cubicBezTo>
                  <a:pt x="239" y="229"/>
                  <a:pt x="264" y="147"/>
                  <a:pt x="316" y="82"/>
                </a:cubicBezTo>
                <a:cubicBezTo>
                  <a:pt x="333" y="61"/>
                  <a:pt x="342" y="61"/>
                  <a:pt x="365" y="41"/>
                </a:cubicBezTo>
                <a:cubicBezTo>
                  <a:pt x="379" y="28"/>
                  <a:pt x="406" y="1"/>
                  <a:pt x="406" y="1"/>
                </a:cubicBezTo>
                <a:cubicBezTo>
                  <a:pt x="495" y="4"/>
                  <a:pt x="584" y="0"/>
                  <a:pt x="673" y="9"/>
                </a:cubicBezTo>
                <a:cubicBezTo>
                  <a:pt x="739" y="15"/>
                  <a:pt x="733" y="19"/>
                  <a:pt x="746" y="57"/>
                </a:cubicBezTo>
                <a:cubicBezTo>
                  <a:pt x="749" y="76"/>
                  <a:pt x="745" y="97"/>
                  <a:pt x="754" y="114"/>
                </a:cubicBezTo>
                <a:cubicBezTo>
                  <a:pt x="758" y="122"/>
                  <a:pt x="777" y="113"/>
                  <a:pt x="779" y="122"/>
                </a:cubicBezTo>
                <a:cubicBezTo>
                  <a:pt x="796" y="193"/>
                  <a:pt x="782" y="244"/>
                  <a:pt x="803" y="309"/>
                </a:cubicBezTo>
                <a:cubicBezTo>
                  <a:pt x="806" y="336"/>
                  <a:pt x="811" y="390"/>
                  <a:pt x="811" y="39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92040" y="3397320"/>
            <a:ext cx="3843360" cy="2151000"/>
          </a:xfrm>
          <a:custGeom>
            <a:avLst/>
            <a:gdLst/>
            <a:ahLst/>
            <a:rect l="l" t="t" r="r" b="b"/>
            <a:pathLst>
              <a:path w="2421" h="1355">
                <a:moveTo>
                  <a:pt x="1683" y="179"/>
                </a:moveTo>
                <a:cubicBezTo>
                  <a:pt x="1693" y="128"/>
                  <a:pt x="1689" y="28"/>
                  <a:pt x="1756" y="9"/>
                </a:cubicBezTo>
                <a:cubicBezTo>
                  <a:pt x="1777" y="3"/>
                  <a:pt x="1799" y="3"/>
                  <a:pt x="1821" y="0"/>
                </a:cubicBezTo>
                <a:cubicBezTo>
                  <a:pt x="1978" y="9"/>
                  <a:pt x="2134" y="31"/>
                  <a:pt x="2291" y="41"/>
                </a:cubicBezTo>
                <a:cubicBezTo>
                  <a:pt x="2318" y="49"/>
                  <a:pt x="2347" y="52"/>
                  <a:pt x="2372" y="65"/>
                </a:cubicBezTo>
                <a:cubicBezTo>
                  <a:pt x="2392" y="75"/>
                  <a:pt x="2394" y="127"/>
                  <a:pt x="2396" y="138"/>
                </a:cubicBezTo>
                <a:cubicBezTo>
                  <a:pt x="2404" y="190"/>
                  <a:pt x="2411" y="241"/>
                  <a:pt x="2421" y="292"/>
                </a:cubicBezTo>
                <a:cubicBezTo>
                  <a:pt x="2418" y="406"/>
                  <a:pt x="2418" y="519"/>
                  <a:pt x="2413" y="633"/>
                </a:cubicBezTo>
                <a:cubicBezTo>
                  <a:pt x="2413" y="645"/>
                  <a:pt x="2402" y="684"/>
                  <a:pt x="2388" y="690"/>
                </a:cubicBezTo>
                <a:cubicBezTo>
                  <a:pt x="2371" y="698"/>
                  <a:pt x="2351" y="695"/>
                  <a:pt x="2332" y="698"/>
                </a:cubicBezTo>
                <a:cubicBezTo>
                  <a:pt x="2232" y="730"/>
                  <a:pt x="2068" y="696"/>
                  <a:pt x="1959" y="690"/>
                </a:cubicBezTo>
                <a:cubicBezTo>
                  <a:pt x="1914" y="683"/>
                  <a:pt x="1873" y="672"/>
                  <a:pt x="1829" y="665"/>
                </a:cubicBezTo>
                <a:cubicBezTo>
                  <a:pt x="1802" y="646"/>
                  <a:pt x="1778" y="623"/>
                  <a:pt x="1748" y="608"/>
                </a:cubicBezTo>
                <a:cubicBezTo>
                  <a:pt x="1674" y="571"/>
                  <a:pt x="1716" y="634"/>
                  <a:pt x="1683" y="568"/>
                </a:cubicBezTo>
                <a:cubicBezTo>
                  <a:pt x="1594" y="687"/>
                  <a:pt x="1549" y="678"/>
                  <a:pt x="1399" y="690"/>
                </a:cubicBezTo>
                <a:cubicBezTo>
                  <a:pt x="1156" y="682"/>
                  <a:pt x="911" y="687"/>
                  <a:pt x="669" y="665"/>
                </a:cubicBezTo>
                <a:cubicBezTo>
                  <a:pt x="667" y="665"/>
                  <a:pt x="345" y="644"/>
                  <a:pt x="240" y="690"/>
                </a:cubicBezTo>
                <a:cubicBezTo>
                  <a:pt x="151" y="729"/>
                  <a:pt x="290" y="677"/>
                  <a:pt x="126" y="730"/>
                </a:cubicBezTo>
                <a:cubicBezTo>
                  <a:pt x="93" y="740"/>
                  <a:pt x="29" y="763"/>
                  <a:pt x="29" y="763"/>
                </a:cubicBezTo>
                <a:cubicBezTo>
                  <a:pt x="0" y="851"/>
                  <a:pt x="4" y="955"/>
                  <a:pt x="45" y="1038"/>
                </a:cubicBezTo>
                <a:cubicBezTo>
                  <a:pt x="60" y="1130"/>
                  <a:pt x="43" y="1043"/>
                  <a:pt x="77" y="1152"/>
                </a:cubicBezTo>
                <a:cubicBezTo>
                  <a:pt x="87" y="1184"/>
                  <a:pt x="87" y="1227"/>
                  <a:pt x="118" y="1249"/>
                </a:cubicBezTo>
                <a:cubicBezTo>
                  <a:pt x="138" y="1263"/>
                  <a:pt x="161" y="1270"/>
                  <a:pt x="183" y="1281"/>
                </a:cubicBezTo>
                <a:cubicBezTo>
                  <a:pt x="196" y="1295"/>
                  <a:pt x="204" y="1319"/>
                  <a:pt x="223" y="1322"/>
                </a:cubicBezTo>
                <a:cubicBezTo>
                  <a:pt x="274" y="1330"/>
                  <a:pt x="326" y="1336"/>
                  <a:pt x="377" y="1346"/>
                </a:cubicBezTo>
                <a:cubicBezTo>
                  <a:pt x="466" y="1341"/>
                  <a:pt x="502" y="1355"/>
                  <a:pt x="564" y="1314"/>
                </a:cubicBezTo>
                <a:cubicBezTo>
                  <a:pt x="606" y="1250"/>
                  <a:pt x="588" y="1261"/>
                  <a:pt x="613" y="1192"/>
                </a:cubicBezTo>
                <a:cubicBezTo>
                  <a:pt x="604" y="774"/>
                  <a:pt x="604" y="917"/>
                  <a:pt x="604" y="7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705560" y="4630680"/>
            <a:ext cx="440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rix multiplication does not commu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der of the interconnection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80880" y="609480"/>
            <a:ext cx="8208000" cy="1133640"/>
            <a:chOff x="380880" y="609480"/>
            <a:chExt cx="8208000" cy="1133640"/>
          </a:xfrm>
        </p:grpSpPr>
        <p:pic>
          <p:nvPicPr>
            <p:cNvPr id="524" name="" descr=""/>
            <p:cNvPicPr/>
            <p:nvPr/>
          </p:nvPicPr>
          <p:blipFill>
            <a:blip r:embed="rId3"/>
            <a:stretch/>
          </p:blipFill>
          <p:spPr>
            <a:xfrm>
              <a:off x="380880" y="609480"/>
              <a:ext cx="478152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5806800" y="673200"/>
              <a:ext cx="278208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CAD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utput of first sub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s as input for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91080" cy="31813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55280" y="58680"/>
            <a:ext cx="4079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"/>
          <p:cNvGraphicFramePr/>
          <p:nvPr/>
        </p:nvGraphicFramePr>
        <p:xfrm>
          <a:off x="304920" y="2990880"/>
          <a:ext cx="2139840" cy="348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990880"/>
                    <a:ext cx="213984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2" name=""/>
          <p:cNvGrpSpPr/>
          <p:nvPr/>
        </p:nvGrpSpPr>
        <p:grpSpPr>
          <a:xfrm>
            <a:off x="76320" y="3137040"/>
            <a:ext cx="2614320" cy="1282680"/>
            <a:chOff x="76320" y="3137040"/>
            <a:chExt cx="2614320" cy="1282680"/>
          </a:xfrm>
        </p:grpSpPr>
        <p:grpSp>
          <p:nvGrpSpPr>
            <p:cNvPr id="533" name=""/>
            <p:cNvGrpSpPr/>
            <p:nvPr/>
          </p:nvGrpSpPr>
          <p:grpSpPr>
            <a:xfrm>
              <a:off x="457200" y="3137040"/>
              <a:ext cx="380880" cy="304560"/>
              <a:chOff x="457200" y="3137040"/>
              <a:chExt cx="380880" cy="304560"/>
            </a:xfrm>
          </p:grpSpPr>
          <p:sp>
            <p:nvSpPr>
              <p:cNvPr id="534" name=""/>
              <p:cNvSpPr/>
              <p:nvPr/>
            </p:nvSpPr>
            <p:spPr>
              <a:xfrm>
                <a:off x="457200" y="344160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5" name=""/>
                  <p:cNvSpPr txBox="1"/>
                  <p:nvPr/>
                </p:nvSpPr>
                <p:spPr>
                  <a:xfrm>
                    <a:off x="457200" y="313704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6" name=""/>
                <p:cNvSpPr txBox="1"/>
                <p:nvPr/>
              </p:nvSpPr>
              <p:spPr>
                <a:xfrm>
                  <a:off x="76320" y="359424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37" name=""/>
            <p:cNvGrpSpPr/>
            <p:nvPr/>
          </p:nvGrpSpPr>
          <p:grpSpPr>
            <a:xfrm>
              <a:off x="1980720" y="3137040"/>
              <a:ext cx="533160" cy="304560"/>
              <a:chOff x="1980720" y="3137040"/>
              <a:chExt cx="533160" cy="304560"/>
            </a:xfrm>
          </p:grpSpPr>
          <p:sp>
            <p:nvSpPr>
              <p:cNvPr id="538" name=""/>
              <p:cNvSpPr/>
              <p:nvPr/>
            </p:nvSpPr>
            <p:spPr>
              <a:xfrm flipH="1">
                <a:off x="1980720" y="344160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9" name=""/>
                  <p:cNvSpPr txBox="1"/>
                  <p:nvPr/>
                </p:nvSpPr>
                <p:spPr>
                  <a:xfrm>
                    <a:off x="2209680" y="313704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425680" y="359424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1" name=""/>
          <p:cNvGrpSpPr/>
          <p:nvPr/>
        </p:nvGrpSpPr>
        <p:grpSpPr>
          <a:xfrm>
            <a:off x="76320" y="5029200"/>
            <a:ext cx="2614320" cy="1282680"/>
            <a:chOff x="76320" y="5029200"/>
            <a:chExt cx="2614320" cy="1282680"/>
          </a:xfrm>
        </p:grpSpPr>
        <p:grpSp>
          <p:nvGrpSpPr>
            <p:cNvPr id="542" name=""/>
            <p:cNvGrpSpPr/>
            <p:nvPr/>
          </p:nvGrpSpPr>
          <p:grpSpPr>
            <a:xfrm>
              <a:off x="457200" y="5029200"/>
              <a:ext cx="380880" cy="304560"/>
              <a:chOff x="457200" y="5029200"/>
              <a:chExt cx="380880" cy="304560"/>
            </a:xfrm>
          </p:grpSpPr>
          <p:sp>
            <p:nvSpPr>
              <p:cNvPr id="543" name=""/>
              <p:cNvSpPr/>
              <p:nvPr/>
            </p:nvSpPr>
            <p:spPr>
              <a:xfrm>
                <a:off x="457200" y="53337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4" name=""/>
                  <p:cNvSpPr txBox="1"/>
                  <p:nvPr/>
                </p:nvSpPr>
                <p:spPr>
                  <a:xfrm>
                    <a:off x="457200" y="50292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45" name=""/>
                <p:cNvSpPr txBox="1"/>
                <p:nvPr/>
              </p:nvSpPr>
              <p:spPr>
                <a:xfrm>
                  <a:off x="76320" y="54864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46" name=""/>
            <p:cNvGrpSpPr/>
            <p:nvPr/>
          </p:nvGrpSpPr>
          <p:grpSpPr>
            <a:xfrm>
              <a:off x="1980720" y="5029200"/>
              <a:ext cx="533160" cy="304560"/>
              <a:chOff x="1980720" y="5029200"/>
              <a:chExt cx="533160" cy="304560"/>
            </a:xfrm>
          </p:grpSpPr>
          <p:sp>
            <p:nvSpPr>
              <p:cNvPr id="547" name=""/>
              <p:cNvSpPr/>
              <p:nvPr/>
            </p:nvSpPr>
            <p:spPr>
              <a:xfrm flipH="1">
                <a:off x="1980720" y="53337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8" name=""/>
                  <p:cNvSpPr txBox="1"/>
                  <p:nvPr/>
                </p:nvSpPr>
                <p:spPr>
                  <a:xfrm>
                    <a:off x="2209680" y="50292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49" name=""/>
                <p:cNvSpPr txBox="1"/>
                <p:nvPr/>
              </p:nvSpPr>
              <p:spPr>
                <a:xfrm>
                  <a:off x="2425680" y="54864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609480" y="369576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2819520" y="3505320"/>
                <a:ext cx="285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2933640" y="4114800"/>
                <a:ext cx="2476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895480" y="5562720"/>
                <a:ext cx="1181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4191120" y="5562720"/>
                <a:ext cx="25398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791320" y="3733920"/>
                <a:ext cx="31240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6" name=""/>
          <p:cNvGrpSpPr/>
          <p:nvPr/>
        </p:nvGrpSpPr>
        <p:grpSpPr>
          <a:xfrm>
            <a:off x="5257800" y="380880"/>
            <a:ext cx="2514600" cy="3048120"/>
            <a:chOff x="5257800" y="380880"/>
            <a:chExt cx="2514600" cy="3048120"/>
          </a:xfrm>
        </p:grpSpPr>
        <p:sp>
          <p:nvSpPr>
            <p:cNvPr id="557" name=""/>
            <p:cNvSpPr/>
            <p:nvPr/>
          </p:nvSpPr>
          <p:spPr>
            <a:xfrm>
              <a:off x="5257800" y="380880"/>
              <a:ext cx="251460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57800" y="1905120"/>
              <a:ext cx="2362320" cy="1523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9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63" name=""/>
          <p:cNvGrpSpPr/>
          <p:nvPr/>
        </p:nvGrpSpPr>
        <p:grpSpPr>
          <a:xfrm>
            <a:off x="304920" y="990720"/>
            <a:ext cx="3200400" cy="1358640"/>
            <a:chOff x="304920" y="990720"/>
            <a:chExt cx="3200400" cy="1358640"/>
          </a:xfrm>
        </p:grpSpPr>
        <p:grpSp>
          <p:nvGrpSpPr>
            <p:cNvPr id="564" name=""/>
            <p:cNvGrpSpPr/>
            <p:nvPr/>
          </p:nvGrpSpPr>
          <p:grpSpPr>
            <a:xfrm>
              <a:off x="380880" y="990720"/>
              <a:ext cx="380880" cy="304560"/>
              <a:chOff x="380880" y="990720"/>
              <a:chExt cx="380880" cy="304560"/>
            </a:xfrm>
          </p:grpSpPr>
          <p:sp>
            <p:nvSpPr>
              <p:cNvPr id="565" name=""/>
              <p:cNvSpPr/>
              <p:nvPr/>
            </p:nvSpPr>
            <p:spPr>
              <a:xfrm>
                <a:off x="380880" y="12952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66" name=""/>
                  <p:cNvSpPr txBox="1"/>
                  <p:nvPr/>
                </p:nvSpPr>
                <p:spPr>
                  <a:xfrm>
                    <a:off x="380880" y="9907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67" name=""/>
                <p:cNvSpPr txBox="1"/>
                <p:nvPr/>
              </p:nvSpPr>
              <p:spPr>
                <a:xfrm>
                  <a:off x="304920" y="15238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68" name=""/>
            <p:cNvGrpSpPr/>
            <p:nvPr/>
          </p:nvGrpSpPr>
          <p:grpSpPr>
            <a:xfrm>
              <a:off x="2971440" y="990720"/>
              <a:ext cx="533160" cy="304560"/>
              <a:chOff x="2971440" y="990720"/>
              <a:chExt cx="533160" cy="304560"/>
            </a:xfrm>
          </p:grpSpPr>
          <p:sp>
            <p:nvSpPr>
              <p:cNvPr id="569" name=""/>
              <p:cNvSpPr/>
              <p:nvPr/>
            </p:nvSpPr>
            <p:spPr>
              <a:xfrm flipH="1">
                <a:off x="2971440" y="12952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0" name=""/>
                  <p:cNvSpPr txBox="1"/>
                  <p:nvPr/>
                </p:nvSpPr>
                <p:spPr>
                  <a:xfrm>
                    <a:off x="3200400" y="9907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71" name=""/>
                <p:cNvSpPr txBox="1"/>
                <p:nvPr/>
              </p:nvSpPr>
              <p:spPr>
                <a:xfrm>
                  <a:off x="3240000" y="1523880"/>
                  <a:ext cx="265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1828800" y="1081080"/>
                <a:ext cx="26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28600" y="2666880"/>
                <a:ext cx="3975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57200" y="3429000"/>
                <a:ext cx="2031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257400" y="152280"/>
            <a:ext cx="6517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 using a direct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1828800" y="4952880"/>
                <a:ext cx="3200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place 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rearrange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2895480" cy="225576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2555640" y="58680"/>
            <a:ext cx="397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 of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84" name=""/>
          <p:cNvGrpSpPr/>
          <p:nvPr/>
        </p:nvGrpSpPr>
        <p:grpSpPr>
          <a:xfrm>
            <a:off x="5486400" y="439560"/>
            <a:ext cx="3478320" cy="1465560"/>
            <a:chOff x="5486400" y="439560"/>
            <a:chExt cx="3478320" cy="1465560"/>
          </a:xfrm>
        </p:grpSpPr>
        <p:sp>
          <p:nvSpPr>
            <p:cNvPr id="585" name=""/>
            <p:cNvSpPr/>
            <p:nvPr/>
          </p:nvSpPr>
          <p:spPr>
            <a:xfrm>
              <a:off x="5486400" y="457200"/>
              <a:ext cx="2209680" cy="1447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701840" y="439560"/>
              <a:ext cx="126288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562720" y="1981080"/>
            <a:ext cx="3389400" cy="1310400"/>
            <a:chOff x="5562720" y="1981080"/>
            <a:chExt cx="3389400" cy="1310400"/>
          </a:xfrm>
        </p:grpSpPr>
        <p:sp>
          <p:nvSpPr>
            <p:cNvPr id="588" name=""/>
            <p:cNvSpPr/>
            <p:nvPr/>
          </p:nvSpPr>
          <p:spPr>
            <a:xfrm>
              <a:off x="5562720" y="1981080"/>
              <a:ext cx="213336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693920" y="2954160"/>
              <a:ext cx="125820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149400" y="2666880"/>
            <a:ext cx="43412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direct metho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given the Y parameters transform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decompose the network in a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ion of simpl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304920" y="3809880"/>
                <a:ext cx="20955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990720" y="5410080"/>
                <a:ext cx="1079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429000" y="4419720"/>
                <a:ext cx="35812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114480" y="685800"/>
            <a:ext cx="4457520" cy="14954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2488680" y="120600"/>
            <a:ext cx="3618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5257800" y="533520"/>
            <a:ext cx="3276720" cy="2324160"/>
            <a:chOff x="5257800" y="533520"/>
            <a:chExt cx="3276720" cy="2324160"/>
          </a:xfrm>
        </p:grpSpPr>
        <p:pic>
          <p:nvPicPr>
            <p:cNvPr id="601" name="" descr=""/>
            <p:cNvPicPr/>
            <p:nvPr/>
          </p:nvPicPr>
          <p:blipFill>
            <a:blip r:embed="rId2"/>
            <a:stretch/>
          </p:blipFill>
          <p:spPr>
            <a:xfrm>
              <a:off x="5257800" y="533520"/>
              <a:ext cx="3276720" cy="1611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02" name=""/>
                <p:cNvSpPr txBox="1"/>
                <p:nvPr/>
              </p:nvSpPr>
              <p:spPr>
                <a:xfrm>
                  <a:off x="5562720" y="2209680"/>
                  <a:ext cx="260352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3" name=""/>
          <p:cNvSpPr/>
          <p:nvPr/>
        </p:nvSpPr>
        <p:spPr>
          <a:xfrm>
            <a:off x="347760" y="2344680"/>
            <a:ext cx="3792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plitting the 2-Ohm resist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an be viewed a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of two iden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3429000"/>
                <a:ext cx="579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609480" y="4419720"/>
                <a:ext cx="76741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317680" y="5410080"/>
                <a:ext cx="44085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-76320" y="304920"/>
            <a:ext cx="6096240" cy="223812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2133720" y="4572000"/>
            <a:ext cx="4038480" cy="2179800"/>
            <a:chOff x="2133720" y="4572000"/>
            <a:chExt cx="4038480" cy="217980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tretch/>
          </p:blipFill>
          <p:spPr>
            <a:xfrm>
              <a:off x="2133720" y="4572000"/>
              <a:ext cx="4038480" cy="2179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14" name=""/>
                <p:cNvSpPr txBox="1"/>
                <p:nvPr/>
              </p:nvSpPr>
              <p:spPr>
                <a:xfrm>
                  <a:off x="4572000" y="5410080"/>
                  <a:ext cx="11811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ceived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ent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0" y="3200400"/>
                <a:ext cx="5126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ne voltage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6" name=""/>
          <p:cNvSpPr/>
          <p:nvPr/>
        </p:nvSpPr>
        <p:spPr>
          <a:xfrm>
            <a:off x="110520" y="19080"/>
            <a:ext cx="2969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237120" y="0"/>
            <a:ext cx="5295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the demand at the receiving end,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ditions on the sending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142680" y="762120"/>
            <a:ext cx="2765520" cy="1509840"/>
            <a:chOff x="6142680" y="762120"/>
            <a:chExt cx="2765520" cy="1509840"/>
          </a:xfrm>
        </p:grpSpPr>
        <mc:AlternateContent>
          <mc:Choice xmlns:a14="http://schemas.microsoft.com/office/drawing/2010/main" Requires="a14">
            <p:sp>
              <p:nvSpPr>
                <p:cNvPr id="619" name=""/>
                <p:cNvSpPr txBox="1"/>
                <p:nvPr/>
              </p:nvSpPr>
              <p:spPr>
                <a:xfrm>
                  <a:off x="6934320" y="7621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20" name=""/>
            <p:cNvSpPr/>
            <p:nvPr/>
          </p:nvSpPr>
          <p:spPr>
            <a:xfrm>
              <a:off x="6142680" y="1447920"/>
              <a:ext cx="27655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re best suited for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47760" y="2543040"/>
            <a:ext cx="837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next slide we show how to determine the transmission parameters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. Here we assume them known and use them for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438280" y="3505320"/>
                <a:ext cx="1879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23" name=""/>
          <p:cNvGrpSpPr/>
          <p:nvPr/>
        </p:nvGrpSpPr>
        <p:grpSpPr>
          <a:xfrm>
            <a:off x="6000840" y="3124080"/>
            <a:ext cx="3108600" cy="2499840"/>
            <a:chOff x="6000840" y="3124080"/>
            <a:chExt cx="3108600" cy="2499840"/>
          </a:xfrm>
        </p:grpSpPr>
        <mc:AlternateContent>
          <mc:Choice xmlns:a14="http://schemas.microsoft.com/office/drawing/2010/main" Requires="a14">
            <p:sp>
              <p:nvSpPr>
                <p:cNvPr id="624" name=""/>
                <p:cNvSpPr txBox="1"/>
                <p:nvPr/>
              </p:nvSpPr>
              <p:spPr>
                <a:xfrm>
                  <a:off x="6248520" y="3124080"/>
                  <a:ext cx="265428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625" name=""/>
            <p:cNvGrpSpPr/>
            <p:nvPr/>
          </p:nvGrpSpPr>
          <p:grpSpPr>
            <a:xfrm>
              <a:off x="6000840" y="4038480"/>
              <a:ext cx="3108600" cy="1585440"/>
              <a:chOff x="6000840" y="4038480"/>
              <a:chExt cx="3108600" cy="1585440"/>
            </a:xfrm>
          </p:grpSpPr>
          <p:sp>
            <p:nvSpPr>
              <p:cNvPr id="626" name=""/>
              <p:cNvSpPr/>
              <p:nvPr/>
            </p:nvSpPr>
            <p:spPr>
              <a:xfrm flipV="1">
                <a:off x="6000840" y="40384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6000840" y="52570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28" name=""/>
                  <p:cNvSpPr txBox="1"/>
                  <p:nvPr/>
                </p:nvSpPr>
                <p:spPr>
                  <a:xfrm>
                    <a:off x="8515440" y="40384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9" name=""/>
                  <p:cNvSpPr txBox="1"/>
                  <p:nvPr/>
                </p:nvSpPr>
                <p:spPr>
                  <a:xfrm>
                    <a:off x="7448760" y="53337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0" name=""/>
              <p:cNvSpPr/>
              <p:nvPr/>
            </p:nvSpPr>
            <p:spPr>
              <a:xfrm>
                <a:off x="6762960" y="49525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009920" y="47826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32" name=""/>
                <p:cNvSpPr txBox="1"/>
                <p:nvPr/>
              </p:nvSpPr>
              <p:spPr>
                <a:xfrm>
                  <a:off x="6553080" y="5029200"/>
                  <a:ext cx="3175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0" y="3962520"/>
                <a:ext cx="2616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0" y="4611600"/>
                <a:ext cx="213048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tions at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nding end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0" y="6019920"/>
                <a:ext cx="2209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36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047760" cy="597204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0480" y="76320"/>
            <a:ext cx="564588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ransmission parameters for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6934320" y="76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657600" y="91440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410080" y="914400"/>
                <a:ext cx="275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3746520" y="4191120"/>
                <a:ext cx="1549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45" name=""/>
          <p:cNvGrpSpPr/>
          <p:nvPr/>
        </p:nvGrpSpPr>
        <p:grpSpPr>
          <a:xfrm>
            <a:off x="1676520" y="3962520"/>
            <a:ext cx="685800" cy="290520"/>
            <a:chOff x="1676520" y="3962520"/>
            <a:chExt cx="685800" cy="290520"/>
          </a:xfrm>
        </p:grpSpPr>
        <p:sp>
          <p:nvSpPr>
            <p:cNvPr id="646" name=""/>
            <p:cNvSpPr/>
            <p:nvPr/>
          </p:nvSpPr>
          <p:spPr>
            <a:xfrm>
              <a:off x="1676520" y="39643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1910160" y="396252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3603600" y="3503520"/>
                <a:ext cx="25686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410080" y="4191120"/>
                <a:ext cx="3556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3200400" y="2133720"/>
                <a:ext cx="1701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200400" y="2819520"/>
                <a:ext cx="4686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200400" y="5257800"/>
                <a:ext cx="1714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4952880" y="5257800"/>
                <a:ext cx="2921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960" y="1522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5680" y="685800"/>
            <a:ext cx="4486320" cy="1609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22600" y="135000"/>
            <a:ext cx="511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705720" y="53352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2884320"/>
                <a:ext cx="250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" name=""/>
          <p:cNvGrpSpPr/>
          <p:nvPr/>
        </p:nvGrpSpPr>
        <p:grpSpPr>
          <a:xfrm>
            <a:off x="285840" y="2362320"/>
            <a:ext cx="4286160" cy="2019240"/>
            <a:chOff x="285840" y="2362320"/>
            <a:chExt cx="4286160" cy="2019240"/>
          </a:xfrm>
        </p:grpSpPr>
        <p:grpSp>
          <p:nvGrpSpPr>
            <p:cNvPr id="72" name=""/>
            <p:cNvGrpSpPr/>
            <p:nvPr/>
          </p:nvGrpSpPr>
          <p:grpSpPr>
            <a:xfrm>
              <a:off x="285840" y="2362320"/>
              <a:ext cx="4286160" cy="2019240"/>
              <a:chOff x="285840" y="2362320"/>
              <a:chExt cx="4286160" cy="2019240"/>
            </a:xfrm>
          </p:grpSpPr>
          <p:pic>
            <p:nvPicPr>
              <p:cNvPr id="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2743200"/>
                <a:ext cx="4286160" cy="163836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33520" y="2362320"/>
                    <a:ext cx="3492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ircuit used to determine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5" name=""/>
            <p:cNvGrpSpPr/>
            <p:nvPr/>
          </p:nvGrpSpPr>
          <p:grpSpPr>
            <a:xfrm>
              <a:off x="2362320" y="3124080"/>
              <a:ext cx="457200" cy="304920"/>
              <a:chOff x="2362320" y="3124080"/>
              <a:chExt cx="457200" cy="304920"/>
            </a:xfrm>
          </p:grpSpPr>
          <p:sp>
            <p:nvSpPr>
              <p:cNvPr id="76" name=""/>
              <p:cNvSpPr/>
              <p:nvPr/>
            </p:nvSpPr>
            <p:spPr>
              <a:xfrm>
                <a:off x="2362320" y="3124080"/>
                <a:ext cx="457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" name=""/>
                  <p:cNvSpPr txBox="1"/>
                  <p:nvPr/>
                </p:nvSpPr>
                <p:spPr>
                  <a:xfrm>
                    <a:off x="2362320" y="313848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84600" y="3429000"/>
                <a:ext cx="2806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391520" y="3429000"/>
                <a:ext cx="116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76320" y="4510080"/>
            <a:ext cx="4295520" cy="1967040"/>
            <a:chOff x="76320" y="4510080"/>
            <a:chExt cx="4295520" cy="1967040"/>
          </a:xfrm>
        </p:grpSpPr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76320" y="4829040"/>
              <a:ext cx="4295520" cy="1648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56840" y="4510080"/>
                  <a:ext cx="3809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rcuit used to determine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72000" y="464832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72000" y="5257800"/>
                <a:ext cx="347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58200" y="6002280"/>
            <a:ext cx="3824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show one use of this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99720" y="7632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2497680" y="58680"/>
            <a:ext cx="546444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ffect of the load on the voltage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457200"/>
                <a:ext cx="56386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4572000" y="1371600"/>
                <a:ext cx="2521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62" name=""/>
          <p:cNvGrpSpPr/>
          <p:nvPr/>
        </p:nvGrpSpPr>
        <p:grpSpPr>
          <a:xfrm>
            <a:off x="39600" y="3200400"/>
            <a:ext cx="3102120" cy="969840"/>
            <a:chOff x="39600" y="3200400"/>
            <a:chExt cx="3102120" cy="969840"/>
          </a:xfrm>
        </p:grpSpPr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320760" y="3522600"/>
                  <a:ext cx="2070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64" name=""/>
            <p:cNvSpPr/>
            <p:nvPr/>
          </p:nvSpPr>
          <p:spPr>
            <a:xfrm>
              <a:off x="39600" y="3200400"/>
              <a:ext cx="31021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152280" y="4191120"/>
                <a:ext cx="35370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iminating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solving for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1066680" y="4572000"/>
                <a:ext cx="18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177840" y="5257800"/>
                <a:ext cx="406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straint at output por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33520" y="5562720"/>
                <a:ext cx="25016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4572000" y="2057400"/>
                <a:ext cx="35672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7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70" name=""/>
          <p:cNvGrpSpPr/>
          <p:nvPr/>
        </p:nvGrpSpPr>
        <p:grpSpPr>
          <a:xfrm>
            <a:off x="4572000" y="3259080"/>
            <a:ext cx="4390920" cy="3218040"/>
            <a:chOff x="4572000" y="3259080"/>
            <a:chExt cx="4390920" cy="3218040"/>
          </a:xfrm>
        </p:grpSpPr>
        <p:pic>
          <p:nvPicPr>
            <p:cNvPr id="671" name="" descr=""/>
            <p:cNvPicPr/>
            <p:nvPr/>
          </p:nvPicPr>
          <p:blipFill>
            <a:blip r:embed="rId2"/>
            <a:stretch/>
          </p:blipFill>
          <p:spPr>
            <a:xfrm>
              <a:off x="4572000" y="3581640"/>
              <a:ext cx="43909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4732200" y="3259080"/>
              <a:ext cx="260532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4034520" y="820800"/>
            <a:ext cx="485316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ybrid parameters are computed in next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187920" y="135000"/>
            <a:ext cx="893016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hybrid parameters for non-inverting amplifier (repeat earlier exa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5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686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687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8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89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690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91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96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697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01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2775960" y="58680"/>
            <a:ext cx="445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 required = 10,000 on a load of 1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3657600" y="457200"/>
                <a:ext cx="26352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mplifier parameter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6172200" y="533520"/>
                <a:ext cx="293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7086600" y="1219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0" name=""/>
          <p:cNvSpPr/>
          <p:nvPr/>
        </p:nvSpPr>
        <p:spPr>
          <a:xfrm>
            <a:off x="4101480" y="2603520"/>
            <a:ext cx="4955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final solution we will need to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mplifiers. Henc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ll prove very use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228600" y="3124080"/>
                <a:ext cx="380988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om the conversion tabl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12" name=""/>
          <p:cNvGrpSpPr/>
          <p:nvPr/>
        </p:nvGrpSpPr>
        <p:grpSpPr>
          <a:xfrm>
            <a:off x="228600" y="4876920"/>
            <a:ext cx="2755800" cy="647640"/>
            <a:chOff x="228600" y="4876920"/>
            <a:chExt cx="2755800" cy="647640"/>
          </a:xfrm>
        </p:grpSpPr>
        <mc:AlternateContent>
          <mc:Choice xmlns:a14="http://schemas.microsoft.com/office/drawing/2010/main" Requires="a14">
            <p:sp>
              <p:nvSpPr>
                <p:cNvPr id="713" name=""/>
                <p:cNvSpPr txBox="1"/>
                <p:nvPr/>
              </p:nvSpPr>
              <p:spPr>
                <a:xfrm>
                  <a:off x="228600" y="48769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1905120" y="502920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04920" y="5562720"/>
                <a:ext cx="24382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liminating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667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7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572000" y="1828800"/>
                <a:ext cx="2793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4138920" y="3639960"/>
            <a:ext cx="4501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Even with infinite load the maximum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only 6,6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55120" y="4478400"/>
            <a:ext cx="4737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kely caus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R2 is higher than input resistance 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Desired gain is comparable to the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, A, of the Op-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268880" y="5621400"/>
            <a:ext cx="462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Cascade two stages, each with ideal gai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0. This also lowers R2 to 99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20680" y="135000"/>
            <a:ext cx="3155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propose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-12960" y="592200"/>
            <a:ext cx="5834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the two stages will be cascaded, the trans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meters of the proposed solution will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76320" y="2133720"/>
                <a:ext cx="163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685800" y="1219320"/>
                <a:ext cx="72374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1752480" y="2057400"/>
                <a:ext cx="15940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8" name=""/>
          <p:cNvGrpSpPr/>
          <p:nvPr/>
        </p:nvGrpSpPr>
        <p:grpSpPr>
          <a:xfrm>
            <a:off x="3276720" y="2133720"/>
            <a:ext cx="5790960" cy="4410000"/>
            <a:chOff x="3276720" y="2133720"/>
            <a:chExt cx="5790960" cy="4410000"/>
          </a:xfrm>
        </p:grpSpPr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3276720" y="2133720"/>
              <a:ext cx="5790960" cy="44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4461840" y="2209680"/>
              <a:ext cx="3615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. G=10,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850160" y="5710320"/>
            <a:ext cx="1278000" cy="1143000"/>
            <a:chOff x="7850160" y="5710320"/>
            <a:chExt cx="1278000" cy="1143000"/>
          </a:xfrm>
        </p:grpSpPr>
        <p:pic>
          <p:nvPicPr>
            <p:cNvPr id="733" name="" descr=""/>
            <p:cNvPicPr/>
            <p:nvPr/>
          </p:nvPicPr>
          <p:blipFill>
            <a:blip r:embed="rId2"/>
            <a:stretch/>
          </p:blipFill>
          <p:spPr>
            <a:xfrm>
              <a:off x="82594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7850160" y="5710320"/>
              <a:ext cx="127800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wo-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5" name="" descr=""/>
          <p:cNvPicPr/>
          <p:nvPr/>
        </p:nvPicPr>
        <p:blipFill>
          <a:blip r:embed="rId3"/>
          <a:stretch/>
        </p:blipFill>
        <p:spPr>
          <a:xfrm>
            <a:off x="6324480" y="0"/>
            <a:ext cx="2743200" cy="1173240"/>
          </a:xfrm>
          <a:prstGeom prst="rect">
            <a:avLst/>
          </a:prstGeom>
          <a:ln w="0">
            <a:noFill/>
          </a:ln>
        </p:spPr>
      </p:pic>
      <p:grpSp>
        <p:nvGrpSpPr>
          <p:cNvPr id="736" name=""/>
          <p:cNvGrpSpPr/>
          <p:nvPr/>
        </p:nvGrpSpPr>
        <p:grpSpPr>
          <a:xfrm>
            <a:off x="-41760" y="2895480"/>
            <a:ext cx="3286440" cy="1606320"/>
            <a:chOff x="-41760" y="2895480"/>
            <a:chExt cx="3286440" cy="1606320"/>
          </a:xfrm>
        </p:grpSpPr>
        <p:pic>
          <p:nvPicPr>
            <p:cNvPr id="737" name="" descr=""/>
            <p:cNvPicPr/>
            <p:nvPr/>
          </p:nvPicPr>
          <p:blipFill>
            <a:blip r:embed="rId4"/>
            <a:stretch/>
          </p:blipFill>
          <p:spPr>
            <a:xfrm>
              <a:off x="15840" y="3368520"/>
              <a:ext cx="322884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-41760" y="2895480"/>
              <a:ext cx="1793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ntical s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857760" cy="1628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9680" y="152280"/>
            <a:ext cx="4752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application of the admittance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419720" y="114300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598760" y="528480"/>
            <a:ext cx="1828800" cy="1828800"/>
          </a:xfrm>
          <a:prstGeom prst="rect">
            <a:avLst/>
          </a:prstGeom>
          <a:noFill/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19320" y="2590920"/>
                <a:ext cx="15620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66680" y="380988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99880" y="4343400"/>
            <a:ext cx="3893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del plus the conditions a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rts are sufficient to 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ther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14400" y="5270400"/>
                <a:ext cx="200664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48120" y="3657600"/>
                <a:ext cx="1001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19720" y="4800600"/>
                <a:ext cx="11682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038560" y="152280"/>
            <a:ext cx="3753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urrent through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Ohm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71480" y="676440"/>
            <a:ext cx="2200320" cy="130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69120" y="135000"/>
            <a:ext cx="3785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(Y)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8320" y="2362320"/>
            <a:ext cx="2364120" cy="1533240"/>
            <a:chOff x="598320" y="2362320"/>
            <a:chExt cx="2364120" cy="153324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762120" y="25909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895480" y="2819520"/>
              <a:ext cx="0" cy="1066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914400" y="2362320"/>
              <a:ext cx="380880" cy="304560"/>
              <a:chOff x="914400" y="2362320"/>
              <a:chExt cx="380880" cy="304560"/>
            </a:xfrm>
          </p:grpSpPr>
          <p:sp>
            <p:nvSpPr>
              <p:cNvPr id="110" name=""/>
              <p:cNvSpPr/>
              <p:nvPr/>
            </p:nvSpPr>
            <p:spPr>
              <a:xfrm>
                <a:off x="914400" y="26668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1" name=""/>
                  <p:cNvSpPr txBox="1"/>
                  <p:nvPr/>
                </p:nvSpPr>
                <p:spPr>
                  <a:xfrm>
                    <a:off x="914400" y="23623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598320" y="28954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13" name=""/>
            <p:cNvGrpSpPr/>
            <p:nvPr/>
          </p:nvGrpSpPr>
          <p:grpSpPr>
            <a:xfrm>
              <a:off x="2361960" y="2362320"/>
              <a:ext cx="533160" cy="304560"/>
              <a:chOff x="2361960" y="2362320"/>
              <a:chExt cx="533160" cy="30456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361960" y="26668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2590920" y="23623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029200" y="1066680"/>
                <a:ext cx="1663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533520" y="533520"/>
            <a:ext cx="2614320" cy="1282680"/>
            <a:chOff x="533520" y="533520"/>
            <a:chExt cx="2614320" cy="1282680"/>
          </a:xfrm>
        </p:grpSpPr>
        <p:grpSp>
          <p:nvGrpSpPr>
            <p:cNvPr id="118" name=""/>
            <p:cNvGrpSpPr/>
            <p:nvPr/>
          </p:nvGrpSpPr>
          <p:grpSpPr>
            <a:xfrm>
              <a:off x="914400" y="533520"/>
              <a:ext cx="380880" cy="304560"/>
              <a:chOff x="914400" y="533520"/>
              <a:chExt cx="380880" cy="304560"/>
            </a:xfrm>
          </p:grpSpPr>
          <p:sp>
            <p:nvSpPr>
              <p:cNvPr id="119" name=""/>
              <p:cNvSpPr/>
              <p:nvPr/>
            </p:nvSpPr>
            <p:spPr>
              <a:xfrm>
                <a:off x="914400" y="8380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" name=""/>
                  <p:cNvSpPr txBox="1"/>
                  <p:nvPr/>
                </p:nvSpPr>
                <p:spPr>
                  <a:xfrm>
                    <a:off x="914400" y="5335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533520" y="9907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2" name=""/>
            <p:cNvGrpSpPr/>
            <p:nvPr/>
          </p:nvGrpSpPr>
          <p:grpSpPr>
            <a:xfrm>
              <a:off x="2437920" y="533520"/>
              <a:ext cx="533160" cy="304560"/>
              <a:chOff x="2437920" y="533520"/>
              <a:chExt cx="533160" cy="30456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2437920" y="8380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2666880" y="5335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288288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29000" y="2666880"/>
                <a:ext cx="2184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29000" y="3276720"/>
                <a:ext cx="14860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943600" y="2666880"/>
                <a:ext cx="12700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9" name=""/>
          <p:cNvGrpSpPr/>
          <p:nvPr/>
        </p:nvGrpSpPr>
        <p:grpSpPr>
          <a:xfrm>
            <a:off x="685800" y="4495680"/>
            <a:ext cx="2386080" cy="1457280"/>
            <a:chOff x="685800" y="4495680"/>
            <a:chExt cx="2386080" cy="1457280"/>
          </a:xfrm>
        </p:grpSpPr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685800" y="46483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62120" y="487692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838440" y="4495680"/>
              <a:ext cx="2233440" cy="1282680"/>
              <a:chOff x="838440" y="4495680"/>
              <a:chExt cx="2233440" cy="128268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838440" y="4495680"/>
                <a:ext cx="380880" cy="304560"/>
                <a:chOff x="838440" y="4495680"/>
                <a:chExt cx="380880" cy="3045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38440" y="4800240"/>
                  <a:ext cx="3808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5" name=""/>
                    <p:cNvSpPr txBox="1"/>
                    <p:nvPr/>
                  </p:nvSpPr>
                  <p:spPr>
                    <a:xfrm>
                      <a:off x="838440" y="4495680"/>
                      <a:ext cx="20160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36" name=""/>
              <p:cNvGrpSpPr/>
              <p:nvPr/>
            </p:nvGrpSpPr>
            <p:grpSpPr>
              <a:xfrm>
                <a:off x="2361960" y="4495680"/>
                <a:ext cx="533160" cy="304560"/>
                <a:chOff x="2361960" y="4495680"/>
                <a:chExt cx="533160" cy="304560"/>
              </a:xfrm>
            </p:grpSpPr>
            <p:sp>
              <p:nvSpPr>
                <p:cNvPr id="137" name=""/>
                <p:cNvSpPr/>
                <p:nvPr/>
              </p:nvSpPr>
              <p:spPr>
                <a:xfrm flipH="1">
                  <a:off x="2361960" y="4800240"/>
                  <a:ext cx="53316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8" name=""/>
                    <p:cNvSpPr txBox="1"/>
                    <p:nvPr/>
                  </p:nvSpPr>
                  <p:spPr>
                    <a:xfrm>
                      <a:off x="2590920" y="4495680"/>
                      <a:ext cx="23976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2806920" y="4952880"/>
                    <a:ext cx="2649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429000" y="4800600"/>
                <a:ext cx="16383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562720" y="4800600"/>
                <a:ext cx="1257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280" y="609480"/>
            <a:ext cx="3302280" cy="1508400"/>
            <a:chOff x="152280" y="609480"/>
            <a:chExt cx="3302280" cy="150840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609480" y="762120"/>
              <a:ext cx="228600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33520" y="137160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85800" y="1447560"/>
              <a:ext cx="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1295280"/>
              <a:ext cx="152640" cy="4572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990720"/>
              <a:ext cx="15228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192"/>
                  </a:moveTo>
                  <a:cubicBezTo>
                    <a:pt x="56" y="112"/>
                    <a:pt x="16" y="32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19520" y="1752480"/>
              <a:ext cx="152280" cy="30492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0" y="192"/>
                  </a:moveTo>
                  <a:cubicBezTo>
                    <a:pt x="0" y="192"/>
                    <a:pt x="48" y="96"/>
                    <a:pt x="9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3124080" y="1447920"/>
                  <a:ext cx="3304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152280" y="1676520"/>
                  <a:ext cx="419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"/>
            <p:cNvSpPr/>
            <p:nvPr/>
          </p:nvSpPr>
          <p:spPr>
            <a:xfrm>
              <a:off x="2286000" y="9144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2362320" y="60948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8" name=""/>
          <p:cNvSpPr/>
          <p:nvPr/>
        </p:nvSpPr>
        <p:spPr>
          <a:xfrm>
            <a:off x="2795040" y="58680"/>
            <a:ext cx="591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admittance (Y) parameters to find the current 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7800" y="2344680"/>
            <a:ext cx="2495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itions at I/O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27432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676520" y="2743200"/>
                <a:ext cx="990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2" name=""/>
          <p:cNvGrpSpPr/>
          <p:nvPr/>
        </p:nvGrpSpPr>
        <p:grpSpPr>
          <a:xfrm>
            <a:off x="685800" y="609480"/>
            <a:ext cx="3084480" cy="1359000"/>
            <a:chOff x="685800" y="609480"/>
            <a:chExt cx="3084480" cy="1359000"/>
          </a:xfrm>
        </p:grpSpPr>
        <p:grpSp>
          <p:nvGrpSpPr>
            <p:cNvPr id="163" name=""/>
            <p:cNvGrpSpPr/>
            <p:nvPr/>
          </p:nvGrpSpPr>
          <p:grpSpPr>
            <a:xfrm>
              <a:off x="685800" y="609480"/>
              <a:ext cx="380880" cy="304560"/>
              <a:chOff x="685800" y="609480"/>
              <a:chExt cx="380880" cy="30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685800" y="91404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5" name=""/>
                  <p:cNvSpPr txBox="1"/>
                  <p:nvPr/>
                </p:nvSpPr>
                <p:spPr>
                  <a:xfrm>
                    <a:off x="685800" y="60948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914400" y="1143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67" name=""/>
            <p:cNvGrpSpPr/>
            <p:nvPr/>
          </p:nvGrpSpPr>
          <p:grpSpPr>
            <a:xfrm>
              <a:off x="2285640" y="1066680"/>
              <a:ext cx="533160" cy="304560"/>
              <a:chOff x="2285640" y="1066680"/>
              <a:chExt cx="533160" cy="30456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285640" y="137124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2514600" y="106668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3505320" y="106668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1" name=""/>
          <p:cNvGrpSpPr/>
          <p:nvPr/>
        </p:nvGrpSpPr>
        <p:grpSpPr>
          <a:xfrm>
            <a:off x="4876920" y="685800"/>
            <a:ext cx="3327120" cy="2451240"/>
            <a:chOff x="4876920" y="685800"/>
            <a:chExt cx="3327120" cy="2451240"/>
          </a:xfrm>
        </p:grpSpPr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4876920" y="990720"/>
                  <a:ext cx="1663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"/>
            <p:cNvGrpSpPr/>
            <p:nvPr/>
          </p:nvGrpSpPr>
          <p:grpSpPr>
            <a:xfrm>
              <a:off x="6934320" y="685800"/>
              <a:ext cx="1269720" cy="2451240"/>
              <a:chOff x="6934320" y="685800"/>
              <a:chExt cx="1269720" cy="2451240"/>
            </a:xfrm>
          </p:grpSpPr>
          <mc:AlternateContent>
            <mc:Choice xmlns:a14="http://schemas.microsoft.com/office/drawing/2010/main" Requires="a14">
              <p:sp>
                <p:nvSpPr>
                  <p:cNvPr id="174" name=""/>
                  <p:cNvSpPr txBox="1"/>
                  <p:nvPr/>
                </p:nvSpPr>
                <p:spPr>
                  <a:xfrm>
                    <a:off x="6934320" y="685800"/>
                    <a:ext cx="1269720" cy="1155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5" name=""/>
                  <p:cNvSpPr txBox="1"/>
                  <p:nvPr/>
                </p:nvSpPr>
                <p:spPr>
                  <a:xfrm>
                    <a:off x="6934320" y="1981080"/>
                    <a:ext cx="1257120" cy="115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76" name=""/>
          <p:cNvSpPr/>
          <p:nvPr/>
        </p:nvSpPr>
        <p:spPr>
          <a:xfrm>
            <a:off x="623160" y="3868560"/>
            <a:ext cx="190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i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52600" y="4267080"/>
                <a:ext cx="209520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64560" y="5545080"/>
            <a:ext cx="305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for variable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191120" y="5486400"/>
                <a:ext cx="116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419720" cy="1733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36720" y="60480"/>
            <a:ext cx="3423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MPED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733920" y="259092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1169640" y="3411360"/>
            <a:ext cx="7601400" cy="2283120"/>
            <a:chOff x="1169640" y="3411360"/>
            <a:chExt cx="7601400" cy="2283120"/>
          </a:xfrm>
        </p:grpSpPr>
        <p:sp>
          <p:nvSpPr>
            <p:cNvPr id="188" name=""/>
            <p:cNvSpPr/>
            <p:nvPr/>
          </p:nvSpPr>
          <p:spPr>
            <a:xfrm>
              <a:off x="1169640" y="3411360"/>
              <a:ext cx="760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‘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z parameters’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n be derived in a manner similar to the Y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124080" y="3886200"/>
                  <a:ext cx="289584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193920" y="4952880"/>
                  <a:ext cx="2908440" cy="7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7640" y="95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705120" cy="1676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09640" y="135000"/>
            <a:ext cx="241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7560" y="2496960"/>
            <a:ext cx="269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43040" y="2971800"/>
                <a:ext cx="2146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76720" y="4267080"/>
                <a:ext cx="30985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24880" y="3792600"/>
            <a:ext cx="2383560" cy="1122480"/>
            <a:chOff x="524880" y="3792600"/>
            <a:chExt cx="2383560" cy="112248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914400" y="4267080"/>
                  <a:ext cx="19940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524880" y="3792600"/>
              <a:ext cx="1402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rran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572000" y="457200"/>
            <a:ext cx="2908440" cy="2569680"/>
            <a:chOff x="4572000" y="457200"/>
            <a:chExt cx="2908440" cy="2569680"/>
          </a:xfrm>
        </p:grpSpPr>
        <p:grpSp>
          <p:nvGrpSpPr>
            <p:cNvPr id="204" name=""/>
            <p:cNvGrpSpPr/>
            <p:nvPr/>
          </p:nvGrpSpPr>
          <p:grpSpPr>
            <a:xfrm>
              <a:off x="4572000" y="1219320"/>
              <a:ext cx="2908440" cy="1807560"/>
              <a:chOff x="4572000" y="1219320"/>
              <a:chExt cx="2908440" cy="1807560"/>
            </a:xfrm>
          </p:grpSpPr>
          <mc:AlternateContent>
            <mc:Choice xmlns:a14="http://schemas.microsoft.com/office/drawing/2010/main" Requires="a14">
              <p:sp>
                <p:nvSpPr>
                  <p:cNvPr id="205" name=""/>
                  <p:cNvSpPr txBox="1"/>
                  <p:nvPr/>
                </p:nvSpPr>
                <p:spPr>
                  <a:xfrm>
                    <a:off x="4572000" y="1219320"/>
                    <a:ext cx="2895480" cy="74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6" name=""/>
                  <p:cNvSpPr txBox="1"/>
                  <p:nvPr/>
                </p:nvSpPr>
                <p:spPr>
                  <a:xfrm>
                    <a:off x="4572000" y="2286000"/>
                    <a:ext cx="2908440" cy="74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5105520" y="457200"/>
                  <a:ext cx="15872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200480" cy="1666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0620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0560" y="135000"/>
            <a:ext cx="6282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Z parameters to find the current through the 4 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876920" y="137160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66560" y="2725560"/>
            <a:ext cx="249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676520" y="3138480"/>
                <a:ext cx="92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460800" y="3564000"/>
            <a:ext cx="232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676520" y="39625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600200" y="4343400"/>
                <a:ext cx="199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36360" y="3152880"/>
            <a:ext cx="1665360" cy="1711080"/>
          </a:xfrm>
          <a:custGeom>
            <a:avLst/>
            <a:gdLst/>
            <a:ahLst/>
            <a:rect l="l" t="t" r="r" b="b"/>
            <a:pathLst>
              <a:path w="1049" h="1078">
                <a:moveTo>
                  <a:pt x="1049" y="40"/>
                </a:moveTo>
                <a:cubicBezTo>
                  <a:pt x="826" y="33"/>
                  <a:pt x="606" y="26"/>
                  <a:pt x="384" y="7"/>
                </a:cubicBezTo>
                <a:cubicBezTo>
                  <a:pt x="335" y="13"/>
                  <a:pt x="281" y="0"/>
                  <a:pt x="238" y="24"/>
                </a:cubicBezTo>
                <a:cubicBezTo>
                  <a:pt x="210" y="40"/>
                  <a:pt x="193" y="185"/>
                  <a:pt x="190" y="202"/>
                </a:cubicBezTo>
                <a:cubicBezTo>
                  <a:pt x="183" y="245"/>
                  <a:pt x="174" y="332"/>
                  <a:pt x="174" y="332"/>
                </a:cubicBezTo>
                <a:cubicBezTo>
                  <a:pt x="179" y="704"/>
                  <a:pt x="0" y="951"/>
                  <a:pt x="303" y="988"/>
                </a:cubicBezTo>
                <a:cubicBezTo>
                  <a:pt x="407" y="1016"/>
                  <a:pt x="521" y="1012"/>
                  <a:pt x="628" y="1021"/>
                </a:cubicBezTo>
                <a:cubicBezTo>
                  <a:pt x="695" y="1027"/>
                  <a:pt x="830" y="1037"/>
                  <a:pt x="830" y="1037"/>
                </a:cubicBezTo>
                <a:cubicBezTo>
                  <a:pt x="846" y="1042"/>
                  <a:pt x="862" y="1049"/>
                  <a:pt x="879" y="1053"/>
                </a:cubicBezTo>
                <a:cubicBezTo>
                  <a:pt x="890" y="1056"/>
                  <a:pt x="901" y="1058"/>
                  <a:pt x="912" y="1061"/>
                </a:cubicBezTo>
                <a:cubicBezTo>
                  <a:pt x="920" y="1063"/>
                  <a:pt x="928" y="1067"/>
                  <a:pt x="936" y="1070"/>
                </a:cubicBezTo>
                <a:cubicBezTo>
                  <a:pt x="944" y="1073"/>
                  <a:pt x="960" y="1078"/>
                  <a:pt x="960" y="107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00200" y="5092560"/>
                <a:ext cx="213372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333600" y="4041720"/>
            <a:ext cx="695520" cy="385920"/>
          </a:xfrm>
          <a:custGeom>
            <a:avLst/>
            <a:gdLst/>
            <a:ahLst/>
            <a:rect l="l" t="t" r="r" b="b"/>
            <a:pathLst>
              <a:path w="438" h="243">
                <a:moveTo>
                  <a:pt x="0" y="0"/>
                </a:moveTo>
                <a:cubicBezTo>
                  <a:pt x="57" y="3"/>
                  <a:pt x="114" y="1"/>
                  <a:pt x="170" y="8"/>
                </a:cubicBezTo>
                <a:cubicBezTo>
                  <a:pt x="219" y="14"/>
                  <a:pt x="267" y="32"/>
                  <a:pt x="316" y="40"/>
                </a:cubicBezTo>
                <a:cubicBezTo>
                  <a:pt x="340" y="48"/>
                  <a:pt x="365" y="57"/>
                  <a:pt x="389" y="65"/>
                </a:cubicBezTo>
                <a:cubicBezTo>
                  <a:pt x="405" y="70"/>
                  <a:pt x="438" y="81"/>
                  <a:pt x="438" y="81"/>
                </a:cubicBezTo>
                <a:cubicBezTo>
                  <a:pt x="428" y="111"/>
                  <a:pt x="412" y="132"/>
                  <a:pt x="389" y="154"/>
                </a:cubicBezTo>
                <a:cubicBezTo>
                  <a:pt x="361" y="211"/>
                  <a:pt x="337" y="209"/>
                  <a:pt x="276" y="219"/>
                </a:cubicBezTo>
                <a:cubicBezTo>
                  <a:pt x="242" y="242"/>
                  <a:pt x="210" y="243"/>
                  <a:pt x="170" y="24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00200" y="5486400"/>
                <a:ext cx="198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3962520" y="5075280"/>
            <a:ext cx="990360" cy="676080"/>
            <a:chOff x="3962520" y="5075280"/>
            <a:chExt cx="990360" cy="67608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3962520" y="5075280"/>
                  <a:ext cx="99036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3962520" y="5486400"/>
                  <a:ext cx="4190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7" name=""/>
          <p:cNvSpPr/>
          <p:nvPr/>
        </p:nvSpPr>
        <p:spPr>
          <a:xfrm>
            <a:off x="685800" y="5867280"/>
            <a:ext cx="2362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19320" y="5943600"/>
                <a:ext cx="33526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876920" y="5956200"/>
                <a:ext cx="2514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2T17:22:46Z</dcterms:created>
  <dc:creator>Jorge Aravena</dc:creator>
  <dc:description/>
  <dc:language>en-US</dc:language>
  <cp:lastModifiedBy>Jorge Aravena</cp:lastModifiedBy>
  <dcterms:modified xsi:type="dcterms:W3CDTF">2004-10-02T09:41:04Z</dcterms:modified>
  <cp:revision>14</cp:revision>
  <dc:subject/>
  <dc:title>No Slide Title</dc:title>
</cp:coreProperties>
</file>