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0.wmf" ContentType="image/x-wmf"/>
  <Override PartName="/ppt/media/image31.wmf" ContentType="image/x-wmf"/>
  <Override PartName="/ppt/media/image32.wmf" ContentType="image/x-wmf"/>
  <Override PartName="/ppt/media/image12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14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35.wmf" ContentType="image/x-wmf"/>
  <Override PartName="/ppt/media/image15.png" ContentType="image/png"/>
  <Override PartName="/ppt/media/image36.wmf" ContentType="image/x-wmf"/>
  <Override PartName="/ppt/media/image16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37.wmf" ContentType="image/x-wmf"/>
  <Override PartName="/ppt/media/image17.png" ContentType="image/png"/>
  <Override PartName="/ppt/media/image7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24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9CE-E390-4F53-A50D-4C34A21C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112A-A0E8-4A8F-B5D1-91717379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180-DB0B-4F1B-917F-38BB46F0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29E-FA30-4DDB-ABD8-E041A27D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0F91-0F15-44AB-8135-0C86D08A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0271-8405-42C5-BD68-6068AFA0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369D-02D1-4BD5-9E29-378BC71C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AAF-5F0E-4D82-B627-2AAF08D3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1B3-220F-405F-A87A-4D81D470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024-E7FB-4EED-A8C6-B684501B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1CD-49BA-487B-BD9B-6F922E54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CB73-9F4E-4C57-A5AC-5D8C9C46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AA8F-EC75-4D21-8716-2360AF994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76320"/>
            <a:ext cx="594360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RST AND SECOND-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RANSIENT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3880" y="1219320"/>
            <a:ext cx="78069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CIRCUITS WITH INDUCTORS AND CAPACITORS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NOT CHANGE INSTANTANEOUSL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EN THE APPLICATION, OR REMOVAL, OF CONSTANT SOURCES CREATE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1960" y="239724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97560" y="3030480"/>
            <a:ext cx="5691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ORDE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that contain a single energy storing el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ither a capacitor or an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11960" y="3868560"/>
            <a:ext cx="6451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ORDE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with two energy storing elements in any comb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0" y="304920"/>
          <a:ext cx="338616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38616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438280" y="0"/>
                <a:ext cx="38354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ASSUM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2600" y="2616120"/>
                <a:ext cx="3416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USE KCL @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3" name=""/>
          <p:cNvGrpSpPr/>
          <p:nvPr/>
        </p:nvGrpSpPr>
        <p:grpSpPr>
          <a:xfrm>
            <a:off x="1828440" y="990720"/>
            <a:ext cx="1143360" cy="457200"/>
            <a:chOff x="1828440" y="990720"/>
            <a:chExt cx="1143360" cy="457200"/>
          </a:xfrm>
        </p:grpSpPr>
        <p:sp>
          <p:nvSpPr>
            <p:cNvPr id="224" name=""/>
            <p:cNvSpPr/>
            <p:nvPr/>
          </p:nvSpPr>
          <p:spPr>
            <a:xfrm flipH="1">
              <a:off x="1828440" y="990720"/>
              <a:ext cx="1143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71800" y="106704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990720" y="2971800"/>
                <a:ext cx="2133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800280" y="3500280"/>
                <a:ext cx="2768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 condition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143280" y="3825720"/>
            <a:ext cx="34725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DIFF. EQ. KNOW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 KN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1160" y="4572000"/>
            <a:ext cx="2923920" cy="898560"/>
            <a:chOff x="11160" y="4572000"/>
            <a:chExt cx="2923920" cy="898560"/>
          </a:xfrm>
        </p:grpSpPr>
        <p:sp>
          <p:nvSpPr>
            <p:cNvPr id="230" name=""/>
            <p:cNvSpPr/>
            <p:nvPr/>
          </p:nvSpPr>
          <p:spPr>
            <a:xfrm>
              <a:off x="11160" y="4572000"/>
              <a:ext cx="29239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STEP 1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 TIME CONST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1311120" y="4911480"/>
                  <a:ext cx="116856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2" name=""/>
          <p:cNvSpPr/>
          <p:nvPr/>
        </p:nvSpPr>
        <p:spPr>
          <a:xfrm>
            <a:off x="121320" y="6140520"/>
            <a:ext cx="3609720" cy="642600"/>
          </a:xfrm>
          <a:prstGeom prst="rect">
            <a:avLst/>
          </a:prstGeom>
          <a:solidFill>
            <a:srgbClr val="ccffcc"/>
          </a:solidFill>
          <a:ln w="22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et time constant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efficient of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15720" y="1309680"/>
            <a:ext cx="40212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STEP 2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STEADY STA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835440" y="1663560"/>
                <a:ext cx="52322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UTION  IS 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τ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0  and 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, 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eady state value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512600" y="2513160"/>
            <a:ext cx="456984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 STEADY STATE THE SOLUTION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 CONSTANT. HENCE ITS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ZERO. FROM DIFF 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486160" y="3397320"/>
            <a:ext cx="6650640" cy="1896840"/>
            <a:chOff x="2486160" y="3397320"/>
            <a:chExt cx="6650640" cy="1896840"/>
          </a:xfrm>
        </p:grpSpPr>
        <p:sp>
          <p:nvSpPr>
            <p:cNvPr id="237" name=""/>
            <p:cNvSpPr/>
            <p:nvPr/>
          </p:nvSpPr>
          <p:spPr>
            <a:xfrm>
              <a:off x="2486160" y="3686040"/>
              <a:ext cx="2425680" cy="1608120"/>
            </a:xfrm>
            <a:custGeom>
              <a:avLst/>
              <a:gdLst/>
              <a:ahLst/>
              <a:rect l="l" t="t" r="r" b="b"/>
              <a:pathLst>
                <a:path w="1528" h="1013">
                  <a:moveTo>
                    <a:pt x="0" y="990"/>
                  </a:moveTo>
                  <a:cubicBezTo>
                    <a:pt x="358" y="997"/>
                    <a:pt x="717" y="1013"/>
                    <a:pt x="1076" y="1013"/>
                  </a:cubicBezTo>
                  <a:cubicBezTo>
                    <a:pt x="1094" y="899"/>
                    <a:pt x="1104" y="785"/>
                    <a:pt x="1122" y="671"/>
                  </a:cubicBezTo>
                  <a:cubicBezTo>
                    <a:pt x="1131" y="477"/>
                    <a:pt x="1169" y="280"/>
                    <a:pt x="1169" y="86"/>
                  </a:cubicBezTo>
                  <a:cubicBezTo>
                    <a:pt x="1197" y="77"/>
                    <a:pt x="1220" y="57"/>
                    <a:pt x="1247" y="47"/>
                  </a:cubicBezTo>
                  <a:cubicBezTo>
                    <a:pt x="1313" y="21"/>
                    <a:pt x="1380" y="21"/>
                    <a:pt x="1450" y="16"/>
                  </a:cubicBezTo>
                  <a:cubicBezTo>
                    <a:pt x="1478" y="9"/>
                    <a:pt x="1500" y="0"/>
                    <a:pt x="1528" y="0"/>
                  </a:cubicBezTo>
                </a:path>
              </a:pathLst>
            </a:custGeom>
            <a:solidFill>
              <a:srgbClr val="ccecff"/>
            </a:solidFill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952880" y="3397320"/>
              <a:ext cx="4183920" cy="642600"/>
              <a:chOff x="4952880" y="3397320"/>
              <a:chExt cx="4183920" cy="642600"/>
            </a:xfrm>
          </p:grpSpPr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4952880" y="3429000"/>
                    <a:ext cx="1511280" cy="558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0" name=""/>
              <p:cNvSpPr/>
              <p:nvPr/>
            </p:nvSpPr>
            <p:spPr>
              <a:xfrm>
                <a:off x="6487200" y="3397320"/>
                <a:ext cx="2649600" cy="6426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Steady state val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from diff. eq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410080" y="4038480"/>
                <a:ext cx="3327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quating  steady state value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648320" y="4699080"/>
                <a:ext cx="4305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THE MODEL IS </m:t>
                    </m:r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THEN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4664520" y="5257800"/>
            <a:ext cx="4432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STEP 3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USE OF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41800" y="5627520"/>
                <a:ext cx="3035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562720" y="6262560"/>
                <a:ext cx="1307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6" name=""/>
          <p:cNvGrpSpPr/>
          <p:nvPr/>
        </p:nvGrpSpPr>
        <p:grpSpPr>
          <a:xfrm>
            <a:off x="149400" y="5029200"/>
            <a:ext cx="1374480" cy="1065240"/>
            <a:chOff x="149400" y="5029200"/>
            <a:chExt cx="1374480" cy="1065240"/>
          </a:xfrm>
        </p:grpSpPr>
        <p:sp>
          <p:nvSpPr>
            <p:cNvPr id="247" name=""/>
            <p:cNvSpPr/>
            <p:nvPr/>
          </p:nvSpPr>
          <p:spPr>
            <a:xfrm>
              <a:off x="1139760" y="5029200"/>
              <a:ext cx="384120" cy="3016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9400" y="5484600"/>
              <a:ext cx="457200" cy="609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124600" y="655308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276720" y="774720"/>
                <a:ext cx="3835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WER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040" y="1188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74680" y="3098880"/>
            <a:ext cx="3535200" cy="2921040"/>
            <a:chOff x="274680" y="3098880"/>
            <a:chExt cx="3535200" cy="2921040"/>
          </a:xfrm>
        </p:grpSpPr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274680" y="5460840"/>
                  <a:ext cx="190476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57" name=""/>
            <p:cNvGrpSpPr/>
            <p:nvPr/>
          </p:nvGrpSpPr>
          <p:grpSpPr>
            <a:xfrm>
              <a:off x="2103480" y="3098880"/>
              <a:ext cx="1706400" cy="2889000"/>
              <a:chOff x="2103480" y="3098880"/>
              <a:chExt cx="1706400" cy="2889000"/>
            </a:xfrm>
          </p:grpSpPr>
          <mc:AlternateContent>
            <mc:Choice xmlns:a14="http://schemas.microsoft.com/office/drawing/2010/main" Requires="a14">
              <p:sp>
                <p:nvSpPr>
                  <p:cNvPr id="258" name=""/>
                  <p:cNvSpPr txBox="1"/>
                  <p:nvPr/>
                </p:nvSpPr>
                <p:spPr>
                  <a:xfrm>
                    <a:off x="3173040" y="3098880"/>
                    <a:ext cx="4428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9" name=""/>
              <p:cNvSpPr/>
              <p:nvPr/>
            </p:nvSpPr>
            <p:spPr>
              <a:xfrm>
                <a:off x="2103480" y="3217680"/>
                <a:ext cx="1706400" cy="2770200"/>
              </a:xfrm>
              <a:custGeom>
                <a:avLst/>
                <a:gdLst/>
                <a:ahLst/>
                <a:rect l="l" t="t" r="r" b="b"/>
                <a:pathLst>
                  <a:path w="1075" h="1745">
                    <a:moveTo>
                      <a:pt x="950" y="8"/>
                    </a:moveTo>
                    <a:cubicBezTo>
                      <a:pt x="976" y="5"/>
                      <a:pt x="1002" y="0"/>
                      <a:pt x="1028" y="0"/>
                    </a:cubicBezTo>
                    <a:cubicBezTo>
                      <a:pt x="1044" y="0"/>
                      <a:pt x="1075" y="8"/>
                      <a:pt x="1075" y="8"/>
                    </a:cubicBezTo>
                    <a:cubicBezTo>
                      <a:pt x="1069" y="127"/>
                      <a:pt x="1055" y="241"/>
                      <a:pt x="1044" y="359"/>
                    </a:cubicBezTo>
                    <a:cubicBezTo>
                      <a:pt x="1038" y="419"/>
                      <a:pt x="1028" y="538"/>
                      <a:pt x="1028" y="538"/>
                    </a:cubicBezTo>
                    <a:cubicBezTo>
                      <a:pt x="1020" y="747"/>
                      <a:pt x="1004" y="953"/>
                      <a:pt x="989" y="1161"/>
                    </a:cubicBezTo>
                    <a:cubicBezTo>
                      <a:pt x="984" y="1229"/>
                      <a:pt x="983" y="1298"/>
                      <a:pt x="966" y="1364"/>
                    </a:cubicBezTo>
                    <a:cubicBezTo>
                      <a:pt x="961" y="1467"/>
                      <a:pt x="942" y="1573"/>
                      <a:pt x="942" y="1676"/>
                    </a:cubicBezTo>
                    <a:cubicBezTo>
                      <a:pt x="780" y="1682"/>
                      <a:pt x="621" y="1698"/>
                      <a:pt x="459" y="1707"/>
                    </a:cubicBezTo>
                    <a:cubicBezTo>
                      <a:pt x="313" y="1745"/>
                      <a:pt x="150" y="1730"/>
                      <a:pt x="0" y="173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527880" y="12600"/>
                <a:ext cx="26161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1752480" y="304920"/>
            <a:ext cx="4422960" cy="2452680"/>
            <a:chOff x="1752480" y="304920"/>
            <a:chExt cx="4422960" cy="2452680"/>
          </a:xfrm>
        </p:grpSpPr>
        <p:graphicFrame>
          <p:nvGraphicFramePr>
            <p:cNvPr id="262" name=""/>
            <p:cNvGraphicFramePr/>
            <p:nvPr/>
          </p:nvGraphicFramePr>
          <p:xfrm>
            <a:off x="1752480" y="304920"/>
            <a:ext cx="4422960" cy="24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304920"/>
                      <a:ext cx="4422960" cy="24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5791320" y="2209680"/>
                  <a:ext cx="3682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046320" y="0"/>
                <a:ext cx="152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095880" y="1752480"/>
                <a:ext cx="2819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 KV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7" name=""/>
          <p:cNvGrpSpPr/>
          <p:nvPr/>
        </p:nvGrpSpPr>
        <p:grpSpPr>
          <a:xfrm>
            <a:off x="3048120" y="609480"/>
            <a:ext cx="2286000" cy="1752840"/>
            <a:chOff x="3048120" y="609480"/>
            <a:chExt cx="2286000" cy="1752840"/>
          </a:xfrm>
        </p:grpSpPr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4419720" y="6094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5069160" y="1447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"/>
            <p:cNvSpPr/>
            <p:nvPr/>
          </p:nvSpPr>
          <p:spPr>
            <a:xfrm>
              <a:off x="3048120" y="1295280"/>
              <a:ext cx="1676520" cy="106704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lnTo>
                    <a:pt x="0" y="0"/>
                  </a:lnTo>
                  <a:lnTo>
                    <a:pt x="1056" y="0"/>
                  </a:lnTo>
                  <a:lnTo>
                    <a:pt x="1056" y="672"/>
                  </a:lnTo>
                  <a:lnTo>
                    <a:pt x="240" y="67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4267440" y="190512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"/>
            <p:cNvSpPr/>
            <p:nvPr/>
          </p:nvSpPr>
          <p:spPr>
            <a:xfrm>
              <a:off x="3124440" y="1336680"/>
              <a:ext cx="592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666880" y="2819520"/>
                <a:ext cx="2768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362320" y="3440160"/>
                <a:ext cx="33271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ITIAL CONDITION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⇒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ductor </m:t>
                                  </m:r>
                                  <m:r>
                                    <m:t xml:space="preserve">⇒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5" name=""/>
          <p:cNvGrpSpPr/>
          <p:nvPr/>
        </p:nvGrpSpPr>
        <p:grpSpPr>
          <a:xfrm>
            <a:off x="2045880" y="4481640"/>
            <a:ext cx="3059280" cy="558720"/>
            <a:chOff x="2045880" y="4481640"/>
            <a:chExt cx="3059280" cy="558720"/>
          </a:xfrm>
        </p:grpSpPr>
        <p:sp>
          <p:nvSpPr>
            <p:cNvPr id="276" name=""/>
            <p:cNvSpPr/>
            <p:nvPr/>
          </p:nvSpPr>
          <p:spPr>
            <a:xfrm>
              <a:off x="2045880" y="44816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3327120" y="4481640"/>
                  <a:ext cx="1778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8" name=""/>
          <p:cNvGrpSpPr/>
          <p:nvPr/>
        </p:nvGrpSpPr>
        <p:grpSpPr>
          <a:xfrm>
            <a:off x="3200400" y="4430880"/>
            <a:ext cx="2666880" cy="685800"/>
            <a:chOff x="3200400" y="4430880"/>
            <a:chExt cx="2666880" cy="685800"/>
          </a:xfrm>
        </p:grpSpPr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5295960" y="4430880"/>
                  <a:ext cx="5713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3200400" y="4430880"/>
              <a:ext cx="38088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068200" y="5081760"/>
            <a:ext cx="27867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724280" y="4419720"/>
            <a:ext cx="1600200" cy="1295280"/>
            <a:chOff x="4724280" y="4419720"/>
            <a:chExt cx="1600200" cy="1295280"/>
          </a:xfrm>
        </p:grpSpPr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4902120" y="5094360"/>
                  <a:ext cx="14223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84" name=""/>
            <p:cNvGrpSpPr/>
            <p:nvPr/>
          </p:nvGrpSpPr>
          <p:grpSpPr>
            <a:xfrm>
              <a:off x="4724280" y="4419720"/>
              <a:ext cx="1143000" cy="1295280"/>
              <a:chOff x="4724280" y="4419720"/>
              <a:chExt cx="1143000" cy="1295280"/>
            </a:xfrm>
          </p:grpSpPr>
          <p:sp>
            <p:nvSpPr>
              <p:cNvPr id="285" name=""/>
              <p:cNvSpPr/>
              <p:nvPr/>
            </p:nvSpPr>
            <p:spPr>
              <a:xfrm>
                <a:off x="5486400" y="5029200"/>
                <a:ext cx="380880" cy="685800"/>
              </a:xfrm>
              <a:prstGeom prst="rect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724280" y="4419720"/>
                <a:ext cx="457200" cy="685800"/>
              </a:xfrm>
              <a:prstGeom prst="rect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>
            <a:off x="2124360" y="5695200"/>
            <a:ext cx="34725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048120" y="609588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715000" y="5715000"/>
                <a:ext cx="2502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 rot="10800000">
                <a:off x="6705720" y="1142280"/>
                <a:ext cx="21333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640" y="7524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483240" y="12600"/>
                <a:ext cx="26164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2971800" y="152280"/>
          <a:ext cx="352116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52280"/>
                    <a:ext cx="352116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 rot="10800000">
                <a:off x="380880" y="1066320"/>
                <a:ext cx="21337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57200" y="2133720"/>
                <a:ext cx="22226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C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0" name=""/>
          <p:cNvGrpSpPr/>
          <p:nvPr/>
        </p:nvGrpSpPr>
        <p:grpSpPr>
          <a:xfrm>
            <a:off x="3657600" y="1752480"/>
            <a:ext cx="2286000" cy="906480"/>
            <a:chOff x="3657600" y="1752480"/>
            <a:chExt cx="2286000" cy="906480"/>
          </a:xfrm>
        </p:grpSpPr>
        <p:sp>
          <p:nvSpPr>
            <p:cNvPr id="301" name=""/>
            <p:cNvSpPr/>
            <p:nvPr/>
          </p:nvSpPr>
          <p:spPr>
            <a:xfrm>
              <a:off x="4574880" y="1900080"/>
              <a:ext cx="0" cy="758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2880" y="1828800"/>
              <a:ext cx="990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57600" y="1752480"/>
              <a:ext cx="761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495680" y="1371600"/>
            <a:ext cx="1955520" cy="2297160"/>
            <a:chOff x="4495680" y="1371600"/>
            <a:chExt cx="1955520" cy="2297160"/>
          </a:xfrm>
        </p:grpSpPr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5028840" y="3124440"/>
                  <a:ext cx="14223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6" name=""/>
            <p:cNvSpPr/>
            <p:nvPr/>
          </p:nvSpPr>
          <p:spPr>
            <a:xfrm>
              <a:off x="4495680" y="1600200"/>
              <a:ext cx="380880" cy="22860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4724280" y="1371600"/>
                  <a:ext cx="39204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914400" y="3581280"/>
                <a:ext cx="1549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514600" y="3581280"/>
                <a:ext cx="1739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1757160" y="464760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57160" y="518076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841480" y="5181480"/>
                <a:ext cx="193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1757160" y="556200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917800" y="5592600"/>
                <a:ext cx="180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334120" y="5900760"/>
                <a:ext cx="2450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419720" y="3733920"/>
                <a:ext cx="3073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 CONDITION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7" name=""/>
          <p:cNvGrpSpPr/>
          <p:nvPr/>
        </p:nvGrpSpPr>
        <p:grpSpPr>
          <a:xfrm>
            <a:off x="2819520" y="3581280"/>
            <a:ext cx="571320" cy="1523880"/>
            <a:chOff x="2819520" y="3581280"/>
            <a:chExt cx="571320" cy="1523880"/>
          </a:xfrm>
        </p:grpSpPr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2819520" y="4560480"/>
                  <a:ext cx="5713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9" name=""/>
            <p:cNvSpPr/>
            <p:nvPr/>
          </p:nvSpPr>
          <p:spPr>
            <a:xfrm>
              <a:off x="2895480" y="3581280"/>
              <a:ext cx="30492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560" y="197640"/>
            <a:ext cx="2512440" cy="3682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BY D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0" y="1219320"/>
          <a:ext cx="4494240" cy="17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494240" cy="17254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76320" y="357120"/>
          <a:ext cx="79246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57120"/>
                    <a:ext cx="79246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8" name=""/>
          <p:cNvGrpSpPr/>
          <p:nvPr/>
        </p:nvGrpSpPr>
        <p:grpSpPr>
          <a:xfrm>
            <a:off x="0" y="2819520"/>
            <a:ext cx="4495680" cy="1969920"/>
            <a:chOff x="0" y="2819520"/>
            <a:chExt cx="4495680" cy="1969920"/>
          </a:xfrm>
        </p:grpSpPr>
        <p:graphicFrame>
          <p:nvGraphicFramePr>
            <p:cNvPr id="329" name=""/>
            <p:cNvGraphicFramePr/>
            <p:nvPr/>
          </p:nvGraphicFramePr>
          <p:xfrm>
            <a:off x="0" y="2971800"/>
            <a:ext cx="4495680" cy="1817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3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2971800"/>
                      <a:ext cx="4495680" cy="18176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136440" y="2819520"/>
                  <a:ext cx="17398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ODEL FOR 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676520" y="3657600"/>
                <a:ext cx="965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29520" y="4799880"/>
            <a:ext cx="456984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T IS SIMPLER TO DETERMIN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CAPACITOR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437920" y="3429000"/>
            <a:ext cx="1448280" cy="457200"/>
            <a:chOff x="2437920" y="3429000"/>
            <a:chExt cx="1448280" cy="457200"/>
          </a:xfrm>
        </p:grpSpPr>
        <p:sp>
          <p:nvSpPr>
            <p:cNvPr id="335" name=""/>
            <p:cNvSpPr/>
            <p:nvPr/>
          </p:nvSpPr>
          <p:spPr>
            <a:xfrm flipH="1">
              <a:off x="2437920" y="342900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24080" y="35053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52680" y="34290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537080" y="1295280"/>
            <a:ext cx="4606920" cy="1905120"/>
            <a:chOff x="4537080" y="1295280"/>
            <a:chExt cx="4606920" cy="1905120"/>
          </a:xfrm>
        </p:grpSpPr>
        <p:graphicFrame>
          <p:nvGraphicFramePr>
            <p:cNvPr id="339" name=""/>
            <p:cNvGraphicFramePr/>
            <p:nvPr/>
          </p:nvGraphicFramePr>
          <p:xfrm>
            <a:off x="4537080" y="1549440"/>
            <a:ext cx="4606920" cy="165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37080" y="1549440"/>
                      <a:ext cx="4606920" cy="16509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5070600" y="1295280"/>
                  <a:ext cx="37465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RCUIT IN STEADY STATE FOR 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2" name=""/>
          <p:cNvSpPr/>
          <p:nvPr/>
        </p:nvSpPr>
        <p:spPr>
          <a:xfrm>
            <a:off x="4578840" y="883440"/>
            <a:ext cx="26496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876920" y="3200400"/>
                <a:ext cx="3860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4" name=""/>
          <p:cNvGrpSpPr/>
          <p:nvPr/>
        </p:nvGrpSpPr>
        <p:grpSpPr>
          <a:xfrm>
            <a:off x="228600" y="5499000"/>
            <a:ext cx="3898800" cy="1282680"/>
            <a:chOff x="228600" y="5499000"/>
            <a:chExt cx="3898800" cy="1282680"/>
          </a:xfrm>
        </p:grpSpPr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228600" y="5499000"/>
                  <a:ext cx="351792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C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2286000" y="6019920"/>
                  <a:ext cx="1841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7" name=""/>
          <p:cNvGrpSpPr/>
          <p:nvPr/>
        </p:nvGrpSpPr>
        <p:grpSpPr>
          <a:xfrm>
            <a:off x="4706640" y="3855240"/>
            <a:ext cx="4310280" cy="677160"/>
            <a:chOff x="4706640" y="3855240"/>
            <a:chExt cx="4310280" cy="677160"/>
          </a:xfrm>
        </p:grpSpPr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5181480" y="4191120"/>
                  <a:ext cx="383544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"/>
            <p:cNvSpPr/>
            <p:nvPr/>
          </p:nvSpPr>
          <p:spPr>
            <a:xfrm>
              <a:off x="4706640" y="38552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728960" y="4617360"/>
            <a:ext cx="2357640" cy="368280"/>
            <a:chOff x="4728960" y="4617360"/>
            <a:chExt cx="2357640" cy="368280"/>
          </a:xfrm>
        </p:grpSpPr>
        <p:sp>
          <p:nvSpPr>
            <p:cNvPr id="351" name=""/>
            <p:cNvSpPr/>
            <p:nvPr/>
          </p:nvSpPr>
          <p:spPr>
            <a:xfrm>
              <a:off x="4728960" y="461736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5791320" y="46483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3" name=""/>
          <p:cNvGrpSpPr/>
          <p:nvPr/>
        </p:nvGrpSpPr>
        <p:grpSpPr>
          <a:xfrm>
            <a:off x="4728960" y="5104800"/>
            <a:ext cx="4275360" cy="368280"/>
            <a:chOff x="4728960" y="5104800"/>
            <a:chExt cx="4275360" cy="368280"/>
          </a:xfrm>
        </p:grpSpPr>
        <p:sp>
          <p:nvSpPr>
            <p:cNvPr id="354" name=""/>
            <p:cNvSpPr/>
            <p:nvPr/>
          </p:nvSpPr>
          <p:spPr>
            <a:xfrm>
              <a:off x="4728960" y="510480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5" name=""/>
                <p:cNvSpPr txBox="1"/>
                <p:nvPr/>
              </p:nvSpPr>
              <p:spPr>
                <a:xfrm>
                  <a:off x="5867280" y="5105520"/>
                  <a:ext cx="313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V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013440" y="5511960"/>
                <a:ext cx="1994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5257800" y="6095880"/>
                <a:ext cx="2743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1219320" y="0"/>
                <a:ext cx="2133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9" name=""/>
          <p:cNvGrpSpPr/>
          <p:nvPr/>
        </p:nvGrpSpPr>
        <p:grpSpPr>
          <a:xfrm>
            <a:off x="0" y="609480"/>
            <a:ext cx="7924680" cy="228600"/>
            <a:chOff x="0" y="609480"/>
            <a:chExt cx="7924680" cy="228600"/>
          </a:xfrm>
        </p:grpSpPr>
        <p:sp>
          <p:nvSpPr>
            <p:cNvPr id="360" name=""/>
            <p:cNvSpPr/>
            <p:nvPr/>
          </p:nvSpPr>
          <p:spPr>
            <a:xfrm>
              <a:off x="0" y="838080"/>
              <a:ext cx="2133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10080" y="609480"/>
              <a:ext cx="2514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2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228600" y="609480"/>
          <a:ext cx="4038480" cy="35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403848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7" name=""/>
          <p:cNvGrpSpPr/>
          <p:nvPr/>
        </p:nvGrpSpPr>
        <p:grpSpPr>
          <a:xfrm>
            <a:off x="152280" y="5105520"/>
            <a:ext cx="3505320" cy="1636560"/>
            <a:chOff x="152280" y="5105520"/>
            <a:chExt cx="3505320" cy="1636560"/>
          </a:xfrm>
        </p:grpSpPr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152280" y="6183360"/>
                  <a:ext cx="21844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9" name=""/>
            <p:cNvSpPr/>
            <p:nvPr/>
          </p:nvSpPr>
          <p:spPr>
            <a:xfrm>
              <a:off x="1905120" y="5105520"/>
              <a:ext cx="175248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52280" y="5002200"/>
            <a:ext cx="3353040" cy="1181160"/>
            <a:chOff x="152280" y="5002200"/>
            <a:chExt cx="3353040" cy="1181160"/>
          </a:xfrm>
        </p:grpSpPr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152280" y="5002200"/>
                  <a:ext cx="198144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[</m:t>
                          </m:r>
                          <m:r>
                            <m:t xml:space="preserve">A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2006640" y="511632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387520" y="45720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4" name=""/>
          <p:cNvGrpSpPr/>
          <p:nvPr/>
        </p:nvGrpSpPr>
        <p:grpSpPr>
          <a:xfrm>
            <a:off x="792000" y="1236600"/>
            <a:ext cx="1908360" cy="2573280"/>
            <a:chOff x="792000" y="1236600"/>
            <a:chExt cx="1908360" cy="2573280"/>
          </a:xfrm>
        </p:grpSpPr>
        <p:sp>
          <p:nvSpPr>
            <p:cNvPr id="375" name=""/>
            <p:cNvSpPr/>
            <p:nvPr/>
          </p:nvSpPr>
          <p:spPr>
            <a:xfrm>
              <a:off x="792000" y="1236600"/>
              <a:ext cx="1908360" cy="2573280"/>
            </a:xfrm>
            <a:custGeom>
              <a:avLst/>
              <a:gdLst/>
              <a:ahLst/>
              <a:rect l="l" t="t" r="r" b="b"/>
              <a:pathLst>
                <a:path w="1202" h="1621">
                  <a:moveTo>
                    <a:pt x="0" y="1613"/>
                  </a:moveTo>
                  <a:cubicBezTo>
                    <a:pt x="9" y="1492"/>
                    <a:pt x="33" y="1375"/>
                    <a:pt x="46" y="1254"/>
                  </a:cubicBezTo>
                  <a:cubicBezTo>
                    <a:pt x="54" y="73"/>
                    <a:pt x="54" y="491"/>
                    <a:pt x="54" y="0"/>
                  </a:cubicBezTo>
                  <a:cubicBezTo>
                    <a:pt x="336" y="27"/>
                    <a:pt x="285" y="24"/>
                    <a:pt x="693" y="31"/>
                  </a:cubicBezTo>
                  <a:cubicBezTo>
                    <a:pt x="763" y="34"/>
                    <a:pt x="834" y="34"/>
                    <a:pt x="904" y="39"/>
                  </a:cubicBezTo>
                  <a:cubicBezTo>
                    <a:pt x="943" y="42"/>
                    <a:pt x="982" y="50"/>
                    <a:pt x="1021" y="54"/>
                  </a:cubicBezTo>
                  <a:cubicBezTo>
                    <a:pt x="1047" y="57"/>
                    <a:pt x="1098" y="62"/>
                    <a:pt x="1098" y="62"/>
                  </a:cubicBezTo>
                  <a:cubicBezTo>
                    <a:pt x="1114" y="195"/>
                    <a:pt x="1128" y="327"/>
                    <a:pt x="1145" y="460"/>
                  </a:cubicBezTo>
                  <a:cubicBezTo>
                    <a:pt x="1151" y="560"/>
                    <a:pt x="1161" y="657"/>
                    <a:pt x="1169" y="756"/>
                  </a:cubicBezTo>
                  <a:cubicBezTo>
                    <a:pt x="1166" y="1002"/>
                    <a:pt x="1202" y="1284"/>
                    <a:pt x="1137" y="1535"/>
                  </a:cubicBezTo>
                  <a:cubicBezTo>
                    <a:pt x="1129" y="1605"/>
                    <a:pt x="1130" y="1576"/>
                    <a:pt x="1130" y="1621"/>
                  </a:cubicBezTo>
                  <a:cubicBezTo>
                    <a:pt x="784" y="1621"/>
                    <a:pt x="439" y="1621"/>
                    <a:pt x="93" y="162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26280" y="1953000"/>
              <a:ext cx="1278000" cy="368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(t&gt;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990720" y="134424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39680" y="4114800"/>
                <a:ext cx="2832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V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52280" y="4405320"/>
                <a:ext cx="3225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76320" y="6183360"/>
            <a:ext cx="4186440" cy="489600"/>
            <a:chOff x="76320" y="6183360"/>
            <a:chExt cx="4186440" cy="489600"/>
          </a:xfrm>
        </p:grpSpPr>
        <p:grpSp>
          <p:nvGrpSpPr>
            <p:cNvPr id="381" name=""/>
            <p:cNvGrpSpPr/>
            <p:nvPr/>
          </p:nvGrpSpPr>
          <p:grpSpPr>
            <a:xfrm>
              <a:off x="76320" y="6183360"/>
              <a:ext cx="3048120" cy="457200"/>
              <a:chOff x="76320" y="6183360"/>
              <a:chExt cx="3048120" cy="457200"/>
            </a:xfrm>
          </p:grpSpPr>
          <mc:AlternateContent>
            <mc:Choice xmlns:a14="http://schemas.microsoft.com/office/drawing/2010/main" Requires="a14">
              <p:sp>
                <p:nvSpPr>
                  <p:cNvPr id="382" name=""/>
                  <p:cNvSpPr txBox="1"/>
                  <p:nvPr/>
                </p:nvSpPr>
                <p:spPr>
                  <a:xfrm>
                    <a:off x="2286000" y="6335640"/>
                    <a:ext cx="838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3" name=""/>
              <p:cNvSpPr/>
              <p:nvPr/>
            </p:nvSpPr>
            <p:spPr>
              <a:xfrm>
                <a:off x="76320" y="6183360"/>
                <a:ext cx="457200" cy="45720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3259080" y="6304680"/>
              <a:ext cx="1003680" cy="36828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565520" y="746280"/>
                <a:ext cx="22989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960" y="11880"/>
            <a:ext cx="2375280" cy="3682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21720" y="1386720"/>
            <a:ext cx="484416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: FIND K1 USING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4876920" y="2117880"/>
                <a:ext cx="3403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2" name=""/>
          <p:cNvGrpSpPr/>
          <p:nvPr/>
        </p:nvGrpSpPr>
        <p:grpSpPr>
          <a:xfrm>
            <a:off x="4032360" y="988920"/>
            <a:ext cx="2444760" cy="2028960"/>
            <a:chOff x="4032360" y="988920"/>
            <a:chExt cx="2444760" cy="2028960"/>
          </a:xfrm>
        </p:grpSpPr>
        <p:sp>
          <p:nvSpPr>
            <p:cNvPr id="393" name=""/>
            <p:cNvSpPr/>
            <p:nvPr/>
          </p:nvSpPr>
          <p:spPr>
            <a:xfrm>
              <a:off x="4032360" y="988920"/>
              <a:ext cx="1373040" cy="1854360"/>
            </a:xfrm>
            <a:custGeom>
              <a:avLst/>
              <a:gdLst/>
              <a:ahLst/>
              <a:rect l="l" t="t" r="r" b="b"/>
              <a:pathLst>
                <a:path w="865" h="1168">
                  <a:moveTo>
                    <a:pt x="312" y="16"/>
                  </a:moveTo>
                  <a:cubicBezTo>
                    <a:pt x="266" y="0"/>
                    <a:pt x="230" y="21"/>
                    <a:pt x="187" y="39"/>
                  </a:cubicBezTo>
                  <a:cubicBezTo>
                    <a:pt x="166" y="65"/>
                    <a:pt x="143" y="89"/>
                    <a:pt x="125" y="117"/>
                  </a:cubicBezTo>
                  <a:cubicBezTo>
                    <a:pt x="105" y="148"/>
                    <a:pt x="99" y="187"/>
                    <a:pt x="78" y="219"/>
                  </a:cubicBezTo>
                  <a:cubicBezTo>
                    <a:pt x="57" y="287"/>
                    <a:pt x="30" y="351"/>
                    <a:pt x="16" y="421"/>
                  </a:cubicBezTo>
                  <a:cubicBezTo>
                    <a:pt x="11" y="511"/>
                    <a:pt x="0" y="718"/>
                    <a:pt x="0" y="795"/>
                  </a:cubicBezTo>
                  <a:cubicBezTo>
                    <a:pt x="0" y="852"/>
                    <a:pt x="4" y="910"/>
                    <a:pt x="8" y="967"/>
                  </a:cubicBezTo>
                  <a:cubicBezTo>
                    <a:pt x="16" y="1086"/>
                    <a:pt x="92" y="1086"/>
                    <a:pt x="195" y="1099"/>
                  </a:cubicBezTo>
                  <a:cubicBezTo>
                    <a:pt x="252" y="1118"/>
                    <a:pt x="238" y="1117"/>
                    <a:pt x="304" y="1123"/>
                  </a:cubicBezTo>
                  <a:cubicBezTo>
                    <a:pt x="369" y="1129"/>
                    <a:pt x="499" y="1138"/>
                    <a:pt x="499" y="1138"/>
                  </a:cubicBezTo>
                  <a:cubicBezTo>
                    <a:pt x="615" y="1168"/>
                    <a:pt x="746" y="1162"/>
                    <a:pt x="865" y="1162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5410080" y="2727360"/>
                  <a:ext cx="106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6705720" y="3094200"/>
                <a:ext cx="99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3904560" y="4465440"/>
            <a:ext cx="4981320" cy="11912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THE INITIAL CONDITION ONE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INDUCTOR CURRENT FOR t&lt;0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S THE CONTINUITY OF THE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DURING THE SWITCHING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809880" y="3550680"/>
            <a:ext cx="5257800" cy="642600"/>
            <a:chOff x="3809880" y="3550680"/>
            <a:chExt cx="5257800" cy="642600"/>
          </a:xfrm>
        </p:grpSpPr>
        <p:sp>
          <p:nvSpPr>
            <p:cNvPr id="398" name=""/>
            <p:cNvSpPr/>
            <p:nvPr/>
          </p:nvSpPr>
          <p:spPr>
            <a:xfrm>
              <a:off x="3809880" y="3550680"/>
              <a:ext cx="52578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NEXT STEP REQUIRES THE INI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VALUE OF THE VARIABL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7162920" y="3855960"/>
                  <a:ext cx="6858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0" name=""/>
          <p:cNvSpPr/>
          <p:nvPr/>
        </p:nvSpPr>
        <p:spPr>
          <a:xfrm>
            <a:off x="4069440" y="5669640"/>
            <a:ext cx="498132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STEADY STATE ASSUMPTION FOR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IMPLIFIES TH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483240" y="12600"/>
                <a:ext cx="26164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"/>
          <p:cNvGrpSpPr/>
          <p:nvPr/>
        </p:nvGrpSpPr>
        <p:grpSpPr>
          <a:xfrm>
            <a:off x="-9360" y="442800"/>
            <a:ext cx="4038480" cy="3524040"/>
            <a:chOff x="-9360" y="442800"/>
            <a:chExt cx="4038480" cy="3524040"/>
          </a:xfrm>
        </p:grpSpPr>
        <p:graphicFrame>
          <p:nvGraphicFramePr>
            <p:cNvPr id="403" name=""/>
            <p:cNvGraphicFramePr/>
            <p:nvPr/>
          </p:nvGraphicFramePr>
          <p:xfrm>
            <a:off x="-9360" y="442800"/>
            <a:ext cx="4038480" cy="352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9360" y="442800"/>
                      <a:ext cx="4038480" cy="352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5" name=""/>
            <p:cNvSpPr/>
            <p:nvPr/>
          </p:nvSpPr>
          <p:spPr>
            <a:xfrm>
              <a:off x="1590840" y="747360"/>
              <a:ext cx="9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6" name=""/>
                <p:cNvSpPr txBox="1"/>
                <p:nvPr/>
              </p:nvSpPr>
              <p:spPr>
                <a:xfrm rot="10800000">
                  <a:off x="1667160" y="1204200"/>
                  <a:ext cx="4572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07" name=""/>
          <p:cNvGraphicFramePr/>
          <p:nvPr/>
        </p:nvGraphicFramePr>
        <p:xfrm>
          <a:off x="3886200" y="2971800"/>
          <a:ext cx="2871720" cy="27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287172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3886200" y="39600"/>
          <a:ext cx="3124080" cy="285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39600"/>
                    <a:ext cx="312408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4400" y="4419360"/>
            <a:ext cx="388404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EXAMPLE USE 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SSUMING INDUCTOR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7010280" y="685800"/>
                <a:ext cx="153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934320" y="1066680"/>
                <a:ext cx="157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4" name=""/>
          <p:cNvGrpSpPr/>
          <p:nvPr/>
        </p:nvGrpSpPr>
        <p:grpSpPr>
          <a:xfrm>
            <a:off x="4648320" y="762120"/>
            <a:ext cx="685800" cy="1676160"/>
            <a:chOff x="4648320" y="762120"/>
            <a:chExt cx="685800" cy="1676160"/>
          </a:xfrm>
        </p:grpSpPr>
        <p:sp>
          <p:nvSpPr>
            <p:cNvPr id="415" name=""/>
            <p:cNvSpPr/>
            <p:nvPr/>
          </p:nvSpPr>
          <p:spPr>
            <a:xfrm>
              <a:off x="4648320" y="762120"/>
              <a:ext cx="685800" cy="1676160"/>
            </a:xfrm>
            <a:custGeom>
              <a:avLst/>
              <a:gdLst/>
              <a:ahLst/>
              <a:rect l="l" t="t" r="r" b="b"/>
              <a:pathLst>
                <a:path w="432" h="1056">
                  <a:moveTo>
                    <a:pt x="0" y="1056"/>
                  </a:moveTo>
                  <a:lnTo>
                    <a:pt x="48" y="0"/>
                  </a:lnTo>
                  <a:lnTo>
                    <a:pt x="432" y="0"/>
                  </a:lnTo>
                  <a:lnTo>
                    <a:pt x="432" y="1056"/>
                  </a:lnTo>
                  <a:lnTo>
                    <a:pt x="144" y="105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4800960" y="9144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17" name=""/>
            <p:cNvSpPr/>
            <p:nvPr/>
          </p:nvSpPr>
          <p:spPr>
            <a:xfrm>
              <a:off x="4738680" y="1493280"/>
              <a:ext cx="59220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948280" y="609480"/>
            <a:ext cx="838440" cy="1904760"/>
            <a:chOff x="5948280" y="609480"/>
            <a:chExt cx="838440" cy="1904760"/>
          </a:xfrm>
        </p:grpSpPr>
        <p:sp>
          <p:nvSpPr>
            <p:cNvPr id="419" name=""/>
            <p:cNvSpPr/>
            <p:nvPr/>
          </p:nvSpPr>
          <p:spPr>
            <a:xfrm>
              <a:off x="5948280" y="609480"/>
              <a:ext cx="838440" cy="1904760"/>
            </a:xfrm>
            <a:custGeom>
              <a:avLst/>
              <a:gdLst/>
              <a:ahLst/>
              <a:rect l="l" t="t" r="r" b="b"/>
              <a:pathLst>
                <a:path w="528" h="1200">
                  <a:moveTo>
                    <a:pt x="432" y="0"/>
                  </a:moveTo>
                  <a:lnTo>
                    <a:pt x="0" y="0"/>
                  </a:lnTo>
                  <a:lnTo>
                    <a:pt x="48" y="1200"/>
                  </a:lnTo>
                  <a:lnTo>
                    <a:pt x="528" y="120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40440" y="1873800"/>
              <a:ext cx="592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6648480" y="1828800"/>
                <a:ext cx="2489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7238880" y="1371600"/>
                <a:ext cx="862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858000" y="3505320"/>
                <a:ext cx="2031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762120" y="5410080"/>
                <a:ext cx="22986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6400800" y="4114800"/>
                <a:ext cx="2527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733920" y="5715000"/>
                <a:ext cx="1981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7" name="" descr=""/>
          <p:cNvPicPr/>
          <p:nvPr/>
        </p:nvPicPr>
        <p:blipFill>
          <a:blip r:embed="rId7"/>
          <a:stretch/>
        </p:blipFill>
        <p:spPr>
          <a:xfrm>
            <a:off x="7805880" y="6486480"/>
            <a:ext cx="731520" cy="366840"/>
          </a:xfrm>
          <a:prstGeom prst="rect">
            <a:avLst/>
          </a:prstGeom>
          <a:ln w="0">
            <a:noFill/>
          </a:ln>
        </p:spPr>
      </p:pic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40575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>
            <a:hlinkClick r:id="" action="ppaction://hlinkshowjump?jump=previousslide"/>
          </p:cNvPr>
          <p:cNvSpPr/>
          <p:nvPr/>
        </p:nvSpPr>
        <p:spPr>
          <a:xfrm>
            <a:off x="35244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057400" y="457200"/>
            <a:ext cx="302760" cy="3505320"/>
            <a:chOff x="2057400" y="457200"/>
            <a:chExt cx="302760" cy="3505320"/>
          </a:xfrm>
        </p:grpSpPr>
        <p:sp>
          <p:nvSpPr>
            <p:cNvPr id="431" name=""/>
            <p:cNvSpPr/>
            <p:nvPr/>
          </p:nvSpPr>
          <p:spPr>
            <a:xfrm>
              <a:off x="2057400" y="685800"/>
              <a:ext cx="152280" cy="1526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57400" y="3810240"/>
              <a:ext cx="152280" cy="15228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3" name=""/>
                <p:cNvSpPr txBox="1"/>
                <p:nvPr/>
              </p:nvSpPr>
              <p:spPr>
                <a:xfrm>
                  <a:off x="2057400" y="457200"/>
                  <a:ext cx="1634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4" name=""/>
                <p:cNvSpPr txBox="1"/>
                <p:nvPr/>
              </p:nvSpPr>
              <p:spPr>
                <a:xfrm>
                  <a:off x="2209680" y="3581640"/>
                  <a:ext cx="1504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00800" y="5486400"/>
                <a:ext cx="2565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158400" y="3960"/>
            <a:ext cx="4158360" cy="368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 IN STEADY STATE (t&lt;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986120" y="750600"/>
            <a:ext cx="582480" cy="930600"/>
            <a:chOff x="1986120" y="750600"/>
            <a:chExt cx="582480" cy="930600"/>
          </a:xfrm>
        </p:grpSpPr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 rot="10800000">
                  <a:off x="1986120" y="750600"/>
                  <a:ext cx="5824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9" name=""/>
            <p:cNvSpPr/>
            <p:nvPr/>
          </p:nvSpPr>
          <p:spPr>
            <a:xfrm>
              <a:off x="2505240" y="842760"/>
              <a:ext cx="0" cy="838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57200" y="403848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 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6095880" y="4724280"/>
                <a:ext cx="2997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" name=""/>
          <p:cNvGraphicFramePr/>
          <p:nvPr/>
        </p:nvGraphicFramePr>
        <p:xfrm>
          <a:off x="0" y="457200"/>
          <a:ext cx="6629400" cy="21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6629400" cy="21319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2743200" y="16668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3809880" y="1828800"/>
                <a:ext cx="214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3962520" y="11430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4419720" y="152388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380880" y="2655720"/>
                <a:ext cx="2832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C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9" name=""/>
          <p:cNvGrpSpPr/>
          <p:nvPr/>
        </p:nvGrpSpPr>
        <p:grpSpPr>
          <a:xfrm>
            <a:off x="3429000" y="1143000"/>
            <a:ext cx="457200" cy="457200"/>
            <a:chOff x="3429000" y="1143000"/>
            <a:chExt cx="457200" cy="457200"/>
          </a:xfrm>
        </p:grpSpPr>
        <p:sp>
          <p:nvSpPr>
            <p:cNvPr id="450" name=""/>
            <p:cNvSpPr/>
            <p:nvPr/>
          </p:nvSpPr>
          <p:spPr>
            <a:xfrm>
              <a:off x="3429000" y="12193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05320" y="11430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52280" y="2971800"/>
                <a:ext cx="4876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3" name=""/>
          <p:cNvGrpSpPr/>
          <p:nvPr/>
        </p:nvGrpSpPr>
        <p:grpSpPr>
          <a:xfrm>
            <a:off x="64800" y="3580560"/>
            <a:ext cx="5497920" cy="372240"/>
            <a:chOff x="64800" y="3580560"/>
            <a:chExt cx="5497920" cy="372240"/>
          </a:xfrm>
        </p:grpSpPr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1155600" y="3611520"/>
                  <a:ext cx="4407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5" name=""/>
            <p:cNvSpPr/>
            <p:nvPr/>
          </p:nvSpPr>
          <p:spPr>
            <a:xfrm>
              <a:off x="64800" y="358056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5181480" y="2971800"/>
                <a:ext cx="2578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7" name=""/>
          <p:cNvGrpSpPr/>
          <p:nvPr/>
        </p:nvGrpSpPr>
        <p:grpSpPr>
          <a:xfrm>
            <a:off x="64800" y="4051440"/>
            <a:ext cx="3376800" cy="520560"/>
            <a:chOff x="64800" y="4051440"/>
            <a:chExt cx="3376800" cy="520560"/>
          </a:xfrm>
        </p:grpSpPr>
        <p:sp>
          <p:nvSpPr>
            <p:cNvPr id="458" name=""/>
            <p:cNvSpPr/>
            <p:nvPr/>
          </p:nvSpPr>
          <p:spPr>
            <a:xfrm>
              <a:off x="64800" y="40838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1143000" y="4051440"/>
                  <a:ext cx="22986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0" name=""/>
          <p:cNvGrpSpPr/>
          <p:nvPr/>
        </p:nvGrpSpPr>
        <p:grpSpPr>
          <a:xfrm>
            <a:off x="1828800" y="2971800"/>
            <a:ext cx="3276720" cy="1676520"/>
            <a:chOff x="1828800" y="2971800"/>
            <a:chExt cx="3276720" cy="1676520"/>
          </a:xfrm>
        </p:grpSpPr>
        <p:sp>
          <p:nvSpPr>
            <p:cNvPr id="461" name=""/>
            <p:cNvSpPr/>
            <p:nvPr/>
          </p:nvSpPr>
          <p:spPr>
            <a:xfrm>
              <a:off x="1828800" y="4114800"/>
              <a:ext cx="30492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76920" y="2971800"/>
              <a:ext cx="22860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3581280" y="4205160"/>
                <a:ext cx="62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64" name=""/>
          <p:cNvGraphicFramePr/>
          <p:nvPr/>
        </p:nvGraphicFramePr>
        <p:xfrm>
          <a:off x="0" y="5105520"/>
          <a:ext cx="5668920" cy="16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05520"/>
                    <a:ext cx="5668920" cy="16160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24120" y="4723560"/>
            <a:ext cx="66272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S. CIRCUIT IN STEADY STATE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2438280" y="55627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3124080" y="5715000"/>
                <a:ext cx="914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9" name=""/>
          <p:cNvGrpSpPr/>
          <p:nvPr/>
        </p:nvGrpSpPr>
        <p:grpSpPr>
          <a:xfrm>
            <a:off x="5727600" y="4799880"/>
            <a:ext cx="3200400" cy="672120"/>
            <a:chOff x="5727600" y="4799880"/>
            <a:chExt cx="3200400" cy="672120"/>
          </a:xfrm>
        </p:grpSpPr>
        <mc:AlternateContent>
          <mc:Choice xmlns:a14="http://schemas.microsoft.com/office/drawing/2010/main" Requires="a14">
            <p:sp>
              <p:nvSpPr>
                <p:cNvPr id="470" name=""/>
                <p:cNvSpPr txBox="1"/>
                <p:nvPr/>
              </p:nvSpPr>
              <p:spPr>
                <a:xfrm>
                  <a:off x="5727600" y="5181480"/>
                  <a:ext cx="3200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1" name=""/>
            <p:cNvSpPr/>
            <p:nvPr/>
          </p:nvSpPr>
          <p:spPr>
            <a:xfrm>
              <a:off x="7303680" y="479988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6330960" y="5575320"/>
                <a:ext cx="21081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6172200" y="3581280"/>
                <a:ext cx="2146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4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9640" y="88200"/>
            <a:ext cx="26085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629400" y="2590920"/>
                <a:ext cx="182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9" name=""/>
          <p:cNvSpPr/>
          <p:nvPr/>
        </p:nvSpPr>
        <p:spPr>
          <a:xfrm>
            <a:off x="1076400" y="2995560"/>
            <a:ext cx="2589120" cy="993960"/>
          </a:xfrm>
          <a:custGeom>
            <a:avLst/>
            <a:gdLst/>
            <a:ahLst/>
            <a:rect l="l" t="t" r="r" b="b"/>
            <a:pathLst>
              <a:path w="1631" h="626">
                <a:moveTo>
                  <a:pt x="943" y="233"/>
                </a:moveTo>
                <a:cubicBezTo>
                  <a:pt x="1041" y="246"/>
                  <a:pt x="1132" y="271"/>
                  <a:pt x="1231" y="279"/>
                </a:cubicBezTo>
                <a:cubicBezTo>
                  <a:pt x="1345" y="277"/>
                  <a:pt x="1460" y="276"/>
                  <a:pt x="1574" y="272"/>
                </a:cubicBezTo>
                <a:cubicBezTo>
                  <a:pt x="1590" y="271"/>
                  <a:pt x="1614" y="278"/>
                  <a:pt x="1621" y="264"/>
                </a:cubicBezTo>
                <a:cubicBezTo>
                  <a:pt x="1631" y="244"/>
                  <a:pt x="1602" y="204"/>
                  <a:pt x="1590" y="186"/>
                </a:cubicBezTo>
                <a:cubicBezTo>
                  <a:pt x="1586" y="147"/>
                  <a:pt x="1596" y="102"/>
                  <a:pt x="1574" y="69"/>
                </a:cubicBezTo>
                <a:cubicBezTo>
                  <a:pt x="1570" y="62"/>
                  <a:pt x="1558" y="65"/>
                  <a:pt x="1551" y="61"/>
                </a:cubicBezTo>
                <a:cubicBezTo>
                  <a:pt x="1514" y="43"/>
                  <a:pt x="1501" y="37"/>
                  <a:pt x="1457" y="30"/>
                </a:cubicBezTo>
                <a:cubicBezTo>
                  <a:pt x="1412" y="14"/>
                  <a:pt x="1384" y="12"/>
                  <a:pt x="1332" y="7"/>
                </a:cubicBezTo>
                <a:cubicBezTo>
                  <a:pt x="1317" y="8"/>
                  <a:pt x="1119" y="0"/>
                  <a:pt x="1052" y="30"/>
                </a:cubicBezTo>
                <a:cubicBezTo>
                  <a:pt x="976" y="64"/>
                  <a:pt x="962" y="89"/>
                  <a:pt x="904" y="147"/>
                </a:cubicBezTo>
                <a:cubicBezTo>
                  <a:pt x="850" y="201"/>
                  <a:pt x="879" y="225"/>
                  <a:pt x="787" y="241"/>
                </a:cubicBezTo>
                <a:cubicBezTo>
                  <a:pt x="725" y="271"/>
                  <a:pt x="781" y="248"/>
                  <a:pt x="670" y="264"/>
                </a:cubicBezTo>
                <a:cubicBezTo>
                  <a:pt x="588" y="275"/>
                  <a:pt x="519" y="289"/>
                  <a:pt x="436" y="295"/>
                </a:cubicBezTo>
                <a:cubicBezTo>
                  <a:pt x="358" y="311"/>
                  <a:pt x="282" y="318"/>
                  <a:pt x="203" y="326"/>
                </a:cubicBezTo>
                <a:cubicBezTo>
                  <a:pt x="134" y="349"/>
                  <a:pt x="153" y="383"/>
                  <a:pt x="109" y="428"/>
                </a:cubicBezTo>
                <a:cubicBezTo>
                  <a:pt x="92" y="476"/>
                  <a:pt x="73" y="488"/>
                  <a:pt x="23" y="498"/>
                </a:cubicBezTo>
                <a:cubicBezTo>
                  <a:pt x="18" y="506"/>
                  <a:pt x="9" y="512"/>
                  <a:pt x="8" y="521"/>
                </a:cubicBezTo>
                <a:cubicBezTo>
                  <a:pt x="0" y="626"/>
                  <a:pt x="21" y="591"/>
                  <a:pt x="117" y="583"/>
                </a:cubicBezTo>
                <a:cubicBezTo>
                  <a:pt x="120" y="573"/>
                  <a:pt x="125" y="552"/>
                  <a:pt x="125" y="552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4902120" y="-12600"/>
                <a:ext cx="2705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76320" y="380880"/>
          <a:ext cx="4130640" cy="33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413064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666880" y="9036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152280" y="3733920"/>
                <a:ext cx="2756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V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01520" y="4038480"/>
                <a:ext cx="1879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809880" y="3048120"/>
                <a:ext cx="190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1981080" y="4038480"/>
                <a:ext cx="1663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952880" y="0"/>
                <a:ext cx="26035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141120" y="469368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219320" y="3962520"/>
            <a:ext cx="914400" cy="1168200"/>
            <a:chOff x="1219320" y="3962520"/>
            <a:chExt cx="914400" cy="1168200"/>
          </a:xfrm>
        </p:grpSpPr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1219320" y="4572000"/>
                  <a:ext cx="633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2" name=""/>
            <p:cNvSpPr/>
            <p:nvPr/>
          </p:nvSpPr>
          <p:spPr>
            <a:xfrm>
              <a:off x="1905120" y="3962520"/>
              <a:ext cx="2286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156960" y="530316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523880" y="4038480"/>
            <a:ext cx="2133720" cy="1586160"/>
            <a:chOff x="1523880" y="4038480"/>
            <a:chExt cx="2133720" cy="1586160"/>
          </a:xfrm>
        </p:grpSpPr>
        <mc:AlternateContent>
          <mc:Choice xmlns:a14="http://schemas.microsoft.com/office/drawing/2010/main" Requires="a14">
            <p:sp>
              <p:nvSpPr>
                <p:cNvPr id="495" name=""/>
                <p:cNvSpPr txBox="1"/>
                <p:nvPr/>
              </p:nvSpPr>
              <p:spPr>
                <a:xfrm>
                  <a:off x="1523880" y="533412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6" name=""/>
            <p:cNvSpPr/>
            <p:nvPr/>
          </p:nvSpPr>
          <p:spPr>
            <a:xfrm>
              <a:off x="3429000" y="4038480"/>
              <a:ext cx="22860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97920" y="5758560"/>
            <a:ext cx="456984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INITIAL CONDITIONS ONE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CURRENT FOR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724280" y="887040"/>
            <a:ext cx="3657600" cy="3281760"/>
            <a:chOff x="4724280" y="887040"/>
            <a:chExt cx="3657600" cy="3281760"/>
          </a:xfrm>
        </p:grpSpPr>
        <p:grpSp>
          <p:nvGrpSpPr>
            <p:cNvPr id="499" name=""/>
            <p:cNvGrpSpPr/>
            <p:nvPr/>
          </p:nvGrpSpPr>
          <p:grpSpPr>
            <a:xfrm>
              <a:off x="4724280" y="1192320"/>
              <a:ext cx="3657600" cy="2976480"/>
              <a:chOff x="4724280" y="1192320"/>
              <a:chExt cx="3657600" cy="2976480"/>
            </a:xfrm>
          </p:grpSpPr>
          <p:graphicFrame>
            <p:nvGraphicFramePr>
              <p:cNvPr id="500" name=""/>
              <p:cNvGraphicFramePr/>
              <p:nvPr/>
            </p:nvGraphicFramePr>
            <p:xfrm>
              <a:off x="4724280" y="1192320"/>
              <a:ext cx="3657600" cy="2976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24280" y="1192320"/>
                        <a:ext cx="3657600" cy="29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2" name=""/>
              <p:cNvSpPr/>
              <p:nvPr/>
            </p:nvSpPr>
            <p:spPr>
              <a:xfrm>
                <a:off x="7848720" y="2944800"/>
                <a:ext cx="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7010280" y="180180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−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4" name=""/>
            <p:cNvSpPr/>
            <p:nvPr/>
          </p:nvSpPr>
          <p:spPr>
            <a:xfrm>
              <a:off x="4813200" y="887040"/>
              <a:ext cx="33354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IRCUIT IN STEADY 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RIOR TO SWIT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6400800" y="4087800"/>
                <a:ext cx="1689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4706640" y="489528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702320" y="530712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4702320" y="5688000"/>
                <a:ext cx="35049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9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9" name=""/>
          <p:cNvGrpSpPr/>
          <p:nvPr/>
        </p:nvGrpSpPr>
        <p:grpSpPr>
          <a:xfrm>
            <a:off x="2743200" y="1063800"/>
            <a:ext cx="645840" cy="2403360"/>
            <a:chOff x="2743200" y="1063800"/>
            <a:chExt cx="645840" cy="2403360"/>
          </a:xfrm>
        </p:grpSpPr>
        <p:grpSp>
          <p:nvGrpSpPr>
            <p:cNvPr id="510" name=""/>
            <p:cNvGrpSpPr/>
            <p:nvPr/>
          </p:nvGrpSpPr>
          <p:grpSpPr>
            <a:xfrm>
              <a:off x="2743200" y="1063800"/>
              <a:ext cx="446040" cy="2403360"/>
              <a:chOff x="2743200" y="1063800"/>
              <a:chExt cx="446040" cy="2403360"/>
            </a:xfrm>
          </p:grpSpPr>
          <p:sp>
            <p:nvSpPr>
              <p:cNvPr id="511" name=""/>
              <p:cNvSpPr/>
              <p:nvPr/>
            </p:nvSpPr>
            <p:spPr>
              <a:xfrm>
                <a:off x="2743200" y="1063800"/>
                <a:ext cx="444600" cy="2403360"/>
              </a:xfrm>
              <a:custGeom>
                <a:avLst/>
                <a:gdLst/>
                <a:ahLst/>
                <a:rect l="l" t="t" r="r" b="b"/>
                <a:pathLst>
                  <a:path w="280" h="1514">
                    <a:moveTo>
                      <a:pt x="0" y="1348"/>
                    </a:moveTo>
                    <a:cubicBezTo>
                      <a:pt x="0" y="899"/>
                      <a:pt x="0" y="449"/>
                      <a:pt x="0" y="0"/>
                    </a:cubicBezTo>
                    <a:cubicBezTo>
                      <a:pt x="93" y="3"/>
                      <a:pt x="280" y="8"/>
                      <a:pt x="280" y="8"/>
                    </a:cubicBezTo>
                    <a:cubicBezTo>
                      <a:pt x="268" y="466"/>
                      <a:pt x="238" y="922"/>
                      <a:pt x="218" y="1380"/>
                    </a:cubicBezTo>
                    <a:cubicBezTo>
                      <a:pt x="221" y="1421"/>
                      <a:pt x="250" y="1470"/>
                      <a:pt x="226" y="1504"/>
                    </a:cubicBezTo>
                    <a:cubicBezTo>
                      <a:pt x="219" y="1514"/>
                      <a:pt x="88" y="1512"/>
                      <a:pt x="62" y="151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2" name=""/>
                  <p:cNvSpPr txBox="1"/>
                  <p:nvPr/>
                </p:nvSpPr>
                <p:spPr>
                  <a:xfrm>
                    <a:off x="2770200" y="121932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13" name=""/>
                <p:cNvSpPr txBox="1"/>
                <p:nvPr/>
              </p:nvSpPr>
              <p:spPr>
                <a:xfrm>
                  <a:off x="3124080" y="2590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080" y="-720"/>
            <a:ext cx="26496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9160" y="0"/>
            <a:ext cx="48898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THEVENIN TO OBTAIN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7320" y="425520"/>
            <a:ext cx="56671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btain the voltage across the capaci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 the current through the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152280" y="1189080"/>
          <a:ext cx="308772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89080"/>
                    <a:ext cx="30877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/>
          <p:cNvSpPr/>
          <p:nvPr/>
        </p:nvSpPr>
        <p:spPr>
          <a:xfrm>
            <a:off x="342900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12280" y="2286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5105520" y="1447920"/>
          <a:ext cx="2895480" cy="17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447920"/>
                    <a:ext cx="289548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73080" y="3402000"/>
          <a:ext cx="2670120" cy="216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0" y="3402000"/>
                    <a:ext cx="26701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4495680" y="3460680"/>
          <a:ext cx="2641680" cy="210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460680"/>
                    <a:ext cx="264168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2369160" y="35463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CL@ nod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066320" y="3809880"/>
            <a:ext cx="840240" cy="489240"/>
            <a:chOff x="1066320" y="3809880"/>
            <a:chExt cx="840240" cy="489240"/>
          </a:xfrm>
        </p:grpSpPr>
        <p:sp>
          <p:nvSpPr>
            <p:cNvPr id="532" name=""/>
            <p:cNvSpPr/>
            <p:nvPr/>
          </p:nvSpPr>
          <p:spPr>
            <a:xfrm>
              <a:off x="1600200" y="38862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1066320" y="3962520"/>
              <a:ext cx="381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1676520" y="3809880"/>
                  <a:ext cx="23004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1143000" y="3886200"/>
                  <a:ext cx="29052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666880" y="3809880"/>
                <a:ext cx="10670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666880" y="4191120"/>
                <a:ext cx="12193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666880" y="4884840"/>
                <a:ext cx="14479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219400" y="5619600"/>
                <a:ext cx="2352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2320" y="6111720"/>
                <a:ext cx="2306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7075800" y="3470400"/>
            <a:ext cx="114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K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486400" y="3886200"/>
            <a:ext cx="1289160" cy="971640"/>
            <a:chOff x="5486400" y="3886200"/>
            <a:chExt cx="1289160" cy="971640"/>
          </a:xfrm>
        </p:grpSpPr>
        <mc:AlternateContent>
          <mc:Choice xmlns:a14="http://schemas.microsoft.com/office/drawing/2010/main" Requires="a14">
            <p:sp>
              <p:nvSpPr>
                <p:cNvPr id="543" name=""/>
                <p:cNvSpPr txBox="1"/>
                <p:nvPr/>
              </p:nvSpPr>
              <p:spPr>
                <a:xfrm>
                  <a:off x="5486400" y="3886200"/>
                  <a:ext cx="6858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4" name=""/>
                <p:cNvSpPr txBox="1"/>
                <p:nvPr/>
              </p:nvSpPr>
              <p:spPr>
                <a:xfrm>
                  <a:off x="6477120" y="3962520"/>
                  <a:ext cx="2984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470720" y="3733920"/>
                <a:ext cx="1441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467480" y="4114800"/>
                <a:ext cx="1244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7467480" y="4495680"/>
                <a:ext cx="12193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6962760" y="5257800"/>
                <a:ext cx="21812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5021280" y="5969160"/>
                <a:ext cx="2674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640640" y="6134040"/>
                <a:ext cx="436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51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54080" y="41400"/>
            <a:ext cx="11408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76320" y="466560"/>
          <a:ext cx="3581280" cy="31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66560"/>
                    <a:ext cx="358128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165600" y="3470400"/>
            <a:ext cx="443268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variable of interest i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current. The model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228600" y="4114800"/>
                <a:ext cx="23623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105480" y="5070600"/>
            <a:ext cx="4432680" cy="3682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d the solution is of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62120" y="5486400"/>
                <a:ext cx="2895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1" name=""/>
          <p:cNvGraphicFramePr/>
          <p:nvPr/>
        </p:nvGraphicFramePr>
        <p:xfrm>
          <a:off x="4595760" y="44280"/>
          <a:ext cx="3532320" cy="285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5760" y="44280"/>
                    <a:ext cx="353232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800600" y="2935440"/>
                <a:ext cx="8064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5638680" y="2971800"/>
                <a:ext cx="263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095880" y="2971800"/>
                <a:ext cx="762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6858000" y="2971800"/>
                <a:ext cx="17524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4800600" y="3581280"/>
                <a:ext cx="2438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181480" y="4419720"/>
                <a:ext cx="243864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5029200" y="5183280"/>
                <a:ext cx="3581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6095880" y="5934240"/>
                <a:ext cx="23623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4648320" y="4419720"/>
            <a:ext cx="2286000" cy="2209680"/>
            <a:chOff x="4648320" y="4419720"/>
            <a:chExt cx="2286000" cy="2209680"/>
          </a:xfrm>
        </p:grpSpPr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4670280" y="6095880"/>
                  <a:ext cx="132732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3" name=""/>
            <p:cNvSpPr/>
            <p:nvPr/>
          </p:nvSpPr>
          <p:spPr>
            <a:xfrm>
              <a:off x="6705720" y="4419720"/>
              <a:ext cx="228600" cy="7617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48320" y="6019920"/>
              <a:ext cx="137160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5" name="" descr=""/>
          <p:cNvPicPr/>
          <p:nvPr/>
        </p:nvPicPr>
        <p:blipFill>
          <a:blip r:embed="rId5">
            <a:alphaModFix amt="50000"/>
          </a:blip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8200" y="6490440"/>
            <a:ext cx="33354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xt: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0440" y="304920"/>
            <a:ext cx="860832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ONVENTIONAL ANALYSIS USING MATHEMATICAL MODELS REQUIRES THE DETERMIN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(A SET OF) EQUATIONS THAT REPRESENT THE CIRCU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CE THE MODEL IS OBTAINED ANALYSIS REQUIRES THE SOLUTION OF THE EQUATIONS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ASES REQUI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240" y="1219320"/>
            <a:ext cx="83952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EXAMPLE IN NODE OR LOOP ANALYSIS OF RESISTIVE CIRCUITS ONE REPRESENTS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 BY A SET OF ALGEBRAIC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7240" y="3156120"/>
            <a:ext cx="82882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EN THERE ARE INDUCTORS OR CAPACITORS THE MODELS BECOME LINEAR ORDIN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FFERENTIAL EQUATIONS (ODEs). HENCE, IN GENERAL, ONE NEEDS ALL THOSE TOO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ORDER TO BE ABLE TO ANALYZE CIRCUITS WITH ENERGY STORING EL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5880" y="-11160"/>
            <a:ext cx="7495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ALYSIS OF LINEAR CIRCUITS WITH INDUCTORS AND/OR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4840" y="4556160"/>
            <a:ext cx="8715240" cy="1585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GENERAL APPROACH CAN BE SIMPLIFIED IN SOME SPECIAL CASES WHEN THE 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SOLUTION CAN BE KNOWN BEFOREHAN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ANALYSIS IN THESE CASES BECOMES A SIMPLE MATTER OF DETERMINING S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RAMET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WO SUCH CASES WILL BE DISCUSSED IN DETAIL FOR THE CASE OF CONSTANT SOURC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E THAT ASSUMES THE AVAILABILITY OF THE DIFFERENTIAL EQUATION AND A SECO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IS ENTIRELY BASED ON ELEMENTARY CIRCUIT ANALYSIS… BUT IT IS NORMALLY LO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040" y="3946680"/>
            <a:ext cx="8075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METHOD BASED ON THEVENIN WILL BE DEVELOPED TO DERIVE MATHEMATICAL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ANY ARBITRARY LINEAR CIRCUIT WITH ONE ENERGY STORING EL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720" y="6324480"/>
            <a:ext cx="85017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WILL ALSO DISCUSS THE PERFORMANCE OF LINEAR CIRCUITS TO OTHER SIMPLE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04920" y="1752480"/>
            <a:ext cx="7332480" cy="1470240"/>
            <a:chOff x="304920" y="1752480"/>
            <a:chExt cx="7332480" cy="1470240"/>
          </a:xfrm>
        </p:grpSpPr>
        <p:graphicFrame>
          <p:nvGraphicFramePr>
            <p:cNvPr id="58" name=""/>
            <p:cNvGraphicFramePr/>
            <p:nvPr/>
          </p:nvGraphicFramePr>
          <p:xfrm>
            <a:off x="304920" y="1752480"/>
            <a:ext cx="3276360" cy="1470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1752480"/>
                      <a:ext cx="3276360" cy="14702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60" name=""/>
            <p:cNvGrpSpPr/>
            <p:nvPr/>
          </p:nvGrpSpPr>
          <p:grpSpPr>
            <a:xfrm>
              <a:off x="3754080" y="1981080"/>
              <a:ext cx="3883320" cy="771480"/>
              <a:chOff x="3754080" y="1981080"/>
              <a:chExt cx="3883320" cy="771480"/>
            </a:xfrm>
          </p:grpSpPr>
          <p:graphicFrame>
            <p:nvGraphicFramePr>
              <p:cNvPr id="61" name=""/>
              <p:cNvGraphicFramePr/>
              <p:nvPr/>
            </p:nvGraphicFramePr>
            <p:xfrm>
              <a:off x="4740120" y="1981080"/>
              <a:ext cx="2897280" cy="7714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6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740120" y="1981080"/>
                        <a:ext cx="2897280" cy="771480"/>
                      </a:xfrm>
                      <a:prstGeom prst="rect">
                        <a:avLst/>
                      </a:prstGeom>
                      <a:ln w="255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63" name=""/>
              <p:cNvSpPr/>
              <p:nvPr/>
            </p:nvSpPr>
            <p:spPr>
              <a:xfrm>
                <a:off x="3754080" y="1981080"/>
                <a:ext cx="114084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THE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0" y="3657600"/>
          <a:ext cx="44388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57600"/>
                    <a:ext cx="44388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1" name=""/>
          <p:cNvGrpSpPr/>
          <p:nvPr/>
        </p:nvGrpSpPr>
        <p:grpSpPr>
          <a:xfrm>
            <a:off x="4890960" y="3962520"/>
            <a:ext cx="3746880" cy="996840"/>
            <a:chOff x="4890960" y="3962520"/>
            <a:chExt cx="3746880" cy="996840"/>
          </a:xfrm>
        </p:grpSpPr>
        <p:sp>
          <p:nvSpPr>
            <p:cNvPr id="582" name=""/>
            <p:cNvSpPr/>
            <p:nvPr/>
          </p:nvSpPr>
          <p:spPr>
            <a:xfrm>
              <a:off x="4890960" y="3962520"/>
              <a:ext cx="37468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ince K1=0 the solution 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5562720" y="4343400"/>
                  <a:ext cx="245736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den>
                          </m:f>
                        </m:sup>
                      </m:sSup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4" name=""/>
          <p:cNvGrpSpPr/>
          <p:nvPr/>
        </p:nvGrpSpPr>
        <p:grpSpPr>
          <a:xfrm>
            <a:off x="5124240" y="4876920"/>
            <a:ext cx="3333960" cy="658800"/>
            <a:chOff x="5124240" y="4876920"/>
            <a:chExt cx="3333960" cy="658800"/>
          </a:xfrm>
        </p:grpSpPr>
        <p:sp>
          <p:nvSpPr>
            <p:cNvPr id="585" name=""/>
            <p:cNvSpPr/>
            <p:nvPr/>
          </p:nvSpPr>
          <p:spPr>
            <a:xfrm>
              <a:off x="5124240" y="50292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Evaluating at 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7580160" y="4876920"/>
                  <a:ext cx="8780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5505480" y="5502240"/>
                <a:ext cx="2835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88" name=""/>
          <p:cNvGraphicFramePr/>
          <p:nvPr/>
        </p:nvGraphicFramePr>
        <p:xfrm>
          <a:off x="0" y="838080"/>
          <a:ext cx="3581280" cy="267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838080"/>
                    <a:ext cx="358128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0" name=""/>
          <p:cNvGrpSpPr/>
          <p:nvPr/>
        </p:nvGrpSpPr>
        <p:grpSpPr>
          <a:xfrm>
            <a:off x="838080" y="4267080"/>
            <a:ext cx="990720" cy="799920"/>
            <a:chOff x="838080" y="4267080"/>
            <a:chExt cx="990720" cy="799920"/>
          </a:xfrm>
        </p:grpSpPr>
        <p:sp>
          <p:nvSpPr>
            <p:cNvPr id="591" name=""/>
            <p:cNvSpPr/>
            <p:nvPr/>
          </p:nvSpPr>
          <p:spPr>
            <a:xfrm>
              <a:off x="838080" y="4267080"/>
              <a:ext cx="990720" cy="799920"/>
            </a:xfrm>
            <a:custGeom>
              <a:avLst/>
              <a:gdLst/>
              <a:ahLst/>
              <a:rect l="l" t="t" r="r" b="b"/>
              <a:pathLst>
                <a:path w="624" h="504">
                  <a:moveTo>
                    <a:pt x="80" y="408"/>
                  </a:moveTo>
                  <a:cubicBezTo>
                    <a:pt x="40" y="268"/>
                    <a:pt x="0" y="128"/>
                    <a:pt x="80" y="72"/>
                  </a:cubicBezTo>
                  <a:cubicBezTo>
                    <a:pt x="160" y="16"/>
                    <a:pt x="496" y="0"/>
                    <a:pt x="560" y="72"/>
                  </a:cubicBezTo>
                  <a:cubicBezTo>
                    <a:pt x="624" y="144"/>
                    <a:pt x="480" y="432"/>
                    <a:pt x="464" y="504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2" name=""/>
                <p:cNvSpPr txBox="1"/>
                <p:nvPr/>
              </p:nvSpPr>
              <p:spPr>
                <a:xfrm>
                  <a:off x="1249200" y="4381200"/>
                  <a:ext cx="1443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3" name=""/>
          <p:cNvGrpSpPr/>
          <p:nvPr/>
        </p:nvGrpSpPr>
        <p:grpSpPr>
          <a:xfrm>
            <a:off x="914400" y="5334120"/>
            <a:ext cx="901800" cy="888840"/>
            <a:chOff x="914400" y="5334120"/>
            <a:chExt cx="901800" cy="888840"/>
          </a:xfrm>
        </p:grpSpPr>
        <p:sp>
          <p:nvSpPr>
            <p:cNvPr id="594" name=""/>
            <p:cNvSpPr/>
            <p:nvPr/>
          </p:nvSpPr>
          <p:spPr>
            <a:xfrm>
              <a:off x="914400" y="5334120"/>
              <a:ext cx="901800" cy="888840"/>
            </a:xfrm>
            <a:custGeom>
              <a:avLst/>
              <a:gdLst/>
              <a:ahLst/>
              <a:rect l="l" t="t" r="r" b="b"/>
              <a:pathLst>
                <a:path w="568" h="560">
                  <a:moveTo>
                    <a:pt x="72" y="560"/>
                  </a:moveTo>
                  <a:cubicBezTo>
                    <a:pt x="36" y="360"/>
                    <a:pt x="0" y="160"/>
                    <a:pt x="72" y="80"/>
                  </a:cubicBezTo>
                  <a:cubicBezTo>
                    <a:pt x="144" y="0"/>
                    <a:pt x="440" y="8"/>
                    <a:pt x="504" y="80"/>
                  </a:cubicBezTo>
                  <a:cubicBezTo>
                    <a:pt x="568" y="152"/>
                    <a:pt x="512" y="332"/>
                    <a:pt x="456" y="512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1333800" y="5461200"/>
                  <a:ext cx="20304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6" name=""/>
          <p:cNvGrpSpPr/>
          <p:nvPr/>
        </p:nvGrpSpPr>
        <p:grpSpPr>
          <a:xfrm>
            <a:off x="1981080" y="4038480"/>
            <a:ext cx="901440" cy="2108160"/>
            <a:chOff x="1981080" y="4038480"/>
            <a:chExt cx="901440" cy="2108160"/>
          </a:xfrm>
        </p:grpSpPr>
        <p:sp>
          <p:nvSpPr>
            <p:cNvPr id="597" name=""/>
            <p:cNvSpPr/>
            <p:nvPr/>
          </p:nvSpPr>
          <p:spPr>
            <a:xfrm>
              <a:off x="1981080" y="4038480"/>
              <a:ext cx="901440" cy="2108160"/>
            </a:xfrm>
            <a:custGeom>
              <a:avLst/>
              <a:gdLst/>
              <a:ahLst/>
              <a:rect l="l" t="t" r="r" b="b"/>
              <a:pathLst>
                <a:path w="568" h="1328">
                  <a:moveTo>
                    <a:pt x="112" y="1328"/>
                  </a:moveTo>
                  <a:cubicBezTo>
                    <a:pt x="56" y="840"/>
                    <a:pt x="0" y="352"/>
                    <a:pt x="64" y="176"/>
                  </a:cubicBezTo>
                  <a:cubicBezTo>
                    <a:pt x="128" y="0"/>
                    <a:pt x="424" y="88"/>
                    <a:pt x="496" y="272"/>
                  </a:cubicBezTo>
                  <a:cubicBezTo>
                    <a:pt x="568" y="456"/>
                    <a:pt x="532" y="868"/>
                    <a:pt x="496" y="128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8" name=""/>
                <p:cNvSpPr txBox="1"/>
                <p:nvPr/>
              </p:nvSpPr>
              <p:spPr>
                <a:xfrm>
                  <a:off x="2463480" y="5079960"/>
                  <a:ext cx="2224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4191120" y="152280"/>
                <a:ext cx="274320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191120" y="533520"/>
                <a:ext cx="2971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4191120" y="838080"/>
                <a:ext cx="26668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7620120" y="609480"/>
                <a:ext cx="1054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5334120" y="1905120"/>
                <a:ext cx="29718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lution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79200" y="0"/>
                <a:ext cx="3426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Use steady sta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ption and continuity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or curr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05" name=""/>
          <p:cNvGrpSpPr/>
          <p:nvPr/>
        </p:nvGrpSpPr>
        <p:grpSpPr>
          <a:xfrm>
            <a:off x="762120" y="4952880"/>
            <a:ext cx="2286000" cy="1371600"/>
            <a:chOff x="762120" y="4952880"/>
            <a:chExt cx="2286000" cy="1371600"/>
          </a:xfrm>
        </p:grpSpPr>
        <p:sp>
          <p:nvSpPr>
            <p:cNvPr id="606" name=""/>
            <p:cNvSpPr/>
            <p:nvPr/>
          </p:nvSpPr>
          <p:spPr>
            <a:xfrm>
              <a:off x="762120" y="5105520"/>
              <a:ext cx="152280" cy="22860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895480" y="6095880"/>
              <a:ext cx="152640" cy="228600"/>
            </a:xfrm>
            <a:prstGeom prst="ellipse">
              <a:avLst/>
            </a:prstGeom>
            <a:solidFill>
              <a:srgbClr val="993366"/>
            </a:solidFill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1828800" y="4952880"/>
              <a:ext cx="353880" cy="381240"/>
              <a:chOff x="1828800" y="4952880"/>
              <a:chExt cx="353880" cy="381240"/>
            </a:xfrm>
          </p:grpSpPr>
          <p:sp>
            <p:nvSpPr>
              <p:cNvPr id="609" name=""/>
              <p:cNvSpPr/>
              <p:nvPr/>
            </p:nvSpPr>
            <p:spPr>
              <a:xfrm>
                <a:off x="1828800" y="5105520"/>
                <a:ext cx="152280" cy="228600"/>
              </a:xfrm>
              <a:prstGeom prst="ellipse">
                <a:avLst/>
              </a:prstGeom>
              <a:solidFill>
                <a:srgbClr val="ccffcc"/>
              </a:solidFill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10" name=""/>
                  <p:cNvSpPr txBox="1"/>
                  <p:nvPr/>
                </p:nvSpPr>
                <p:spPr>
                  <a:xfrm>
                    <a:off x="1981080" y="495288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191120" y="1295280"/>
                <a:ext cx="2641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2" name=""/>
          <p:cNvGrpSpPr/>
          <p:nvPr/>
        </p:nvGrpSpPr>
        <p:grpSpPr>
          <a:xfrm>
            <a:off x="914400" y="4038480"/>
            <a:ext cx="3670200" cy="1930680"/>
            <a:chOff x="914400" y="4038480"/>
            <a:chExt cx="3670200" cy="1930680"/>
          </a:xfrm>
        </p:grpSpPr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3048120" y="5410080"/>
                  <a:ext cx="15364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4" name=""/>
            <p:cNvSpPr/>
            <p:nvPr/>
          </p:nvSpPr>
          <p:spPr>
            <a:xfrm>
              <a:off x="914400" y="4038480"/>
              <a:ext cx="83808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1828800" y="4191120"/>
              <a:ext cx="0" cy="91440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7110360" y="197640"/>
            <a:ext cx="19638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oop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34320" y="1385280"/>
            <a:ext cx="19796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d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1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1" name=""/>
          <p:cNvGraphicFramePr/>
          <p:nvPr/>
        </p:nvGraphicFramePr>
        <p:xfrm>
          <a:off x="-76320" y="76320"/>
          <a:ext cx="495324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76320"/>
                    <a:ext cx="495324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"/>
          <p:cNvSpPr/>
          <p:nvPr/>
        </p:nvSpPr>
        <p:spPr>
          <a:xfrm>
            <a:off x="154080" y="41400"/>
            <a:ext cx="11408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2203560" y="1143000"/>
                <a:ext cx="768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5" name=""/>
          <p:cNvGrpSpPr/>
          <p:nvPr/>
        </p:nvGrpSpPr>
        <p:grpSpPr>
          <a:xfrm>
            <a:off x="228600" y="2286000"/>
            <a:ext cx="4433040" cy="1404720"/>
            <a:chOff x="228600" y="2286000"/>
            <a:chExt cx="4433040" cy="1404720"/>
          </a:xfrm>
        </p:grpSpPr>
        <mc:AlternateContent>
          <mc:Choice xmlns:a14="http://schemas.microsoft.com/office/drawing/2010/main" Requires="a14">
            <p:sp>
              <p:nvSpPr>
                <p:cNvPr id="626" name=""/>
                <p:cNvSpPr txBox="1"/>
                <p:nvPr/>
              </p:nvSpPr>
              <p:spPr>
                <a:xfrm>
                  <a:off x="228600" y="2286000"/>
                  <a:ext cx="24638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6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7" name=""/>
            <p:cNvSpPr/>
            <p:nvPr/>
          </p:nvSpPr>
          <p:spPr>
            <a:xfrm>
              <a:off x="228960" y="3048120"/>
              <a:ext cx="443268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Hence, if the capacitor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s known the problem is solv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234720" y="3699000"/>
            <a:ext cx="2584800" cy="1212840"/>
            <a:chOff x="234720" y="3699000"/>
            <a:chExt cx="2584800" cy="1212840"/>
          </a:xfrm>
        </p:grpSpPr>
        <p:sp>
          <p:nvSpPr>
            <p:cNvPr id="629" name=""/>
            <p:cNvSpPr/>
            <p:nvPr/>
          </p:nvSpPr>
          <p:spPr>
            <a:xfrm>
              <a:off x="234720" y="3699000"/>
              <a:ext cx="1963800" cy="36828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Model for v_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0" name=""/>
                <p:cNvSpPr txBox="1"/>
                <p:nvPr/>
              </p:nvSpPr>
              <p:spPr>
                <a:xfrm>
                  <a:off x="380880" y="4114800"/>
                  <a:ext cx="2438640" cy="79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31" name=""/>
          <p:cNvGraphicFramePr/>
          <p:nvPr/>
        </p:nvGraphicFramePr>
        <p:xfrm>
          <a:off x="0" y="4724280"/>
          <a:ext cx="4952880" cy="19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724280"/>
                    <a:ext cx="495288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2133720" y="5170320"/>
                <a:ext cx="9144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638680" y="762120"/>
                <a:ext cx="236232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 rot="10800000">
                <a:off x="6095880" y="256320"/>
                <a:ext cx="1219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5245200" y="1219320"/>
                <a:ext cx="31543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410080" y="1820880"/>
                <a:ext cx="24177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d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7010280" y="3048120"/>
                <a:ext cx="1765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5181480" y="3733920"/>
                <a:ext cx="35578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800600" y="4572000"/>
                <a:ext cx="8380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1" name=""/>
          <p:cNvSpPr/>
          <p:nvPr/>
        </p:nvSpPr>
        <p:spPr>
          <a:xfrm>
            <a:off x="5255640" y="5146560"/>
            <a:ext cx="360972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w we need to deter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initial value v_c(0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continuity and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ady state 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43800" y="2362320"/>
            <a:ext cx="304920" cy="1371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6" name=""/>
          <p:cNvGraphicFramePr/>
          <p:nvPr/>
        </p:nvGraphicFramePr>
        <p:xfrm>
          <a:off x="0" y="0"/>
          <a:ext cx="4952880" cy="23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952880" cy="23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1523880" y="2438280"/>
                <a:ext cx="15940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9" name=""/>
          <p:cNvGrpSpPr/>
          <p:nvPr/>
        </p:nvGrpSpPr>
        <p:grpSpPr>
          <a:xfrm>
            <a:off x="122760" y="3062160"/>
            <a:ext cx="4432680" cy="849600"/>
            <a:chOff x="122760" y="3062160"/>
            <a:chExt cx="4432680" cy="849600"/>
          </a:xfrm>
        </p:grpSpPr>
        <p:sp>
          <p:nvSpPr>
            <p:cNvPr id="650" name=""/>
            <p:cNvSpPr/>
            <p:nvPr/>
          </p:nvSpPr>
          <p:spPr>
            <a:xfrm>
              <a:off x="122760" y="3062160"/>
              <a:ext cx="4432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ontinuity of capacitor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1" name=""/>
                <p:cNvSpPr txBox="1"/>
                <p:nvPr/>
              </p:nvSpPr>
              <p:spPr>
                <a:xfrm>
                  <a:off x="1523880" y="3505320"/>
                  <a:ext cx="15242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80880" y="4038480"/>
                <a:ext cx="19814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80880" y="4419720"/>
                <a:ext cx="22100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52280" y="4952880"/>
                <a:ext cx="2819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371600" y="5600880"/>
                <a:ext cx="2514600" cy="71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7854120" y="5638320"/>
            <a:ext cx="1288440" cy="1215000"/>
            <a:chOff x="7854120" y="5638320"/>
            <a:chExt cx="1288440" cy="1215000"/>
          </a:xfrm>
        </p:grpSpPr>
        <p:pic>
          <p:nvPicPr>
            <p:cNvPr id="658" name="" descr=""/>
            <p:cNvPicPr/>
            <p:nvPr/>
          </p:nvPicPr>
          <p:blipFill>
            <a:blip r:embed="rId3"/>
            <a:stretch/>
          </p:blipFill>
          <p:spPr>
            <a:xfrm>
              <a:off x="86281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7854120" y="5638320"/>
              <a:ext cx="127800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 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ppro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62120" y="3809880"/>
          <a:ext cx="7537320" cy="30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09880"/>
                    <a:ext cx="753732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02600" y="54000"/>
            <a:ext cx="2466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AN 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20" y="488880"/>
            <a:ext cx="8715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DUCTORS AND CAPACITORS CAN STORE ENERGY. UNDER SUITABLE CONDITIONS THIS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N BE RELEASED. THE RATE AT WHICH IT IS RELEASED WILL DEPEND ON THE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CIRCUIT CONNECTED TO THE TERMINALS OF THE ENERGY STORING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320" y="1219320"/>
          <a:ext cx="4867200" cy="29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1219320"/>
                    <a:ext cx="486720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804480" y="1430280"/>
            <a:ext cx="5214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e switch on the  left the capacitor rece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arge from the batt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606200" y="1828800"/>
            <a:ext cx="4461480" cy="2681280"/>
            <a:chOff x="4606200" y="1828800"/>
            <a:chExt cx="4461480" cy="2681280"/>
          </a:xfrm>
        </p:grpSpPr>
        <p:graphicFrame>
          <p:nvGraphicFramePr>
            <p:cNvPr id="76" name=""/>
            <p:cNvGraphicFramePr/>
            <p:nvPr/>
          </p:nvGraphicFramePr>
          <p:xfrm>
            <a:off x="6792840" y="1828800"/>
            <a:ext cx="2274840" cy="2681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792840" y="1828800"/>
                      <a:ext cx="2274840" cy="26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6613560" y="367344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06200" y="2514600"/>
              <a:ext cx="215424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witch to the r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 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scharges throu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l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648320" y="762120"/>
                <a:ext cx="3733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2400" y="0"/>
            <a:ext cx="53928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ENERAL RESPONSE: FIRST ORDER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7240" y="2430360"/>
                <a:ext cx="35038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6920" y="380880"/>
            <a:ext cx="456984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cluding the initi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model for the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voltage or the inductor cu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will be shown to be of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360" y="3165480"/>
            <a:ext cx="470700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olving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integrating factors,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ries to convert the LHS into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ct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8080" y="4343400"/>
                <a:ext cx="2251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/*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28600" y="5029200"/>
                <a:ext cx="27432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69800" y="5942160"/>
                <a:ext cx="22734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4280" y="5848200"/>
                <a:ext cx="4129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19720" y="1676520"/>
                <a:ext cx="46926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62120" y="1676520"/>
                <a:ext cx="33526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637880" y="2895480"/>
            <a:ext cx="455472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S EXPRESSION ALLOWS THE COMPU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RESPONSE FOR ANY FORCING FUN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WILL CONCENTRATE IN THE SPECIAL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EN THE RIGHT HAND SIDE IS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8381880" y="914400"/>
                <a:ext cx="5828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800600" y="4038480"/>
                <a:ext cx="40384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is called the </m:t>
                        </m:r>
                        <m:r>
                          <m:t xml:space="preserve">time</m:t>
                        </m:r>
                        <m:r>
                          <m:t xml:space="preserve">constant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t will be shown to provide significa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formation on the reaction speed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609480" y="2057400"/>
            <a:ext cx="5257800" cy="1066680"/>
            <a:chOff x="609480" y="2057400"/>
            <a:chExt cx="5257800" cy="1066680"/>
          </a:xfrm>
        </p:grpSpPr>
        <p:sp>
          <p:nvSpPr>
            <p:cNvPr id="98" name=""/>
            <p:cNvSpPr/>
            <p:nvPr/>
          </p:nvSpPr>
          <p:spPr>
            <a:xfrm>
              <a:off x="609480" y="2590920"/>
              <a:ext cx="30492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38680" y="2057400"/>
              <a:ext cx="228600" cy="152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029200" y="5410080"/>
                <a:ext cx="35812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initial time,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is arbitrar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eral expression can be used t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udy sequential switching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5360" y="76320"/>
            <a:ext cx="3609720" cy="6426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IRST ORDER CIRCUIT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0" y="1631880"/>
                <a:ext cx="45165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33520" y="762120"/>
                <a:ext cx="35020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225000" y="3165480"/>
            <a:ext cx="31982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f the RHS is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" y="3657600"/>
                <a:ext cx="38098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28600" y="4681440"/>
                <a:ext cx="2666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8600" y="5562720"/>
                <a:ext cx="388620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876920" y="0"/>
                <a:ext cx="37335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τe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τ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72000" y="1066680"/>
                <a:ext cx="4572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605480" y="2087640"/>
                <a:ext cx="453852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8077320" y="2895480"/>
                <a:ext cx="6858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4891320" y="3429000"/>
            <a:ext cx="38840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rm of the solution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52880" y="3809880"/>
                <a:ext cx="31244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425840" y="4800600"/>
            <a:ext cx="4707000" cy="642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y variable in the circuit i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257800" y="5410080"/>
                <a:ext cx="304812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11160" y="6095880"/>
            <a:ext cx="45698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nly the values of the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_1, K_2 wil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400800" y="4495680"/>
            <a:ext cx="2748600" cy="307080"/>
            <a:chOff x="6400800" y="4495680"/>
            <a:chExt cx="2748600" cy="307080"/>
          </a:xfrm>
        </p:grpSpPr>
        <p:sp>
          <p:nvSpPr>
            <p:cNvPr id="121" name=""/>
            <p:cNvSpPr/>
            <p:nvPr/>
          </p:nvSpPr>
          <p:spPr>
            <a:xfrm>
              <a:off x="8008560" y="4495680"/>
              <a:ext cx="1140840" cy="307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RANS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4495680"/>
              <a:ext cx="2057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010280" y="3825720"/>
            <a:ext cx="2180880" cy="520200"/>
            <a:chOff x="7010280" y="3825720"/>
            <a:chExt cx="2180880" cy="520200"/>
          </a:xfrm>
        </p:grpSpPr>
        <p:sp>
          <p:nvSpPr>
            <p:cNvPr id="124" name=""/>
            <p:cNvSpPr/>
            <p:nvPr/>
          </p:nvSpPr>
          <p:spPr>
            <a:xfrm>
              <a:off x="7010280" y="4114800"/>
              <a:ext cx="228600" cy="152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56880" y="3825720"/>
              <a:ext cx="1034280" cy="52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ONS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676520" y="3886200"/>
          <a:ext cx="6289560" cy="27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86200"/>
                    <a:ext cx="628956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04920" y="46080"/>
          <a:ext cx="7924680" cy="31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6080"/>
                    <a:ext cx="7924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2889000" y="141120"/>
            <a:ext cx="6154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VOLUTION OF THE TRANSIENT AND INTERPRETATIO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IME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825804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51008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39765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4038480"/>
            <a:ext cx="29682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QUALITATIVE VIEW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MALLER THE THE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STANT THE FASTE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DISAPP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413400" y="2438280"/>
            <a:ext cx="2689560" cy="1309680"/>
            <a:chOff x="6413400" y="2438280"/>
            <a:chExt cx="2689560" cy="1309680"/>
          </a:xfrm>
        </p:grpSpPr>
        <p:sp>
          <p:nvSpPr>
            <p:cNvPr id="136" name=""/>
            <p:cNvSpPr/>
            <p:nvPr/>
          </p:nvSpPr>
          <p:spPr>
            <a:xfrm>
              <a:off x="6413400" y="2438280"/>
              <a:ext cx="567000" cy="681120"/>
            </a:xfrm>
            <a:custGeom>
              <a:avLst/>
              <a:gdLst/>
              <a:ahLst/>
              <a:rect l="l" t="t" r="r" b="b"/>
              <a:pathLst>
                <a:path w="357" h="429">
                  <a:moveTo>
                    <a:pt x="40" y="23"/>
                  </a:moveTo>
                  <a:cubicBezTo>
                    <a:pt x="22" y="92"/>
                    <a:pt x="23" y="167"/>
                    <a:pt x="1" y="234"/>
                  </a:cubicBezTo>
                  <a:cubicBezTo>
                    <a:pt x="4" y="281"/>
                    <a:pt x="0" y="328"/>
                    <a:pt x="9" y="374"/>
                  </a:cubicBezTo>
                  <a:cubicBezTo>
                    <a:pt x="15" y="403"/>
                    <a:pt x="85" y="416"/>
                    <a:pt x="110" y="429"/>
                  </a:cubicBezTo>
                  <a:cubicBezTo>
                    <a:pt x="166" y="421"/>
                    <a:pt x="245" y="422"/>
                    <a:pt x="297" y="390"/>
                  </a:cubicBezTo>
                  <a:cubicBezTo>
                    <a:pt x="339" y="332"/>
                    <a:pt x="332" y="249"/>
                    <a:pt x="344" y="179"/>
                  </a:cubicBezTo>
                  <a:cubicBezTo>
                    <a:pt x="341" y="137"/>
                    <a:pt x="357" y="90"/>
                    <a:pt x="336" y="54"/>
                  </a:cubicBezTo>
                  <a:cubicBezTo>
                    <a:pt x="322" y="31"/>
                    <a:pt x="284" y="39"/>
                    <a:pt x="258" y="31"/>
                  </a:cubicBezTo>
                  <a:cubicBezTo>
                    <a:pt x="214" y="18"/>
                    <a:pt x="216" y="18"/>
                    <a:pt x="180" y="0"/>
                  </a:cubicBezTo>
                  <a:cubicBezTo>
                    <a:pt x="144" y="5"/>
                    <a:pt x="118" y="7"/>
                    <a:pt x="86" y="2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50920" y="2923920"/>
              <a:ext cx="2552040" cy="8240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less than 2% err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ient is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yond thi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60280" y="1719360"/>
            <a:ext cx="4187880" cy="1990800"/>
            <a:chOff x="260280" y="1719360"/>
            <a:chExt cx="4187880" cy="1990800"/>
          </a:xfrm>
        </p:grpSpPr>
        <p:sp>
          <p:nvSpPr>
            <p:cNvPr id="139" name=""/>
            <p:cNvSpPr/>
            <p:nvPr/>
          </p:nvSpPr>
          <p:spPr>
            <a:xfrm>
              <a:off x="2403360" y="1719360"/>
              <a:ext cx="2044800" cy="1990800"/>
            </a:xfrm>
            <a:custGeom>
              <a:avLst/>
              <a:gdLst/>
              <a:ahLst/>
              <a:rect l="l" t="t" r="r" b="b"/>
              <a:pathLst>
                <a:path w="1288" h="1254">
                  <a:moveTo>
                    <a:pt x="52" y="0"/>
                  </a:moveTo>
                  <a:cubicBezTo>
                    <a:pt x="96" y="302"/>
                    <a:pt x="0" y="616"/>
                    <a:pt x="76" y="912"/>
                  </a:cubicBezTo>
                  <a:cubicBezTo>
                    <a:pt x="89" y="1024"/>
                    <a:pt x="80" y="960"/>
                    <a:pt x="115" y="1130"/>
                  </a:cubicBezTo>
                  <a:cubicBezTo>
                    <a:pt x="117" y="1140"/>
                    <a:pt x="111" y="1160"/>
                    <a:pt x="122" y="1161"/>
                  </a:cubicBezTo>
                  <a:cubicBezTo>
                    <a:pt x="468" y="1205"/>
                    <a:pt x="802" y="1227"/>
                    <a:pt x="1151" y="1239"/>
                  </a:cubicBezTo>
                  <a:cubicBezTo>
                    <a:pt x="1187" y="1242"/>
                    <a:pt x="1224" y="1254"/>
                    <a:pt x="1260" y="1247"/>
                  </a:cubicBezTo>
                  <a:cubicBezTo>
                    <a:pt x="1271" y="1245"/>
                    <a:pt x="1273" y="1227"/>
                    <a:pt x="1276" y="1216"/>
                  </a:cubicBezTo>
                  <a:cubicBezTo>
                    <a:pt x="1288" y="1167"/>
                    <a:pt x="1284" y="1099"/>
                    <a:pt x="1284" y="105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0280" y="3106800"/>
              <a:ext cx="288432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rops 0.632 of ini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lue in one time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596680" y="838080"/>
            <a:ext cx="4655160" cy="1662120"/>
            <a:chOff x="2596680" y="838080"/>
            <a:chExt cx="4655160" cy="1662120"/>
          </a:xfrm>
        </p:grpSpPr>
        <p:sp>
          <p:nvSpPr>
            <p:cNvPr id="142" name=""/>
            <p:cNvSpPr/>
            <p:nvPr/>
          </p:nvSpPr>
          <p:spPr>
            <a:xfrm>
              <a:off x="2596680" y="838080"/>
              <a:ext cx="4655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angent reaches x-axis in one time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17560" y="1201680"/>
              <a:ext cx="2152800" cy="1298520"/>
            </a:xfrm>
            <a:custGeom>
              <a:avLst/>
              <a:gdLst/>
              <a:ahLst/>
              <a:rect l="l" t="t" r="r" b="b"/>
              <a:pathLst>
                <a:path w="1356" h="818">
                  <a:moveTo>
                    <a:pt x="0" y="148"/>
                  </a:moveTo>
                  <a:cubicBezTo>
                    <a:pt x="57" y="127"/>
                    <a:pt x="115" y="108"/>
                    <a:pt x="171" y="85"/>
                  </a:cubicBezTo>
                  <a:cubicBezTo>
                    <a:pt x="203" y="72"/>
                    <a:pt x="232" y="51"/>
                    <a:pt x="265" y="39"/>
                  </a:cubicBezTo>
                  <a:cubicBezTo>
                    <a:pt x="320" y="19"/>
                    <a:pt x="374" y="16"/>
                    <a:pt x="429" y="0"/>
                  </a:cubicBezTo>
                  <a:cubicBezTo>
                    <a:pt x="657" y="26"/>
                    <a:pt x="755" y="26"/>
                    <a:pt x="1052" y="31"/>
                  </a:cubicBezTo>
                  <a:cubicBezTo>
                    <a:pt x="1077" y="114"/>
                    <a:pt x="1096" y="158"/>
                    <a:pt x="1145" y="226"/>
                  </a:cubicBezTo>
                  <a:cubicBezTo>
                    <a:pt x="1162" y="275"/>
                    <a:pt x="1179" y="307"/>
                    <a:pt x="1208" y="350"/>
                  </a:cubicBezTo>
                  <a:cubicBezTo>
                    <a:pt x="1221" y="369"/>
                    <a:pt x="1239" y="413"/>
                    <a:pt x="1239" y="413"/>
                  </a:cubicBezTo>
                  <a:cubicBezTo>
                    <a:pt x="1246" y="458"/>
                    <a:pt x="1255" y="502"/>
                    <a:pt x="1270" y="545"/>
                  </a:cubicBezTo>
                  <a:cubicBezTo>
                    <a:pt x="1285" y="632"/>
                    <a:pt x="1275" y="582"/>
                    <a:pt x="1309" y="717"/>
                  </a:cubicBezTo>
                  <a:cubicBezTo>
                    <a:pt x="1316" y="745"/>
                    <a:pt x="1314" y="779"/>
                    <a:pt x="1332" y="802"/>
                  </a:cubicBezTo>
                  <a:cubicBezTo>
                    <a:pt x="1338" y="810"/>
                    <a:pt x="1356" y="818"/>
                    <a:pt x="1356" y="8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3886200" y="2610000"/>
            <a:ext cx="5562720" cy="4171680"/>
            <a:chOff x="3886200" y="2610000"/>
            <a:chExt cx="5562720" cy="41716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3886200" y="2610000"/>
              <a:ext cx="5562720" cy="41716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7086600" y="5429160"/>
                  <a:ext cx="1219320" cy="42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" name=""/>
          <p:cNvSpPr/>
          <p:nvPr/>
        </p:nvSpPr>
        <p:spPr>
          <a:xfrm>
            <a:off x="22320" y="0"/>
            <a:ext cx="25124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TIME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280" y="457200"/>
            <a:ext cx="470700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llowing example illust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physical meaning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5120" y="2133720"/>
          <a:ext cx="1862280" cy="171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195120" y="2133720"/>
                    <a:ext cx="186228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84240" y="1752480"/>
            <a:ext cx="29239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harging a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33720" y="3048120"/>
            <a:ext cx="2306520" cy="1051920"/>
            <a:chOff x="2133720" y="3048120"/>
            <a:chExt cx="2306520" cy="1051920"/>
          </a:xfrm>
        </p:grpSpPr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133720" y="3389040"/>
                  <a:ext cx="230652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"/>
            <p:cNvSpPr/>
            <p:nvPr/>
          </p:nvSpPr>
          <p:spPr>
            <a:xfrm>
              <a:off x="2139480" y="3048120"/>
              <a:ext cx="14151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22760" y="4191120"/>
            <a:ext cx="4432680" cy="1054080"/>
            <a:chOff x="122760" y="4191120"/>
            <a:chExt cx="4432680" cy="1054080"/>
          </a:xfrm>
        </p:grpSpPr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228600" y="4191120"/>
                  <a:ext cx="189396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122760" y="4876920"/>
              <a:ext cx="4432680" cy="3682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solution can be shown to 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52280" y="5257800"/>
                <a:ext cx="212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743200" y="4267080"/>
                <a:ext cx="1219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1600200" y="5700600"/>
            <a:ext cx="2273400" cy="368280"/>
            <a:chOff x="1600200" y="5700600"/>
            <a:chExt cx="2273400" cy="368280"/>
          </a:xfrm>
        </p:grpSpPr>
        <p:sp>
          <p:nvSpPr>
            <p:cNvPr id="161" name=""/>
            <p:cNvSpPr/>
            <p:nvPr/>
          </p:nvSpPr>
          <p:spPr>
            <a:xfrm>
              <a:off x="1600200" y="586728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8440" y="5700600"/>
              <a:ext cx="1415160" cy="3682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rans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91800" y="6018120"/>
            <a:ext cx="415836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practical purpose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apacitor is charged whe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ransient is neglig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799160" y="76320"/>
                <a:ext cx="160164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t xml:space="preserve">t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τ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τ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8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τ</m:t>
                                </m:r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  <m:r>
                                        <m:t xml:space="preserve">τ</m:t>
                                      </m:r>
                                    </m:e>
                                  </m:mr>
                                  <m:m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4</m:t>
                                            </m:r>
                                            <m:r>
                                              <m:t xml:space="preserve">τ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5</m:t>
                                            </m:r>
                                            <m:r>
                                              <m:t xml:space="preserve">τ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5</m:t>
                                </m:r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498</m:t>
                                      </m:r>
                                    </m:e>
                                  </m:mr>
                                  <m:m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183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067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352560" y="1006560"/>
            <a:ext cx="2786760" cy="1191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With less than 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rror the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negligible 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ive time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2120" y="2743200"/>
            <a:ext cx="609480" cy="1397160"/>
            <a:chOff x="762120" y="2743200"/>
            <a:chExt cx="609480" cy="1397160"/>
          </a:xfrm>
        </p:grpSpPr>
        <p:sp>
          <p:nvSpPr>
            <p:cNvPr id="170" name=""/>
            <p:cNvSpPr/>
            <p:nvPr/>
          </p:nvSpPr>
          <p:spPr>
            <a:xfrm>
              <a:off x="1371600" y="27432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762120" y="3581280"/>
                  <a:ext cx="6094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2" name=""/>
          <p:cNvGrpSpPr/>
          <p:nvPr/>
        </p:nvGrpSpPr>
        <p:grpSpPr>
          <a:xfrm>
            <a:off x="0" y="2133720"/>
            <a:ext cx="1290600" cy="609480"/>
            <a:chOff x="0" y="2133720"/>
            <a:chExt cx="1290600" cy="609480"/>
          </a:xfrm>
        </p:grpSpPr>
        <p:sp>
          <p:nvSpPr>
            <p:cNvPr id="173" name=""/>
            <p:cNvSpPr/>
            <p:nvPr/>
          </p:nvSpPr>
          <p:spPr>
            <a:xfrm flipH="1">
              <a:off x="757080" y="274176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0" y="2133720"/>
                  <a:ext cx="749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133720" y="2133720"/>
                <a:ext cx="1815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@a : </m:t>
                        </m:r>
                      </m:e>
                      <m:e>
                        <m:r>
                          <m:t xml:space="preserve">C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3480" y="1219320"/>
            <a:ext cx="73130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 THE CIRCUIT HAS ONLY CONSTANT IN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64320" y="533520"/>
            <a:ext cx="4844160" cy="36828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DIFFERENTIAL EQUATION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92440" y="90360"/>
            <a:ext cx="5667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7360" y="838080"/>
            <a:ext cx="15523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440" y="1600200"/>
            <a:ext cx="841032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2. THE DIFFERENTIAL EQUATION FOR THE VARIABLE OF INTE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SIMPLE TO OBTAIN. NORMALLY USING BASIC ANALYSIS TOO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.g., KCL, KVL. . . OR 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080" y="2514600"/>
            <a:ext cx="82731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3. THE INITIAL CONDITION FOR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KNOWN, OR CAN BE OBTAINED USING STEADY STA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86000" y="5410080"/>
            <a:ext cx="7998840" cy="642600"/>
            <a:chOff x="486000" y="5410080"/>
            <a:chExt cx="7998840" cy="642600"/>
          </a:xfrm>
        </p:grpSpPr>
        <p:sp>
          <p:nvSpPr>
            <p:cNvPr id="183" name=""/>
            <p:cNvSpPr/>
            <p:nvPr/>
          </p:nvSpPr>
          <p:spPr>
            <a:xfrm>
              <a:off x="486000" y="5410080"/>
              <a:ext cx="799884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SOLUTION STRATEGY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: USE THE DIFFERENTIAL EQUATION AND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ITIAL CONDITIONS TO FIND THE PARAME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6264000" y="5749920"/>
                  <a:ext cx="837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" y="3200400"/>
          <a:ext cx="81532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200400"/>
                    <a:ext cx="81532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5480" y="0"/>
            <a:ext cx="4158360" cy="3096360"/>
            <a:chOff x="15480" y="0"/>
            <a:chExt cx="4158360" cy="3096360"/>
          </a:xfrm>
        </p:grpSpPr>
        <p:sp>
          <p:nvSpPr>
            <p:cNvPr id="191" name=""/>
            <p:cNvSpPr/>
            <p:nvPr/>
          </p:nvSpPr>
          <p:spPr>
            <a:xfrm>
              <a:off x="15480" y="0"/>
              <a:ext cx="4158360" cy="6426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f the diff eq for y is kn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 the fo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480" y="1905120"/>
              <a:ext cx="4158360" cy="11912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Use the diff eq to find tw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more equations by replac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form of solution into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erential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76320" y="685800"/>
                  <a:ext cx="175248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4" name=""/>
            <p:cNvSpPr/>
            <p:nvPr/>
          </p:nvSpPr>
          <p:spPr>
            <a:xfrm>
              <a:off x="1913760" y="838080"/>
              <a:ext cx="2238120" cy="9169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We can use th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fo to fi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unknow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0" y="4070520"/>
                <a:ext cx="38862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52280" y="5029200"/>
                <a:ext cx="2254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0" y="5762520"/>
                <a:ext cx="35812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8" name=""/>
          <p:cNvGrpSpPr/>
          <p:nvPr/>
        </p:nvGrpSpPr>
        <p:grpSpPr>
          <a:xfrm>
            <a:off x="0" y="3200400"/>
            <a:ext cx="3886200" cy="682560"/>
            <a:chOff x="0" y="3200400"/>
            <a:chExt cx="3886200" cy="68256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509920" y="3200400"/>
                  <a:ext cx="1376280" cy="68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τ</m:t>
                          </m:r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0" y="3200400"/>
                  <a:ext cx="24638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1" name=""/>
          <p:cNvGrpSpPr/>
          <p:nvPr/>
        </p:nvGrpSpPr>
        <p:grpSpPr>
          <a:xfrm>
            <a:off x="4444200" y="116280"/>
            <a:ext cx="4569840" cy="1042200"/>
            <a:chOff x="4444200" y="116280"/>
            <a:chExt cx="4569840" cy="1042200"/>
          </a:xfrm>
        </p:grpSpPr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5405400" y="756720"/>
                  <a:ext cx="213516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3" name=""/>
            <p:cNvSpPr/>
            <p:nvPr/>
          </p:nvSpPr>
          <p:spPr>
            <a:xfrm>
              <a:off x="4444200" y="116280"/>
              <a:ext cx="4569840" cy="6426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Use the initial condition to g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ne more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525680" y="1371600"/>
            <a:ext cx="5573520" cy="5334120"/>
            <a:chOff x="1525680" y="1371600"/>
            <a:chExt cx="5573520" cy="5334120"/>
          </a:xfrm>
        </p:grpSpPr>
        <p:sp>
          <p:nvSpPr>
            <p:cNvPr id="205" name=""/>
            <p:cNvSpPr/>
            <p:nvPr/>
          </p:nvSpPr>
          <p:spPr>
            <a:xfrm>
              <a:off x="1525680" y="4952880"/>
              <a:ext cx="987480" cy="841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200" y="5562720"/>
              <a:ext cx="914400" cy="1143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5562720" y="1371600"/>
                  <a:ext cx="1536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8" name=""/>
          <p:cNvSpPr/>
          <p:nvPr/>
        </p:nvSpPr>
        <p:spPr>
          <a:xfrm>
            <a:off x="4069440" y="2880720"/>
            <a:ext cx="4981320" cy="916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CUT: WRITE DIFFERENTIAL 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 NORMALIZED FORM WITH CO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F VARIABLE =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724280" y="3886200"/>
                <a:ext cx="307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6400800" y="3809880"/>
            <a:ext cx="304920" cy="1295640"/>
            <a:chOff x="6400800" y="3809880"/>
            <a:chExt cx="304920" cy="1295640"/>
          </a:xfrm>
        </p:grpSpPr>
        <p:sp>
          <p:nvSpPr>
            <p:cNvPr id="211" name=""/>
            <p:cNvSpPr/>
            <p:nvPr/>
          </p:nvSpPr>
          <p:spPr>
            <a:xfrm>
              <a:off x="6400800" y="3809880"/>
              <a:ext cx="304920" cy="1295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6411960" y="4572000"/>
                  <a:ext cx="26028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3" name=""/>
          <p:cNvGrpSpPr/>
          <p:nvPr/>
        </p:nvGrpSpPr>
        <p:grpSpPr>
          <a:xfrm>
            <a:off x="7467480" y="3809880"/>
            <a:ext cx="381240" cy="1371600"/>
            <a:chOff x="7467480" y="3809880"/>
            <a:chExt cx="381240" cy="1371600"/>
          </a:xfrm>
        </p:grpSpPr>
        <p:sp>
          <p:nvSpPr>
            <p:cNvPr id="214" name=""/>
            <p:cNvSpPr/>
            <p:nvPr/>
          </p:nvSpPr>
          <p:spPr>
            <a:xfrm>
              <a:off x="7467480" y="3809880"/>
              <a:ext cx="38124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7467480" y="4648320"/>
                  <a:ext cx="35244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1T12:04:06Z</dcterms:created>
  <dc:creator>Jorge Aravena</dc:creator>
  <dc:description/>
  <dc:language>en-US</dc:language>
  <cp:lastModifiedBy>Jorge Aravena</cp:lastModifiedBy>
  <dcterms:modified xsi:type="dcterms:W3CDTF">2004-08-20T19:26:20Z</dcterms:modified>
  <cp:revision>23</cp:revision>
  <dc:subject/>
  <dc:title>No Slide Title</dc:title>
</cp:coreProperties>
</file>