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F63-659C-4B1F-8053-4C63F52A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EDC-4D40-47D3-A893-685412AA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084-F883-4725-8502-A1D8CA97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C5A-5DB9-4D06-A4D2-1249A46F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B3B-5872-4549-9155-9FAC258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00D-BFC0-4057-8FBD-F4CB4A51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11A-4869-41BD-AF79-B963DBEA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618-B2AC-487B-A9A1-E8323729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729-8B4C-4144-82B3-D1B1A8C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617-5053-4E0C-A979-B39077C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7BD-EE67-4C27-B550-32F7047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00E-9C0C-4023-A2B6-CAD9146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7606-9405-4220-8CE9-6E4FB272E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Jorge Aravena</cp:lastModifiedBy>
  <cp:lastPrinted>2000-11-17T12:11:06Z</cp:lastPrinted>
  <dcterms:modified xsi:type="dcterms:W3CDTF">2004-08-20T19:31:53Z</dcterms:modified>
  <cp:revision>27</cp:revision>
  <dc:subject/>
  <dc:title>No Slide Title</dc:title>
</cp:coreProperties>
</file>