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3.png" ContentType="image/png"/>
  <Override PartName="/ppt/media/image30.wmf" ContentType="image/x-wmf"/>
  <Override PartName="/ppt/media/image55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56.png" ContentType="image/png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70.jpeg" ContentType="image/jpeg"/>
  <Override PartName="/ppt/media/image71.png" ContentType="image/png"/>
  <Override PartName="/ppt/media/image32.wmf" ContentType="image/x-wmf"/>
  <Override PartName="/ppt/media/image62.wmf" ContentType="image/x-wmf"/>
  <Override PartName="/ppt/media/image22.png" ContentType="image/png"/>
  <Override PartName="/ppt/media/image69.jpeg" ContentType="image/jpeg"/>
  <Override PartName="/ppt/media/image9.wmf" ContentType="image/x-wmf"/>
  <Override PartName="/ppt/media/image39.wmf" ContentType="image/x-wmf"/>
  <Override PartName="/ppt/media/image67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65.png" ContentType="image/png"/>
  <Override PartName="/ppt/media/image24.png" ContentType="image/png"/>
  <Override PartName="/ppt/media/image61.png" ContentType="image/png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16.wmf" ContentType="image/x-wmf"/>
  <Override PartName="/ppt/media/image4.wmf" ContentType="image/x-wmf"/>
  <Override PartName="/ppt/media/image34.wmf" ContentType="image/x-wmf"/>
  <Override PartName="/ppt/media/image52.png" ContentType="image/png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25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68.jpeg" ContentType="image/jpeg"/>
  <Override PartName="/ppt/media/image36.wmf" ContentType="image/x-wmf"/>
  <Override PartName="/ppt/media/image26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CF0-F094-4E24-887B-D1470273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C7C-E867-47F3-B2AA-D9D3CE1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AA9-97E5-4ABE-BF87-080DC480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188-C3E4-4A1D-AA7E-043D546E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AE4-FA01-467F-9A27-C18A62B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4F3-3DA0-450B-A7CD-08A4A895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A8B-796E-4B41-A0CB-99743B4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325-47E5-49D4-ACBC-6E60C8E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9B4-E8C2-412C-B84A-7DB1597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D9-AB24-4CEF-85B2-8624E08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9EA-BDDC-4ECD-BD3F-6858A88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5BC-EE03-4513-8659-CEE493E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3B67-62A0-4FE5-B794-AEF5BC2D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.wmf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image" Target="../media/image3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9.wmf"/><Relationship Id="rId23" Type="http://schemas.openxmlformats.org/officeDocument/2006/relationships/image" Target="../media/image12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40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41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image" Target="../media/image1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0.wmf"/><Relationship Id="rId9" Type="http://schemas.openxmlformats.org/officeDocument/2006/relationships/image" Target="../media/image6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image" Target="../media/image65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6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1240" y="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AMERA FLASH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410000" cy="226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21680" y="51768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10280" y="398520"/>
          <a:ext cx="1447920" cy="66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398520"/>
                    <a:ext cx="1447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876920" y="1066680"/>
          <a:ext cx="358128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066680"/>
                    <a:ext cx="3581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5880" y="0"/>
          <a:ext cx="1981440" cy="37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0"/>
                    <a:ext cx="19814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228600" y="853920"/>
            <a:ext cx="6781680" cy="2544840"/>
            <a:chOff x="228600" y="853920"/>
            <a:chExt cx="6781680" cy="2544840"/>
          </a:xfrm>
        </p:grpSpPr>
        <p:graphicFrame>
          <p:nvGraphicFramePr>
            <p:cNvPr id="52" name=""/>
            <p:cNvGraphicFramePr/>
            <p:nvPr/>
          </p:nvGraphicFramePr>
          <p:xfrm>
            <a:off x="502920" y="2876400"/>
            <a:ext cx="2971440" cy="37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2920" y="2876400"/>
                      <a:ext cx="2971440" cy="3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28600" y="853920"/>
              <a:ext cx="6781680" cy="2544840"/>
            </a:xfrm>
            <a:custGeom>
              <a:avLst/>
              <a:gdLst/>
              <a:ahLst/>
              <a:rect l="l" t="t" r="r" b="b"/>
              <a:pathLst>
                <a:path w="4272" h="1603">
                  <a:moveTo>
                    <a:pt x="4272" y="451"/>
                  </a:moveTo>
                  <a:cubicBezTo>
                    <a:pt x="4268" y="402"/>
                    <a:pt x="4270" y="312"/>
                    <a:pt x="4243" y="259"/>
                  </a:cubicBezTo>
                  <a:cubicBezTo>
                    <a:pt x="4200" y="173"/>
                    <a:pt x="4126" y="111"/>
                    <a:pt x="4032" y="96"/>
                  </a:cubicBezTo>
                  <a:cubicBezTo>
                    <a:pt x="3950" y="53"/>
                    <a:pt x="3853" y="58"/>
                    <a:pt x="3763" y="48"/>
                  </a:cubicBezTo>
                  <a:cubicBezTo>
                    <a:pt x="3587" y="29"/>
                    <a:pt x="3412" y="10"/>
                    <a:pt x="3235" y="0"/>
                  </a:cubicBezTo>
                  <a:cubicBezTo>
                    <a:pt x="3130" y="3"/>
                    <a:pt x="3024" y="3"/>
                    <a:pt x="2919" y="9"/>
                  </a:cubicBezTo>
                  <a:cubicBezTo>
                    <a:pt x="2861" y="12"/>
                    <a:pt x="2809" y="59"/>
                    <a:pt x="2755" y="76"/>
                  </a:cubicBezTo>
                  <a:cubicBezTo>
                    <a:pt x="2729" y="103"/>
                    <a:pt x="2726" y="127"/>
                    <a:pt x="2717" y="163"/>
                  </a:cubicBezTo>
                  <a:cubicBezTo>
                    <a:pt x="2720" y="182"/>
                    <a:pt x="2724" y="235"/>
                    <a:pt x="2736" y="259"/>
                  </a:cubicBezTo>
                  <a:cubicBezTo>
                    <a:pt x="2790" y="370"/>
                    <a:pt x="2961" y="381"/>
                    <a:pt x="3063" y="403"/>
                  </a:cubicBezTo>
                  <a:cubicBezTo>
                    <a:pt x="3098" y="411"/>
                    <a:pt x="3133" y="416"/>
                    <a:pt x="3168" y="422"/>
                  </a:cubicBezTo>
                  <a:cubicBezTo>
                    <a:pt x="3178" y="419"/>
                    <a:pt x="3194" y="422"/>
                    <a:pt x="3197" y="412"/>
                  </a:cubicBezTo>
                  <a:cubicBezTo>
                    <a:pt x="3200" y="401"/>
                    <a:pt x="3189" y="387"/>
                    <a:pt x="3178" y="384"/>
                  </a:cubicBezTo>
                  <a:cubicBezTo>
                    <a:pt x="3134" y="373"/>
                    <a:pt x="3088" y="377"/>
                    <a:pt x="3043" y="374"/>
                  </a:cubicBezTo>
                  <a:cubicBezTo>
                    <a:pt x="2986" y="377"/>
                    <a:pt x="2928" y="380"/>
                    <a:pt x="2871" y="384"/>
                  </a:cubicBezTo>
                  <a:cubicBezTo>
                    <a:pt x="2842" y="386"/>
                    <a:pt x="2809" y="378"/>
                    <a:pt x="2784" y="393"/>
                  </a:cubicBezTo>
                  <a:cubicBezTo>
                    <a:pt x="2770" y="401"/>
                    <a:pt x="2777" y="425"/>
                    <a:pt x="2775" y="441"/>
                  </a:cubicBezTo>
                  <a:cubicBezTo>
                    <a:pt x="2765" y="519"/>
                    <a:pt x="2771" y="604"/>
                    <a:pt x="2727" y="672"/>
                  </a:cubicBezTo>
                  <a:cubicBezTo>
                    <a:pt x="2712" y="729"/>
                    <a:pt x="2694" y="796"/>
                    <a:pt x="2659" y="844"/>
                  </a:cubicBezTo>
                  <a:cubicBezTo>
                    <a:pt x="2656" y="854"/>
                    <a:pt x="2655" y="864"/>
                    <a:pt x="2650" y="873"/>
                  </a:cubicBezTo>
                  <a:cubicBezTo>
                    <a:pt x="2639" y="893"/>
                    <a:pt x="2611" y="931"/>
                    <a:pt x="2611" y="931"/>
                  </a:cubicBezTo>
                  <a:cubicBezTo>
                    <a:pt x="2590" y="999"/>
                    <a:pt x="2523" y="1050"/>
                    <a:pt x="2477" y="1104"/>
                  </a:cubicBezTo>
                  <a:cubicBezTo>
                    <a:pt x="2470" y="1113"/>
                    <a:pt x="2467" y="1126"/>
                    <a:pt x="2458" y="1132"/>
                  </a:cubicBezTo>
                  <a:cubicBezTo>
                    <a:pt x="2415" y="1160"/>
                    <a:pt x="2164" y="1160"/>
                    <a:pt x="2151" y="1161"/>
                  </a:cubicBezTo>
                  <a:cubicBezTo>
                    <a:pt x="2078" y="1172"/>
                    <a:pt x="2010" y="1182"/>
                    <a:pt x="1939" y="1200"/>
                  </a:cubicBezTo>
                  <a:cubicBezTo>
                    <a:pt x="1849" y="1188"/>
                    <a:pt x="1761" y="1173"/>
                    <a:pt x="1671" y="1161"/>
                  </a:cubicBezTo>
                  <a:cubicBezTo>
                    <a:pt x="1496" y="1172"/>
                    <a:pt x="1325" y="1201"/>
                    <a:pt x="1152" y="1228"/>
                  </a:cubicBezTo>
                  <a:cubicBezTo>
                    <a:pt x="928" y="1216"/>
                    <a:pt x="718" y="1178"/>
                    <a:pt x="499" y="1132"/>
                  </a:cubicBezTo>
                  <a:cubicBezTo>
                    <a:pt x="424" y="1081"/>
                    <a:pt x="311" y="1109"/>
                    <a:pt x="231" y="1113"/>
                  </a:cubicBezTo>
                  <a:cubicBezTo>
                    <a:pt x="212" y="1126"/>
                    <a:pt x="192" y="1139"/>
                    <a:pt x="173" y="1152"/>
                  </a:cubicBezTo>
                  <a:cubicBezTo>
                    <a:pt x="161" y="1160"/>
                    <a:pt x="163" y="1179"/>
                    <a:pt x="154" y="1190"/>
                  </a:cubicBezTo>
                  <a:cubicBezTo>
                    <a:pt x="147" y="1199"/>
                    <a:pt x="135" y="1203"/>
                    <a:pt x="125" y="1209"/>
                  </a:cubicBezTo>
                  <a:cubicBezTo>
                    <a:pt x="114" y="1262"/>
                    <a:pt x="91" y="1297"/>
                    <a:pt x="67" y="1344"/>
                  </a:cubicBezTo>
                  <a:cubicBezTo>
                    <a:pt x="40" y="1398"/>
                    <a:pt x="20" y="1468"/>
                    <a:pt x="0" y="1526"/>
                  </a:cubicBezTo>
                  <a:cubicBezTo>
                    <a:pt x="18" y="1593"/>
                    <a:pt x="33" y="1586"/>
                    <a:pt x="96" y="1603"/>
                  </a:cubicBezTo>
                  <a:cubicBezTo>
                    <a:pt x="215" y="1596"/>
                    <a:pt x="257" y="1590"/>
                    <a:pt x="355" y="1564"/>
                  </a:cubicBezTo>
                  <a:cubicBezTo>
                    <a:pt x="570" y="1576"/>
                    <a:pt x="470" y="1574"/>
                    <a:pt x="653" y="15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3627360" y="2908440"/>
            <a:ext cx="1980720" cy="36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27360" y="2908440"/>
                      <a:ext cx="19807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"/>
          <p:cNvGrpSpPr/>
          <p:nvPr/>
        </p:nvGrpSpPr>
        <p:grpSpPr>
          <a:xfrm>
            <a:off x="6708600" y="1488960"/>
            <a:ext cx="2413080" cy="1133280"/>
            <a:chOff x="6708600" y="1488960"/>
            <a:chExt cx="2413080" cy="1133280"/>
          </a:xfrm>
        </p:grpSpPr>
        <p:sp>
          <p:nvSpPr>
            <p:cNvPr id="58" name=""/>
            <p:cNvSpPr/>
            <p:nvPr/>
          </p:nvSpPr>
          <p:spPr>
            <a:xfrm>
              <a:off x="6708600" y="1488960"/>
              <a:ext cx="1818000" cy="685800"/>
            </a:xfrm>
            <a:custGeom>
              <a:avLst/>
              <a:gdLst/>
              <a:ahLst/>
              <a:rect l="l" t="t" r="r" b="b"/>
              <a:pathLst>
                <a:path w="1145" h="432">
                  <a:moveTo>
                    <a:pt x="1104" y="432"/>
                  </a:moveTo>
                  <a:cubicBezTo>
                    <a:pt x="1113" y="390"/>
                    <a:pt x="1130" y="366"/>
                    <a:pt x="1142" y="326"/>
                  </a:cubicBezTo>
                  <a:cubicBezTo>
                    <a:pt x="1141" y="308"/>
                    <a:pt x="1145" y="212"/>
                    <a:pt x="1123" y="173"/>
                  </a:cubicBezTo>
                  <a:cubicBezTo>
                    <a:pt x="1048" y="39"/>
                    <a:pt x="924" y="25"/>
                    <a:pt x="778" y="19"/>
                  </a:cubicBezTo>
                  <a:cubicBezTo>
                    <a:pt x="656" y="14"/>
                    <a:pt x="535" y="12"/>
                    <a:pt x="413" y="9"/>
                  </a:cubicBezTo>
                  <a:cubicBezTo>
                    <a:pt x="278" y="0"/>
                    <a:pt x="202" y="8"/>
                    <a:pt x="77" y="38"/>
                  </a:cubicBezTo>
                  <a:cubicBezTo>
                    <a:pt x="59" y="66"/>
                    <a:pt x="37" y="87"/>
                    <a:pt x="19" y="115"/>
                  </a:cubicBezTo>
                  <a:cubicBezTo>
                    <a:pt x="16" y="124"/>
                    <a:pt x="0" y="176"/>
                    <a:pt x="0" y="182"/>
                  </a:cubicBezTo>
                  <a:cubicBezTo>
                    <a:pt x="13" y="350"/>
                    <a:pt x="198" y="334"/>
                    <a:pt x="326" y="345"/>
                  </a:cubicBezTo>
                  <a:cubicBezTo>
                    <a:pt x="387" y="350"/>
                    <a:pt x="448" y="362"/>
                    <a:pt x="509" y="365"/>
                  </a:cubicBezTo>
                  <a:cubicBezTo>
                    <a:pt x="627" y="370"/>
                    <a:pt x="746" y="371"/>
                    <a:pt x="864" y="374"/>
                  </a:cubicBezTo>
                  <a:cubicBezTo>
                    <a:pt x="1079" y="385"/>
                    <a:pt x="1011" y="339"/>
                    <a:pt x="1104" y="432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3600" y="2041560"/>
              <a:ext cx="20980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st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ax voltage dro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1280" y="304920"/>
            <a:ext cx="8218800" cy="3960720"/>
            <a:chOff x="431280" y="304920"/>
            <a:chExt cx="8218800" cy="3960720"/>
          </a:xfrm>
        </p:grpSpPr>
        <p:sp>
          <p:nvSpPr>
            <p:cNvPr id="61" name=""/>
            <p:cNvSpPr/>
            <p:nvPr/>
          </p:nvSpPr>
          <p:spPr>
            <a:xfrm>
              <a:off x="6737400" y="304920"/>
              <a:ext cx="1912680" cy="450720"/>
            </a:xfrm>
            <a:custGeom>
              <a:avLst/>
              <a:gdLst/>
              <a:ahLst/>
              <a:rect l="l" t="t" r="r" b="b"/>
              <a:pathLst>
                <a:path w="1205" h="284">
                  <a:moveTo>
                    <a:pt x="345" y="16"/>
                  </a:moveTo>
                  <a:cubicBezTo>
                    <a:pt x="297" y="0"/>
                    <a:pt x="276" y="31"/>
                    <a:pt x="230" y="35"/>
                  </a:cubicBezTo>
                  <a:cubicBezTo>
                    <a:pt x="173" y="40"/>
                    <a:pt x="115" y="41"/>
                    <a:pt x="57" y="44"/>
                  </a:cubicBezTo>
                  <a:cubicBezTo>
                    <a:pt x="26" y="77"/>
                    <a:pt x="13" y="107"/>
                    <a:pt x="0" y="150"/>
                  </a:cubicBezTo>
                  <a:cubicBezTo>
                    <a:pt x="3" y="166"/>
                    <a:pt x="1" y="184"/>
                    <a:pt x="9" y="198"/>
                  </a:cubicBezTo>
                  <a:cubicBezTo>
                    <a:pt x="25" y="226"/>
                    <a:pt x="109" y="249"/>
                    <a:pt x="134" y="256"/>
                  </a:cubicBezTo>
                  <a:cubicBezTo>
                    <a:pt x="159" y="263"/>
                    <a:pt x="185" y="269"/>
                    <a:pt x="211" y="275"/>
                  </a:cubicBezTo>
                  <a:cubicBezTo>
                    <a:pt x="224" y="278"/>
                    <a:pt x="249" y="284"/>
                    <a:pt x="249" y="284"/>
                  </a:cubicBezTo>
                  <a:cubicBezTo>
                    <a:pt x="363" y="273"/>
                    <a:pt x="469" y="254"/>
                    <a:pt x="585" y="246"/>
                  </a:cubicBezTo>
                  <a:cubicBezTo>
                    <a:pt x="866" y="277"/>
                    <a:pt x="700" y="267"/>
                    <a:pt x="1084" y="256"/>
                  </a:cubicBezTo>
                  <a:cubicBezTo>
                    <a:pt x="1122" y="243"/>
                    <a:pt x="1148" y="223"/>
                    <a:pt x="1180" y="198"/>
                  </a:cubicBezTo>
                  <a:cubicBezTo>
                    <a:pt x="1187" y="179"/>
                    <a:pt x="1193" y="159"/>
                    <a:pt x="1200" y="140"/>
                  </a:cubicBezTo>
                  <a:cubicBezTo>
                    <a:pt x="1205" y="125"/>
                    <a:pt x="1180" y="99"/>
                    <a:pt x="1171" y="92"/>
                  </a:cubicBezTo>
                  <a:cubicBezTo>
                    <a:pt x="1122" y="53"/>
                    <a:pt x="1039" y="49"/>
                    <a:pt x="979" y="35"/>
                  </a:cubicBezTo>
                  <a:cubicBezTo>
                    <a:pt x="762" y="42"/>
                    <a:pt x="761" y="52"/>
                    <a:pt x="595" y="35"/>
                  </a:cubicBezTo>
                  <a:cubicBezTo>
                    <a:pt x="573" y="33"/>
                    <a:pt x="550" y="28"/>
                    <a:pt x="528" y="25"/>
                  </a:cubicBezTo>
                  <a:cubicBezTo>
                    <a:pt x="502" y="22"/>
                    <a:pt x="451" y="16"/>
                    <a:pt x="451" y="1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280" y="3483000"/>
              <a:ext cx="6084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nstraint in V_CF sets the range for feasible batt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1539720" y="3895920"/>
            <a:ext cx="3048120" cy="36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39720" y="3895920"/>
                      <a:ext cx="30481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" name=""/>
          <p:cNvGrpSpPr/>
          <p:nvPr/>
        </p:nvGrpSpPr>
        <p:grpSpPr>
          <a:xfrm>
            <a:off x="6858000" y="2666880"/>
            <a:ext cx="2209680" cy="1155600"/>
            <a:chOff x="6858000" y="2666880"/>
            <a:chExt cx="2209680" cy="1155600"/>
          </a:xfrm>
        </p:grpSpPr>
        <p:graphicFrame>
          <p:nvGraphicFramePr>
            <p:cNvPr id="66" name=""/>
            <p:cNvGraphicFramePr/>
            <p:nvPr/>
          </p:nvGraphicFramePr>
          <p:xfrm>
            <a:off x="6858000" y="2666880"/>
            <a:ext cx="2209680" cy="709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858000" y="2666880"/>
                      <a:ext cx="220968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7283160" y="3429000"/>
            <a:ext cx="1434960" cy="393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283160" y="3429000"/>
                      <a:ext cx="14349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852480" y="4556160"/>
            <a:ext cx="3271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CHARGING TI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3886200"/>
            <a:ext cx="7012080" cy="2666880"/>
            <a:chOff x="609480" y="3886200"/>
            <a:chExt cx="7012080" cy="2666880"/>
          </a:xfrm>
        </p:grpSpPr>
        <p:graphicFrame>
          <p:nvGraphicFramePr>
            <p:cNvPr id="72" name=""/>
            <p:cNvGraphicFramePr/>
            <p:nvPr/>
          </p:nvGraphicFramePr>
          <p:xfrm>
            <a:off x="609480" y="4952880"/>
            <a:ext cx="4953240" cy="373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09480" y="4952880"/>
                      <a:ext cx="495324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019920" y="3886200"/>
                  <a:ext cx="1601640" cy="26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τ</m:t>
                                  </m:r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 </m:t>
                                      </m:r>
                                      <m:f>
                                        <m:num>
                                          <m:r>
                                            <m:t xml:space="preserve">t</m:t>
                                          </m:r>
                                        </m:num>
                                        <m:den>
                                          <m:r>
                                            <m:t xml:space="preserve">τ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8</m:t>
                                  </m:r>
                                </m:e>
                              </m:mr>
                            </m:m>
                          </m:e>
                        </m:mr>
                        <m:m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τ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τ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4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5</m:t>
                                              </m:r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98</m:t>
                                        </m:r>
                                      </m:e>
                                    </m:mr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183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.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0067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762120" y="4878360"/>
            <a:ext cx="7180200" cy="1233360"/>
            <a:chOff x="762120" y="4878360"/>
            <a:chExt cx="7180200" cy="1233360"/>
          </a:xfrm>
        </p:grpSpPr>
        <p:graphicFrame>
          <p:nvGraphicFramePr>
            <p:cNvPr id="76" name=""/>
            <p:cNvGraphicFramePr/>
            <p:nvPr/>
          </p:nvGraphicFramePr>
          <p:xfrm>
            <a:off x="762120" y="5410080"/>
            <a:ext cx="2971800" cy="701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762120" y="5410080"/>
                      <a:ext cx="2971800" cy="7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5818320" y="4878360"/>
              <a:ext cx="2124000" cy="517680"/>
            </a:xfrm>
            <a:custGeom>
              <a:avLst/>
              <a:gdLst/>
              <a:ahLst/>
              <a:rect l="l" t="t" r="r" b="b"/>
              <a:pathLst>
                <a:path w="1338" h="326">
                  <a:moveTo>
                    <a:pt x="178" y="71"/>
                  </a:moveTo>
                  <a:cubicBezTo>
                    <a:pt x="133" y="42"/>
                    <a:pt x="114" y="59"/>
                    <a:pt x="65" y="71"/>
                  </a:cubicBezTo>
                  <a:cubicBezTo>
                    <a:pt x="0" y="115"/>
                    <a:pt x="29" y="183"/>
                    <a:pt x="84" y="222"/>
                  </a:cubicBezTo>
                  <a:cubicBezTo>
                    <a:pt x="174" y="286"/>
                    <a:pt x="286" y="290"/>
                    <a:pt x="395" y="298"/>
                  </a:cubicBezTo>
                  <a:cubicBezTo>
                    <a:pt x="662" y="318"/>
                    <a:pt x="931" y="319"/>
                    <a:pt x="1198" y="326"/>
                  </a:cubicBezTo>
                  <a:cubicBezTo>
                    <a:pt x="1246" y="318"/>
                    <a:pt x="1280" y="314"/>
                    <a:pt x="1321" y="289"/>
                  </a:cubicBezTo>
                  <a:cubicBezTo>
                    <a:pt x="1328" y="252"/>
                    <a:pt x="1338" y="204"/>
                    <a:pt x="1302" y="175"/>
                  </a:cubicBezTo>
                  <a:cubicBezTo>
                    <a:pt x="1294" y="169"/>
                    <a:pt x="1282" y="170"/>
                    <a:pt x="1273" y="166"/>
                  </a:cubicBezTo>
                  <a:cubicBezTo>
                    <a:pt x="1126" y="104"/>
                    <a:pt x="1057" y="107"/>
                    <a:pt x="877" y="100"/>
                  </a:cubicBezTo>
                  <a:cubicBezTo>
                    <a:pt x="733" y="75"/>
                    <a:pt x="587" y="58"/>
                    <a:pt x="443" y="34"/>
                  </a:cubicBezTo>
                  <a:cubicBezTo>
                    <a:pt x="387" y="25"/>
                    <a:pt x="273" y="15"/>
                    <a:pt x="273" y="15"/>
                  </a:cubicBezTo>
                  <a:cubicBezTo>
                    <a:pt x="229" y="0"/>
                    <a:pt x="254" y="5"/>
                    <a:pt x="197" y="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600" y="6156360"/>
            <a:ext cx="5718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CHES FIRING VOLTAGE WITHIN 2 TIME CONSTA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129200" y="6477120"/>
            <a:ext cx="5013360" cy="371520"/>
            <a:chOff x="4129200" y="6477120"/>
            <a:chExt cx="5013360" cy="371520"/>
          </a:xfrm>
        </p:grpSpPr>
        <p:pic>
          <p:nvPicPr>
            <p:cNvPr id="81" name="" descr=""/>
            <p:cNvPicPr/>
            <p:nvPr/>
          </p:nvPicPr>
          <p:blipFill>
            <a:blip r:embed="rId22"/>
            <a:stretch/>
          </p:blipFill>
          <p:spPr>
            <a:xfrm>
              <a:off x="841068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>
              <a:hlinkClick r:id="" action="ppaction://hlinkshowjump?jump=nextslide"/>
            </p:cNvPr>
            <p:cNvSpPr/>
            <p:nvPr/>
          </p:nvSpPr>
          <p:spPr>
            <a:xfrm>
              <a:off x="4662360" y="6615000"/>
              <a:ext cx="365400" cy="228600"/>
            </a:xfrm>
            <a:custGeom>
              <a:avLst/>
              <a:gdLst>
                <a:gd name="textAreaLeft" fmla="*/ 14760 w 365400"/>
                <a:gd name="textAreaRight" fmla="*/ 350640 w 36540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506" h="21600">
                  <a:moveTo>
                    <a:pt x="0" y="0"/>
                  </a:moveTo>
                  <a:lnTo>
                    <a:pt x="34506" y="0"/>
                  </a:lnTo>
                  <a:lnTo>
                    <a:pt x="34506" y="21600"/>
                  </a:lnTo>
                  <a:lnTo>
                    <a:pt x="0" y="21600"/>
                  </a:lnTo>
                  <a:close/>
                </a:path>
                <a:path fill="lightenLess" w="34506" h="21600">
                  <a:moveTo>
                    <a:pt x="0" y="0"/>
                  </a:moveTo>
                  <a:lnTo>
                    <a:pt x="34506" y="0"/>
                  </a:lnTo>
                  <a:lnTo>
                    <a:pt x="33106" y="1400"/>
                  </a:lnTo>
                  <a:lnTo>
                    <a:pt x="1400" y="1400"/>
                  </a:lnTo>
                  <a:close/>
                </a:path>
                <a:path fill="darken" w="34506" h="21600">
                  <a:moveTo>
                    <a:pt x="34506" y="0"/>
                  </a:moveTo>
                  <a:lnTo>
                    <a:pt x="34506" y="21600"/>
                  </a:lnTo>
                  <a:lnTo>
                    <a:pt x="33106" y="20200"/>
                  </a:lnTo>
                  <a:lnTo>
                    <a:pt x="33106" y="1400"/>
                  </a:lnTo>
                  <a:close/>
                </a:path>
                <a:path fill="darkenLess" w="34506" h="21600">
                  <a:moveTo>
                    <a:pt x="345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106" y="20200"/>
                  </a:lnTo>
                  <a:close/>
                </a:path>
                <a:path fill="lighten" w="345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506" h="21600">
                  <a:moveTo>
                    <a:pt x="10246" y="3794"/>
                  </a:moveTo>
                  <a:lnTo>
                    <a:pt x="24259" y="10800"/>
                  </a:lnTo>
                  <a:lnTo>
                    <a:pt x="10246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>
              <a:hlinkClick r:id="" action="ppaction://hlinkshowjump?jump=previousslide"/>
            </p:cNvPr>
            <p:cNvSpPr/>
            <p:nvPr/>
          </p:nvSpPr>
          <p:spPr>
            <a:xfrm>
              <a:off x="4129200" y="6620040"/>
              <a:ext cx="365040" cy="228600"/>
            </a:xfrm>
            <a:custGeom>
              <a:avLst/>
              <a:gdLst>
                <a:gd name="textAreaLeft" fmla="*/ 14760 w 365040"/>
                <a:gd name="textAreaRight" fmla="*/ 350280 w 3650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4472" h="21600">
                  <a:moveTo>
                    <a:pt x="0" y="0"/>
                  </a:moveTo>
                  <a:lnTo>
                    <a:pt x="34472" y="0"/>
                  </a:lnTo>
                  <a:lnTo>
                    <a:pt x="34472" y="21600"/>
                  </a:lnTo>
                  <a:lnTo>
                    <a:pt x="0" y="21600"/>
                  </a:lnTo>
                  <a:close/>
                </a:path>
                <a:path fill="lightenLess" w="34472" h="21600">
                  <a:moveTo>
                    <a:pt x="0" y="0"/>
                  </a:moveTo>
                  <a:lnTo>
                    <a:pt x="34472" y="0"/>
                  </a:lnTo>
                  <a:lnTo>
                    <a:pt x="33072" y="1400"/>
                  </a:lnTo>
                  <a:lnTo>
                    <a:pt x="1400" y="1400"/>
                  </a:lnTo>
                  <a:close/>
                </a:path>
                <a:path fill="darken" w="34472" h="21600">
                  <a:moveTo>
                    <a:pt x="34472" y="0"/>
                  </a:moveTo>
                  <a:lnTo>
                    <a:pt x="34472" y="21600"/>
                  </a:lnTo>
                  <a:lnTo>
                    <a:pt x="33072" y="20200"/>
                  </a:lnTo>
                  <a:lnTo>
                    <a:pt x="33072" y="1400"/>
                  </a:lnTo>
                  <a:close/>
                </a:path>
                <a:path fill="darkenLess" w="34472" h="21600">
                  <a:moveTo>
                    <a:pt x="344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072" y="20200"/>
                  </a:lnTo>
                  <a:close/>
                </a:path>
                <a:path fill="lighten" w="344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472" h="21600">
                  <a:moveTo>
                    <a:pt x="10229" y="10800"/>
                  </a:moveTo>
                  <a:lnTo>
                    <a:pt x="24242" y="3794"/>
                  </a:lnTo>
                  <a:lnTo>
                    <a:pt x="24242" y="1780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345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359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365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914720" cy="240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5120" y="28440"/>
            <a:ext cx="617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OR CIRCUIT TO GENERATE HIGH VOLTAGE PUL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A SMALL DC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65360" y="538200"/>
            <a:ext cx="5905080" cy="1349280"/>
            <a:chOff x="1665360" y="538200"/>
            <a:chExt cx="5905080" cy="1349280"/>
          </a:xfrm>
        </p:grpSpPr>
        <p:sp>
          <p:nvSpPr>
            <p:cNvPr id="88" name=""/>
            <p:cNvSpPr/>
            <p:nvPr/>
          </p:nvSpPr>
          <p:spPr>
            <a:xfrm>
              <a:off x="3445560" y="669960"/>
              <a:ext cx="41248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pole-double throw (SPDT)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5360" y="538200"/>
              <a:ext cx="1785960" cy="1349280"/>
            </a:xfrm>
            <a:custGeom>
              <a:avLst/>
              <a:gdLst/>
              <a:ahLst/>
              <a:rect l="l" t="t" r="r" b="b"/>
              <a:pathLst>
                <a:path w="1125" h="850">
                  <a:moveTo>
                    <a:pt x="1125" y="163"/>
                  </a:moveTo>
                  <a:cubicBezTo>
                    <a:pt x="1074" y="112"/>
                    <a:pt x="981" y="97"/>
                    <a:pt x="911" y="88"/>
                  </a:cubicBezTo>
                  <a:cubicBezTo>
                    <a:pt x="802" y="35"/>
                    <a:pt x="677" y="19"/>
                    <a:pt x="558" y="5"/>
                  </a:cubicBezTo>
                  <a:cubicBezTo>
                    <a:pt x="241" y="15"/>
                    <a:pt x="353" y="0"/>
                    <a:pt x="168" y="60"/>
                  </a:cubicBezTo>
                  <a:cubicBezTo>
                    <a:pt x="134" y="83"/>
                    <a:pt x="113" y="115"/>
                    <a:pt x="84" y="144"/>
                  </a:cubicBezTo>
                  <a:cubicBezTo>
                    <a:pt x="66" y="182"/>
                    <a:pt x="57" y="219"/>
                    <a:pt x="38" y="256"/>
                  </a:cubicBezTo>
                  <a:cubicBezTo>
                    <a:pt x="12" y="362"/>
                    <a:pt x="0" y="477"/>
                    <a:pt x="66" y="571"/>
                  </a:cubicBezTo>
                  <a:cubicBezTo>
                    <a:pt x="108" y="703"/>
                    <a:pt x="170" y="761"/>
                    <a:pt x="307" y="794"/>
                  </a:cubicBezTo>
                  <a:cubicBezTo>
                    <a:pt x="376" y="828"/>
                    <a:pt x="314" y="801"/>
                    <a:pt x="382" y="822"/>
                  </a:cubicBezTo>
                  <a:cubicBezTo>
                    <a:pt x="410" y="831"/>
                    <a:pt x="465" y="850"/>
                    <a:pt x="465" y="850"/>
                  </a:cubicBezTo>
                  <a:cubicBezTo>
                    <a:pt x="536" y="847"/>
                    <a:pt x="608" y="848"/>
                    <a:pt x="679" y="841"/>
                  </a:cubicBezTo>
                  <a:cubicBezTo>
                    <a:pt x="777" y="831"/>
                    <a:pt x="891" y="730"/>
                    <a:pt x="939" y="646"/>
                  </a:cubicBezTo>
                  <a:cubicBezTo>
                    <a:pt x="963" y="603"/>
                    <a:pt x="979" y="560"/>
                    <a:pt x="1013" y="525"/>
                  </a:cubicBezTo>
                  <a:cubicBezTo>
                    <a:pt x="1044" y="437"/>
                    <a:pt x="1064" y="340"/>
                    <a:pt x="1106" y="2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43200" y="1035000"/>
            <a:ext cx="5757120" cy="692280"/>
            <a:chOff x="2743200" y="1035000"/>
            <a:chExt cx="5757120" cy="692280"/>
          </a:xfrm>
        </p:grpSpPr>
        <p:graphicFrame>
          <p:nvGraphicFramePr>
            <p:cNvPr id="91" name=""/>
            <p:cNvGraphicFramePr/>
            <p:nvPr/>
          </p:nvGraphicFramePr>
          <p:xfrm>
            <a:off x="2743200" y="1447920"/>
            <a:ext cx="190440" cy="27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1447920"/>
                      <a:ext cx="190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4666680" y="1035000"/>
              <a:ext cx="3833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nected to battery for T1 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6320" y="3124080"/>
            <a:ext cx="4095720" cy="1326960"/>
            <a:chOff x="256320" y="3124080"/>
            <a:chExt cx="4095720" cy="1326960"/>
          </a:xfrm>
        </p:grpSpPr>
        <p:graphicFrame>
          <p:nvGraphicFramePr>
            <p:cNvPr id="95" name=""/>
            <p:cNvGraphicFramePr/>
            <p:nvPr/>
          </p:nvGraphicFramePr>
          <p:xfrm>
            <a:off x="270000" y="3124080"/>
            <a:ext cx="3576600" cy="72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0000" y="3124080"/>
                      <a:ext cx="35766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256320" y="3870360"/>
              <a:ext cx="4095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through inductor wh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ves to pos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8600" y="5715000"/>
            <a:ext cx="4435920" cy="660240"/>
            <a:chOff x="228600" y="5715000"/>
            <a:chExt cx="4435920" cy="660240"/>
          </a:xfrm>
        </p:grpSpPr>
        <p:graphicFrame>
          <p:nvGraphicFramePr>
            <p:cNvPr id="99" name=""/>
            <p:cNvGraphicFramePr/>
            <p:nvPr/>
          </p:nvGraphicFramePr>
          <p:xfrm>
            <a:off x="228600" y="5715000"/>
            <a:ext cx="2361960" cy="660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5715000"/>
                      <a:ext cx="236196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2575800" y="5775120"/>
              <a:ext cx="208872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52280" y="4511520"/>
            <a:ext cx="4876920" cy="1175040"/>
            <a:chOff x="152280" y="4511520"/>
            <a:chExt cx="4876920" cy="1175040"/>
          </a:xfrm>
        </p:grpSpPr>
        <p:graphicFrame>
          <p:nvGraphicFramePr>
            <p:cNvPr id="103" name=""/>
            <p:cNvGraphicFramePr/>
            <p:nvPr/>
          </p:nvGraphicFramePr>
          <p:xfrm>
            <a:off x="152280" y="4511520"/>
            <a:ext cx="4876920" cy="622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4511520"/>
                      <a:ext cx="48769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28800" y="5105520"/>
            <a:ext cx="609480" cy="581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105520"/>
                      <a:ext cx="60948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5515920" y="1584360"/>
            <a:ext cx="1494360" cy="660240"/>
            <a:chOff x="5515920" y="1584360"/>
            <a:chExt cx="1494360" cy="660240"/>
          </a:xfrm>
        </p:grpSpPr>
        <p:sp>
          <p:nvSpPr>
            <p:cNvPr id="108" name=""/>
            <p:cNvSpPr/>
            <p:nvPr/>
          </p:nvSpPr>
          <p:spPr>
            <a:xfrm>
              <a:off x="5515920" y="1584360"/>
              <a:ext cx="147924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5715000" y="1905120"/>
            <a:ext cx="1295280" cy="339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15000" y="1905120"/>
                      <a:ext cx="12952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1" name=""/>
          <p:cNvGrpSpPr/>
          <p:nvPr/>
        </p:nvGrpSpPr>
        <p:grpSpPr>
          <a:xfrm>
            <a:off x="5105520" y="2286000"/>
            <a:ext cx="2788200" cy="1083600"/>
            <a:chOff x="5105520" y="2286000"/>
            <a:chExt cx="2788200" cy="1083600"/>
          </a:xfrm>
        </p:grpSpPr>
        <p:graphicFrame>
          <p:nvGraphicFramePr>
            <p:cNvPr id="112" name=""/>
            <p:cNvGraphicFramePr/>
            <p:nvPr/>
          </p:nvGraphicFramePr>
          <p:xfrm>
            <a:off x="5105520" y="2286000"/>
            <a:ext cx="2743200" cy="565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05520" y="2286000"/>
                      <a:ext cx="27432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5434560" y="3032280"/>
              <a:ext cx="2459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TO DISCHARCH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5562720" y="3429000"/>
          <a:ext cx="2666880" cy="666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62720" y="3429000"/>
                    <a:ext cx="2666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459400" y="4251240"/>
            <a:ext cx="355932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5 time constants the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low 1% of initi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5000" y="4937040"/>
            <a:ext cx="3108240" cy="5806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a safety margin and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it more (1m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125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127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129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130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139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170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603520" cy="2971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6960" y="0"/>
            <a:ext cx="49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ND CONTROL OF “INDUCTIVE KIC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76080" y="669960"/>
            <a:ext cx="6403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PEAK VOLTAGES ACROSS INDUCTOR AND SWIT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in steady state is 1A befor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95480" y="1374840"/>
            <a:ext cx="2286000" cy="1596960"/>
            <a:chOff x="2895480" y="1374840"/>
            <a:chExt cx="2286000" cy="1596960"/>
          </a:xfrm>
        </p:grpSpPr>
        <p:graphicFrame>
          <p:nvGraphicFramePr>
            <p:cNvPr id="180" name=""/>
            <p:cNvGraphicFramePr/>
            <p:nvPr/>
          </p:nvGraphicFramePr>
          <p:xfrm>
            <a:off x="2895480" y="1374840"/>
            <a:ext cx="2286000" cy="45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480" y="1374840"/>
                      <a:ext cx="228600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895480" y="1881360"/>
            <a:ext cx="1828800" cy="1090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1881360"/>
                      <a:ext cx="182880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5486400" y="1295280"/>
            <a:ext cx="3124080" cy="1217880"/>
            <a:chOff x="5486400" y="1295280"/>
            <a:chExt cx="3124080" cy="1217880"/>
          </a:xfrm>
        </p:grpSpPr>
        <p:graphicFrame>
          <p:nvGraphicFramePr>
            <p:cNvPr id="185" name=""/>
            <p:cNvGraphicFramePr/>
            <p:nvPr/>
          </p:nvGraphicFramePr>
          <p:xfrm>
            <a:off x="5486400" y="1978200"/>
            <a:ext cx="3098880" cy="53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86400" y="1978200"/>
                      <a:ext cx="309888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486400" y="1295280"/>
            <a:ext cx="3124080" cy="657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86400" y="1295280"/>
                      <a:ext cx="312408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"/>
          <p:cNvGrpSpPr/>
          <p:nvPr/>
        </p:nvGrpSpPr>
        <p:grpSpPr>
          <a:xfrm>
            <a:off x="0" y="3429000"/>
            <a:ext cx="3429000" cy="3293280"/>
            <a:chOff x="0" y="3429000"/>
            <a:chExt cx="3429000" cy="329328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0" y="3429000"/>
              <a:ext cx="342900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1240" y="6384960"/>
              <a:ext cx="2369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to control ki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2532240"/>
            <a:ext cx="6781680" cy="1080720"/>
            <a:chOff x="2133720" y="2532240"/>
            <a:chExt cx="6781680" cy="1080720"/>
          </a:xfrm>
        </p:grpSpPr>
        <p:grpSp>
          <p:nvGrpSpPr>
            <p:cNvPr id="193" name=""/>
            <p:cNvGrpSpPr/>
            <p:nvPr/>
          </p:nvGrpSpPr>
          <p:grpSpPr>
            <a:xfrm>
              <a:off x="5317920" y="2532240"/>
              <a:ext cx="3597480" cy="1080720"/>
              <a:chOff x="5317920" y="2532240"/>
              <a:chExt cx="3597480" cy="1080720"/>
            </a:xfrm>
          </p:grpSpPr>
          <p:graphicFrame>
            <p:nvGraphicFramePr>
              <p:cNvPr id="194" name=""/>
              <p:cNvGraphicFramePr/>
              <p:nvPr/>
            </p:nvGraphicFramePr>
            <p:xfrm>
              <a:off x="5410080" y="2532240"/>
              <a:ext cx="3505320" cy="428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10080" y="2532240"/>
                        <a:ext cx="350532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"/>
              <p:cNvSpPr/>
              <p:nvPr/>
            </p:nvSpPr>
            <p:spPr>
              <a:xfrm>
                <a:off x="5317920" y="3032280"/>
                <a:ext cx="3589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ying to make discontinuous th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or current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7" name=""/>
            <p:cNvGraphicFramePr/>
            <p:nvPr/>
          </p:nvGraphicFramePr>
          <p:xfrm>
            <a:off x="2133720" y="3139920"/>
            <a:ext cx="3276360" cy="373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33720" y="3139920"/>
                      <a:ext cx="32763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"/>
          <p:cNvGraphicFramePr/>
          <p:nvPr/>
        </p:nvGraphicFramePr>
        <p:xfrm>
          <a:off x="2446200" y="3809880"/>
          <a:ext cx="204156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46200" y="3809880"/>
                    <a:ext cx="20415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425120" y="3809880"/>
            <a:ext cx="4780080" cy="337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now second order and may oscil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0200" y="4191120"/>
            <a:ext cx="3967920" cy="1363680"/>
            <a:chOff x="4570200" y="4191120"/>
            <a:chExt cx="3967920" cy="1363680"/>
          </a:xfrm>
        </p:grpSpPr>
        <p:graphicFrame>
          <p:nvGraphicFramePr>
            <p:cNvPr id="203" name=""/>
            <p:cNvGraphicFramePr/>
            <p:nvPr/>
          </p:nvGraphicFramePr>
          <p:xfrm>
            <a:off x="5181480" y="4191120"/>
            <a:ext cx="3124440" cy="636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81480" y="4191120"/>
                      <a:ext cx="3124440" cy="6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5" name=""/>
            <p:cNvGrpSpPr/>
            <p:nvPr/>
          </p:nvGrpSpPr>
          <p:grpSpPr>
            <a:xfrm>
              <a:off x="4570200" y="4937040"/>
              <a:ext cx="3967920" cy="617760"/>
              <a:chOff x="4570200" y="4937040"/>
              <a:chExt cx="3967920" cy="617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0200" y="4937040"/>
                <a:ext cx="3967920" cy="58068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lect R, C for adequate damping 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atural frequency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7" name=""/>
              <p:cNvGraphicFramePr/>
              <p:nvPr/>
            </p:nvGraphicFramePr>
            <p:xfrm>
              <a:off x="6559560" y="5257800"/>
              <a:ext cx="1739880" cy="2970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559560" y="5257800"/>
                        <a:ext cx="1739880" cy="29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09" name=""/>
          <p:cNvGrpSpPr/>
          <p:nvPr/>
        </p:nvGrpSpPr>
        <p:grpSpPr>
          <a:xfrm>
            <a:off x="4648320" y="5562720"/>
            <a:ext cx="4123800" cy="620640"/>
            <a:chOff x="4648320" y="5562720"/>
            <a:chExt cx="4123800" cy="620640"/>
          </a:xfrm>
        </p:grpSpPr>
        <p:graphicFrame>
          <p:nvGraphicFramePr>
            <p:cNvPr id="210" name=""/>
            <p:cNvGraphicFramePr/>
            <p:nvPr/>
          </p:nvGraphicFramePr>
          <p:xfrm>
            <a:off x="4648320" y="5562720"/>
            <a:ext cx="243828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48320" y="5562720"/>
                      <a:ext cx="243828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7331040" y="5622840"/>
              <a:ext cx="144108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4080" y="4952880"/>
            <a:ext cx="4876920" cy="1751040"/>
            <a:chOff x="3124080" y="4952880"/>
            <a:chExt cx="4876920" cy="1751040"/>
          </a:xfrm>
        </p:grpSpPr>
        <p:graphicFrame>
          <p:nvGraphicFramePr>
            <p:cNvPr id="217" name=""/>
            <p:cNvGraphicFramePr/>
            <p:nvPr/>
          </p:nvGraphicFramePr>
          <p:xfrm>
            <a:off x="5334120" y="6343560"/>
            <a:ext cx="2666880" cy="3603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334120" y="6343560"/>
                      <a:ext cx="2666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"/>
            <p:cNvGraphicFramePr/>
            <p:nvPr/>
          </p:nvGraphicFramePr>
          <p:xfrm>
            <a:off x="3124080" y="4952880"/>
            <a:ext cx="1447920" cy="32544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124080" y="4952880"/>
                      <a:ext cx="14479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"/>
          <p:cNvGrpSpPr/>
          <p:nvPr/>
        </p:nvGrpSpPr>
        <p:grpSpPr>
          <a:xfrm>
            <a:off x="2639880" y="5214960"/>
            <a:ext cx="1620360" cy="1445760"/>
            <a:chOff x="2639880" y="5214960"/>
            <a:chExt cx="1620360" cy="1445760"/>
          </a:xfrm>
        </p:grpSpPr>
        <p:sp>
          <p:nvSpPr>
            <p:cNvPr id="222" name=""/>
            <p:cNvSpPr/>
            <p:nvPr/>
          </p:nvSpPr>
          <p:spPr>
            <a:xfrm>
              <a:off x="2639880" y="5214960"/>
              <a:ext cx="1076400" cy="1244520"/>
            </a:xfrm>
            <a:custGeom>
              <a:avLst/>
              <a:gdLst/>
              <a:ahLst/>
              <a:rect l="l" t="t" r="r" b="b"/>
              <a:pathLst>
                <a:path w="678" h="784">
                  <a:moveTo>
                    <a:pt x="260" y="22"/>
                  </a:moveTo>
                  <a:cubicBezTo>
                    <a:pt x="191" y="0"/>
                    <a:pt x="116" y="0"/>
                    <a:pt x="56" y="41"/>
                  </a:cubicBezTo>
                  <a:cubicBezTo>
                    <a:pt x="15" y="102"/>
                    <a:pt x="9" y="173"/>
                    <a:pt x="0" y="245"/>
                  </a:cubicBezTo>
                  <a:cubicBezTo>
                    <a:pt x="9" y="298"/>
                    <a:pt x="17" y="358"/>
                    <a:pt x="46" y="403"/>
                  </a:cubicBezTo>
                  <a:cubicBezTo>
                    <a:pt x="69" y="488"/>
                    <a:pt x="118" y="571"/>
                    <a:pt x="167" y="645"/>
                  </a:cubicBezTo>
                  <a:cubicBezTo>
                    <a:pt x="179" y="664"/>
                    <a:pt x="188" y="685"/>
                    <a:pt x="204" y="701"/>
                  </a:cubicBezTo>
                  <a:cubicBezTo>
                    <a:pt x="221" y="718"/>
                    <a:pt x="248" y="745"/>
                    <a:pt x="269" y="756"/>
                  </a:cubicBezTo>
                  <a:cubicBezTo>
                    <a:pt x="287" y="765"/>
                    <a:pt x="306" y="769"/>
                    <a:pt x="325" y="775"/>
                  </a:cubicBezTo>
                  <a:cubicBezTo>
                    <a:pt x="334" y="778"/>
                    <a:pt x="353" y="784"/>
                    <a:pt x="353" y="784"/>
                  </a:cubicBezTo>
                  <a:cubicBezTo>
                    <a:pt x="425" y="778"/>
                    <a:pt x="458" y="773"/>
                    <a:pt x="520" y="756"/>
                  </a:cubicBezTo>
                  <a:cubicBezTo>
                    <a:pt x="538" y="745"/>
                    <a:pt x="559" y="740"/>
                    <a:pt x="576" y="728"/>
                  </a:cubicBezTo>
                  <a:cubicBezTo>
                    <a:pt x="606" y="708"/>
                    <a:pt x="625" y="670"/>
                    <a:pt x="650" y="645"/>
                  </a:cubicBezTo>
                  <a:cubicBezTo>
                    <a:pt x="653" y="633"/>
                    <a:pt x="656" y="620"/>
                    <a:pt x="660" y="608"/>
                  </a:cubicBezTo>
                  <a:cubicBezTo>
                    <a:pt x="666" y="589"/>
                    <a:pt x="678" y="552"/>
                    <a:pt x="678" y="552"/>
                  </a:cubicBezTo>
                  <a:cubicBezTo>
                    <a:pt x="675" y="475"/>
                    <a:pt x="676" y="397"/>
                    <a:pt x="669" y="320"/>
                  </a:cubicBezTo>
                  <a:cubicBezTo>
                    <a:pt x="664" y="265"/>
                    <a:pt x="613" y="194"/>
                    <a:pt x="585" y="152"/>
                  </a:cubicBezTo>
                  <a:cubicBezTo>
                    <a:pt x="577" y="139"/>
                    <a:pt x="559" y="136"/>
                    <a:pt x="548" y="12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5760" y="6080040"/>
              <a:ext cx="101448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n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23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24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24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25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0560" y="-15840"/>
            <a:ext cx="5761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ELECTRIC HEATER USING A 24V SOUR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 OHM HEATING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95680" y="609480"/>
          <a:ext cx="2210040" cy="2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09480"/>
                    <a:ext cx="221004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76320" y="593640"/>
            <a:ext cx="2114280" cy="1959120"/>
            <a:chOff x="76320" y="593640"/>
            <a:chExt cx="2114280" cy="195912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76320" y="990720"/>
              <a:ext cx="211428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8960" y="59364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utio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2324160" cy="590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2362320" y="1219320"/>
            <a:ext cx="5333760" cy="1619280"/>
          </a:xfrm>
          <a:prstGeom prst="rect">
            <a:avLst/>
          </a:prstGeom>
          <a:ln w="25560">
            <a:solidFill>
              <a:srgbClr val="66ffcc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7772400" y="1279440"/>
            <a:ext cx="1290600" cy="10674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o mu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lost in rheo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3124080"/>
            <a:ext cx="3276360" cy="3308040"/>
            <a:chOff x="0" y="3124080"/>
            <a:chExt cx="3276360" cy="330804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0" y="3124080"/>
              <a:ext cx="327636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49640" y="5851440"/>
              <a:ext cx="237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ED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19520" y="2955960"/>
            <a:ext cx="3504960" cy="834840"/>
            <a:chOff x="2819520" y="2955960"/>
            <a:chExt cx="3504960" cy="834840"/>
          </a:xfrm>
        </p:grpSpPr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2819520" y="3124080"/>
              <a:ext cx="3504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890440" y="295596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82520" y="3048120"/>
            <a:ext cx="2642400" cy="504720"/>
            <a:chOff x="6482520" y="3048120"/>
            <a:chExt cx="2642400" cy="504720"/>
          </a:xfrm>
        </p:grpSpPr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7239240" y="3048120"/>
              <a:ext cx="1885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2520" y="3168720"/>
              <a:ext cx="70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3276720" y="3962520"/>
            <a:ext cx="466236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41960" y="4098960"/>
            <a:ext cx="3708360" cy="824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rolling switching frequency one controls I_peak and average power … And no power lo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381640" cy="2257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22440" y="-15840"/>
            <a:ext cx="6197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DECOUPLING CAPACITOR TO ISOLATE LOAD FROM VARIATION IN SUPPLY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04280" y="685800"/>
            <a:ext cx="1303920" cy="2619000"/>
            <a:chOff x="4004280" y="685800"/>
            <a:chExt cx="1303920" cy="2619000"/>
          </a:xfrm>
        </p:grpSpPr>
        <p:sp>
          <p:nvSpPr>
            <p:cNvPr id="291" name=""/>
            <p:cNvSpPr/>
            <p:nvPr/>
          </p:nvSpPr>
          <p:spPr>
            <a:xfrm>
              <a:off x="4027320" y="685800"/>
              <a:ext cx="854280" cy="2184480"/>
            </a:xfrm>
            <a:custGeom>
              <a:avLst/>
              <a:gdLst/>
              <a:ahLst/>
              <a:rect l="l" t="t" r="r" b="b"/>
              <a:pathLst>
                <a:path w="538" h="1376">
                  <a:moveTo>
                    <a:pt x="510" y="613"/>
                  </a:moveTo>
                  <a:cubicBezTo>
                    <a:pt x="527" y="550"/>
                    <a:pt x="532" y="494"/>
                    <a:pt x="538" y="427"/>
                  </a:cubicBezTo>
                  <a:cubicBezTo>
                    <a:pt x="530" y="308"/>
                    <a:pt x="520" y="204"/>
                    <a:pt x="482" y="92"/>
                  </a:cubicBezTo>
                  <a:cubicBezTo>
                    <a:pt x="467" y="48"/>
                    <a:pt x="465" y="15"/>
                    <a:pt x="417" y="0"/>
                  </a:cubicBezTo>
                  <a:cubicBezTo>
                    <a:pt x="337" y="10"/>
                    <a:pt x="326" y="23"/>
                    <a:pt x="259" y="55"/>
                  </a:cubicBezTo>
                  <a:cubicBezTo>
                    <a:pt x="242" y="72"/>
                    <a:pt x="220" y="84"/>
                    <a:pt x="204" y="102"/>
                  </a:cubicBezTo>
                  <a:cubicBezTo>
                    <a:pt x="145" y="169"/>
                    <a:pt x="130" y="223"/>
                    <a:pt x="111" y="306"/>
                  </a:cubicBezTo>
                  <a:cubicBezTo>
                    <a:pt x="101" y="349"/>
                    <a:pt x="83" y="436"/>
                    <a:pt x="83" y="436"/>
                  </a:cubicBezTo>
                  <a:cubicBezTo>
                    <a:pt x="70" y="597"/>
                    <a:pt x="47" y="757"/>
                    <a:pt x="36" y="919"/>
                  </a:cubicBezTo>
                  <a:cubicBezTo>
                    <a:pt x="44" y="1128"/>
                    <a:pt x="0" y="1244"/>
                    <a:pt x="166" y="1356"/>
                  </a:cubicBezTo>
                  <a:cubicBezTo>
                    <a:pt x="190" y="1372"/>
                    <a:pt x="222" y="1368"/>
                    <a:pt x="250" y="1375"/>
                  </a:cubicBezTo>
                  <a:cubicBezTo>
                    <a:pt x="281" y="1370"/>
                    <a:pt x="318" y="1376"/>
                    <a:pt x="343" y="1356"/>
                  </a:cubicBezTo>
                  <a:cubicBezTo>
                    <a:pt x="404" y="1308"/>
                    <a:pt x="320" y="1342"/>
                    <a:pt x="389" y="1319"/>
                  </a:cubicBezTo>
                  <a:cubicBezTo>
                    <a:pt x="395" y="1310"/>
                    <a:pt x="400" y="1299"/>
                    <a:pt x="408" y="1291"/>
                  </a:cubicBezTo>
                  <a:cubicBezTo>
                    <a:pt x="416" y="1283"/>
                    <a:pt x="430" y="1282"/>
                    <a:pt x="436" y="1272"/>
                  </a:cubicBezTo>
                  <a:cubicBezTo>
                    <a:pt x="472" y="1214"/>
                    <a:pt x="464" y="1141"/>
                    <a:pt x="464" y="107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4280" y="2724120"/>
              <a:ext cx="1303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320" y="5181480"/>
            <a:ext cx="3429000" cy="4255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0" y="3352680"/>
            <a:ext cx="7394400" cy="1861560"/>
            <a:chOff x="0" y="3352680"/>
            <a:chExt cx="7394400" cy="186156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713412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20560" y="4844880"/>
              <a:ext cx="180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2040" y="4876920"/>
              <a:ext cx="3492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AFTER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6320" y="5638680"/>
            <a:ext cx="4981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374920" y="5334120"/>
            <a:ext cx="1612800" cy="718920"/>
            <a:chOff x="2374920" y="5334120"/>
            <a:chExt cx="1612800" cy="718920"/>
          </a:xfrm>
        </p:grpSpPr>
        <p:sp>
          <p:nvSpPr>
            <p:cNvPr id="300" name=""/>
            <p:cNvSpPr/>
            <p:nvPr/>
          </p:nvSpPr>
          <p:spPr>
            <a:xfrm>
              <a:off x="2374920" y="5556240"/>
              <a:ext cx="1519200" cy="496800"/>
            </a:xfrm>
            <a:custGeom>
              <a:avLst/>
              <a:gdLst/>
              <a:ahLst/>
              <a:rect l="l" t="t" r="r" b="b"/>
              <a:pathLst>
                <a:path w="957" h="313">
                  <a:moveTo>
                    <a:pt x="158" y="160"/>
                  </a:moveTo>
                  <a:cubicBezTo>
                    <a:pt x="147" y="111"/>
                    <a:pt x="142" y="93"/>
                    <a:pt x="93" y="77"/>
                  </a:cubicBezTo>
                  <a:cubicBezTo>
                    <a:pt x="25" y="86"/>
                    <a:pt x="19" y="82"/>
                    <a:pt x="0" y="142"/>
                  </a:cubicBezTo>
                  <a:cubicBezTo>
                    <a:pt x="10" y="221"/>
                    <a:pt x="15" y="272"/>
                    <a:pt x="93" y="300"/>
                  </a:cubicBezTo>
                  <a:cubicBezTo>
                    <a:pt x="130" y="287"/>
                    <a:pt x="145" y="272"/>
                    <a:pt x="158" y="235"/>
                  </a:cubicBezTo>
                  <a:cubicBezTo>
                    <a:pt x="155" y="207"/>
                    <a:pt x="142" y="178"/>
                    <a:pt x="148" y="151"/>
                  </a:cubicBezTo>
                  <a:cubicBezTo>
                    <a:pt x="157" y="110"/>
                    <a:pt x="240" y="86"/>
                    <a:pt x="269" y="77"/>
                  </a:cubicBezTo>
                  <a:cubicBezTo>
                    <a:pt x="348" y="52"/>
                    <a:pt x="258" y="58"/>
                    <a:pt x="362" y="40"/>
                  </a:cubicBezTo>
                  <a:cubicBezTo>
                    <a:pt x="427" y="28"/>
                    <a:pt x="492" y="21"/>
                    <a:pt x="557" y="12"/>
                  </a:cubicBezTo>
                  <a:cubicBezTo>
                    <a:pt x="944" y="25"/>
                    <a:pt x="728" y="0"/>
                    <a:pt x="882" y="49"/>
                  </a:cubicBezTo>
                  <a:cubicBezTo>
                    <a:pt x="909" y="88"/>
                    <a:pt x="940" y="115"/>
                    <a:pt x="957" y="160"/>
                  </a:cubicBezTo>
                  <a:cubicBezTo>
                    <a:pt x="948" y="212"/>
                    <a:pt x="953" y="234"/>
                    <a:pt x="910" y="263"/>
                  </a:cubicBezTo>
                  <a:cubicBezTo>
                    <a:pt x="877" y="313"/>
                    <a:pt x="833" y="310"/>
                    <a:pt x="780" y="281"/>
                  </a:cubicBezTo>
                  <a:cubicBezTo>
                    <a:pt x="760" y="270"/>
                    <a:pt x="724" y="244"/>
                    <a:pt x="724" y="244"/>
                  </a:cubicBezTo>
                  <a:cubicBezTo>
                    <a:pt x="712" y="225"/>
                    <a:pt x="687" y="188"/>
                    <a:pt x="687" y="1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1" name=""/>
            <p:cNvGraphicFramePr/>
            <p:nvPr/>
          </p:nvGraphicFramePr>
          <p:xfrm>
            <a:off x="3505320" y="5334120"/>
            <a:ext cx="48240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5320" y="5334120"/>
                      <a:ext cx="4824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3" name=""/>
          <p:cNvGrpSpPr/>
          <p:nvPr/>
        </p:nvGrpSpPr>
        <p:grpSpPr>
          <a:xfrm>
            <a:off x="2757600" y="5410080"/>
            <a:ext cx="2639880" cy="917640"/>
            <a:chOff x="2757600" y="5410080"/>
            <a:chExt cx="2639880" cy="917640"/>
          </a:xfrm>
        </p:grpSpPr>
        <p:sp>
          <p:nvSpPr>
            <p:cNvPr id="304" name=""/>
            <p:cNvSpPr/>
            <p:nvPr/>
          </p:nvSpPr>
          <p:spPr>
            <a:xfrm>
              <a:off x="2757600" y="5526000"/>
              <a:ext cx="2381040" cy="801720"/>
            </a:xfrm>
            <a:custGeom>
              <a:avLst/>
              <a:gdLst/>
              <a:ahLst/>
              <a:rect l="l" t="t" r="r" b="b"/>
              <a:pathLst>
                <a:path w="1500" h="505">
                  <a:moveTo>
                    <a:pt x="270" y="152"/>
                  </a:moveTo>
                  <a:cubicBezTo>
                    <a:pt x="237" y="86"/>
                    <a:pt x="239" y="85"/>
                    <a:pt x="168" y="68"/>
                  </a:cubicBezTo>
                  <a:cubicBezTo>
                    <a:pt x="114" y="78"/>
                    <a:pt x="72" y="87"/>
                    <a:pt x="37" y="133"/>
                  </a:cubicBezTo>
                  <a:cubicBezTo>
                    <a:pt x="23" y="151"/>
                    <a:pt x="0" y="189"/>
                    <a:pt x="0" y="189"/>
                  </a:cubicBezTo>
                  <a:cubicBezTo>
                    <a:pt x="4" y="205"/>
                    <a:pt x="11" y="243"/>
                    <a:pt x="28" y="254"/>
                  </a:cubicBezTo>
                  <a:cubicBezTo>
                    <a:pt x="45" y="264"/>
                    <a:pt x="84" y="272"/>
                    <a:pt x="84" y="272"/>
                  </a:cubicBezTo>
                  <a:cubicBezTo>
                    <a:pt x="93" y="278"/>
                    <a:pt x="101" y="287"/>
                    <a:pt x="112" y="291"/>
                  </a:cubicBezTo>
                  <a:cubicBezTo>
                    <a:pt x="136" y="300"/>
                    <a:pt x="186" y="309"/>
                    <a:pt x="186" y="309"/>
                  </a:cubicBezTo>
                  <a:cubicBezTo>
                    <a:pt x="234" y="300"/>
                    <a:pt x="254" y="300"/>
                    <a:pt x="270" y="254"/>
                  </a:cubicBezTo>
                  <a:cubicBezTo>
                    <a:pt x="325" y="272"/>
                    <a:pt x="274" y="249"/>
                    <a:pt x="316" y="291"/>
                  </a:cubicBezTo>
                  <a:cubicBezTo>
                    <a:pt x="343" y="318"/>
                    <a:pt x="424" y="382"/>
                    <a:pt x="456" y="393"/>
                  </a:cubicBezTo>
                  <a:cubicBezTo>
                    <a:pt x="563" y="430"/>
                    <a:pt x="659" y="481"/>
                    <a:pt x="771" y="505"/>
                  </a:cubicBezTo>
                  <a:cubicBezTo>
                    <a:pt x="1026" y="485"/>
                    <a:pt x="934" y="505"/>
                    <a:pt x="1050" y="477"/>
                  </a:cubicBezTo>
                  <a:cubicBezTo>
                    <a:pt x="1102" y="450"/>
                    <a:pt x="1152" y="445"/>
                    <a:pt x="1208" y="430"/>
                  </a:cubicBezTo>
                  <a:cubicBezTo>
                    <a:pt x="1251" y="402"/>
                    <a:pt x="1292" y="370"/>
                    <a:pt x="1338" y="347"/>
                  </a:cubicBezTo>
                  <a:cubicBezTo>
                    <a:pt x="1347" y="338"/>
                    <a:pt x="1355" y="327"/>
                    <a:pt x="1366" y="319"/>
                  </a:cubicBezTo>
                  <a:cubicBezTo>
                    <a:pt x="1377" y="311"/>
                    <a:pt x="1392" y="309"/>
                    <a:pt x="1403" y="300"/>
                  </a:cubicBezTo>
                  <a:cubicBezTo>
                    <a:pt x="1458" y="254"/>
                    <a:pt x="1385" y="284"/>
                    <a:pt x="1450" y="263"/>
                  </a:cubicBezTo>
                  <a:cubicBezTo>
                    <a:pt x="1468" y="235"/>
                    <a:pt x="1477" y="207"/>
                    <a:pt x="1496" y="179"/>
                  </a:cubicBezTo>
                  <a:cubicBezTo>
                    <a:pt x="1492" y="142"/>
                    <a:pt x="1500" y="97"/>
                    <a:pt x="1477" y="68"/>
                  </a:cubicBezTo>
                  <a:cubicBezTo>
                    <a:pt x="1450" y="33"/>
                    <a:pt x="1357" y="26"/>
                    <a:pt x="1320" y="21"/>
                  </a:cubicBezTo>
                  <a:cubicBezTo>
                    <a:pt x="1267" y="14"/>
                    <a:pt x="1162" y="3"/>
                    <a:pt x="1162" y="3"/>
                  </a:cubicBezTo>
                  <a:cubicBezTo>
                    <a:pt x="1097" y="7"/>
                    <a:pt x="1028" y="0"/>
                    <a:pt x="966" y="21"/>
                  </a:cubicBezTo>
                  <a:cubicBezTo>
                    <a:pt x="956" y="25"/>
                    <a:pt x="949" y="35"/>
                    <a:pt x="939" y="40"/>
                  </a:cubicBezTo>
                  <a:cubicBezTo>
                    <a:pt x="930" y="44"/>
                    <a:pt x="920" y="46"/>
                    <a:pt x="911" y="49"/>
                  </a:cubicBezTo>
                  <a:cubicBezTo>
                    <a:pt x="870" y="77"/>
                    <a:pt x="795" y="94"/>
                    <a:pt x="846" y="14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"/>
            <p:cNvGraphicFramePr/>
            <p:nvPr/>
          </p:nvGraphicFramePr>
          <p:xfrm>
            <a:off x="5029200" y="5410080"/>
            <a:ext cx="368280" cy="279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5410080"/>
                      <a:ext cx="3682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7" name=""/>
          <p:cNvGrpSpPr/>
          <p:nvPr/>
        </p:nvGrpSpPr>
        <p:grpSpPr>
          <a:xfrm>
            <a:off x="76320" y="6172200"/>
            <a:ext cx="7929000" cy="488520"/>
            <a:chOff x="76320" y="6172200"/>
            <a:chExt cx="7929000" cy="488520"/>
          </a:xfrm>
        </p:grpSpPr>
        <p:pic>
          <p:nvPicPr>
            <p:cNvPr id="308" name="" descr=""/>
            <p:cNvPicPr/>
            <p:nvPr/>
          </p:nvPicPr>
          <p:blipFill>
            <a:blip r:embed="rId9"/>
            <a:stretch/>
          </p:blipFill>
          <p:spPr>
            <a:xfrm>
              <a:off x="76320" y="6183000"/>
              <a:ext cx="2666880" cy="477720"/>
            </a:xfrm>
            <a:prstGeom prst="rect">
              <a:avLst/>
            </a:prstGeom>
            <a:ln w="25560">
              <a:solidFill>
                <a:srgbClr val="66ffcc"/>
              </a:solidFill>
              <a:miter/>
            </a:ln>
          </p:spPr>
        </p:pic>
        <p:sp>
          <p:nvSpPr>
            <p:cNvPr id="309" name=""/>
            <p:cNvSpPr/>
            <p:nvPr/>
          </p:nvSpPr>
          <p:spPr>
            <a:xfrm>
              <a:off x="2850120" y="6172200"/>
              <a:ext cx="5155200" cy="337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 FOR DECOUPLING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5840" y="944640"/>
            <a:ext cx="3870360" cy="2555640"/>
            <a:chOff x="15840" y="944640"/>
            <a:chExt cx="3870360" cy="2555640"/>
          </a:xfrm>
        </p:grpSpPr>
        <p:grpSp>
          <p:nvGrpSpPr>
            <p:cNvPr id="311" name=""/>
            <p:cNvGrpSpPr/>
            <p:nvPr/>
          </p:nvGrpSpPr>
          <p:grpSpPr>
            <a:xfrm>
              <a:off x="15840" y="944640"/>
              <a:ext cx="1843920" cy="2379240"/>
              <a:chOff x="15840" y="944640"/>
              <a:chExt cx="1843920" cy="2379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6000" y="2743200"/>
                <a:ext cx="182376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del f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pply var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40" y="944640"/>
                <a:ext cx="1792440" cy="1903320"/>
              </a:xfrm>
              <a:custGeom>
                <a:avLst/>
                <a:gdLst/>
                <a:ahLst/>
                <a:rect l="l" t="t" r="r" b="b"/>
                <a:pathLst>
                  <a:path w="1129" h="1199">
                    <a:moveTo>
                      <a:pt x="864" y="270"/>
                    </a:moveTo>
                    <a:cubicBezTo>
                      <a:pt x="807" y="224"/>
                      <a:pt x="749" y="193"/>
                      <a:pt x="687" y="158"/>
                    </a:cubicBezTo>
                    <a:cubicBezTo>
                      <a:pt x="596" y="107"/>
                      <a:pt x="665" y="132"/>
                      <a:pt x="604" y="112"/>
                    </a:cubicBezTo>
                    <a:cubicBezTo>
                      <a:pt x="576" y="84"/>
                      <a:pt x="557" y="68"/>
                      <a:pt x="520" y="56"/>
                    </a:cubicBezTo>
                    <a:cubicBezTo>
                      <a:pt x="465" y="19"/>
                      <a:pt x="381" y="9"/>
                      <a:pt x="316" y="0"/>
                    </a:cubicBezTo>
                    <a:cubicBezTo>
                      <a:pt x="247" y="7"/>
                      <a:pt x="210" y="13"/>
                      <a:pt x="149" y="28"/>
                    </a:cubicBezTo>
                    <a:cubicBezTo>
                      <a:pt x="116" y="50"/>
                      <a:pt x="88" y="69"/>
                      <a:pt x="65" y="102"/>
                    </a:cubicBezTo>
                    <a:cubicBezTo>
                      <a:pt x="26" y="218"/>
                      <a:pt x="54" y="119"/>
                      <a:pt x="37" y="325"/>
                    </a:cubicBezTo>
                    <a:cubicBezTo>
                      <a:pt x="32" y="383"/>
                      <a:pt x="14" y="445"/>
                      <a:pt x="0" y="502"/>
                    </a:cubicBezTo>
                    <a:cubicBezTo>
                      <a:pt x="9" y="658"/>
                      <a:pt x="42" y="810"/>
                      <a:pt x="56" y="966"/>
                    </a:cubicBezTo>
                    <a:cubicBezTo>
                      <a:pt x="64" y="1051"/>
                      <a:pt x="52" y="1139"/>
                      <a:pt x="130" y="1189"/>
                    </a:cubicBezTo>
                    <a:cubicBezTo>
                      <a:pt x="142" y="1186"/>
                      <a:pt x="155" y="1184"/>
                      <a:pt x="167" y="1180"/>
                    </a:cubicBezTo>
                    <a:cubicBezTo>
                      <a:pt x="186" y="1175"/>
                      <a:pt x="223" y="1162"/>
                      <a:pt x="223" y="1162"/>
                    </a:cubicBezTo>
                    <a:cubicBezTo>
                      <a:pt x="371" y="1167"/>
                      <a:pt x="491" y="1174"/>
                      <a:pt x="632" y="1199"/>
                    </a:cubicBezTo>
                    <a:cubicBezTo>
                      <a:pt x="775" y="1192"/>
                      <a:pt x="791" y="1195"/>
                      <a:pt x="892" y="1171"/>
                    </a:cubicBezTo>
                    <a:cubicBezTo>
                      <a:pt x="973" y="1130"/>
                      <a:pt x="1051" y="1086"/>
                      <a:pt x="1106" y="1013"/>
                    </a:cubicBezTo>
                    <a:cubicBezTo>
                      <a:pt x="1123" y="944"/>
                      <a:pt x="1129" y="869"/>
                      <a:pt x="1087" y="809"/>
                    </a:cubicBezTo>
                    <a:cubicBezTo>
                      <a:pt x="1066" y="744"/>
                      <a:pt x="1007" y="669"/>
                      <a:pt x="966" y="613"/>
                    </a:cubicBezTo>
                    <a:cubicBezTo>
                      <a:pt x="941" y="537"/>
                      <a:pt x="881" y="466"/>
                      <a:pt x="836" y="400"/>
                    </a:cubicBezTo>
                    <a:cubicBezTo>
                      <a:pt x="833" y="391"/>
                      <a:pt x="820" y="379"/>
                      <a:pt x="827" y="372"/>
                    </a:cubicBezTo>
                    <a:cubicBezTo>
                      <a:pt x="879" y="320"/>
                      <a:pt x="873" y="396"/>
                      <a:pt x="873" y="34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14" name=""/>
            <p:cNvGraphicFramePr/>
            <p:nvPr/>
          </p:nvGraphicFramePr>
          <p:xfrm>
            <a:off x="1981080" y="2666880"/>
            <a:ext cx="1905120" cy="833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81080" y="2666880"/>
                      <a:ext cx="1905120" cy="8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6" name=""/>
          <p:cNvGrpSpPr/>
          <p:nvPr/>
        </p:nvGrpSpPr>
        <p:grpSpPr>
          <a:xfrm>
            <a:off x="5867280" y="898560"/>
            <a:ext cx="3110400" cy="2006640"/>
            <a:chOff x="5867280" y="898560"/>
            <a:chExt cx="3110400" cy="2006640"/>
          </a:xfrm>
        </p:grpSpPr>
        <p:grpSp>
          <p:nvGrpSpPr>
            <p:cNvPr id="317" name=""/>
            <p:cNvGrpSpPr/>
            <p:nvPr/>
          </p:nvGrpSpPr>
          <p:grpSpPr>
            <a:xfrm>
              <a:off x="5867280" y="898560"/>
              <a:ext cx="3110400" cy="2006640"/>
              <a:chOff x="5867280" y="898560"/>
              <a:chExt cx="3110400" cy="2006640"/>
            </a:xfrm>
          </p:grpSpPr>
          <p:pic>
            <p:nvPicPr>
              <p:cNvPr id="3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67280" y="990720"/>
                <a:ext cx="2772000" cy="19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6609960" y="898560"/>
                <a:ext cx="23677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Qualitative ope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934320" y="2041560"/>
              <a:ext cx="2002680" cy="337320"/>
              <a:chOff x="6934320" y="2041560"/>
              <a:chExt cx="2002680" cy="337320"/>
            </a:xfrm>
          </p:grpSpPr>
          <p:sp>
            <p:nvSpPr>
              <p:cNvPr id="321" name=""/>
              <p:cNvSpPr/>
              <p:nvPr/>
            </p:nvSpPr>
            <p:spPr>
              <a:xfrm>
                <a:off x="7467480" y="2057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34320" y="2362320"/>
                <a:ext cx="1295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57560" y="2041560"/>
                <a:ext cx="127944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ccep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6810480" y="2895480"/>
            <a:ext cx="2333520" cy="962280"/>
            <a:chOff x="6810480" y="2895480"/>
            <a:chExt cx="2333520" cy="962280"/>
          </a:xfrm>
        </p:grpSpPr>
        <p:pic>
          <p:nvPicPr>
            <p:cNvPr id="325" name="" descr=""/>
            <p:cNvPicPr/>
            <p:nvPr/>
          </p:nvPicPr>
          <p:blipFill>
            <a:blip r:embed="rId13"/>
            <a:stretch/>
          </p:blipFill>
          <p:spPr>
            <a:xfrm>
              <a:off x="6810480" y="3200400"/>
              <a:ext cx="23335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4"/>
            <a:stretch/>
          </p:blipFill>
          <p:spPr>
            <a:xfrm>
              <a:off x="7010280" y="2895480"/>
              <a:ext cx="175284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Jorge Aravena</cp:lastModifiedBy>
  <dcterms:modified xsi:type="dcterms:W3CDTF">2004-08-21T04:17:01Z</dcterms:modified>
  <cp:revision>8</cp:revision>
  <dc:subject/>
  <dc:title>No Slide Title</dc:title>
</cp:coreProperties>
</file>