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4C6-3722-4313-955E-D3D9B52C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0DD-11D1-4745-B26D-5D56E704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B2F-3533-4827-AEED-1577548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5F8-9B1F-451A-B897-DB1748DB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E4F-87DE-496A-994D-422C7B6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A87-DF57-4A60-A945-51C1107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C36-FC6F-4180-86A9-44EE1AAD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D03-DB2D-4754-81F1-ADB124E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489-93DC-4CDE-92DB-AF020AED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ECA-2480-4F47-9FB7-A87AE31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7BA-04D9-4937-8A99-EE40F06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D80-23BC-427D-8EA2-B889829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77D-2AFB-40CA-B09F-CB2941A9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4-08-20T19:34:50Z</dcterms:modified>
  <cp:revision>15</cp:revision>
  <dc:subject/>
  <dc:title>No Slide Title</dc:title>
</cp:coreProperties>
</file>