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E19-ECA7-4793-80F9-D28BB0FC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996-F18D-456B-8431-E7D75A5F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89F-3AAF-4FC4-BF32-BB0D5640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467-C8BA-4249-B1AD-11652A1C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833-07E5-451E-92C3-C9573012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374-4405-4939-8E4B-1F45D22E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9CC-D6BF-4541-A422-1A0C4DBA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064-5F9A-49BC-8F21-2A9D8F3B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AB9-1930-44DE-B62B-C0E931E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7FF-495B-4B7B-BE78-C75E984D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50C-C7DB-4401-AC4F-77EE68E4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626-39C7-4FDE-B26A-6A2C2CD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BC2-6CAA-4AF1-9607-C9C47CC09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NTEXT DEPENDENT CLASS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683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 Bayes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: The class to which a feature ve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ongs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ts own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values of the other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 existing relation among the various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60680" y="1916280"/>
                <a:ext cx="29430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B41-05B1-421F-A396-13D490AC72A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93320" y="59976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nnel Eq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87520" y="2255760"/>
                <a:ext cx="3745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2997360"/>
                <a:ext cx="3203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3600" y="3789360"/>
                <a:ext cx="1943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00240" y="470376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equalizer  </m:t>
                    </m:r>
                    <m:r>
                      <m:t xml:space="preserve">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035160" y="4802040"/>
            <a:ext cx="122400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70F-B190-4A80-9DFF-DACEBB067679}" type="slidenum">
              <a:t>10</a:t>
            </a:fld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1248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ree input symbols are involv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494000"/>
                <a:ext cx="2952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24000" y="2382840"/>
                <a:ext cx="2376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C33-CDAE-40E9-8376-664BB028FC39}" type="slidenum">
              <a:t>11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63640" y="3665520"/>
            <a:ext cx="5904000" cy="31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556000" y="44280"/>
          <a:ext cx="3784320" cy="3557520"/>
        </p:xfrm>
        <a:graphic>
          <a:graphicData uri="http://schemas.openxmlformats.org/drawingml/2006/table">
            <a:tbl>
              <a:tblPr/>
              <a:tblGrid>
                <a:gridCol w="630000"/>
                <a:gridCol w="630360"/>
                <a:gridCol w="631800"/>
                <a:gridCol w="630360"/>
                <a:gridCol w="630000"/>
                <a:gridCol w="631800"/>
              </a:tblGrid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BE3-CE9D-4225-BEBC-28245FB3892D}" type="slidenum">
              <a:t>12</a:t>
            </a:fld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t 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itions are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6560" y="1197000"/>
            <a:ext cx="6625440" cy="4392000"/>
            <a:chOff x="1906560" y="1197000"/>
            <a:chExt cx="6625440" cy="439200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06560" y="1197000"/>
                  <a:ext cx="2876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30760" y="2773080"/>
                  <a:ext cx="2078640" cy="5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57000" y="2333160"/>
                  <a:ext cx="8740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5157000" y="3389400"/>
                  <a:ext cx="8740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 flipV="1">
              <a:off x="4404240" y="25682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4240" y="30398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124720" y="4450680"/>
                  <a:ext cx="471240" cy="47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486240" y="3976920"/>
                  <a:ext cx="418680" cy="4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62760" y="5035320"/>
                  <a:ext cx="410760" cy="46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V="1">
              <a:off x="2758680" y="4434480"/>
              <a:ext cx="50112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58680" y="4906080"/>
              <a:ext cx="50112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759920" y="4564440"/>
                  <a:ext cx="15217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7136640" y="4188600"/>
                  <a:ext cx="1312200" cy="37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136640" y="5245200"/>
                  <a:ext cx="1395360" cy="34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otherwis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6384600" y="4424760"/>
              <a:ext cx="57312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84600" y="4895640"/>
              <a:ext cx="5731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4D5-910A-4627-83BC-BA13AF125988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ontext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related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iven the current state and the transmitted bit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we determine the next stat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state dependence mod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nsi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all allowable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81160" y="3873600"/>
                <a:ext cx="2814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653000"/>
                <a:ext cx="1800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02040" y="4508640"/>
                <a:ext cx="3427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67D-18A4-49F3-A6D7-D359484DB140}" type="slidenum">
              <a:t>14</a:t>
            </a:fld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ise white and Gauss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hannel impulse response    estimate to b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tates are determined by the values of the binary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,…,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n+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will b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08720" y="981000"/>
                <a:ext cx="339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08000" y="2035080"/>
                <a:ext cx="3311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16000" y="2720880"/>
                <a:ext cx="49482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322-5783-417E-B4ED-7191F0F271E0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71400"/>
            <a:ext cx="724680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dden Markov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hannel equalization problem, the states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“learned” during the training peri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we shall assume that stat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re no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only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err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train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ech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usic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C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ind Equ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765-ADBE-4CC0-9504-8C9CD01870AB}" type="slidenum">
              <a:t>16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437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HMM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finite state automat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at generates the observation sequence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ssume that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observation sequence is produced as a result of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uccessiv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transitions between states, upon arrival at a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3457440"/>
            <a:ext cx="3600720" cy="18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AE4-A37C-49E8-9BE3-780988394355}" type="slidenum">
              <a:t>17</a:t>
            </a:fld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ype of modeling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nstationary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proc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undergo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stin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itions among a set of different stationary proce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705636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87A-DCEA-409C-8B82-35C4375DCAAC}" type="slidenum">
              <a:t>18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HM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ingle coin case: Assume a coin that is tossed behind a curtain. All it is available to us is the outcome,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ssume the two states to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n example of a random experiment with observable states. The model is characterized by a single parameter, e.g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t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= 1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4753080" cy="25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B59-1805-4F31-A607-0C81E336AACC}" type="slidenum">
              <a:t>19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507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nterrelatio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ma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classification to be performed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 avail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, we will assume that the training ve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occur i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e after the 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e will refer to them a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03400" y="2894040"/>
                <a:ext cx="1727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770-36AF-4F54-A91C-19635F4BB5E0}" type="slidenum">
              <a:t>2</a:t>
            </a:fld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wo-coins case: For this case, we observe a sequenc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have no access to know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ich coin was tos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dentify one state for each coin. This is an example whe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es are not 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mitted from either state. The model depends 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11280" y="3473280"/>
            <a:ext cx="5400720" cy="29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C83-CB3B-4F10-95CD-7E547BADEEDA}" type="slidenum">
              <a:t>20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366480"/>
            <a:ext cx="8134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hree-coins case example is shown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in all previous examples, specifying the model is equivalent to kn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ability of each observ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be emitted from each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ition probabilities among stat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374364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414-FD71-4460-AB7E-1637E7BD84B7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general HMM model is characterized by the following set of parame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mber of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3573360"/>
                <a:ext cx="25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24200" y="2852640"/>
                <a:ext cx="260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22400" y="4414680"/>
                <a:ext cx="6524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nitial state probabilities,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042920" y="2205000"/>
            <a:ext cx="7850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989000"/>
            <a:ext cx="770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2133720"/>
            <a:ext cx="712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0FC-48BA-4840-A640-5D23F928EE94}" type="slidenum">
              <a:t>22</a:t>
            </a:fld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31520" y="76176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problem in Pattern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ence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described by an HMM, find the paramete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or each of the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trai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n unknown pattern, find to which on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known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ches be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recogni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6880" y="1351080"/>
                <a:ext cx="32130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540-2984-42B8-96E6-659CADCF8785}" type="slidenum">
              <a:t>23</a:t>
            </a:fld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1520" y="18864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gnition:  Any path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 to be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quence of observa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observations to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is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pon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ri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successive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ide in favor of the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from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vailable) according to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ayes ru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quiprobable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184560" y="3889440"/>
                <a:ext cx="2773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86000" y="5516640"/>
                <a:ext cx="2773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143-BF4A-44EE-8BDB-5D3E6BACDF88}" type="slidenum">
              <a:t>24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31880" y="549360"/>
            <a:ext cx="73915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mode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is more than one possible sets of successive state transition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with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efficient computation of the above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98720" y="1871640"/>
                <a:ext cx="28083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4508640"/>
                <a:ext cx="38876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00360" y="5157720"/>
                <a:ext cx="4176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916360" y="5013360"/>
            <a:ext cx="1224000" cy="9367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86080" y="5072040"/>
            <a:ext cx="2808360" cy="719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2560" y="6130800"/>
            <a:ext cx="11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7560" y="5989680"/>
            <a:ext cx="185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cal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37000" y="602100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86480" y="587664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1600" y="119700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A09-4270-4461-B189-20FD055C63B5}" type="slidenum">
              <a:t>25</a:t>
            </a:fld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4000" y="5445000"/>
                <a:ext cx="2232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81440" y="5445000"/>
            <a:ext cx="21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ute this for eac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D65-640D-4095-86EA-1F949E364A94}" type="slidenum">
              <a:t>26</a:t>
            </a:fld>
          </a:p>
        </p:txBody>
      </p:sp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88704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ore quant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55800" y="2111400"/>
                <a:ext cx="4637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70200" y="3695760"/>
                <a:ext cx="3314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BE5-EBC8-40C9-98EF-D4286CA94CBC}" type="slidenum">
              <a:t>27</a:t>
            </a:fld>
          </a:p>
        </p:txBody>
      </p:sp>
    </p:spTree>
  </p:cSld>
  <p:transition>
    <p:random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training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to belong to the specific mod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stimate the unknown paramete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o that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odel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o be max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 ML estimation problem with miss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08000" y="2925720"/>
                <a:ext cx="2232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944-F632-48E1-95D9-FC390AC2436E}" type="slidenum">
              <a:t>28</a:t>
            </a:fld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76464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ption:  Dat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cre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84360" y="1341360"/>
                <a:ext cx="4103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49560" y="2925720"/>
                <a:ext cx="5997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38320" y="4187880"/>
                <a:ext cx="3071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B95-B244-41BB-8094-89D0B2A2E65A}" type="slidenum">
              <a:t>29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ext Dependent Bayesian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a sequence of classes, that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o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the Bayesian rule can equivalently be sta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rkov Chain Models (for class depende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24000" y="952560"/>
                <a:ext cx="223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1623960"/>
                <a:ext cx="2016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92240" y="2262240"/>
                <a:ext cx="384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24000" y="2655720"/>
                <a:ext cx="230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28640" y="4672080"/>
                <a:ext cx="6318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60600" y="5967360"/>
                <a:ext cx="48704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984-89E4-41B8-920A-05CBBBDC6E02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itial conditions for all the unknown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1:  From the current estimates of the model paramete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new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70200" y="1112760"/>
                <a:ext cx="270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4160" y="2513160"/>
                <a:ext cx="244152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49840" y="2833560"/>
                <a:ext cx="3627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of transition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 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transitions 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90880" y="4078440"/>
                <a:ext cx="287316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sSub>
                          <m:e/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4475160"/>
                <a:ext cx="288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 state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being at state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72080" y="5950080"/>
                <a:ext cx="169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286-B2F2-455E-A77E-FB8A8652E130}" type="slidenum">
              <a:t>30</a:t>
            </a:fld>
          </a:p>
        </p:txBody>
      </p:sp>
    </p:spTree>
  </p:cSld>
  <p:transition>
    <p:random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923400"/>
            <a:ext cx="7535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3:  Compu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step 2.  Otherwise st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ter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mod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nverge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 maximum (local or glob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an implementation of the EM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38560" y="939960"/>
                <a:ext cx="38894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|</m:t>
                        </m:r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76480"/>
                <a:ext cx="2376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F42-60F4-409A-99F6-5F43268F0E73}" type="slidenum">
              <a:t>31</a:t>
            </a:fld>
          </a:p>
        </p:txBody>
      </p:sp>
    </p:spTree>
  </p:cSld>
  <p:transition>
    <p:random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rememb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ly mutually independ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df in one class independent of the other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97000" y="620640"/>
                <a:ext cx="41893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9080" y="2863800"/>
                <a:ext cx="3887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547640" y="4483080"/>
                <a:ext cx="365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8080" y="5661000"/>
                <a:ext cx="30398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235-E650-4CDD-B4D2-8E09B0C3A483}" type="slidenum">
              <a:t>4</a:t>
            </a:fld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-2433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above, the Bayes rule is readily seen to be equivalent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it rests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nd the above maximum in brute-force task we nee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Ν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1197000"/>
                <a:ext cx="4105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58920" y="3357720"/>
                <a:ext cx="41767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FE7-AB3E-4741-988F-4F0849804D60}" type="slidenum">
              <a:t>5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Viterbi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274760"/>
            <a:ext cx="806436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4F9-84CB-4F80-9DC2-43D166B66E21}" type="slidenum">
              <a:t>6</a:t>
            </a:fld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31520" y="4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ea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rresponds to one path through the trellis diagram.  One of them is the optimum (e.g., black)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es along the optimal path determine the classes to whi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re assig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ach transition corresponds a cost.  For our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06800" y="2637000"/>
                <a:ext cx="29286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09960" y="3825720"/>
                <a:ext cx="3313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00320" y="4894200"/>
                <a:ext cx="4340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A03-6FEF-469F-AF11-901D0AB2A4EA}" type="slidenum">
              <a:t>7</a:t>
            </a:fld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31520" y="31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quivale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cost up to a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k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33440" y="1177920"/>
                <a:ext cx="3814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03360" y="2475000"/>
                <a:ext cx="3400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56000" y="4059360"/>
                <a:ext cx="3311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799-07E8-41D9-84E5-5FD5F86A31AE}" type="slidenum">
              <a:t>8</a:t>
            </a:fld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836280"/>
            <a:ext cx="68626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llman’s princi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w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path terminates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55800" y="1413000"/>
                <a:ext cx="5432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77880" y="2708280"/>
                <a:ext cx="195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08720" y="3573360"/>
                <a:ext cx="792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/>
                    </m:sSubSup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84440" y="4292640"/>
                <a:ext cx="383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7F8-5927-4ADA-8917-C7421BE9D99D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8-31T07:21:24Z</dcterms:modified>
  <cp:revision>601</cp:revision>
  <dc:subject/>
  <dc:title>PowerPoint Presentation</dc:title>
</cp:coreProperties>
</file>