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5F22-FBFC-4DE9-BBC5-836010AD1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5E21-EDF9-4394-893E-064F5B27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CA42-6556-4EDC-8043-8A4889241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3AF2-22AB-474E-BFE3-218C682BA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BF87-EADD-4EC7-9E30-B575CB20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C887-9226-429F-AF7A-57311374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0D9F-298B-4F62-B055-94C34FC5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AF02-D751-407C-AB3D-C6517625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A079-9A74-4E9B-A7B9-135C9DA8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2594-3B69-4175-B792-35EA47F6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4C7C-B041-410A-8D3B-83629757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033C-17D3-4590-A3EE-659A89C3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7123-7155-41F5-91EF-CC92FA848D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725040"/>
            <a:ext cx="7918560" cy="55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lect the “optimum” numbe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featu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lect the “best”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eatu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a three-fold disadvant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gh computational deman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w generalization perform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or error estima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053080" y="401760"/>
            <a:ext cx="443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FEATURE S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E7C8-8864-46F7-A6FF-0BB4E63019E8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440" y="-243000"/>
            <a:ext cx="7535880" cy="588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1" marL="6537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e decision</a:t>
            </a:r>
            <a:r>
              <a:rPr b="0" lang="el-GR" sz="2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tep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ut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rom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 i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,…,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oose significance level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ρ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ute from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0,1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able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[-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l-GR" sz="2200" spc="-1" strike="noStrike" baseline="-25000">
                <a:solidFill>
                  <a:srgbClr val="000000"/>
                </a:solidFill>
                <a:latin typeface="Times New Roman"/>
              </a:rPr>
              <a:t>ρ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el-GR" sz="2200" spc="-1" strike="noStrike" baseline="-25000">
                <a:solidFill>
                  <a:srgbClr val="000000"/>
                </a:solidFill>
                <a:latin typeface="Times New Roman"/>
              </a:rPr>
              <a:t>ρ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 algn="just">
              <a:spcBef>
                <a:spcPts val="55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An example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A random variabl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as variance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el-GR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(0.23)</a:t>
            </a:r>
            <a:r>
              <a:rPr b="0" lang="el-GR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Ν=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asurements are obtained giving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          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significance level is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0.05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 </a:t>
            </a:r>
            <a:br>
              <a:rPr sz="2200"/>
            </a:b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est the hypothesi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908000" y="3284640"/>
                <a:ext cx="251964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  </m:t>
                        </m:r>
                        <m:r>
                          <m:t xml:space="preserve">q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   accept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   </m:t>
                        </m:r>
                        <m:r>
                          <m:t xml:space="preserve">q</m:t>
                        </m:r>
                        <m:r>
                          <m:t xml:space="preserve">∈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D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   reject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476360" y="4776840"/>
                <a:ext cx="93672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547640" y="5878440"/>
                <a:ext cx="183528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μ</m:t>
                        </m:r>
                        <m:r>
                          <m:t xml:space="preserve">=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μ</m:t>
                        </m:r>
                        <m:r>
                          <m:t xml:space="preserve">≠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979640" y="1701720"/>
            <a:ext cx="4392720" cy="1440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831920" y="1701720"/>
            <a:ext cx="12340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1-ρ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27F1-938C-4BAD-925D-769CF9AC47A2}" type="slidenum">
              <a:t>10</a:t>
            </a:fld>
          </a:p>
        </p:txBody>
      </p:sp>
    </p:spTree>
  </p:cSld>
  <p:transition>
    <p:random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5800" y="287280"/>
            <a:ext cx="74376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nce 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known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          i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0,1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rom tables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e obtain the values with acceptance interval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-x</a:t>
            </a:r>
            <a:r>
              <a:rPr b="0" i="1" lang="el-GR" sz="2200" spc="-1" strike="noStrike" baseline="-25000">
                <a:solidFill>
                  <a:srgbClr val="000000"/>
                </a:solidFill>
                <a:latin typeface="Times New Roman"/>
              </a:rPr>
              <a:t>ρ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el-GR" sz="2200" spc="-1" strike="noStrike" baseline="-25000">
                <a:solidFill>
                  <a:srgbClr val="000000"/>
                </a:solidFill>
                <a:latin typeface="Times New Roman"/>
              </a:rPr>
              <a:t>ρ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normal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0,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u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851280" y="108000"/>
                <a:ext cx="10810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σ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476360" y="3645000"/>
                <a:ext cx="4464000" cy="26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rob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7</m:t>
                            </m:r>
                            <m:r>
                              <m:t xml:space="preserve">&lt;</m:t>
                            </m:r>
                            <m:f>
                              <m:num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3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den>
                            </m:f>
                            <m:r>
                              <m:t xml:space="preserve">&lt;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7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b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3</m:t>
                            </m:r>
                            <m:r>
                              <m:t xml:space="preserve">&lt;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−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b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37</m:t>
                            </m:r>
                            <m:r>
                              <m:t xml:space="preserve">&lt;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&lt;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476360" y="5877000"/>
            <a:ext cx="3527280" cy="43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258920" y="1628640"/>
          <a:ext cx="7056360" cy="851040"/>
        </p:xfrm>
        <a:graphic>
          <a:graphicData uri="http://schemas.openxmlformats.org/drawingml/2006/table">
            <a:tbl>
              <a:tblPr/>
              <a:tblGrid>
                <a:gridCol w="673200"/>
                <a:gridCol w="695160"/>
                <a:gridCol w="865080"/>
                <a:gridCol w="792360"/>
                <a:gridCol w="718920"/>
                <a:gridCol w="720720"/>
                <a:gridCol w="792360"/>
                <a:gridCol w="863640"/>
                <a:gridCol w="93492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1-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9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9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l-GR" sz="2200" spc="-1" strike="noStrike" baseline="-25000">
                          <a:solidFill>
                            <a:srgbClr val="00cc99"/>
                          </a:solidFill>
                          <a:latin typeface="Times New Roman"/>
                        </a:rPr>
                        <a:t>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4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9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9950-505D-4D02-9AC3-D2D52045F741}" type="slidenum">
              <a:t>11</a:t>
            </a:fld>
          </a:p>
        </p:txBody>
      </p:sp>
    </p:spTree>
  </p:cSld>
  <p:transition>
    <p:random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782640"/>
            <a:ext cx="74376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nc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li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thin the abov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accepta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terval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we accept</a:t>
            </a: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i.e.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The interval [1.237, 1.463] is also known as confidence interval at the </a:t>
            </a:r>
            <a:r>
              <a:rPr b="0" i="1" lang="el-GR" sz="2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i="1" lang="el-GR" sz="2200" spc="-1" strike="noStrike">
                <a:solidFill>
                  <a:srgbClr val="ff0000"/>
                </a:solidFill>
                <a:latin typeface="Times New Roman"/>
              </a:rPr>
              <a:t>ρ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0.95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 leve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ay that:  There is no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evide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t the 5% level that the mean value is not equal to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268360" y="1197000"/>
                <a:ext cx="10796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635280" y="1979640"/>
                <a:ext cx="12240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940360" y="391176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4F1E-7CE1-4504-8050-BB6611A5C13D}" type="slidenum">
              <a:t>12</a:t>
            </a:fld>
          </a:p>
        </p:txBody>
      </p:sp>
    </p:spTree>
  </p:cSld>
  <p:transition>
    <p:random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563400"/>
            <a:ext cx="7437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nknown Variance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stimate the variance.  The estima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unbias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i.e.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e the test statisti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547640" y="1844640"/>
                <a:ext cx="259272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476360" y="3284640"/>
                <a:ext cx="1368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[</m:t>
                    </m:r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547640" y="4437000"/>
                <a:ext cx="151308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75C7-44DB-409F-9166-B413068E05F7}" type="slidenum">
              <a:t>13</a:t>
            </a:fld>
          </a:p>
        </p:txBody>
      </p:sp>
    </p:spTree>
  </p:cSld>
  <p:transition>
    <p:random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88640"/>
            <a:ext cx="743760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no longer Gaussian.  I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Gaussian, th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q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follows a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t-distribution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, with 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-1 degrees of freedo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An 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496880" y="3398760"/>
                <a:ext cx="6912000" cy="19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is Gaussian,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obtained from measurements, </m:t>
                        </m:r>
                      </m:e>
                      <m:e>
                        <m:sSup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nd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Test the hypothesis</m:t>
                        </m:r>
                      </m:e>
                    </m:eqAr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μ</m:t>
                    </m:r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t the significance level </m:t>
                    </m:r>
                    <m:r>
                      <m:t xml:space="preserve">ρ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918F-87A2-456E-8742-116A3B5BD457}" type="slidenum">
              <a:t>14</a:t>
            </a:fld>
          </a:p>
        </p:txBody>
      </p:sp>
    </p:spTree>
  </p:cSld>
  <p:transition>
    <p:random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440" y="620280"/>
            <a:ext cx="71499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able of acceptance intervals for t-distribu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824120" y="4869000"/>
                <a:ext cx="3408120" cy="18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rob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  <m:r>
                              <m:t xml:space="preserve">&lt;</m:t>
                            </m:r>
                            <m:f>
                              <m:num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</m:num>
                              <m:den>
                                <m:f>
                                  <m:fPr>
                                    <m:type m:val="lin"/>
                                  </m:fPr>
                                  <m:num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</m:acc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den>
                            </m:f>
                            <m:r>
                              <m:t xml:space="preserve">&lt;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</m:e>
                        </m:d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7</m:t>
                        </m:r>
                        <m:r>
                          <m:t xml:space="preserve">&lt;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&lt;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9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us,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is accepte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00" name=""/>
          <p:cNvGraphicFramePr/>
          <p:nvPr/>
        </p:nvGraphicFramePr>
        <p:xfrm>
          <a:off x="755640" y="1254240"/>
          <a:ext cx="7561440" cy="3470040"/>
        </p:xfrm>
        <a:graphic>
          <a:graphicData uri="http://schemas.openxmlformats.org/drawingml/2006/table">
            <a:tbl>
              <a:tblPr/>
              <a:tblGrid>
                <a:gridCol w="1262160"/>
                <a:gridCol w="1006560"/>
                <a:gridCol w="1514160"/>
                <a:gridCol w="1257480"/>
                <a:gridCol w="1262160"/>
                <a:gridCol w="1258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grees of Freed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-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5852-5A42-4188-8890-E1CDA06D5B68}" type="slidenum">
              <a:t>15</a:t>
            </a:fld>
          </a:p>
        </p:txBody>
      </p:sp>
    </p:spTree>
  </p:cSld>
  <p:transition>
    <p:random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77680" y="-171720"/>
            <a:ext cx="71499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pplication in Feature Se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goal here is to test against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zer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iffere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el-GR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-μ</a:t>
            </a:r>
            <a:r>
              <a:rPr b="0" lang="el-G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the respective means in </a:t>
            </a:r>
            <a:br>
              <a:rPr sz="2200"/>
            </a:b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l-GR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, ω</a:t>
            </a:r>
            <a:r>
              <a:rPr b="0" lang="el-G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a single featu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i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,…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lues of a feature in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i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…,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lue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of the s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eature in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e in both classe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unknown or not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test becom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668840" y="3789360"/>
                <a:ext cx="172872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692360" y="5219640"/>
                <a:ext cx="302400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Δμ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Δμ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B497-A869-477A-AA4A-57D9DD50F102}" type="slidenum">
              <a:t>16</a:t>
            </a:fld>
          </a:p>
        </p:txBody>
      </p:sp>
    </p:spTree>
  </p:cSld>
  <p:transition>
    <p:random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-27360"/>
            <a:ext cx="7918560" cy="53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lvl="1" marL="623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z=x-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bvious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el-GR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-μ</a:t>
            </a:r>
            <a:r>
              <a:rPr b="0" lang="el-G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e the aver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Known Variance Ca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Def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0,1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one follows the procedure as befo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547640" y="2840040"/>
                <a:ext cx="31687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z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619280" y="4437000"/>
                <a:ext cx="23050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5652-9999-4753-9D59-F434AED0289D}" type="slidenum">
              <a:t>17</a:t>
            </a:fld>
          </a:p>
        </p:txBody>
      </p:sp>
    </p:spTree>
  </p:cSld>
  <p:transition>
    <p:random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44280"/>
            <a:ext cx="763128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lvl="1" marL="542160" indent="-2084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known Variance Case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e the test statisti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2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2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2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2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2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2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4120" indent="-16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-distribution with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grees of freedom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4120" indent="-1666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apply appropriate tables as befo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41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2160" indent="-208440">
              <a:spcBef>
                <a:spcPts val="55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Example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The values of a feature in two classes a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2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l-GR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: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.5, 3.7, 3.9, 4.1, 3.4, 3.5, 4.1, 3.8, 3.6, 3.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21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l-G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: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.2, 3.6, 3.1, 3.4, 3.0, 3.4, 2.8, 3.1, 3.3, 3.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2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est if the mean values in the two classes differ significantly, at the significance level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0.0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636560" y="811080"/>
                <a:ext cx="4932360" cy="224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e>
                            </m:rad>
                          </m:den>
                        </m:f>
                      </m:e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2683-DFE8-401C-876A-747B2B2C4058}" type="slidenum">
              <a:t>18</a:t>
            </a:fld>
          </a:p>
        </p:txBody>
      </p:sp>
    </p:spTree>
  </p:cSld>
  <p:transition>
    <p:random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44280"/>
            <a:ext cx="7918560" cy="54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lvl="1" marL="639000" indent="-24552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ha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rom the table of the t-distribution with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18 degrees of freedom and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0.05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e obtain         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.10,2.10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sinc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q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.25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outsid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ccepted and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e feature is selec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849320" y="493560"/>
                <a:ext cx="299556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01</m:t>
                        </m:r>
                      </m:e>
                    </m:eqAr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σ</m:t>
                        </m:r>
                      </m:e>
                    </m:acc>
                    <m:sSubSup>
                      <m:e/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7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585800" y="2133720"/>
                <a:ext cx="2133720" cy="25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sSub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den>
                                </m:f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1476360" y="4365720"/>
            <a:ext cx="1224000" cy="3603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422F-7893-4AC9-9CB3-66BC5B44EBF9}" type="slidenum">
              <a:t>19</a:t>
            </a:fld>
          </a:p>
        </p:txBody>
      </p:sp>
    </p:spTree>
  </p:cSld>
  <p:transition>
    <p:random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9640" y="367920"/>
            <a:ext cx="8353440" cy="55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 algn="just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Given 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large enoug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lear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-21024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makes classe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differ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-21024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makes patterns in the same clas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imila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small enough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learn what makes patterns of the same clas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differ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practice,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   has been reported to be a sensible choice for a number of ca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c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as been decided, choose t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ost informative featu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st: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Large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 between class distance, </a:t>
            </a:r>
            <a:br>
              <a:rPr sz="2200"/>
            </a:b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Small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 within class vari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 algn="just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276720" y="3141720"/>
                <a:ext cx="8636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&lt;</m:t>
                    </m:r>
                    <m:f>
                      <m:fPr>
                        <m:type m:val="lin"/>
                      </m:fPr>
                      <m:num>
                        <m:r>
                          <m:t xml:space="preserve">Ν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BB68-1301-4489-8152-5A0562A61B67}" type="slidenum">
              <a:t>2</a:t>
            </a:fld>
          </a:p>
        </p:txBody>
      </p:sp>
    </p:spTree>
  </p:cSld>
  <p:transition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lass Separability Measu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mphasis so far was on individually considered features. However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uch an approach cannot take into account existing correlations among the features. That is,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wo features may be rich in information, but if they are high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correlated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w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need not consider both of the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 To this end, in order to search for possible correlations, we consider feature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joint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s elements of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vecto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To this en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scard poor in information features, by means of a statistical te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oose the maximum number,   , of features to be used. This is dictated by the specific problem (e.g., the number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available training patterns and the type of the classifier to be adopted)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003640" y="4221000"/>
                <a:ext cx="23040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3DBD-BADD-4C1E-8FBA-463BF2BED514}" type="slidenum">
              <a:t>20</a:t>
            </a:fld>
          </a:p>
        </p:txBody>
      </p:sp>
    </p:spTree>
  </p:cSld>
  <p:transition>
    <p:random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bine remaining features to search for the “best”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ombin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To this en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 different feature combinations to form the feature vector. Train the classifier, and choose the combination resulting in the best classifier performa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ajor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disadvanta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this approach is the high complexity. Also, local minima,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a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give misleading resul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opt a class separability measure and choose the best feature combination against this co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AD79-50F4-4642-A845-AE3D61058659}" type="slidenum">
              <a:t>21</a:t>
            </a:fld>
          </a:p>
        </p:txBody>
      </p:sp>
    </p:spTree>
  </p:cSld>
  <p:transition>
    <p:random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lvl="1" marL="601560" indent="-231480" algn="just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lass separability measures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Let     be the current feature combination ve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25560" indent="-185040" algn="just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Diverge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To see the rationale behind this cost, consider the two – class case. Obviously, if on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avera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25560" indent="0" algn="just"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lvl="2" marL="92556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alue of                 is close to zero, then    should be 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25560" indent="0" algn="just"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lvl="2" marL="92556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or feature combination. Defin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2556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296000" indent="-18504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296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296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296000" indent="-18504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296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296000" indent="-18504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296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296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known as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iverge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can be used as a class separability measu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391000" y="158760"/>
                <a:ext cx="28908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556320" y="1716120"/>
                <a:ext cx="28908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595600" y="1616040"/>
                <a:ext cx="137484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103480" y="2781360"/>
                <a:ext cx="392904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nary>
                    <m:r>
                      <m:t xml:space="preserve">d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089080" y="3979800"/>
                <a:ext cx="395604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nary>
                    <m:r>
                      <m:t xml:space="preserve">d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052720" y="5059440"/>
                <a:ext cx="19000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752A-D030-47E5-AF44-B76852ED8A49}" type="slidenum">
              <a:t>22</a:t>
            </a:fld>
          </a:p>
        </p:txBody>
      </p:sp>
    </p:spTree>
  </p:cSld>
  <p:transition>
    <p:random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3" marL="1536120" indent="-21924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the multi-class case, defin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every pair of classes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average diverge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defined 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properti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 algn="just">
              <a:spcBef>
                <a:spcPts val="550"/>
              </a:spcBef>
              <a:buClr>
                <a:srgbClr val="3333cc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Lar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lues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 indicative of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goo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eature combin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535200" y="1011240"/>
                <a:ext cx="331344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951360" y="2565360"/>
                <a:ext cx="1942920" cy="15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if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j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E8A0-18BE-44AC-8301-AB44A77FFB53}" type="slidenum">
              <a:t>23</a:t>
            </a:fld>
          </a:p>
        </p:txBody>
      </p:sp>
    </p:spTree>
  </p:cSld>
  <p:transition>
    <p:random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1" dur="500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668520" indent="-257040" algn="just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catter Matrices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se are used as a measure of the way data are scattered in the respective feature spa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 algn="just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Within-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scatter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number of training samples in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ace 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} is a measure of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average varia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the featur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808440" y="1268280"/>
                <a:ext cx="172872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059280" y="2620800"/>
                <a:ext cx="32302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μ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r>
                                  <m:t xml:space="preserve">−</m:t>
                                </m:r>
                                <m:sSub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532320" y="3594240"/>
                <a:ext cx="216036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4C30-321B-4D4D-AACF-FFD73892F263}" type="slidenum">
              <a:t>24</a:t>
            </a:fld>
          </a:p>
        </p:txBody>
      </p:sp>
    </p:spTree>
  </p:cSld>
  <p:transition>
    <p:random/>
  </p:transition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1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7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lvl="2" marL="982800" indent="-196560" algn="just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Between-clas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catter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ace 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} is a measure of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average dista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the mean of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each 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rom the respectiv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global on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 algn="just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ixture scat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turns out tha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703600" y="738360"/>
                <a:ext cx="393696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μ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μ</m:t>
                                </m:r>
                              </m:e>
                            </m:ba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μ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μ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695760" y="1820880"/>
                <a:ext cx="18414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μ</m:t>
                            </m:r>
                          </m:e>
                        </m:ba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μ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492360" y="4653000"/>
                <a:ext cx="3529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μ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r>
                                  <m:t xml:space="preserve">−</m:t>
                                </m:r>
                                <m:sSub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Τ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C43A-F43A-40A2-A7D0-A5ABAB87C881}" type="slidenum">
              <a:t>25</a:t>
            </a:fld>
          </a:p>
        </p:txBody>
      </p:sp>
    </p:spTree>
  </p:cSld>
  <p:transition>
    <p:random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2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5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lvl="1" marL="639000" indent="-245520" algn="just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easures based on Scatter Matric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ther criteria are also possible, by using various combinations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bov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riteria  take high values for the cases whe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are clustered together within each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ans of the various classes are fa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619280" y="620640"/>
                <a:ext cx="211608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rac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rac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609560" y="1751040"/>
                <a:ext cx="261648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620720" y="3141720"/>
                <a:ext cx="258768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race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1DDE-B53D-4A16-A966-1C8A907CE992}" type="slidenum">
              <a:t>26</a:t>
            </a:fld>
          </a:p>
        </p:txBody>
      </p:sp>
    </p:spTree>
  </p:cSld>
  <p:transition>
    <p:random/>
  </p:transition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8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6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4" dur="500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9" dur="500"/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826920" y="1052640"/>
            <a:ext cx="7490160" cy="352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1003-F140-459B-90E2-95E903E8EE82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Fisher’s discriminant rati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In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on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mension and for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w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quiprobable classes the determinants becom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known as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Fischer’s rati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838680" y="1052640"/>
                <a:ext cx="19000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e>
                    </m:d>
                    <m:r>
                      <m:t xml:space="preserve">∝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863880" y="1622520"/>
                <a:ext cx="209088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  <m:r>
                      <m:t xml:space="preserve">∝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836880" y="2492280"/>
                <a:ext cx="21607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52B9-1F09-41A5-AC36-BC4F44822453}" type="slidenum">
              <a:t>28</a:t>
            </a:fld>
          </a:p>
        </p:txBody>
      </p:sp>
    </p:spTree>
  </p:cSld>
  <p:transition>
    <p:random/>
  </p:transition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9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spcBef>
                <a:spcPts val="55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Ways to combine featur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52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ying to form all possible combinations of     features from an original set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lected features is a computationally hard task. Thus, a number of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uboptim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earching techniques have been deriv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52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 algn="just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equential forward sel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Le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available features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4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. The procedure consists of the following step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opt a class separability criterion (could also be the error rate of the respective classifier). Compute its value for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A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eatures considered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joint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iminate one feature and for each of the possible resulting combinations, that is 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compute the class reparability criterion valu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Select the best combination, say 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227640" y="649440"/>
                <a:ext cx="2304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D74E-2817-4D02-A5DC-634A1D939F07}" type="slidenum">
              <a:t>29</a:t>
            </a:fld>
          </a:p>
        </p:txBody>
      </p:sp>
    </p:spTree>
  </p:cSld>
  <p:transition>
    <p:random/>
  </p:transition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7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5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0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5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187280" y="0"/>
            <a:ext cx="60073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1BEA-861A-4295-A21A-6D3640057C35}" type="slidenum">
              <a:t>3</a:t>
            </a:fld>
          </a:p>
        </p:txBody>
      </p:sp>
    </p:spTree>
  </p:cSld>
  <p:transition>
    <p:random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1108440" indent="-2214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rom the above selected feature vector eliminate one feature and for each of the resulting combinations,           ,            ,</a:t>
            </a:r>
            <a:r>
              <a:rPr b="0" lang="en-US" sz="2200" spc="-1" strike="noStrike">
                <a:solidFill>
                  <a:srgbClr val="ff33cc"/>
                </a:solidFill>
                <a:latin typeface="Tahoma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pute</a:t>
            </a:r>
            <a:r>
              <a:rPr b="0" lang="en-US" sz="2200" spc="-1" strike="noStrike">
                <a:solidFill>
                  <a:srgbClr val="ff33cc"/>
                </a:solidFill>
                <a:latin typeface="Tahom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select the best combin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bove selection procedure shows how one can start from   features and end up with the “best”</a:t>
            </a:r>
            <a:r>
              <a:rPr b="0" lang="en-US" sz="2200" spc="-1" strike="noStrike">
                <a:solidFill>
                  <a:srgbClr val="ff33cc"/>
                </a:solidFill>
                <a:latin typeface="Tahom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s. Obviously, the choice is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suboptim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The number of required calculations i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contrast,  a full search  requir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perat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5508720" y="2381400"/>
                <a:ext cx="23004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84720" y="3032280"/>
                <a:ext cx="27716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ℓ</m:t>
                        </m:r>
                        <m:r>
                          <m:t xml:space="preserve">(</m:t>
                        </m:r>
                        <m:r>
                          <m:t xml:space="preserve">ℓ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273480" y="4294080"/>
                <a:ext cx="208908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7894800" y="511200"/>
                <a:ext cx="105084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p>
                          <m:e/>
                          <m:sup>
                            <m:r>
                              <m:t xml:space="preserve">1</m:t>
                            </m:r>
                          </m:sup>
                        </m:sSup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 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662120" y="812880"/>
                <a:ext cx="105264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p>
                          <m:e/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 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749680" y="793800"/>
                <a:ext cx="10015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 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987800" y="955800"/>
                <a:ext cx="2444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8748720" y="2060640"/>
                <a:ext cx="3952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D9BF-51D2-4478-8A6D-71A25D88B0E0}" type="slidenum">
              <a:t>30</a:t>
            </a:fld>
          </a:p>
        </p:txBody>
      </p:sp>
    </p:spTree>
  </p:cSld>
  <p:transition>
    <p:random/>
  </p:transition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2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9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2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4" dur="5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668520" indent="-257040" algn="just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equential backward sel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Here the reverse procedure is follow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ut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each feature. Select the “best” one, say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all possibl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binations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i.e.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, 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, 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pute</a:t>
            </a:r>
            <a:r>
              <a:rPr b="0" lang="en-US" sz="22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choose the best, say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all possibl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binations of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.g.,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tc., compute</a:t>
            </a:r>
            <a:r>
              <a:rPr b="0" lang="en-US" sz="22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choose the best on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bove procedure is repeated till the “best” vector with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eatures has been formed. This is also 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uboptim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echnique, requiring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perat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8459640" y="4076640"/>
                <a:ext cx="23040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635280" y="5013360"/>
                <a:ext cx="168768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m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ℓ</m:t>
                        </m:r>
                        <m:r>
                          <m:t xml:space="preserve">(</m:t>
                        </m:r>
                        <m:r>
                          <m:t xml:space="preserve">ℓ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3C06-57EA-406E-A991-31BE9148D2BD}" type="slidenum">
              <a:t>31</a:t>
            </a:fld>
          </a:p>
        </p:txBody>
      </p:sp>
    </p:spTree>
  </p:cSld>
  <p:transition>
    <p:random/>
  </p:transition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4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9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4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9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4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7" dur="5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0" dur="500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Floating Search Metho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bove two procedures suffer from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nesting eff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Once a bad choice has been done, there is no way to reconsider it in the following step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the floating search methods one is given the opportunity in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reconsidering a previously discarded feature or to discard a feature that was previously chose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 is still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uboptim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however it leads to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improv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erformance, at the expense of complexit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696D-5FFF-48EF-A9E1-26E7178C6A35}" type="slidenum">
              <a:t>32</a:t>
            </a:fld>
          </a:p>
        </p:txBody>
      </p:sp>
    </p:spTree>
  </p:cSld>
  <p:transition>
    <p:random/>
  </p:transition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3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8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3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8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 algn="just">
              <a:spcBef>
                <a:spcPts val="550"/>
              </a:spcBef>
              <a:buClr>
                <a:srgbClr val="33cc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cc33"/>
                </a:solidFill>
                <a:latin typeface="Tahoma"/>
              </a:rPr>
              <a:t>Remark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sides suboptimal techniques, some optimal searching techniques can also be used, provided that the optimizing cost has certain properties, e.g., monotonic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ead of using a class separability measure (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filter techniqu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or using directly the classifier (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wrapper techniqu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 can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odif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cost function of the classifier appropriately, so that to perform feature selection and classifier design in a single step (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embedd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the choice of the separability measure a multiplicity of costs have been proposed, including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information theoret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s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2A33-CA88-456F-A434-1C6EF323B98E}" type="slidenum">
              <a:t>33</a:t>
            </a:fld>
          </a:p>
        </p:txBody>
      </p:sp>
    </p:spTree>
  </p:cSld>
  <p:transition>
    <p:random/>
  </p:transition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5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0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spcBef>
                <a:spcPts val="55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Hints from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Generalization Theor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neralization theory aims at providing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gener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ounds that relate the error performance of a classifier with the number of training points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 one hand, and som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lassifier dependent paramete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on the other. Up to now, the classifier dependent parameters that we considered were the number of it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free paramete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dimensiona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  , of the subspace, in which the classifier operates. (  also affects the number of free parameters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i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the classifier be a binary one, i.e.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i="1" lang="en-US" sz="2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e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all function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can be realized by the adopted classifier (e.g., changing the synapses of a given neural network different functions are implemented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148360" y="2317680"/>
                <a:ext cx="2300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067280" y="2637000"/>
                <a:ext cx="23004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635280" y="4508640"/>
                <a:ext cx="204624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ℓ</m:t>
                        </m:r>
                      </m:sup>
                    </m:sSup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6D30-1670-4337-9DFF-799022945807}" type="slidenum">
              <a:t>34</a:t>
            </a:fld>
          </a:p>
        </p:txBody>
      </p:sp>
    </p:spTree>
  </p:cSld>
  <p:transition>
    <p:random/>
  </p:transition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2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3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8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2" marL="1097280" indent="-21924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shatter coefficien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,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the clas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defined as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the </a:t>
            </a: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maximum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 number of dichotomies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points that can be formed by the functions in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aximum possi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umber of dichotomies is 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i="1" lang="en-US" sz="22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However,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NOT ALL dichotomi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realized by the set of functions in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Vapnik – Chernovenkis (VC) dimension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a class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largest integ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which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,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2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I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,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2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30000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ay that the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C dimension i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infini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is, VC is the integer for which the class of function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achiev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a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ssible dichotomies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s easily seen that the VC dimension of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ingle perceptr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, operating in the 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ℓ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-dimension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pace, is 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ℓ+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8244000" y="3213000"/>
                <a:ext cx="49356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N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43A5-7FD8-4457-82A2-67E8A4AC3423}" type="slidenum">
              <a:t>35</a:t>
            </a:fld>
          </a:p>
        </p:txBody>
      </p:sp>
    </p:spTree>
  </p:cSld>
  <p:transition>
    <p:random/>
  </p:transition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3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8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3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8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4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9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4" dur="5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3" marL="1440000" indent="-20556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can be shown tha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he VC dimension of the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is, the shatter coefficient i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either 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i="1" lang="en-US" sz="22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the maximum possible number of dichotomies) or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it is upper bounded, as suggested by the above inequa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words, for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finite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2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large enough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</a:t>
            </a:r>
            <a:r>
              <a:rPr b="1" lang="en-US" sz="2200" spc="-1" strike="noStrike">
                <a:solidFill>
                  <a:srgbClr val="3333cc"/>
                </a:solidFill>
                <a:latin typeface="Tahoma"/>
              </a:rPr>
              <a:t>shatter coefficient is bounded by a polynomial grow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1851480" indent="-205560" algn="just">
              <a:spcBef>
                <a:spcPts val="499"/>
              </a:spcBef>
              <a:buClr>
                <a:srgbClr val="000000"/>
              </a:buClr>
              <a:buFont typeface="Times New Roman"/>
              <a:buChar char="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e that in order to have a polynomial growth of the shatter coefficient,</a:t>
            </a:r>
            <a:r>
              <a:rPr b="0" lang="en-US" sz="20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ust be larger than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mens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 algn="just">
              <a:spcBef>
                <a:spcPts val="550"/>
              </a:spcBef>
              <a:buClr>
                <a:srgbClr val="ff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The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2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 dimension can be considered as an </a:t>
            </a: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intrinsic capacity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 of the classifier, and, as we will soon see, only if the number of training vectors </a:t>
            </a: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exceeds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 this number sufficiently, we can expect good generalization performa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708360" y="549360"/>
                <a:ext cx="25210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≤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8DB7-7B73-46B4-8A06-89EDF135E2A6}" type="slidenum">
              <a:t>36</a:t>
            </a:fld>
          </a:p>
        </p:txBody>
      </p:sp>
    </p:spTree>
  </p:cSld>
  <p:transition>
    <p:random/>
  </p:transition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9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4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9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4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9" dur="5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   dimension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ay or may </a:t>
            </a:r>
            <a:r>
              <a:rPr b="1" lang="en-US" sz="2200" spc="-1" strike="noStrike">
                <a:solidFill>
                  <a:srgbClr val="3333cc"/>
                </a:solidFill>
                <a:latin typeface="Tahoma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 related to the dimension    and the number of free parame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ceptron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ltilayer perceptron with hard limiting activation fun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     is the total number of hidden layer nodes,    the total number of nodes, and      the total number of weigh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     be  a training data sample  and assume tha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240000" y="2111400"/>
                <a:ext cx="374328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h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ℓ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k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797200" y="3257640"/>
                <a:ext cx="336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h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8459640" y="3284640"/>
                <a:ext cx="330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867280" y="3645000"/>
                <a:ext cx="355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136600" y="203040"/>
                <a:ext cx="3445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475080" y="922320"/>
                <a:ext cx="12160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ℓ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798640" y="565200"/>
                <a:ext cx="23832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398680" y="4697280"/>
                <a:ext cx="38412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635280" y="5445000"/>
                <a:ext cx="232740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≤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, 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9D99-1B04-4ADF-BF2A-A2B4A85C8ED8}" type="slidenum">
              <a:t>37</a:t>
            </a:fld>
          </a:p>
        </p:txBody>
      </p:sp>
    </p:spTree>
  </p:cSld>
  <p:transition>
    <p:random/>
  </p:transition>
  <p:timing>
    <p:tnLst>
      <p:par>
        <p:cTn id="1140" dur="indefinite" restart="never" nodeType="tmRoot">
          <p:childTnLst>
            <p:seq>
              <p:cTn id="1141" dur="indefinite" nodeType="mainSeq">
                <p:childTnLst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5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8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5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3" marL="14720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also a hyperplane such tha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i.e.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constraints we met in the SVM formulation). The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is, by controlling the constan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the     of the linear classifier can be less than   .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In other words,    can be controlled independently of the dimension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us, by minimizing       in the SVM, one attempts to keep      as small as possible.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Moreover, one can achieve </a:t>
            </a: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finite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     dimension, </a:t>
            </a: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even for infinite dimensional spaces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is is an explanation of the potential for good generalization performance of the SVM’s, as this is readily deduced from the following boun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1892520" indent="0" algn="just">
              <a:spcBef>
                <a:spcPts val="5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427640" y="620640"/>
                <a:ext cx="9745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w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≤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067280" y="1341360"/>
                <a:ext cx="168408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211640" y="2492280"/>
                <a:ext cx="13906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≤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ℓ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7093080" y="2955960"/>
                <a:ext cx="3204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900760" y="3300480"/>
                <a:ext cx="241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8237520" y="3316320"/>
                <a:ext cx="311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500720" y="3933720"/>
                <a:ext cx="52848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w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627280" y="4397400"/>
                <a:ext cx="311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780000" y="4724280"/>
                <a:ext cx="311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BCAA-9588-4194-99F1-6FB9ECD750BE}" type="slidenum">
              <a:t>38</a:t>
            </a:fld>
          </a:p>
        </p:txBody>
      </p:sp>
    </p:spTree>
  </p:cSld>
  <p:transition>
    <p:random/>
  </p:transition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4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7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3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1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5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Generalization Perform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         be the error rate of classifie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ased on t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raining point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lso known as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empirical err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       be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rue error proba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also known as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generalization err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, whe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confronted with dat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outsi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finite training se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   be the minimum error probability that can be attained over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ALL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unctions in the set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908000" y="620640"/>
                <a:ext cx="8636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925640" y="1716120"/>
                <a:ext cx="85716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052720" y="3228840"/>
                <a:ext cx="4633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0369-7834-4822-9CE6-704F029E4342}" type="slidenum">
              <a:t>39</a:t>
            </a:fld>
          </a:p>
        </p:txBody>
      </p:sp>
    </p:spTree>
  </p:cSld>
  <p:transition>
    <p:random/>
  </p:transition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6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4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2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4920" y="259920"/>
            <a:ext cx="8280360" cy="53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basic philosoph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scard individual features with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po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formation cont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emaining information rich features are examined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joint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s vecto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eature Selection based on statistical Hypothesis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Goal:  For each individual feature, find whether the values, which the feature takes for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e different classes,</a:t>
            </a: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iffer significantly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is, answ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lues differ significant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lues do not differ significant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If they do not differ significantly reject feature from subsequent stag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ypothesis Testing Bas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692360" y="4005360"/>
                <a:ext cx="13683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9DEC-8613-47D4-9B7E-41CD3E5BBFF0}" type="slidenum">
              <a:t>4</a:t>
            </a:fld>
          </a:p>
        </p:txBody>
      </p:sp>
    </p:spTree>
  </p:cSld>
  <p:transition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1108440" indent="-2214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   be the function resulting by minimizing the empirical (over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finite train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et) error func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can be shown tha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aking into account that for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fini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dimension,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growth of              is only polynomi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the above bounds tell us that for a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larg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l-G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-2214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close to</a:t>
            </a:r>
            <a:r>
              <a:rPr b="0" lang="en-US" sz="2000" spc="-1" strike="noStrike">
                <a:solidFill>
                  <a:srgbClr val="ff33cc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ith high probabili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-2214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close to      , with high probabili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987560" y="1874880"/>
                <a:ext cx="66657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{"/>
                        <m:endChr m:val="}"/>
                      </m:dP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f</m:t>
                            </m:r>
                            <m:r>
                              <m:t xml:space="preserve">∈</m:t>
                            </m:r>
                            <m:r>
                              <m:t xml:space="preserve">F</m:t>
                            </m:r>
                          </m:lim>
                        </m:limLow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&gt;</m:t>
                        </m:r>
                        <m:r>
                          <m:t xml:space="preserve">ε</m:t>
                        </m:r>
                      </m:e>
                    </m:d>
                    <m:r>
                      <m:t xml:space="preserve">≤</m:t>
                    </m:r>
                    <m:r>
                      <m:t xml:space="preserve">8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Nε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481120" y="2681280"/>
                <a:ext cx="55818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/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ε</m:t>
                        </m:r>
                      </m:e>
                    </m:d>
                    <m:r>
                      <m:t xml:space="preserve">≤</m:t>
                    </m:r>
                    <m:r>
                      <m:t xml:space="preserve">8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Nε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8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279520" y="4813200"/>
                <a:ext cx="84456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338720" y="4797360"/>
                <a:ext cx="79992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4448160" y="5157720"/>
                <a:ext cx="43344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340000" y="5157720"/>
                <a:ext cx="88740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f</m:t>
                        </m:r>
                      </m:e>
                      <m:sup/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6516720" y="3757680"/>
                <a:ext cx="311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521160" y="4116240"/>
                <a:ext cx="11332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924200" y="204840"/>
                <a:ext cx="32544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C2CE-B27B-4F66-8012-E91342346E48}" type="slidenum">
              <a:t>40</a:t>
            </a:fld>
          </a:p>
        </p:txBody>
      </p:sp>
    </p:spTree>
  </p:cSld>
  <p:transition>
    <p:random/>
  </p:transition>
  <p:timing>
    <p:tnLst>
      <p:par>
        <p:cTn id="1276" dur="indefinite" restart="never" nodeType="tmRoot">
          <p:childTnLst>
            <p:seq>
              <p:cTn id="1277" dur="indefinite" nodeType="mainSeq">
                <p:childTnLst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2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0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5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3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1" dur="500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2" dur="500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3" dur="500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547560" y="4052880"/>
            <a:ext cx="75088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,               constants.  In words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                 the performance of the classifier i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guaranteed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high probability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be close to the optimal classifier in the clas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             is known as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sample complexit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ome more useful boun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inimum number of points,          , that guarantees, with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high probability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good generalization error performance is given b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is, for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an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6012000" y="476280"/>
                <a:ext cx="79200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ε</m:t>
                        </m:r>
                        <m:r>
                          <m:t xml:space="preserve">,</m:t>
                        </m:r>
                        <m:r>
                          <m:t xml:space="preserve">ρ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556000" y="1557360"/>
                <a:ext cx="470052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ε</m:t>
                        </m:r>
                        <m:r>
                          <m:t xml:space="preserve">,</m:t>
                        </m:r>
                        <m:r>
                          <m:t xml:space="preserve">ρ</m:t>
                        </m:r>
                      </m:e>
                    </m:d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3924360" y="2708280"/>
                <a:ext cx="146376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≥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ε</m:t>
                        </m:r>
                        <m:r>
                          <m:t xml:space="preserve">,</m:t>
                        </m:r>
                        <m:r>
                          <m:t xml:space="preserve">ρ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203640" y="3357720"/>
                <a:ext cx="28544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ε</m:t>
                        </m:r>
                      </m:e>
                    </m:d>
                    <m:r>
                      <m:t xml:space="preserve">≤</m:t>
                    </m:r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3132000" y="4076640"/>
                <a:ext cx="9352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076720" y="4846680"/>
                <a:ext cx="96048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ε</m:t>
                        </m:r>
                        <m:r>
                          <m:t xml:space="preserve">,</m:t>
                        </m:r>
                        <m:r>
                          <m:t xml:space="preserve">ρ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7308720" y="4037040"/>
                <a:ext cx="13604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≥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ε</m:t>
                        </m:r>
                        <m:r>
                          <m:t xml:space="preserve">,</m:t>
                        </m:r>
                        <m:r>
                          <m:t xml:space="preserve">ρ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0726-E0F9-430E-81A6-8009C579C051}" type="slidenum">
              <a:t>41</a:t>
            </a:fld>
          </a:p>
        </p:txBody>
      </p:sp>
    </p:spTree>
  </p:cSld>
  <p:transition>
    <p:random/>
  </p:transition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9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8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3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2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5" dur="500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3" marL="1504080" indent="-214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th a probability of at least          the following bound hold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cc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ahoma"/>
              </a:rPr>
              <a:t>Remar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bserve that all the bounds given so far a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mension fre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stribution fre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545080" y="236520"/>
                <a:ext cx="650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597120" y="932040"/>
                <a:ext cx="31021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≤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e</m:t>
                            </m:r>
                          </m:sub>
                        </m:sSub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Φ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2768760" y="2179800"/>
                <a:ext cx="4614840" cy="15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N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t xml:space="preserve">c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ρ</m:t>
                                        </m:r>
                                      </m:num>
                                      <m:den>
                                        <m:r>
                                          <m:t xml:space="preserve">4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EF66-2240-4CEE-B155-F0F542C369F0}" type="slidenum">
              <a:t>42</a:t>
            </a:fld>
          </a:p>
        </p:txBody>
      </p:sp>
    </p:spTree>
  </p:cSld>
  <p:transition>
    <p:random/>
  </p:transition>
  <p:timing>
    <p:tnLst>
      <p:par>
        <p:cTn id="1388" dur="indefinite" restart="never" nodeType="tmRoot">
          <p:childTnLst>
            <p:seq>
              <p:cTn id="1389" dur="indefinite" nodeType="mainSeq">
                <p:childTnLst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4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5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3" dur="500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6" dur="500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9" dur="500"/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23640" y="169560"/>
            <a:ext cx="85690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odel Complexity vs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sue has already been touched in the form of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overfitt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neural networks modeling and in the form of bias-variance dilemma. A different perspective of the issue is dealt belo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 algn="just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tructural Risk Minimization (SR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    be he Bayesian error probability for a given tas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        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 the true (generalization) error of an optimally design classifier   , from class     , given 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fini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raining se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the minimum error attainable i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class       i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ma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then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fir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erm i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expect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b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ma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the </a:t>
            </a:r>
            <a:r>
              <a:rPr b="0" lang="en-US" sz="2200" spc="-1" strike="noStrike">
                <a:solidFill>
                  <a:srgbClr val="33cc33"/>
                </a:solidFill>
                <a:latin typeface="Tahoma"/>
              </a:rPr>
              <a:t>secon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erm is </a:t>
            </a:r>
            <a:r>
              <a:rPr b="0" lang="en-US" sz="2200" spc="-1" strike="noStrike">
                <a:solidFill>
                  <a:srgbClr val="33cc33"/>
                </a:solidFill>
                <a:latin typeface="Tahoma"/>
              </a:rPr>
              <a:t>expect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be </a:t>
            </a:r>
            <a:r>
              <a:rPr b="0" lang="en-US" sz="2200" spc="-1" strike="noStrike">
                <a:solidFill>
                  <a:srgbClr val="33cc33"/>
                </a:solidFill>
                <a:latin typeface="Tahoma"/>
              </a:rPr>
              <a:t>lar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The opposite is true when the class    is lar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979640" y="2652840"/>
                <a:ext cx="3492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035080" y="3044880"/>
                <a:ext cx="8384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f</m:t>
                        </m:r>
                      </m:e>
                      <m:sup/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675320" y="3349800"/>
                <a:ext cx="40464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6516720" y="3436920"/>
                <a:ext cx="287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619280" y="4076640"/>
                <a:ext cx="41911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f</m:t>
                        </m:r>
                      </m:e>
                      <m:sup/>
                    </m:sSup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/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619280" y="4524480"/>
                <a:ext cx="3016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7219800" y="5645160"/>
                <a:ext cx="2858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532320" y="4981680"/>
                <a:ext cx="287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308640" y="4572000"/>
                <a:ext cx="28908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C3D0-ED00-4862-A787-5FA7C8EEAD8A}" type="slidenum">
              <a:t>43</a:t>
            </a:fld>
          </a:p>
        </p:txBody>
      </p:sp>
    </p:spTree>
  </p:cSld>
  <p:transition>
    <p:random/>
  </p:transition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6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1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6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1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9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3" dur="5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6" dur="500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0" dur="500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                  be a sequence of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nest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th increasing, yet finite     dimens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so, let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each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class of function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1, 2, …, compute the optimum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,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with respect to the empirical error. Then from all these classifiers choose the one than minimizes, over all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the upper bound in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is,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981080" y="399960"/>
                <a:ext cx="15591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567240" y="793800"/>
                <a:ext cx="20001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⊂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716360" y="1268280"/>
                <a:ext cx="2811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589200" y="1660680"/>
                <a:ext cx="218124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p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3349800" y="2376360"/>
                <a:ext cx="273492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i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inf</m:t>
                        </m:r>
                      </m:e>
                      <m:lim>
                        <m:r>
                          <m:t xml:space="preserve">f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p>
                      </m:lim>
                    </m:limLow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916360" y="4545000"/>
                <a:ext cx="39621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Ν</m:t>
                        </m:r>
                        <m:r>
                          <m:t xml:space="preserve">,</m:t>
                        </m:r>
                        <m:r>
                          <m:t xml:space="preserve">ι</m:t>
                        </m:r>
                      </m:sub>
                      <m:sup/>
                    </m:sSubSup>
                    <m:r>
                      <m:t xml:space="preserve">)</m:t>
                    </m:r>
                    <m:r>
                      <m:t xml:space="preserve">≤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e</m:t>
                            </m:r>
                          </m:sub>
                        </m:sSub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(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Ν</m:t>
                        </m:r>
                        <m:r>
                          <m:t xml:space="preserve">,</m:t>
                        </m:r>
                        <m:r>
                          <m:t xml:space="preserve">ι</m:t>
                        </m:r>
                      </m:sub>
                      <m:sup/>
                    </m:sSubSup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Φ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,</m:t>
                                </m:r>
                                <m:sSup>
                                  <m:e>
                                    <m:r>
                                      <m:t xml:space="preserve">F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2556000" y="5589720"/>
                <a:ext cx="458784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i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Ν</m:t>
                            </m:r>
                            <m:r>
                              <m:t xml:space="preserve">,</m:t>
                            </m:r>
                            <m:r>
                              <m:t xml:space="preserve">ι</m:t>
                            </m:r>
                          </m:sub>
                          <m:sup/>
                        </m:sSubSup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</m:sub>
                                </m:sSub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4DC1-7B4B-4083-A034-E4BE0F8AF655}" type="slidenum">
              <a:t>44</a:t>
            </a:fld>
          </a:p>
        </p:txBody>
      </p:sp>
    </p:spTree>
  </p:cSld>
  <p:transition>
    <p:random/>
  </p:transition>
  <p:timing>
    <p:tnLst>
      <p:par>
        <p:cTn id="1487" dur="indefinite" restart="never" nodeType="tmRoot">
          <p:childTnLst>
            <p:seq>
              <p:cTn id="1488" dur="indefinite" nodeType="mainSeq">
                <p:childTnLst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3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2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3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1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9" dur="500"/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56908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2" marL="994320" indent="-19872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, a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0" algn="ctr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92120" indent="-19872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ter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9212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9212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9212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the minimized bound is  a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complexity penalty ter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If the classifier model i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imp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penalty term i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ut the empirical error term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9212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9212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9212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ll b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lar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opposi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rue for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omple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odel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9212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RM criterion aims at achieving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best trade-of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tween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performance and complex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708280" y="506520"/>
                <a:ext cx="82404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3780000" y="907920"/>
                <a:ext cx="18810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  <m:sup/>
                    </m:sSubSup>
                    <m:r>
                      <m:t xml:space="preserve">)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4140360" y="1773360"/>
                <a:ext cx="116496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,</m:t>
                                </m:r>
                                <m:sSup>
                                  <m:e>
                                    <m:r>
                                      <m:t xml:space="preserve">F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4429080" y="4076640"/>
                <a:ext cx="10796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e</m:t>
                            </m:r>
                          </m:sub>
                        </m:sSub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(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Ν</m:t>
                        </m:r>
                        <m:r>
                          <m:t xml:space="preserve">,</m:t>
                        </m:r>
                        <m:r>
                          <m:t xml:space="preserve">ι</m:t>
                        </m:r>
                      </m:sub>
                      <m:sup/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BDEA-EDDA-4EB9-9914-D997AE565262}" type="slidenum">
              <a:t>45</a:t>
            </a:fld>
          </a:p>
        </p:txBody>
      </p:sp>
    </p:spTree>
  </p:cSld>
  <p:transition>
    <p:random/>
  </p:transition>
  <p:timing>
    <p:tnLst>
      <p:par>
        <p:cTn id="1533" dur="indefinite" restart="never" nodeType="tmRoot">
          <p:childTnLst>
            <p:seq>
              <p:cTn id="1534" dur="indefinite" nodeType="mainSeq">
                <p:childTnLst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0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6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9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2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8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1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6" dur="500"/>
                                        <p:tgtEl>
                                          <p:spTgt spid="2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23640" y="169560"/>
            <a:ext cx="85690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ayesian Information Criterion (BI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   the size of the training set,     the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vec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he unknown parameters of the classifier,  the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imensional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    , and    runs over all possible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ode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BIC criterion chooses the model by minimizing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the log-likelihood computed at the ML estimate      , and it is the performance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the model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complexity ter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kaike Information Criterion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635120" y="636480"/>
                <a:ext cx="32220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5940360" y="620640"/>
                <a:ext cx="3906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θ</m:t>
                            </m:r>
                          </m:e>
                        </m:ba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7724880" y="923760"/>
                <a:ext cx="41256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708360" y="1268280"/>
                <a:ext cx="3906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θ</m:t>
                            </m:r>
                          </m:e>
                        </m:ba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5229360" y="1309680"/>
                <a:ext cx="35856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3059280" y="2708280"/>
                <a:ext cx="374472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IC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</m:ba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2124000" y="3348000"/>
                <a:ext cx="7016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</m:ba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3195720" y="3716280"/>
                <a:ext cx="3650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</m:ba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3124080" y="5430960"/>
                <a:ext cx="3237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IC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</m:ba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050920" y="4076640"/>
                <a:ext cx="10796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C715-FF3A-4783-932A-921D01A20D09}" type="slidenum">
              <a:t>46</a:t>
            </a:fld>
          </a:p>
        </p:txBody>
      </p:sp>
    </p:spTree>
  </p:cSld>
  <p:transition>
    <p:random/>
  </p:transition>
  <p:timing>
    <p:tnLst>
      <p:par>
        <p:cTn id="1577" dur="indefinite" restart="never" nodeType="tmRoot">
          <p:childTnLst>
            <p:seq>
              <p:cTn id="1578" dur="indefinite" nodeType="mainSeq">
                <p:childTnLst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3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8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8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8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1" dur="500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5" dur="500"/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31520" y="115560"/>
            <a:ext cx="7296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lvl="1" marL="579240" indent="-222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tep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asurement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 know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e a function of them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est statistic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tha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easily parameterized in terms of </a:t>
            </a:r>
            <a:r>
              <a:rPr b="0" i="1" lang="el-GR" sz="2200" spc="-1" strike="noStrike">
                <a:solidFill>
                  <a:srgbClr val="ff0000"/>
                </a:solidFill>
                <a:latin typeface="Times New Roman"/>
              </a:rPr>
              <a:t>θ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 an interval, where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as 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high probability to lie under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H</a:t>
            </a:r>
            <a:r>
              <a:rPr b="0" i="1" lang="en-US" sz="22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, i.e., 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2200" spc="-1" strike="noStrike" baseline="-25000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he-IL" sz="22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׀</a:t>
            </a:r>
            <a:r>
              <a:rPr b="0" i="1" lang="el-GR" sz="2200" spc="-1" strike="noStrike">
                <a:solidFill>
                  <a:srgbClr val="3333cc"/>
                </a:solidFill>
                <a:latin typeface="Times New Roman"/>
              </a:rPr>
              <a:t>θ</a:t>
            </a:r>
            <a:r>
              <a:rPr b="0" i="1" lang="el-GR" sz="22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D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 the complement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ptance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val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itical Interv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resulting from </a:t>
            </a:r>
            <a:br>
              <a:rPr sz="2200"/>
            </a:b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lies in 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we accept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i="1" lang="en-US" sz="22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otherwise we reject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221000" y="547560"/>
                <a:ext cx="156852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2462040" y="1989000"/>
                <a:ext cx="248940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046320" y="2589120"/>
                <a:ext cx="11066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;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3059280" y="2660760"/>
            <a:ext cx="115236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11280" y="4581360"/>
            <a:ext cx="216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11280" y="54072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79640" y="5229360"/>
            <a:ext cx="19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11280" y="5084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4414680" y="5784840"/>
                <a:ext cx="15368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BE23-17FE-4284-AC0C-E642D8FBC75F}" type="slidenum">
              <a:t>5</a:t>
            </a:fld>
          </a:p>
        </p:txBody>
      </p:sp>
    </p:spTree>
  </p:cSld>
  <p:transition>
    <p:random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731880" y="404640"/>
            <a:ext cx="7918560" cy="626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ability of an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preselected and it is known as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significance leve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146400" y="981000"/>
                <a:ext cx="25639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∈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D</m:t>
                        </m:r>
                      </m:e>
                    </m:bar>
                    <m:r>
                      <m:t xml:space="preserve">|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076480" y="1905120"/>
            <a:ext cx="5591160" cy="2531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027760" y="3500280"/>
            <a:ext cx="76824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1-ρ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B9E6-4B99-4089-AC95-E59D29AA71E2}" type="slidenum">
              <a:t>6</a:t>
            </a:fld>
          </a:p>
        </p:txBody>
      </p:sp>
    </p:spTree>
  </p:cSld>
  <p:transition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731880" y="115560"/>
            <a:ext cx="7918560" cy="62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:  The known variance c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 a random variable and the experimental samples,                 , are assumed mutually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independ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Also l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ute the sample mean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also a random variable with mean value</a:t>
            </a:r>
            <a:br>
              <a:rPr sz="2200"/>
            </a:br>
            <a:br>
              <a:rPr sz="2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is, it is an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Unbiased Estimat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651040" y="1141560"/>
                <a:ext cx="14907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692360" y="1989000"/>
                <a:ext cx="208764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μ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835280" y="3429000"/>
                <a:ext cx="151272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763640" y="4653000"/>
                <a:ext cx="302436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[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E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μ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B69C-8D1E-4C68-97F1-427E3C325261}" type="slidenum">
              <a:t>7</a:t>
            </a:fld>
          </a:p>
        </p:txBody>
      </p:sp>
    </p:spTree>
  </p:cSld>
  <p:transition>
    <p:random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440" y="69480"/>
            <a:ext cx="71499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ri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ue to independe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is, it i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Asymptotically Effici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Hypothesis te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est Statistic: Define the variab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251160" y="38160"/>
                <a:ext cx="461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547640" y="722160"/>
                <a:ext cx="7056720" cy="15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E</m:t>
                            </m:r>
                            <m:r>
                              <m:t xml:space="preserve">[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]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t xml:space="preserve">E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547640" y="2781360"/>
                <a:ext cx="12240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547640" y="4653000"/>
                <a:ext cx="151308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≠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547640" y="6002280"/>
                <a:ext cx="136872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3780000" y="0"/>
            <a:ext cx="527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BBE6-9F64-4282-A45D-6F310098CF93}" type="slidenum">
              <a:t>8</a:t>
            </a:fld>
          </a:p>
        </p:txBody>
      </p:sp>
    </p:spTree>
  </p:cSld>
  <p:transition>
    <p:random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440" y="1071720"/>
            <a:ext cx="753588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entral limit theorem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under 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i="1" lang="en-US" sz="22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us, under 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i="1" lang="en-US" sz="22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523960" y="1535040"/>
                <a:ext cx="384840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sub>
                    </m:sSub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−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484360" y="3017880"/>
                <a:ext cx="388944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q</m:t>
                    </m:r>
                    <m:r>
                      <m:t xml:space="preserve">≈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0,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69C6-DF08-428F-9A49-8C8D47F1BCB5}" type="slidenum">
              <a:t>9</a:t>
            </a:fld>
          </a:p>
        </p:txBody>
      </p:sp>
    </p:spTree>
  </p:cSld>
  <p:transition>
    <p:random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2T18:14:25Z</dcterms:created>
  <dc:creator>Jim</dc:creator>
  <dc:description/>
  <dc:language>en-US</dc:language>
  <cp:lastModifiedBy>ST</cp:lastModifiedBy>
  <dcterms:modified xsi:type="dcterms:W3CDTF">2006-09-01T15:48:50Z</dcterms:modified>
  <cp:revision>901</cp:revision>
  <dc:subject/>
  <dc:title>PowerPoint Presentation</dc:title>
</cp:coreProperties>
</file>