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FF0-CA2A-4655-9EA2-136EA2FF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392-17D1-42FD-8260-B065C292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ECF-7D5D-4E70-BE2C-4506DB84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B6C-C7FD-4769-9C03-45D0350B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A38-8FC6-4E1D-9F67-5ECB41EC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E2F-442F-4F7B-9446-0CBC272F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2A40-B28B-4B69-9F0F-4B75B7D8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7004-0665-470A-8359-15F887B5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A44-3AB1-4AD5-B1C7-27C84FAB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2523-E075-4CDF-8A4F-A3568C3C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638-55EC-4B37-9BA5-F0A256CE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A26-971B-4657-976C-3E3DDBBD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0ECE-AA03-4980-9D71-2C136236A2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440" y="512280"/>
            <a:ext cx="753588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blem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a two class task with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763640" y="1614600"/>
                <a:ext cx="27370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835280" y="2997360"/>
                <a:ext cx="432108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e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n the decision hyperplane: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2075040" y="243000"/>
            <a:ext cx="49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INEAR CLASS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123-5DD2-4D9A-B961-8604F729F311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52600" y="603360"/>
            <a:ext cx="6143760" cy="3004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24760" y="1159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percep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484360" y="3700440"/>
                <a:ext cx="42116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    synapses or synaptic weights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threshol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644480" y="5403960"/>
            <a:ext cx="65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earning mach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ear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raining ve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ia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erceptron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69520" y="5022720"/>
            <a:ext cx="620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twork is called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erceptron or neu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FB1-C556-4618-8345-FE57F23487C0}" type="slidenum">
              <a:t>10</a:t>
            </a:fld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440" y="-387360"/>
            <a:ext cx="753588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 some stag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perceptron algorithm results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rresponding hyperplane 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79640" y="2536920"/>
            <a:ext cx="5834160" cy="3122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386160" y="880920"/>
                <a:ext cx="30924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348000" y="1289160"/>
                <a:ext cx="22320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24000" y="5748480"/>
                <a:ext cx="54039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102000" y="3218040"/>
            <a:ext cx="1539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=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0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4C80-F9E3-4C92-B9A5-C9BB016E64C0}" type="slidenum">
              <a:t>11</a:t>
            </a:fld>
          </a:p>
        </p:txBody>
      </p:sp>
    </p:spTree>
  </p:cSld>
  <p:transition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43920"/>
            <a:ext cx="8051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east Squares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classes are linearly separable, the perceptron output results i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classes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inearly separable, we shall compute the we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that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ffer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actual output of the classifier,          , 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desired outputs, e.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b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M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700360" y="895320"/>
                <a:ext cx="3603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987640" y="1760400"/>
                <a:ext cx="1584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529160" y="2706840"/>
                <a:ext cx="85680" cy="16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300720" y="2746440"/>
                <a:ext cx="5763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340000" y="3789360"/>
                <a:ext cx="1297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487-7ADA-4114-88AC-99BCD1F3257B}" type="slidenum">
              <a:t>12</a:t>
            </a:fld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920" y="755640"/>
            <a:ext cx="8051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M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n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ean squa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rror sense, means to choose        so that the cost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29160" y="3417840"/>
                <a:ext cx="8568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8432640" y="1116000"/>
                <a:ext cx="355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619280" y="2268360"/>
                <a:ext cx="475128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is minimum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</m:ba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lim>
                        </m:limLow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 the corresponding desired respons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C99-0003-4ADC-942A-D9E97D97EC86}" type="slidenum">
              <a:t>13</a:t>
            </a:fld>
          </a:p>
        </p:txBody>
      </p:sp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44280"/>
            <a:ext cx="8134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iz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utocorrelatio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rosscorrel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vec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606680" y="476280"/>
                <a:ext cx="535608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w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o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results in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den>
                        </m:f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]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y</m:t>
                        </m:r>
                        <m:r>
                          <m:t xml:space="preserve">]</m:t>
                        </m:r>
                        <m:r>
                          <m:t xml:space="preserve">⇒</m:t>
                        </m:r>
                      </m:e>
                      <m:e/>
                      <m:e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</m:ba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E</m:t>
                        </m:r>
                        <m:r>
                          <m:t xml:space="preserve">[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y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3924360" y="2975040"/>
            <a:ext cx="1871640" cy="358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92360" y="4005360"/>
                <a:ext cx="525600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E</m:t>
                    </m:r>
                    <m:r>
                      <m:t xml:space="preserve">[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195640" y="5316480"/>
                <a:ext cx="20890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y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y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y</m:t>
                              </m:r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13D7-37C2-44A7-B533-6619D39A19D1}" type="slidenum">
              <a:t>14</a:t>
            </a:fld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40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-class generaliz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oal is to compu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inear discriminant func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ording to the M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opt as desired response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he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490920" y="930240"/>
                <a:ext cx="1944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321000" y="2674800"/>
                <a:ext cx="23162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if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otherwi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102120" y="4149720"/>
                <a:ext cx="25794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057480" y="5337000"/>
                <a:ext cx="26859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B98-9D32-490D-9189-0B1783A2CB05}" type="slidenum">
              <a:t>15</a:t>
            </a:fld>
          </a:p>
        </p:txBody>
      </p:sp>
    </p:spTree>
  </p:cSld>
  <p:transition>
    <p:random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40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oal is to compute   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bove is equivalent to a numb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MSE minimization problems. That 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sign each    so that its desired output is 1 for           and 0 for any other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Tahoma"/>
              </a:rPr>
              <a:t>Remark: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SE criterion belongs to a more general class of cost function with the following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mporta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perty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value of          is an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stimate, in the MSE sense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-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osterior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ability              ,  provided that the desired responses used during training are                    and 0 otherwi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154160" y="549360"/>
                <a:ext cx="74469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W</m:t>
                        </m:r>
                      </m:lim>
                    </m:limLow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W</m:t>
                        </m:r>
                      </m:lim>
                    </m:limLow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71640" y="2781360"/>
                <a:ext cx="330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804000" y="2781360"/>
                <a:ext cx="7318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843280" y="4797360"/>
                <a:ext cx="682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995640" y="5084640"/>
                <a:ext cx="1035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64000" y="5373720"/>
                <a:ext cx="1435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067280" y="189000"/>
                <a:ext cx="3222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15A-7979-4A8E-A3F1-331377049385}" type="slidenum">
              <a:t>16</a:t>
            </a:fld>
          </a:p>
        </p:txBody>
      </p:sp>
    </p:spTree>
  </p:cSld>
  <p:transition>
    <p:random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40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ean square error regres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t          ,           be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joint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istributed random vectors with a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j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d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: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iv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value of 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stim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value of    . In the pattern recognition framework, given      one wants to estimate the respective label         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SE estimate     of      given       is defined a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turns out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known a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gress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      given     and it is, in general, a non-linear function of      . If             i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aussi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SE regressor is lin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665680" y="146160"/>
                <a:ext cx="982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684840" y="152280"/>
                <a:ext cx="8575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ℓ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740720" y="517680"/>
                <a:ext cx="9334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003640" y="836640"/>
                <a:ext cx="297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132760" y="915840"/>
                <a:ext cx="2476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948360" y="1125360"/>
                <a:ext cx="3081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708360" y="2243160"/>
                <a:ext cx="2509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27640" y="2227320"/>
                <a:ext cx="2505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651640" y="2189160"/>
                <a:ext cx="3506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25680" y="2643120"/>
                <a:ext cx="27115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acc>
                          <m:accPr>
                            <m:chr m:val="~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lim>
                    </m:limLow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14640" y="3675240"/>
                <a:ext cx="3259080" cy="90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ba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nary>
                    <m:r>
                      <m:t xml:space="preserve">d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580080" y="4836960"/>
                <a:ext cx="2336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759800" y="4813200"/>
                <a:ext cx="2602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453360" y="5140440"/>
                <a:ext cx="2458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292880" y="5140440"/>
                <a:ext cx="9334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362560" y="1541520"/>
                <a:ext cx="760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6A2B-F72D-4695-9655-BCCCE09199F9}" type="slidenum">
              <a:t>17</a:t>
            </a:fld>
          </a:p>
        </p:txBody>
      </p:sp>
    </p:spTree>
  </p:cSld>
  <p:transition>
    <p:random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989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MA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um of err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quares sense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input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i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responding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ass label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(±1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620720" y="1819440"/>
                <a:ext cx="3095640" cy="13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116800" y="2755800"/>
            <a:ext cx="284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training p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601640" y="3614760"/>
                <a:ext cx="4133880" cy="20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</m:e>
                      <m:e/>
                      <m:e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476360" y="4768920"/>
            <a:ext cx="2654280" cy="8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020000" y="3100320"/>
                <a:ext cx="3222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6535-D9F8-4E34-9B41-78DCFCD932B7}" type="slidenum">
              <a:t>18</a:t>
            </a:fld>
          </a:p>
        </p:txBody>
      </p:sp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-243000"/>
            <a:ext cx="7772400" cy="58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eudoinverse Matr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835280" y="766800"/>
                <a:ext cx="4824360" cy="34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bar>
                                        <m:barPr>
                                          <m:pos m:val="bot"/>
                                        </m:bar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ba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bar>
                                        <m:barPr>
                                          <m:pos m:val="bot"/>
                                        </m:bar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ba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bar>
                                        <m:barPr>
                                          <m:pos m:val="bot"/>
                                        </m:bar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ba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n </m:t>
                        </m:r>
                        <m:r>
                          <m:rPr>
                            <m:lit/>
                            <m:nor/>
                          </m:rPr>
                          <m:t xml:space="preserve">Nxl</m:t>
                        </m:r>
                        <m:r>
                          <m:rPr>
                            <m:lit/>
                            <m:nor/>
                          </m:rPr>
                          <m:t xml:space="preserve"> matrix</m:t>
                        </m:r>
                        <m:r>
                          <m:t xml:space="preserve">)</m:t>
                        </m:r>
                      </m:e>
                      <m:e/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corresponding desired respons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930320" y="4437000"/>
                <a:ext cx="4708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n </m:t>
                    </m:r>
                    <m:r>
                      <m:rPr>
                        <m:lit/>
                        <m:nor/>
                      </m:rPr>
                      <m:t xml:space="preserve">lxN</m:t>
                    </m:r>
                    <m:r>
                      <m:rPr>
                        <m:lit/>
                        <m:nor/>
                      </m:rPr>
                      <m:t xml:space="preserve"> matri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835280" y="5051520"/>
                <a:ext cx="20890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835280" y="5862600"/>
                <a:ext cx="201600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AD7-2D76-4B77-9902-C555FA0DA5CD}" type="slidenum">
              <a:t>19</a:t>
            </a:fld>
          </a:p>
        </p:txBody>
      </p:sp>
    </p:spTree>
  </p:cSld>
  <p:transition>
    <p:random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260280"/>
            <a:ext cx="662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476360" y="907920"/>
                <a:ext cx="41482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on the hyperplan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73120" y="1308240"/>
                <a:ext cx="41371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9920" y="1989000"/>
            <a:ext cx="4960800" cy="326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95640" y="5445000"/>
                <a:ext cx="33130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, 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D5C-45FF-43AD-AB14-E82E3F44FD5C}" type="slidenum">
              <a:t>2</a:t>
            </a:fld>
          </a:p>
        </p:txBody>
      </p:sp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545760"/>
            <a:ext cx="77263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=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quare and invertible. 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673280" y="403200"/>
                <a:ext cx="241308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w</m:t>
                                    </m:r>
                                  </m:e>
                                </m:acc>
                              </m:e>
                            </m:bar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</m:ba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⇒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</m:ba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54200" y="2786040"/>
                <a:ext cx="21272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3962520" y="2754360"/>
            <a:ext cx="26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seudoinverse of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35240" y="4435560"/>
                <a:ext cx="46720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⇒</m:t>
                        </m:r>
                      </m:e>
                      <m:e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195640" y="5299200"/>
            <a:ext cx="129672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276720" y="3828960"/>
                <a:ext cx="3967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F48-8286-4CB1-915D-DE6AB170F344}" type="slidenum">
              <a:t>20</a:t>
            </a:fld>
          </a:p>
        </p:txBody>
      </p:sp>
    </p:spTree>
  </p:cSld>
  <p:transition>
    <p:random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77724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&gt;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Then, in general, there is no solution to satisfy all equations simultaneously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“solution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corresponds to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imum sum of squares sol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476360" y="1413000"/>
                <a:ext cx="5905440" cy="18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m>
                      <m:mr>
                        <m:e>
                          <m:sSubSup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w</m:t>
                              </m:r>
                            </m:e>
                          </m:ba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sSubSup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w</m:t>
                              </m:r>
                            </m:e>
                          </m:ba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  <m:mr>
                        <m:e>
                          <m:sSubSup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w</m:t>
                              </m:r>
                            </m:e>
                          </m:ba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equations 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l </m:t>
                    </m:r>
                    <m:r>
                      <m:rPr>
                        <m:lit/>
                        <m:nor/>
                      </m:rPr>
                      <m:t xml:space="preserve">unknown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987640" y="4330800"/>
                <a:ext cx="11527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11D-0683-421B-AE08-217D18129D62}" type="slidenum">
              <a:t>21</a:t>
            </a:fld>
          </a:p>
        </p:txBody>
      </p:sp>
    </p:spTree>
  </p:cSld>
  <p:transition>
    <p:random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440" y="115560"/>
            <a:ext cx="7535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987640" y="160200"/>
                <a:ext cx="331164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: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156360" y="2133720"/>
                <a:ext cx="2901960" cy="34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5688000" cy="327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D81C-0F58-47A2-A494-578CB5EF246F}" type="slidenum">
              <a:t>22</a:t>
            </a:fld>
          </a:p>
        </p:txBody>
      </p:sp>
    </p:spTree>
  </p:cSld>
  <p:transition>
    <p:random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753588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619280" y="1317600"/>
                <a:ext cx="4510080" cy="28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CF70-C64C-4A40-B3DD-6DEAD83BFE4D}" type="slidenum">
              <a:t>23</a:t>
            </a:fld>
          </a:p>
        </p:txBody>
      </p:sp>
    </p:spTree>
  </p:cSld>
  <p:transition>
    <p:random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80517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Bias – Variance Dilem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ifier        i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earning mach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tries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redi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class labe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   . In practice,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n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ata s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used for its training. Let us write           . Observe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o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raining sets,                                    ,  the training may result to good estimates,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ome oth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result may be wor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verage performance of the classifier can be tested against the MSE optimal value, in the mean squares sense, that 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an over all possible data sets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36840" y="533520"/>
                <a:ext cx="6555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451320" y="852480"/>
                <a:ext cx="247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492800" y="1197000"/>
                <a:ext cx="1008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;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356000" y="2013120"/>
                <a:ext cx="3167280" cy="44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276720" y="4653000"/>
                <a:ext cx="32558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;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DA2C-4CCB-4B35-974C-CDEB67244436}" type="slidenum">
              <a:t>24</a:t>
            </a:fld>
          </a:p>
        </p:txBody>
      </p:sp>
    </p:spTree>
  </p:cSld>
  <p:transition>
    <p:random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80517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written a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above,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r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rm is the contribution of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bia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the second term is the contribution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vari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 fini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re is a trade-off between the two terms.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ncreasing bias it reduces variance and vice ver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is is known a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bias-variance dilemma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ing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mpl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del results i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ow-bia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ut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gh vari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s one changes from one training set to another. Using a </a:t>
            </a:r>
            <a:r>
              <a:rPr b="0" lang="en-US" sz="2200" spc="-1" strike="noStrike">
                <a:solidFill>
                  <a:srgbClr val="66ff33"/>
                </a:solidFill>
                <a:latin typeface="Tahoma"/>
              </a:rPr>
              <a:t>simp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del results in </a:t>
            </a:r>
            <a:r>
              <a:rPr b="0" lang="en-US" sz="2200" spc="-1" strike="noStrike">
                <a:solidFill>
                  <a:srgbClr val="66ff33"/>
                </a:solidFill>
                <a:latin typeface="Tahoma"/>
              </a:rPr>
              <a:t>high bia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ut </a:t>
            </a:r>
            <a:r>
              <a:rPr b="0" lang="en-US" sz="2200" spc="-1" strike="noStrike">
                <a:solidFill>
                  <a:srgbClr val="66ff33"/>
                </a:solidFill>
                <a:latin typeface="Tahoma"/>
              </a:rPr>
              <a:t>low vari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446640" y="549360"/>
                <a:ext cx="35337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;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271520" y="1197000"/>
                <a:ext cx="73486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;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]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;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g</m:t>
                                    </m:r>
                                    <m:r>
                                      <m:t xml:space="preserve">(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  <m:r>
                                      <m:t xml:space="preserve">;</m:t>
                                    </m:r>
                                    <m:r>
                                      <m:t xml:space="preserve">D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F512-557F-40B7-BD8F-AABD82C2EF90}" type="slidenum">
              <a:t>25</a:t>
            </a:fld>
          </a:p>
        </p:txBody>
      </p:sp>
    </p:spTree>
  </p:cSld>
  <p:transition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869760"/>
            <a:ext cx="7726320" cy="55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an   -class task,                  . In logistic discrimination, the logarithm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ikelihood ratio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modeled vi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inear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nctions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king into account th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can be easily shown that the above is equivalent with modeling posterior probabilities a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787680" y="379440"/>
            <a:ext cx="44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OGISTIC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195640" y="1989000"/>
                <a:ext cx="511308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M-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906720" y="3645000"/>
                <a:ext cx="17449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968640" y="868320"/>
                <a:ext cx="15843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268360" y="907920"/>
                <a:ext cx="420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31F-4342-4C46-BC17-E022DFB101F6}" type="slidenum">
              <a:t>26</a:t>
            </a:fld>
          </a:p>
        </p:txBody>
      </p:sp>
    </p:spTree>
  </p:cSld>
  <p:transition>
    <p:random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088120" cy="599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two-class case it turns out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548080" y="169920"/>
                <a:ext cx="396864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</m:ba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</m:sSub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06400" y="1413000"/>
                <a:ext cx="552456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sub>
                            </m:sSub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</m:ba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</m:sSub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ι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Μ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024360" y="3789360"/>
                <a:ext cx="33462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48120" y="4826160"/>
                <a:ext cx="33242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3AF-81DF-4A97-A66C-87BC5F178CA0}" type="slidenum">
              <a:t>27</a:t>
            </a:fld>
          </a:p>
        </p:txBody>
      </p:sp>
    </p:spTree>
  </p:cSld>
  <p:transition>
    <p:random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088120" cy="599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unknown parameters                                     are usually estimated by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imum likeliho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gu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gistic discrimination is a useful tool, since it allows linear modeling and at the same tim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nsur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terior probabiliti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o add to o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424400" y="419040"/>
                <a:ext cx="29145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M-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E60-BEB9-4D01-8B80-C55FDBC3457F}" type="slidenum">
              <a:t>28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869760"/>
            <a:ext cx="7726320" cy="55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:  Given two linearly separable classes, design the classifier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leave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aximum marg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both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330720" y="1557360"/>
                <a:ext cx="25794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332000" y="2852640"/>
            <a:ext cx="6408720" cy="3481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17480" y="379440"/>
            <a:ext cx="41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upport Vecto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2445-5214-4340-ACB3-AE32D5E4B139}" type="slidenum">
              <a:t>29</a:t>
            </a:fld>
          </a:p>
        </p:txBody>
      </p:sp>
    </p:spTree>
  </p:cSld>
  <p:transition>
    <p:random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514440"/>
            <a:ext cx="77724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Perceptr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linearly separable classes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as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lls under the above formulation, si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60720" y="1781280"/>
                <a:ext cx="28796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*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w</m:t>
                        </m:r>
                        <m:sSup>
                          <m:e>
                            <m:r>
                              <m:t xml:space="preserve">∗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sSup>
                          <m:e>
                            <m:r>
                              <m:t xml:space="preserve">∗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738520" y="3181320"/>
                <a:ext cx="12952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sSup>
                          <m:e/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124000" y="4221000"/>
                <a:ext cx="23036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'</m:t>
                    </m:r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w</m:t>
                                  </m:r>
                                </m:e>
                              </m:bar>
                              <m:r>
                                <m:t xml:space="preserve">∗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/>
                              </m:sSubSup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'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050920" y="5589720"/>
                <a:ext cx="2881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sSup>
                      <m:e>
                        <m:r>
                          <m:t xml:space="preserve">∗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  <m:sup/>
                    </m:sSubSup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sSup>
                      <m:e>
                        <m:r>
                          <m:t xml:space="preserve">'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5B9A-1665-41A6-AB7F-0F15F7288649}" type="slidenum">
              <a:t>3</a:t>
            </a:fld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869760"/>
            <a:ext cx="7726320" cy="55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rg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Each hyperplane is characterized b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direction in space, i.e.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position in space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A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rection,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e the hyperplane that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eaves the SAME 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s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ear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 from each clas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argin is twice this dist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219640" y="2060640"/>
                <a:ext cx="304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148360" y="2852640"/>
                <a:ext cx="4190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356000" y="3700440"/>
                <a:ext cx="304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999-EE96-4811-A048-E25F80ED1B1F}" type="slidenum">
              <a:t>30</a:t>
            </a:fld>
          </a:p>
        </p:txBody>
      </p:sp>
    </p:spTree>
  </p:cSld>
  <p:transition>
    <p:random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440" y="43920"/>
            <a:ext cx="7342200" cy="465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istance of a point  from a hyperplan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given by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ale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so that at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earest poi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each class the discriminant function is ±1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rg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given b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, the following is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003640" y="47520"/>
                <a:ext cx="255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314440" y="1830240"/>
                <a:ext cx="889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459240" y="692280"/>
                <a:ext cx="135900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ba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836720" y="2637000"/>
                <a:ext cx="5904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rPr>
                            <m:lit/>
                            <m:nor/>
                          </m:rPr>
                          <m:t xml:space="preserve">1 for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706920" y="3789360"/>
                <a:ext cx="18730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48000" y="5516640"/>
                <a:ext cx="29527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7E7B-8C3A-43E7-9CAA-933F19045AD5}" type="slidenum">
              <a:t>31</a:t>
            </a:fld>
          </a:p>
        </p:txBody>
      </p:sp>
    </p:spTree>
  </p:cSld>
  <p:transition>
    <p:random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000" y="253800"/>
            <a:ext cx="7149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594360" indent="-228600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VM (linear) classifi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im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ject 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justified since by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imiz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arg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s maximis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868480" y="736560"/>
                <a:ext cx="20131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798640" y="1665360"/>
                <a:ext cx="18176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56000" y="3538440"/>
                <a:ext cx="23032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567160" y="2962440"/>
                <a:ext cx="36493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877080" y="4941720"/>
                <a:ext cx="4525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03640" y="5445000"/>
                <a:ext cx="495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0B6-254B-4139-89BF-5925BB8F98DD}" type="slidenum">
              <a:t>32</a:t>
            </a:fld>
          </a:p>
        </p:txBody>
      </p:sp>
    </p:spTree>
  </p:cSld>
  <p:transition>
    <p:random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quadratic optimization task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ject to a set of linear inequality constraints. 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Karush-Kuhh-Tuck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dition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e that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imiz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atisfie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i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agrangi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411280" y="1776240"/>
                <a:ext cx="21607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den>
                    </m:f>
                    <m:r>
                      <m:rPr>
                        <m:lit/>
                        <m:nor/>
                      </m:rPr>
                      <m:t xml:space="preserve"> L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λ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424240" y="2565360"/>
                <a:ext cx="2278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L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λ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556000" y="3573360"/>
                <a:ext cx="24476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627280" y="4292640"/>
                <a:ext cx="43322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843280" y="5229360"/>
                <a:ext cx="865080" cy="33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⋅</m:t>
                    </m:r>
                    <m:r>
                      <m:t xml:space="preserve">,</m:t>
                    </m:r>
                    <m:r>
                      <m:t xml:space="preserve">⋅</m:t>
                    </m:r>
                    <m:r>
                      <m:t xml:space="preserve">,</m:t>
                    </m:r>
                    <m:r>
                      <m:t xml:space="preserve">⋅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340000" y="5589720"/>
                <a:ext cx="5289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λ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[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B43-249C-4EF9-946C-3BD990C00E20}" type="slidenum">
              <a:t>33</a:t>
            </a:fld>
          </a:p>
        </p:txBody>
      </p:sp>
    </p:spTree>
  </p:cSld>
  <p:transition>
    <p:random/>
  </p:transition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733320" y="1152000"/>
            <a:ext cx="772632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olution:  from the above, it turns out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171880" y="2160720"/>
                <a:ext cx="1944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171880" y="3359160"/>
                <a:ext cx="14396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AFEE-75BC-4F60-96B6-B4D562CED6B5}" type="slidenum">
              <a:t>34</a:t>
            </a:fld>
          </a:p>
        </p:txBody>
      </p:sp>
    </p:spTree>
  </p:cSld>
  <p:transition>
    <p:random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1556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 algn="just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agrange multipli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either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zero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Thus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, corresponding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agrange multipli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constraint (4) above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ectors contributing 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484360" y="1413000"/>
                <a:ext cx="17272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20920" y="2508120"/>
                <a:ext cx="1008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825640" y="4076640"/>
                <a:ext cx="4643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924360" y="5373720"/>
                <a:ext cx="2160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29400" y="4756320"/>
                <a:ext cx="3553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5725440" y="4802040"/>
            <a:ext cx="170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tis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FF6-09B8-4D14-B660-7CDBBC2DE05E}" type="slidenum">
              <a:t>35</a:t>
            </a:fld>
          </a:p>
        </p:txBody>
      </p:sp>
    </p:spTree>
  </p:cSld>
  <p:transition>
    <p:random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72036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3" marL="1568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vectors are 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UPPORT VECTORS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are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losest ve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from each class, to the classifi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 is computed,  is determined from conditions (4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ptimal hyperplane classifier of a support vector machine i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UNI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hough the solution is unique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resulting Lagrange multipliers ar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nique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16160" y="2405160"/>
                <a:ext cx="304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286240" y="242100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70FD-7B39-4346-9BC6-A65FD7C67DFF}" type="slidenum">
              <a:t>36</a:t>
            </a:fld>
          </a:p>
        </p:txBody>
      </p:sp>
    </p:spTree>
  </p:cSld>
  <p:transition>
    <p:random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6948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al Problem Formul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VM formulation is a convex programming problem, wi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nvex cost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nvex region of feasible solu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, its solution can be achieved by its dual problem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xim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ject 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741840" y="3173400"/>
                <a:ext cx="13874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λ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021120" y="4292640"/>
                <a:ext cx="1695240" cy="22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λ</m:t>
                            </m:r>
                          </m:e>
                        </m:bar>
                        <m:r>
                          <m:t xml:space="preserve">≥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2556000" y="3429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28A-F986-4A5A-9E95-13D3B0D899BC}" type="slidenum">
              <a:t>37</a:t>
            </a:fld>
          </a:p>
        </p:txBody>
      </p:sp>
    </p:spTree>
  </p:cSld>
  <p:transition>
    <p:random/>
  </p:transition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6948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e the above to obta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im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ject 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635280" y="1052640"/>
                <a:ext cx="3672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203640" y="2997360"/>
                <a:ext cx="122400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λ</m:t>
                            </m:r>
                          </m:e>
                        </m:bar>
                        <m:r>
                          <m:t xml:space="preserve">≥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1332000" y="151920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806-3A70-484F-BCF9-07B46ABA8603}" type="slidenum">
              <a:t>38</a:t>
            </a:fld>
          </a:p>
        </p:txBody>
      </p:sp>
    </p:spTree>
  </p:cSld>
  <p:transition>
    <p:random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440" y="44280"/>
            <a:ext cx="7823160" cy="54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Remarks</a:t>
            </a:r>
            <a:r>
              <a:rPr b="0" lang="el-GR" sz="2200" spc="-1" strike="noStrike">
                <a:solidFill>
                  <a:srgbClr val="00cc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rt vectors enter vi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nner produ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n-Separabl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189840" y="3657600"/>
                <a:ext cx="750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971640" y="2579760"/>
            <a:ext cx="7489800" cy="329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725-6E5E-4CDC-BF58-BD3ABB02E2B6}" type="slidenum">
              <a:t>39</a:t>
            </a:fld>
          </a:p>
        </p:txBody>
      </p:sp>
    </p:spTree>
  </p:cSld>
  <p:transition>
    <p:random/>
  </p:transition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865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 goal:  Compute a solution, i.e., a hyperplan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e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a cost function to be minimiz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e an algorithm to minimize the cost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inimum corresponds to a sol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056040" y="1843200"/>
                <a:ext cx="346068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(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)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 flipV="1">
            <a:off x="5078520" y="2130120"/>
            <a:ext cx="93348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91120" y="2328840"/>
            <a:ext cx="9936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3BE-1EF8-4293-B42C-B179EA3F0A01}" type="slidenum">
              <a:t>4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440" y="44280"/>
            <a:ext cx="7823160" cy="54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is case, there is no hyperplane such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all that the margin is defined as twice the distance between the following two hyperplan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916360" y="2205000"/>
                <a:ext cx="3141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)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189840" y="3657600"/>
                <a:ext cx="750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132000" y="4213080"/>
                <a:ext cx="28083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57A-3BC9-481D-B2FF-BC8F97857C73}" type="slidenum">
              <a:t>40</a:t>
            </a:fld>
          </a:p>
        </p:txBody>
      </p:sp>
    </p:spTree>
  </p:cSld>
  <p:transition>
    <p:random/>
  </p:transition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27756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708480" indent="-2833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training vectors belong t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one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th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sible categor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8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1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ctor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ut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band which ar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rrect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classified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ctor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band, an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rrec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ified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3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Vector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sclassifi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448080" y="2193840"/>
                <a:ext cx="21733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189840" y="3139920"/>
                <a:ext cx="75060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820960" y="3849840"/>
                <a:ext cx="3284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809800" y="5146560"/>
                <a:ext cx="32371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635F-236B-4887-AF18-514793CF5EF1}" type="slidenum">
              <a:t>41</a:t>
            </a:fld>
          </a:p>
        </p:txBody>
      </p:sp>
    </p:spTree>
  </p:cSld>
  <p:transition>
    <p:random/>
  </p:transition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5800" y="792000"/>
            <a:ext cx="7726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62120" indent="-3049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three cases above can be represented 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lack variab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189840" y="3654360"/>
                <a:ext cx="750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881440" y="1268280"/>
                <a:ext cx="258588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268360" y="1955880"/>
                <a:ext cx="14400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1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63640" y="3571920"/>
                <a:ext cx="338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990-0A63-429C-9DAB-79FFF5F75965}" type="slidenum">
              <a:t>42</a:t>
            </a:fld>
          </a:p>
        </p:txBody>
      </p:sp>
    </p:spTree>
  </p:cSld>
  <p:transition>
    <p:random/>
  </p:transition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85800" y="-243000"/>
            <a:ext cx="763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lvl="1" marL="54972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-2113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 of the optimization is now two-fo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ximize marg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ize the number of patterns with           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way to achieve this goal is via the co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550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onstant 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(.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differentiable.  In practice, we use an approxim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0">
              <a:spcBef>
                <a:spcPts val="550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llowing a similar procedure as before we obta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0">
              <a:spcBef>
                <a:spcPts val="550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0">
              <a:spcBef>
                <a:spcPts val="550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659640" y="993600"/>
                <a:ext cx="7207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736720" y="1773360"/>
                <a:ext cx="3667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ξ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348000" y="2997360"/>
                <a:ext cx="237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944720" y="4869000"/>
                <a:ext cx="333684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ξ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4707-8676-486E-AA98-E83F4DFBB031}" type="slidenum">
              <a:t>43</a:t>
            </a:fld>
          </a:p>
        </p:txBody>
      </p:sp>
    </p:spTree>
  </p:cSld>
  <p:transition>
    <p:random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2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85800" y="387000"/>
            <a:ext cx="772632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KKT condi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185920" y="1330200"/>
                <a:ext cx="5058000" cy="32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[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5CE-5CB3-417F-8426-1D16C9C1D0A7}" type="slidenum">
              <a:t>44</a:t>
            </a:fld>
          </a:p>
        </p:txBody>
      </p:sp>
    </p:spTree>
  </p:cSld>
  <p:transition>
    <p:random/>
  </p:transition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726320" cy="599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ssociated dual probl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im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ject t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cc99"/>
                </a:solidFill>
                <a:uFillTx/>
                <a:latin typeface="Tahoma"/>
              </a:rPr>
              <a:t>Remarks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nly difference with the separabl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case is the existence of     in th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a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019320" y="1071720"/>
                <a:ext cx="3321000" cy="83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λ</m:t>
                        </m:r>
                      </m:e>
                    </m:ba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nary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771640" y="2565360"/>
                <a:ext cx="26640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124760" y="4844880"/>
                <a:ext cx="3016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75F-D2C4-4B1A-9CB3-1FE228462E7D}" type="slidenum">
              <a:t>45</a:t>
            </a:fld>
          </a:p>
        </p:txBody>
      </p:sp>
    </p:spTree>
  </p:cSld>
  <p:transition>
    <p:random/>
  </p:transition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726320" cy="599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ining the SV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ajor problem is the high computational cost. To this end, decomposition techniques are used. The rationale behind them consists of the follow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t with an arbitrary data subset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working 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can fit in the memory. Perform optimization, via a general purpose optimiz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ing support vector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mai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working set, while others are replaced by new ones (outside the set) that violate severely the KKT condi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the proced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bove procedure guarantees that the cost function decre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tt’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MO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hooses a working set of two samples, thu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analytic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mization solution can be obtain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46C-1579-4088-883A-478C46A361E7}" type="slidenum">
              <a:t>46</a:t>
            </a:fld>
          </a:p>
        </p:txBody>
      </p:sp>
    </p:spTree>
  </p:cSld>
  <p:transition>
    <p:random/>
  </p:transition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91856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-class generaliz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hough theoretical generalizations exist, the most popular in practice is to look at the problem a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wo-class problems (one against all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serve the effect of different value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case of non-separable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35280" y="2708280"/>
            <a:ext cx="6264000" cy="275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E1C9-B5C0-4B04-8007-066CC3F543D1}" type="slidenum">
              <a:t>47</a:t>
            </a:fld>
          </a:p>
        </p:txBody>
      </p:sp>
    </p:spTree>
  </p:cSld>
  <p:transition>
    <p:random/>
  </p:transition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26320" cy="56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st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ubset of the vector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rong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ified by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Wh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(empty set) a solution is achieved 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689200" y="836640"/>
                <a:ext cx="23256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154240" y="3213000"/>
                <a:ext cx="1449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050920" y="4108320"/>
                <a:ext cx="3240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124000" y="5300640"/>
                <a:ext cx="16606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7FB2-67A5-44E6-AE7F-CC17ABDE8610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829800" y="907920"/>
            <a:ext cx="7054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2" marL="1062720" indent="-212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piecewise linear (WHY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hilosophy of the gradient descent is adop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124000" y="1596960"/>
            <a:ext cx="5329440" cy="215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923-E5A7-4197-914B-A9FF6124AF22}" type="slidenum">
              <a:t>6</a:t>
            </a:fld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6312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herever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celebrated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erceptron Algorith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362240" y="3068640"/>
                <a:ext cx="27399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e>
                        <m:r>
                          <m:t xml:space="preserve">Δ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den>
                        </m:f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978200" y="4719600"/>
                <a:ext cx="38192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den>
                    </m:f>
                    <m:r>
                      <m:t xml:space="preserve">(</m:t>
                    </m:r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</m:e>
                    </m:nary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195640" y="5805360"/>
                <a:ext cx="25207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93840" y="115920"/>
            <a:ext cx="6556320" cy="2808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994440" y="29178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7770-82AE-4E80-93FD-3078DF60921B}" type="slidenum">
              <a:t>7</a:t>
            </a:fld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6312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An example</a:t>
            </a:r>
            <a:r>
              <a:rPr b="0" lang="el-GR" sz="2400" spc="-1" strike="noStrike">
                <a:solidFill>
                  <a:srgbClr val="00cc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erceptron algorithm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nverg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in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umber of iteration steps to a solution 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741760" y="3463920"/>
                <a:ext cx="37526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582560" y="5181480"/>
                <a:ext cx="594216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&lt;+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:  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068560" y="566640"/>
            <a:ext cx="5006880" cy="28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738-0E9A-43D3-8F2F-A925A57A3EE9}" type="slidenum">
              <a:t>8</a:t>
            </a:fld>
          </a:p>
        </p:txBody>
      </p:sp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6312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useful variant of the perceptr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a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ward and punishm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type of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206800" y="1285920"/>
                <a:ext cx="4464000" cy="22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  </m:t>
                        </m:r>
                        <m:m>
                          <m:mr>
                            <m:e>
                              <m:sSup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b>
                              </m:sSub>
                              <m:r>
                                <m:t xml:space="preserve">∈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  </m:t>
                        </m:r>
                        <m:m>
                          <m:mr>
                            <m:e>
                              <m:sSup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b>
                              </m:sSub>
                              <m:r>
                                <m:t xml:space="preserve">∈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otherwi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2556000" y="4653000"/>
            <a:ext cx="324000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F29-4D6B-49E6-8A25-AD0072B043CB}" type="slidenum">
              <a:t>9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09-01T12:56:11Z</dcterms:modified>
  <cp:revision>733</cp:revision>
  <dc:subject/>
  <dc:title>PowerPoint Presentation</dc:title>
</cp:coreProperties>
</file>