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4DD-1916-46FE-B467-557289E9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97F-F57E-410A-8B83-04F6B2BA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618-42C8-45C2-9F12-EC00F2FD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431-BA53-45A2-A772-BB6D77CA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A34-0527-4F7C-AB83-AACA85F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3CE-B198-4F20-816F-4A82AAF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05B-A074-41F6-8FBE-5230D0E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877-68AC-41DE-9A3C-644499DB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A69-E183-49F2-9154-9A4D47B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FE9-23D0-4562-9055-F697C7A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4FA-3115-4360-960E-BACE899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2F4-C5F2-4523-B802-2032A84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245-70B2-4735-977D-2342DE1EEBB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1886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ptimal Feature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generation is a problem-dependent task. However, there are a few general directions common in a number of applications. We focus on three such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features based on Scatter matric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(Fisher’s linear discriminatio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trans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ing matrix criterion involv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ized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19280" y="3573360"/>
                <a:ext cx="86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573360"/>
                <a:ext cx="839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24360" y="414972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52920" y="5402160"/>
                <a:ext cx="542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rPr>
                        <m:lit/>
                        <m:nor/>
                      </m:rPr>
                      <m:t xml:space="preserve">x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9CB-67D6-4E40-8AA6-33313FD0823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Classification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ing the idea of projecting in a subspace, the subspace classific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unknown      to the class whos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is closer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eps are in ord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stimate the autocorrelation matri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comput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eigenval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y using respective eigenvectors as colum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ify      to the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the nor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projection is maxim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ording to Pythagoras theorem, this correspon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ub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which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o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08200" y="101268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001000" y="1004760"/>
                <a:ext cx="2541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366084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21240" y="541332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94240" y="4437000"/>
                <a:ext cx="2877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&gt;</m:t>
                    </m:r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D35-F71D-4716-8CC2-76CEFFEDDCC0}" type="slidenum">
              <a:t>10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pendent Component Analysis (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ontrast to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CA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the goal was to produc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orrel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, the goal 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produc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istically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. This i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ch stron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quirement, involving higher to second order statistics. In this way, one may overcome the problems of PCA, as exposed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: Given      , comp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the components of  are statistically independent. In order  the proble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have a solution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ollow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vali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    is indeed gener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linear 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62200" y="29829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37160" y="296712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4640" y="3371760"/>
                <a:ext cx="120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W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3789360"/>
                <a:ext cx="298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79920" y="4989600"/>
                <a:ext cx="271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70240" y="5757840"/>
                <a:ext cx="11462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Φ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6BB-3B23-4F3B-B05D-FD6F0425FCF7}" type="slidenum">
              <a:t>11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invertible or of full column ran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dentifiability condi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dependent compone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n-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us, in contrast to PCA that can always be performed, ICA is meaningful for non-Gaussian variabl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 the above assumption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can be uniquely estimated, within a scalar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229-9948-4DB7-9D4A-922FBE626422}" type="slidenum">
              <a:t>12</a:t>
            </a:fld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mon’s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iven   , and under the previously stated assumptions, the following steps are adop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erform PCA on    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ompute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i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,   , 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th order cross-cummula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ransform 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 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equivalent to searching for an     that makes the squares of the auto-cummulants maximu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der auto-cumul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189000"/>
                <a:ext cx="338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729320" y="127008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1640" y="170028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40360" y="2349360"/>
                <a:ext cx="292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65560" y="3213000"/>
                <a:ext cx="1297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67640" y="3784680"/>
                <a:ext cx="29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30720" y="4508640"/>
                <a:ext cx="3346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lim>
                    </m:limLow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71720" y="5589720"/>
                <a:ext cx="73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B7B-6A43-4AFE-B131-8664D8FEA9D4}" type="slidenum">
              <a:t>13</a:t>
            </a:fld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erarchy of components: whi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? In PCA one chooses the principal ones. In ICA one can choose the ones with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least resemblance to the Gaussian pd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6280" y="174600"/>
                <a:ext cx="132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5DA-CE8D-4ABE-8257-D3155158DD9E}" type="slidenum">
              <a:t>14</a:t>
            </a:fld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3933720"/>
            <a:ext cx="889344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incipal component is    , thus according to PCA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on of      into      . According to ICA,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on on     . This is the least Gaussian. Ind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-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e that across     , the statistics is 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bimod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hat is, no resemblance to Gauss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71760" y="44280"/>
            <a:ext cx="561672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6000" y="4437000"/>
                <a:ext cx="411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88000" y="422100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56000" y="393372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96000" y="4149720"/>
                <a:ext cx="384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877000"/>
                <a:ext cx="409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B49-EBBA-4AD1-99EA-5A5CED0C7353}" type="slidenum">
              <a:t>15</a:t>
            </a:fld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steps in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race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{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matrix that diagonaliz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c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i.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I , 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7C7-A94B-4160-90F3-1AF3C622C872}" type="slidenum">
              <a:t>2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AB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ximiz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alue-eigenve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blem. For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problem,   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of rank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consi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eigenvectors, corresponding to the non-zero eigen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above guarantee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value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is ca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two-class problem, this results to the well know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sher’s linear discrimin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aussian classes, this is the optimal Bayesian classifier, with a difference of a threshold valu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84720" y="779400"/>
                <a:ext cx="2158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b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048280" y="1844640"/>
                <a:ext cx="86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49720" y="3070080"/>
                <a:ext cx="123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067280" y="5013360"/>
                <a:ext cx="2465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</m:sSub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AD1-3B78-4CC9-8625-64FED32F10E4}" type="slidenum">
              <a:t>3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&lt;M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vectors corresponding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st eigen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is there is loss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ometric interpre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vector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on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span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278840" y="2003400"/>
                <a:ext cx="29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92600" y="2360520"/>
                <a:ext cx="264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10120" y="2679840"/>
                <a:ext cx="865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A13-E97D-4E9A-9C35-FE7F074EB9B2}" type="slidenum">
              <a:t>4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cipal Compon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Karhunen – Loève transform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the elements of   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ptimally mutually uncorrel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ketch of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172360" y="1125360"/>
                <a:ext cx="971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43280" y="155736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87880" y="2060640"/>
                <a:ext cx="1033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740720" y="2781360"/>
                <a:ext cx="264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81400" y="4205160"/>
                <a:ext cx="2840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0040" y="5343480"/>
                <a:ext cx="4991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87A-BE8D-409C-BFB3-883245EBF7A2}" type="slidenum">
              <a:t>5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hosen so that its columns    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 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lements the respecti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igenvalue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 this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 but no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cess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t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impo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pecific 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ructur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perties of the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an Square Error approxim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the orthogo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93080" y="320760"/>
                <a:ext cx="331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78440" y="1073160"/>
                <a:ext cx="2280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4896000"/>
                <a:ext cx="3770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E5B-12C1-4D24-98FF-2E9356379F7F}" type="slidenum">
              <a:t>6</a:t>
            </a:fld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Karhunen – Loève transform minimizes the square err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rror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also shown that this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nimum mean square error compared to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ther representation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y an </a:t>
            </a:r>
            <a:r>
              <a:rPr b="0" i="1" lang="en-US" sz="2200" spc="-1" strike="noStrike">
                <a:solidFill>
                  <a:srgbClr val="ff0000"/>
                </a:solidFill>
                <a:latin typeface="Tahoma"/>
              </a:rPr>
              <a:t>ℓ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dimensional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449600" y="476280"/>
                <a:ext cx="1670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08360" y="2133720"/>
                <a:ext cx="3537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ℓ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78240" y="3328920"/>
                <a:ext cx="2525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ℓ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DC2-8B9E-412A-8DBE-88C4EF113BCD}" type="slidenum">
              <a:t>7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ther words,     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into the subspace spanned by the principa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genvectors. However, for Pattern Recognition this is not the always the best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1636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6764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32764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AEA-CD85-4FE2-AD0F-730B80BFAC2F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variance: It is easily see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Karhunen – Loève transform makes the tota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    to be a zero mean multivariat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aussia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the K-L transfor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izes the entrop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ulting     proc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35280" y="836640"/>
                <a:ext cx="2737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95760" y="268272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40360" y="455616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63880" y="3860640"/>
                <a:ext cx="2274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943-C6F0-4087-9788-AF3810C849B1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6:33:24Z</dcterms:created>
  <dc:creator>Theodore</dc:creator>
  <dc:description/>
  <dc:language>en-US</dc:language>
  <cp:lastModifiedBy>ST</cp:lastModifiedBy>
  <dcterms:modified xsi:type="dcterms:W3CDTF">2006-08-31T07:14:19Z</dcterms:modified>
  <cp:revision>159</cp:revision>
  <dc:subject/>
  <dc:title>Feature Generation</dc:title>
</cp:coreProperties>
</file>