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0F8A-2190-4EA0-AC8F-5467F2AA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0FF4-EE38-4716-84E9-FB9264B4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6EA0-5027-4BBB-AB26-38C609D0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9748-7C2E-4DE4-BBC4-30C2D6FB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3F98-C020-4571-B867-F03F94AD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97A6-974F-45BC-B166-072C7D15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710A-C803-4F10-B7BE-74519055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4455-75C8-4ABC-AF01-98BAD907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DE02-42B4-481F-A330-836CACA5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0AB1-FC2B-4B88-B945-DE6EDD19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7FFE-A04C-49B9-83FE-60D4F88A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0F24-6B21-4C06-B03E-2A1E5E3F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E90B-E6AE-41D3-973C-54303A05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7AF2-7926-4933-BB3A-78748BD8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A271-D8CF-443F-90CF-2803FDF8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ED00-57FC-4690-9024-7C3A0DED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7749-AD25-49D2-AD1E-A30750D6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65E-34DA-4A05-A2A8-826FCAC7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4875-7FC3-4A9B-AF62-689DB8BF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A3FA-35F6-4D7F-9B09-7A7DDDA7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2559-5A66-474E-AE81-6808308E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DA7-5B2F-48CC-926B-1CC464BC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C32-F00C-43CE-B0AE-E6FAE561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CE20-33B9-4186-B000-7704EB84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8222-F94A-4185-8606-F9AAB5244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C934-2861-47AB-88BE-81090565B78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440" y="349200"/>
            <a:ext cx="753588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 is to estimate the error probability of the designed classification syst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rror Counting Techn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class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data points in class   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or test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umber o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st poi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probability error for class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classifier is assumed to have been designed using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other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independent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ata 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ing that the feature vectors in the test data set ar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dependent</a:t>
            </a:r>
            <a:r>
              <a:rPr b="0" lang="el-GR" sz="2200" spc="-1" strike="noStrike">
                <a:solidFill>
                  <a:srgbClr val="3333cc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bability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ctors from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ing in error i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908000" y="2708280"/>
                <a:ext cx="12258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403280" y="5300640"/>
                <a:ext cx="71359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n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wrongly classified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2242440" y="115920"/>
            <a:ext cx="461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YSTEM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788000" y="2276640"/>
                <a:ext cx="325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908000" y="2276640"/>
                <a:ext cx="34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908000" y="1989000"/>
                <a:ext cx="3286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4E90-56D1-48A9-98C6-A2736CADAA8A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246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’s are not known, estima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maximizing the above binomial distribution. It turns out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us, count the errors and divide by the total number of test points in 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tal probability of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564000" y="1557360"/>
                <a:ext cx="11509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166920" y="4581360"/>
                <a:ext cx="194652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170A-7DA4-4F82-BDE7-769893593D99}" type="slidenum">
              <a:t>2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440" y="-387720"/>
            <a:ext cx="80629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stical Proper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us the estimator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s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unbiased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but only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symptotically consistent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Hence for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small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, may not be rel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theoretically derived estimate of a sufficient numbe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e test data set i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125800" y="681120"/>
                <a:ext cx="15062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050920" y="1311120"/>
                <a:ext cx="338472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us, </m:t>
                    </m:r>
                    <m:r>
                      <m:t xml:space="preserve">E</m:t>
                    </m:r>
                    <m:r>
                      <m:t xml:space="preserve">[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050920" y="2212920"/>
                <a:ext cx="20876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050920" y="2781360"/>
                <a:ext cx="30243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780000" y="5445000"/>
                <a:ext cx="11523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523880" y="6308640"/>
                <a:ext cx="6096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us, for </m:t>
                    </m:r>
                    <m:r>
                      <m:t xml:space="preserve">P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0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For </m:t>
                    </m:r>
                    <m:r>
                      <m:t xml:space="preserve">P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6B15-DDC7-4CEA-949A-E9FB55997A5D}" type="slidenum">
              <a:t>3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31880" y="333000"/>
            <a:ext cx="7439040" cy="61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iting the finite size of the data s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substitution meth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the same data for training and testing.  It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underestimates the error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The estimate improves for larg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large       ratio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oldout Meth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Giv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vide it in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training po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test po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=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 Less data both for training and tes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284720" y="2205000"/>
                <a:ext cx="333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9573-B9C9-4365-ACE6-671CEA62BF14}" type="slidenum">
              <a:t>4</a:t>
            </a:fld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31880" y="641520"/>
            <a:ext cx="7439040" cy="61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eave-one-out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ep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e one sample out of the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r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classifier using the remaining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N-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amples.  Test the classifier using the selected sample.  Count an error if it is misclassif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eat the above by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xcluding a diffe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ample each 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the error probability by averaging the counted erro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BFB7-7AA4-4700-B4C0-533B63AA4CAA}" type="slidenum">
              <a:t>5</a:t>
            </a:fld>
          </a:p>
        </p:txBody>
      </p: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31880" y="568440"/>
            <a:ext cx="7439040" cy="61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all data for testing and tra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res independence between test and training samp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advantag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lexity in computations hig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nts of it exclu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s each time, to reduce complex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7B5B-F5F8-436A-A296-A84A516C79DC}" type="slidenum">
              <a:t>6</a:t>
            </a:fld>
          </a:p>
        </p:txBody>
      </p:sp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9:08:49Z</dcterms:created>
  <dc:creator>tyiannak</dc:creator>
  <dc:description/>
  <dc:language>en-US</dc:language>
  <cp:lastModifiedBy>ST</cp:lastModifiedBy>
  <dcterms:modified xsi:type="dcterms:W3CDTF">2006-08-31T12:45:48Z</dcterms:modified>
  <cp:revision>13</cp:revision>
  <dc:subject/>
  <dc:title>Slide 1</dc:title>
</cp:coreProperties>
</file>