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44B-86D1-4281-9ED2-52A9D489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50C-8F1B-440A-BDB7-9B621EDA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73AC-0541-41DF-AA85-5EBDC912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3FF-70AE-43BD-9CBD-AC7B560E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E992-C6E2-4350-BD63-8E298A06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28F-D765-41D2-8BD4-5F59EFD2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FAB0-CD59-4467-98D3-6BA7DD4A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C74B-2360-4B9E-AF3C-6F0F78D3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135-3E3A-4F31-A91E-42139008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C4D-F7BA-4661-AC10-02D70CE6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313-5E21-44B6-8C45-72517B6D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A262-CD9E-4C10-A9CD-A8C008FF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3B8C-257D-4619-AE91-2F6C0A856B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24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LUSTER VALID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78544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1360" indent="-261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lustering tend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cc99"/>
                </a:solidFill>
                <a:latin typeface="Tahoma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424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clustering algorithm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mpo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clustering structure to the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ha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424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not possess a clustering struc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424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we apply any clustering algorithm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t must first be verified tha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possesses a clustering structu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is is known a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lustering tendenc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424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ustering tendency is heavily based o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ypothesis test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ally, it is based on testing the randomness (null) hypothesi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against the regularity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hypothesis and the clustering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hypothesis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3840" indent="-223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andomness hypothesi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: “The vectors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Χ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randomly distributed, according to the uniform distribution in the sampling window (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compact convex support set for the underlying distribution of the vectors of the data se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3840" indent="-223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gularity hypothesi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: “The vector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regularly spaced (that is they are not too close to each other) in the sampling window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3840" indent="-223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lustering hypothesi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: “The vector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m clusters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3AB-9ECA-463A-A27C-E03A05B47F86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903600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Statistics suitable for relative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 clust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ified Hubert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nn and Dunn-like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es-Bouldin (DB) and DB-like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zzy clust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es for clusters with point represent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coefficient (P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entropy coefficient (P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ie-Beni (XB)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kuyama-Sugeno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fuzzy hypervolu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erage partition dens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dens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ADF-E20B-45B6-8F67-0FE4975917B8}" type="slidenum">
              <a:t>10</a:t>
            </a:fld>
          </a:p>
        </p:txBody>
      </p:sp>
    </p:spTree>
  </p:cSld>
  <p:transition>
    <p:random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903600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Statistics suitable for relative criteria (con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zzy clustering (con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es for shell-shaped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zzy shell dens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erage partition shell dens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ell partition dens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fuzzy average shell thick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6CA9-2382-46E0-9271-C8700FA8704A}" type="slidenum">
              <a:t>11</a:t>
            </a:fld>
          </a:p>
        </p:txBody>
      </p:sp>
    </p:spTree>
  </p:cSld>
  <p:transition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12320" y="0"/>
            <a:ext cx="9031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estimated via Monte Carlo simul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tests for spatial randomness, when the input space dimensionality greater than or equal to 2 ar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s based o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uctural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est that utilizes the idea of the minimum spanning tree (M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s based o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earest neighbor dista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Hopkins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Cox-Lewis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ethod based o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parse decomposi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AFF-1919-4797-A9DC-D294EF4369CE}" type="slidenum">
              <a:t>2</a:t>
            </a:fld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8000" y="115920"/>
            <a:ext cx="9036000" cy="67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Important not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ustering algorithms should be applied o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, only if the randomness and the regularity hypotheses are rejected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wise, methods different than clustering must be used to describe the structur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st studies in clustering tendency focus on the detection of compact clusters</a:t>
            </a: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basic steps of the clustering tendency philosophy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 of a test statisti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itable for the detection of clustering tenden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ion of the pdf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nder the null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hypothesis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y are necessary for measuring th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ow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probability of making a correct decision whe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is reject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against the regularity and the clustering tendency hypothes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the data set at hand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examination whether it lies in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ritic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erva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|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ich corresponds to a predetermin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gnific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evel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011C-F577-4EB0-B6A3-2694A2B8FA46}" type="slidenum">
              <a:t>3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903600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luster valid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sequel it is assumed that the clustering tendency procedure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icated the existence of a clustering structure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ing a clustering algorithm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ith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appropri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s of the involved parameters, poor results may be obtained.</a:t>
            </a: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nce the need for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rther evalu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clustering results is appar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luster valid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 task that evaluate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quantitative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results of a clustering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ustering structure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ulting from an algorithm may be ei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ierarchy of clusterings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ingle cluste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1515-D3FA-45AF-B089-B04BEF2EFB74}" type="slidenum">
              <a:t>4</a:t>
            </a:fld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903600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uster valid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be approached i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ree possible direc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evaluated in terms of a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dependently drawn structu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mposed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prior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 criteria used in this case are calle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xternal criter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evaluated in terms of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quantities that involve the vectors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themselv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e.g., proximity matrix). The criteria used in this case are calle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ternal criter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evaluated by comparing it with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ther clustering structures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ulting from the application of the same clustering algorithm but with different parameter values, or other clustering algorithms,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Criteria of this kind are calle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lative criter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1002-0028-443C-A6BF-1814FEBAD914}" type="slidenum">
              <a:t>5</a:t>
            </a:fld>
          </a:p>
        </p:txBody>
      </p:sp>
    </p:spTree>
  </p:cSld>
  <p:transition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2320" y="72720"/>
            <a:ext cx="903132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luster validity for the cases of external and internal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ypothesis test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employ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ll hypothes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ich is a statement of randomness concerning the structur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s defin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eneration of a reference data population under the random hypothesis takes pla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ppropriate statistic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ose values are indicative of the structure of a data set, is defined. The valu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results from our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compared against the values obtained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the elements of the reference (random) population are conside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ys for generating reference populations under the null hypothesis (eac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ne used in different situation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andom position hypo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andom graph hypo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andom label hypothesi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F320-960D-458C-AAD1-81D062F06F03}" type="slidenum">
              <a:t>6</a:t>
            </a:fld>
          </a:p>
        </p:txBody>
      </p:sp>
    </p:spTree>
  </p:cSld>
  <p:transition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2320" y="72720"/>
            <a:ext cx="903132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atistics suitable for external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the comparison of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an independently drawn partition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ccard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wlkes-Mallows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ubert’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alize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ssessing the agreement between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he proximity matrix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atistics suitable for internal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idation of hierarchy of cluste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henetic correlation coefficient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PC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udall’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idation of individual cluste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alize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atis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563-A79A-45DB-A550-A1350F5FC7FC}" type="slidenum">
              <a:t>7</a:t>
            </a:fld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2320" y="0"/>
            <a:ext cx="9031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luster validity for the cases of relative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 the set of parameters of a clustering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atement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mong the clusterings produced by a specific clustering algorithm, for different values of the parameters in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choose the one that best fits the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e consider two c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does no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contain 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stimation of the best set of parameter values is carried out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the algorithm for a wide range of values of its parame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ot the number of cluster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versus the parameters of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the widest range for whi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mains const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dopt the clustering that corresponds to the values of the parameters in </a:t>
            </a:r>
            <a:r>
              <a:rPr b="1" i="1" lang="en-US" sz="20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that lie in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middle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of this ra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EF77-43B3-4502-8C91-FBE0DCB143E2}" type="slidenum">
              <a:t>8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903600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b)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doe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tain 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stimation of the best set of parameter values is carried out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a suitable performance inde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 best clustering is identified in term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the algorith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imes using different sets of values for the other parameters of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each time comp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the clustering that corresponds to the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ot the best valu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ea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ersu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esence of 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gnificant kn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icates the number of clusters underly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dopt the clustering that corresponds to that kn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bse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such a knee indicates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ssesse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ustering struc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DE50-09E9-4F7F-996F-33AAFF9A4518}" type="slidenum">
              <a:t>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12-22T11:44:24Z</dcterms:modified>
  <cp:revision>937</cp:revision>
  <dc:subject/>
  <dc:title>PowerPoint Presentation</dc:title>
</cp:coreProperties>
</file>