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1F0-8390-412B-BCE1-A083589F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7C-F73B-4E4A-A499-43922A6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52E-31B2-491D-BBCA-128FAE21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1C6-AE10-4203-A03F-187B2C31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E63-1E44-4A62-9779-A424026C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120-6593-45C2-BC1A-D15C0D3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7F3-8809-4C89-A1EF-8902860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5E6-4BF3-47D8-9BE4-FCA348C3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209-4877-4070-87C6-117B069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B16-0AB2-4088-8472-5B05BB3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784-99C2-4A02-8195-B8A471C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EB2-3306-4EA4-88FC-DE2D3AB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150F-9783-44D9-AA5F-DF1621A0F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02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ossible cluste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: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w many way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igned into m group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sw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95640" y="3205080"/>
                <a:ext cx="4176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06560" y="4870440"/>
                <a:ext cx="2665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8000" y="5300640"/>
                <a:ext cx="338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232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rPr>
                        <m:lit/>
                        <m:nor/>
                      </m:rPr>
                      <m:t xml:space="preserve">9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906560" y="5713560"/>
                <a:ext cx="28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!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70D-3895-4236-BF87-CF382083B31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BSAS, a modification of B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a decision for a data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, which is determined after all vectors have been presented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deals with the above drawback,  at the cost of presenting the data twice to the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M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uster determin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ch is the same as BSAS with the exception that no vector is assigned to an already formed cluster. At the end of this phase, each cluster consists of a single eleme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attern classification pha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pass on the data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re each one of the unassigned vector is assigned to its closest clu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BSAS, a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ring the pattern classification phase is reached taking into account all clus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is  sensitive to the order of presentation of the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BSAS requires two passe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8AD-298A-4C02-9EF4-5477058F5A68}" type="slidenum">
              <a:t>10</a:t>
            </a:fld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maxmi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the set of all points that have been chosen to form clusters up to the current iteration step.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ormation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rried out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term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max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-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a prespecified threshold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vector forms a new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 determination phase of the algorithm termin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formation of the clusters, each unassigned vector is assigned to its closest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21D-B5AE-4EF3-A79C-1C66F5351B3A}" type="slidenum">
              <a:t>11</a:t>
            </a:fld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90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xmin algorithm is more computationally demanding than M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596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it is expected to produce better clustering resul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B38-11DB-44DB-8F68-337A9B6B60F7}" type="slidenum">
              <a:t>12</a:t>
            </a:fld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finement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oseness of clust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all the above algorithms it may happen that two formed clusters lie very close to each 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merging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,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,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≠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\{ </a:t>
            </a:r>
            <a:r>
              <a:rPr b="0" i="1" lang="en-US" sz="2000" spc="-1" strike="noStrike">
                <a:solidFill>
                  <a:srgbClr val="cccc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cccc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cccc00"/>
                </a:solidFill>
                <a:latin typeface="Tahoma"/>
              </a:rPr>
              <a:t> is a user-defined threshol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elimin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the cluster represent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ame the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resp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=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 to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AC3-DEDF-401B-A614-4A8E2D49B688}" type="slidenum">
              <a:t>13</a:t>
            </a:fld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lem of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ensitivity to the order of data presen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have been assigned to a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t the current stage but another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may be formed at a later stage that lies closer to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imple reassignment proced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,…,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\{ 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cccc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 is the index of the cluster that lies closet to </a:t>
            </a:r>
            <a:r>
              <a:rPr b="0" i="1" lang="en-US" sz="1800" spc="-1" strike="noStrike" u="sng">
                <a:solidFill>
                  <a:srgbClr val="cccc00"/>
                </a:solidFill>
                <a:uFillTx/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cccc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\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: 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update represent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8EC-FB96-47C3-B328-A05B68668A9F}" type="slidenum">
              <a:t>14</a:t>
            </a:fld>
          </a:p>
        </p:txBody>
      </p: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two-threshold sequential scheme (TT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ormation of the clusters, as well as the assignment of vectors to clusters, is carried out concurrently (like BSAS and unlike MBSA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hreshold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emplo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general ide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its closest clust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s greater than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cluster represented by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form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l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ssign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cision is postponed to a later s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nassigned vectors are presented iteratively to the algorithm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until all of them are classifi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5A5-A886-4F48-A5A4-8B4FEE3512A8}" type="slidenum">
              <a:t>15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476280"/>
            <a:ext cx="8856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practice, a few passe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f the data set are require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TSAS is less sensitive to the order of data presentation, compared to B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061-7772-4B83-A2E9-E2C735C9EE48}" type="slidenum">
              <a:t>16</a:t>
            </a:fld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only a small fraction of clustering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elect a “sensible” clustering among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1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ich fraction of clusterings is consider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estion 2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at “sensible” mea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nswer depends on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ustering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pecific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riteri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268-BA49-49EB-B57E-03FF794B9A0A}" type="slidenum">
              <a:t>2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MAJOR CATEGORIES OF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tial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ngle clustering is produced. One or few sequential passes on th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erarchical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sequence of (nested) clusterings is produc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gglomer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rix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 the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ions of the abov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 Chameleon algorithm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690-F705-447F-8C02-1DA6168E4301}" type="slidenum">
              <a:t>3</a:t>
            </a:fld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st function optimization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most of the cases a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is obtai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exclusively to a single clus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hard clustering algorithms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medoids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ture decomposi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nch and bou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stic anne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undary det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 seek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 cluster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ach point belongs to more than one clusters simultaneousl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ibilistic cluste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is based on th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ossi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to belong to a clust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AFC-79FC-4C88-AECD-9FB1EDCFE82F}" type="slidenum">
              <a:t>4</a:t>
            </a:fld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ther schem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gorithms based on graph the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Minimum Spanning Tree, regions of influence, directed tre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ve learning algorithms (basic competitive learning scheme, Kohonen self organizing map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pace clustering algorith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morphology clustering algorith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BFB-3ED7-4E29-836F-9B40B6F088E5}" type="slidenum">
              <a:t>5</a:t>
            </a:fld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0840" y="1341360"/>
            <a:ext cx="753588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mon traits shared by  these algorithm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or very few passes on the data are requi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clusters is not known a-priori, except (possibly) an upper boun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2440" indent="-176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lusters are defined with the aid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ppropriately defined 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a point from a clus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reshold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the dist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EQUENTIAL CLUSTERING ALGORITHM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6A4-E7DF-4EF7-94A0-FBBFE0DE2ED2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ic Sequential Clustering Algorithm (BS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\{</a:t>
            </a:r>
            <a:r>
              <a:rPr b="0" lang="en-US" sz="1800" spc="-1" strike="noStrike">
                <a:solidFill>
                  <a:srgbClr val="cccc00"/>
                </a:solidFill>
                <a:latin typeface="Tahoma"/>
              </a:rPr>
              <a:t>number of cluste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\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necessary, update representatives (*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if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{for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*) When the mean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used as representative of the clus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the updating in the light of a new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22936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4CA-0F24-48C9-A5BE-AB5ADA22152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rder of presentation of the 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algorithm plays important role in the clustering results.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erent order of presentation may lead to totally different clustering resul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n terms of the number of clusters as well as the clusters themsel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BSAS the decision for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reached prior to the final cluster form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AS perform a single pass on the data. Its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lusters are represented by point representatives, compact clusters are favo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2E1-CA2D-47F1-995F-78317BC57EE7}" type="slidenum">
              <a:t>8</a:t>
            </a:fld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497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stimating the number of clusters in the data se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gorithm when the dissimilarity threshold i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im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ach time presenting the data in a different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imate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s the most frequent number resulting from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S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rsus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identify the number of clus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the one corresponding to the widest flat region in the above grap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44720" y="3933720"/>
          <a:ext cx="6983280" cy="261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3933720"/>
                    <a:ext cx="6983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523280" y="6446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C57-2B64-4A0C-9396-16308BA265C1}" type="slidenum">
              <a:t>9</a:t>
            </a:fld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31:41Z</dcterms:modified>
  <cp:revision>629</cp:revision>
  <dc:subject/>
  <dc:title>PowerPoint Presentation</dc:title>
</cp:coreProperties>
</file>