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34FF-5CD8-4CBD-878E-C3A31514C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F778-65B5-4B93-8F9C-EBDAB6F4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D709-EE09-4E95-BDD4-28798385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41E5-7904-49ED-9861-8716429CF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86D8-10B5-4EEB-8D80-BA3F84D5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95A1-709B-47C9-980F-258AB77A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AABF-3387-4546-BFA5-C4752865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3FE8-F233-48A0-B644-29EF2E2B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BD1C-B539-459C-886A-4421C9D3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D91E-0344-4BD5-A7EB-81B7D42C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9447-23D0-416D-84C0-5368DB3F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CA96-C99B-4755-90BE-2084F923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C6FF-961E-4C61-8BDC-A1132D74C6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8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8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CLUSTERING ALGORITHMS VIA FUNCTION OPTIMIZATION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78544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is context th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lusters are assumed to be described by a parametric  specific model whose parameters are unknow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all parameters are included in a vector denoted by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080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ompact clusters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ach clust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represented by a point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imensional space. Thus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080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ing-shaped clusters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ach clust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modeled by a hypersp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her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its center and its radius, respectively. Thu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defined as a function of the data vector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Optimization of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ff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respect to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sults in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el-GR" sz="2000" spc="-1" strike="noStrike" u="sng">
                <a:solidFill>
                  <a:srgbClr val="ff0000"/>
                </a:solidFill>
                <a:uFillTx/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that characterizes optimally the clusters underlying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number of clust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priori known in most of the ca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C8FE-F13F-4A83-9C3F-F681AA894404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07640" y="44280"/>
            <a:ext cx="8785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b) The same as (a) but now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=[1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1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=[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=[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The clusters are closer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378936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usion matrix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916360" y="4005360"/>
          <a:ext cx="5113080" cy="1944720"/>
        </p:xfrm>
        <a:graphic>
          <a:graphicData uri="http://schemas.openxmlformats.org/drawingml/2006/table">
            <a:tbl>
              <a:tblPr/>
              <a:tblGrid>
                <a:gridCol w="1728360"/>
                <a:gridCol w="1079640"/>
                <a:gridCol w="1152360"/>
                <a:gridCol w="1152720"/>
              </a:tblGrid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uste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uster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uster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st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distrib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nd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distrib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rd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distrib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-171720" y="6021360"/>
            <a:ext cx="851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algorithm reveals the underlying structure less accurate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2360" y="765000"/>
            <a:ext cx="6048360" cy="2702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132000" y="414972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84360" y="33987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data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429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ults of GM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B1CE-B46E-4BBC-91A5-F8F865204C49}" type="slidenum">
              <a:t>10</a:t>
            </a:fld>
          </a:p>
        </p:txBody>
      </p:sp>
    </p:spTree>
  </p:cSld>
  <p:transition>
    <p:random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9600" y="404280"/>
            <a:ext cx="89251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vect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belongs simultaneously to more than one clust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uzzy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-clustering of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s defined by a set of function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{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}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hard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-clustering of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produc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notes 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egree of membershi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lust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It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number of clust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ssumed to be know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prior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61AE-0EC6-4EB8-A80E-91817DA67F39}" type="slidenum">
              <a:t>11</a:t>
            </a:fld>
          </a:p>
        </p:txBody>
      </p:sp>
    </p:spTree>
  </p:cSld>
  <p:transition>
    <p:random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ost function defin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 the representative vector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=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 the dissimilarity between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a parameter called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uzzifi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0876-D425-4B40-AC51-7F0087572149}" type="slidenum">
              <a:t>12</a:t>
            </a:fld>
          </a:p>
        </p:txBody>
      </p:sp>
    </p:spTree>
  </p:cSld>
  <p:transition>
    <p:random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50560" y="115560"/>
            <a:ext cx="871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 fuzzy clustering schemes result from the minimization of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ject to the constrain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]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  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N,   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340000" y="1366920"/>
                <a:ext cx="30240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354560" y="2125800"/>
                <a:ext cx="266544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Sup>
                          <m:e/>
                          <m:sub/>
                          <m:sup/>
                        </m:sSub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627280" y="4341960"/>
                <a:ext cx="31687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&lt;</m:t>
                    </m:r>
                    <m:r>
                      <m:t xml:space="preserve">N</m:t>
                    </m:r>
                    <m:r>
                      <m:t xml:space="preserve">,</m:t>
                    </m:r>
                    <m:sSubSup>
                      <m:e/>
                      <m:sub/>
                      <m:sup/>
                    </m:sSubSup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DB20-41D9-4DE4-9C04-94B76365D327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degree of membership o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uster is related to the grade of membership o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r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us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no fuzzy clustering is better than the best hard clustering in term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re are fuzzy clusterings with lower values of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n the best hard cluste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9823-FE16-4EDF-A153-038B85F97F13}" type="slidenum">
              <a:t>14</a:t>
            </a:fld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885672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inimizing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3333cc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iza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respec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subject to the constraints leads to the following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Lagrangian function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iz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respec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e obt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ting the gradient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respect to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equal to zero we obtain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last two equations ar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oupl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Thus, no closed form solutions are expected. Therefore,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inimization is carried out iterativel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124000" y="1603440"/>
                <a:ext cx="410364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an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ι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j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m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u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j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905120" y="2852640"/>
                <a:ext cx="47545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  <m:r>
                                          <m:t xml:space="preserve">(</m:t>
                                        </m:r>
                                        <m:sSub>
                                          <m:e>
                                            <m:bar>
                                              <m:barPr>
                                                <m:pos m:val="bot"/>
                                              </m:barPr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</m:ba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sSub>
                                          <m:e>
                                            <m:bar>
                                              <m:barPr>
                                                <m:pos m:val="bot"/>
                                              </m:barPr>
                                              <m:e>
                                                <m:r>
                                                  <m:t xml:space="preserve">θ</m:t>
                                                </m:r>
                                              </m:e>
                                            </m:bar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  <m:r>
                                          <m:t xml:space="preserve">)</m:t>
                                        </m:r>
                                      </m:num>
                                      <m:den>
                                        <m:r>
                                          <m:t xml:space="preserve">d</m:t>
                                        </m:r>
                                        <m:r>
                                          <m:t xml:space="preserve">(</m:t>
                                        </m:r>
                                        <m:sSub>
                                          <m:e>
                                            <m:bar>
                                              <m:barPr>
                                                <m:pos m:val="bot"/>
                                              </m:barPr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</m:ba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sSub>
                                          <m:e>
                                            <m:bar>
                                              <m:barPr>
                                                <m:pos m:val="bot"/>
                                              </m:barPr>
                                              <m:e>
                                                <m:r>
                                                  <m:t xml:space="preserve">θ</m:t>
                                                </m:r>
                                              </m:e>
                                            </m:ba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  <m:r>
                                          <m:t xml:space="preserve">)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q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sup>
                            </m:sSup>
                          </m:e>
                        </m:nary>
                      </m:den>
                    </m:f>
                    <m:r>
                      <m:t xml:space="preserve">,</m:t>
                    </m:r>
                    <m:sSubSup>
                      <m:e/>
                      <m:sub/>
                      <m:sup/>
                    </m:sSubSup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,</m:t>
                    </m:r>
                    <m:sSubSup>
                      <m:e/>
                      <m:sub/>
                      <m:sup/>
                    </m:sSubSup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124000" y="4797360"/>
                <a:ext cx="41036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Sup>
                      <m:e/>
                      <m:sub/>
                      <m:sup/>
                    </m:sSubSup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C4FC-3817-447E-BC73-F70A30D41BB3}" type="slidenum">
              <a:t>15</a:t>
            </a:fld>
          </a:p>
        </p:txBody>
      </p:sp>
    </p:spTree>
  </p:cSld>
  <p:transition>
    <p:random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08000" y="73080"/>
            <a:ext cx="8856720" cy="65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Generalized Fuzzy Algorithmic Scheme (GF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 initial estimate for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=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rameter updating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ol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respect to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set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qual to this solu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til a termination criterion is m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414520" y="2060640"/>
                <a:ext cx="31654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d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d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556000" y="4724280"/>
                <a:ext cx="27367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580C-2B3C-490F-B023-E8A17B81EC22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andidate termination condition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-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||&lt;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ny vector norm and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 user-defined consta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FAS may also be initialized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stead of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start iterations with computing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r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a point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incides with one or more representatives, then it is shared arbitrarily among the clusters whose representatives coincide with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subject to the constraint that the summation of the degree of membership over all clusters sums t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914E-6CAE-4455-8D8F-044246E93162}" type="slidenum">
              <a:t>17</a:t>
            </a:fld>
          </a:p>
        </p:txBody>
      </p:sp>
    </p:spTree>
  </p:cSld>
  <p:transition>
    <p:random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20320" y="0"/>
            <a:ext cx="8923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Point Representat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nt representatives are used in the case of compact clus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sist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arame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dissimilarity meas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tween two points can be u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on choices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symmetric and positive definite matrix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is cas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2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the updating equation (B) in GFAS beco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FAS with the above distance is also known as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uzzy c-Means (FCM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uzzy k-Mea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CM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onverg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a stationary point of the cost function or it has at least one subsequence that converges to a stationary point. This point may be a local (or global) minimum or a saddle poi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835280" y="4167360"/>
                <a:ext cx="3816360" cy="48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/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B38F-9746-4B12-9D9A-FC2FF15BC1AE}" type="slidenum">
              <a:t>18</a:t>
            </a:fld>
          </a:p>
        </p:txBody>
      </p:sp>
    </p:spTree>
  </p:cSld>
  <p:transition>
    <p:random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Point representatives 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inkowsk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positive integer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coordinates o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n and fini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differentiability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guaranteed. 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ase the updating equation (B) of GFAS giv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ystem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onlinear equations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FAS algorithms with the Minkowski distance are also known a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pFC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gorithm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050920" y="3284640"/>
                <a:ext cx="40338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r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r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|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k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jk</m:t>
                                            </m:r>
                                          </m:sub>
                                        </m:sSub>
                                        <m:sSup>
                                          <m:e>
                                            <m:r>
                                              <m:t xml:space="preserve">|</m:t>
                                            </m:r>
                                          </m:e>
                                          <m:sup>
                                            <m:r>
                                              <m:t xml:space="preserve">p</m:t>
                                            </m:r>
                                          </m:sup>
                                        </m:sSup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/>
                          <m:sub/>
                          <m:sup/>
                        </m:sSubSup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340000" y="907920"/>
                <a:ext cx="2592360" cy="7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</m:sup>
                              <m:e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k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|</m:t>
                                    </m:r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EE83-A032-4C57-BB3C-9614A394487B}" type="slidenum">
              <a:t>19</a:t>
            </a:fld>
          </a:p>
        </p:txBody>
      </p:sp>
    </p:spTree>
  </p:cSld>
  <p:transition>
    <p:random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st optimization clustering algorithms considered in the sequ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ture decomposition schem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zzy clustering algorithm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stic clustering algorithm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D61B-A448-426F-BE3F-EE47DA045E67}" type="slidenum">
              <a:t>2</a:t>
            </a:fld>
          </a:p>
        </p:txBody>
      </p:sp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8000" y="189000"/>
            <a:ext cx="8856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Point representatives 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Example 2(a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der the setup of example 1(a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der GFAS with dista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383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ing the identity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383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383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i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ith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38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383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ii) The Minkowski distance wit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Example 2(b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der the setup of example 1(b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der GFAS with the distances considered in example 2(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291280" y="2276640"/>
                <a:ext cx="151272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2DEB-B96B-4835-9466-96A34772A033}" type="slidenum">
              <a:t>20</a:t>
            </a:fld>
          </a:p>
        </p:txBody>
      </p:sp>
    </p:spTree>
  </p:cSld>
  <p:transition>
    <p:random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1040" y="189000"/>
            <a:ext cx="89233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corresponding confusion matrices for example 2(a) and 2(b) are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ere a vector is assigned to the cluster for whic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has the maximum value.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the example 2(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the example 2(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Wingdings" charset="2"/>
              <a:buChar char="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example 2(a)) almost all vectors from the same distribution are assigned to the same clust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closer the clusters are, the worse the performance of all the algorithm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choice of matrix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l-GR" sz="18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18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18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lays an important role to the performance of the algorith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826920" y="2828880"/>
                <a:ext cx="648180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</m:mr>
                      <m:mr>
                        <m:e>
                          <m:r>
                            <m:t xml:space="preserve">A</m:t>
                          </m:r>
                          <m:sSub>
                            <m:e>
                              <m:r>
                                <m:t xml:space="preserve">'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1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6</m:t>
                                    </m:r>
                                  </m:e>
                                  <m:e>
                                    <m:r>
                                      <m:t xml:space="preserve">3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4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7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9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3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7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  <m:e>
                          <m:r>
                            <m:t xml:space="preserve">A</m:t>
                          </m:r>
                          <m:sSub>
                            <m:e>
                              <m:r>
                                <m:t xml:space="preserve">'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i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9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9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8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3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8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1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1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  <m:e>
                          <m:r>
                            <m:t xml:space="preserve">A</m:t>
                          </m:r>
                          <m:sSub>
                            <m:e>
                              <m:r>
                                <m:t xml:space="preserve">'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ii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1</m:t>
                                    </m:r>
                                  </m:e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6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7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2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6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3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833400" y="1212840"/>
                <a:ext cx="6475320" cy="14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8</m:t>
                                    </m:r>
                                  </m:e>
                                  <m:e>
                                    <m:r>
                                      <m:t xml:space="preserve">2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4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84</m:t>
                                    </m:r>
                                  </m:e>
                                  <m:e>
                                    <m:r>
                                      <m:t xml:space="preserve">2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89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i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3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6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5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5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9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3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8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ii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6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4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89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</m:e>
                                  <m:e>
                                    <m:r>
                                      <m:t xml:space="preserve">2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85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mr>
                      <m:mr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AD90-143C-4CFD-B2E1-9D965FBAD4AD}" type="slidenum">
              <a:t>21</a:t>
            </a:fld>
          </a:p>
        </p:txBody>
      </p:sp>
    </p:spTree>
  </p:cSld>
  <p:transition>
    <p:random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885672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Quadric surfaces as representat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re the representatives ar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quadric surfa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hyperellipsoids,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yperparaboloids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54200" indent="-301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General form of an equation describing a quadric surfac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54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9280" indent="-26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x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ymmetric matrix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ector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scalar and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various choices of these quantities we obtain hyperellipses, hyperparabolas and so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9280" indent="-26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q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)/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54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54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above representation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equival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2F93-5946-4151-BE6A-EB9EA7791DEB}" type="slidenum">
              <a:t>22</a:t>
            </a:fld>
          </a:p>
        </p:txBody>
      </p:sp>
    </p:spTree>
  </p:cSld>
  <p:transition>
    <p:random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2320" y="115560"/>
            <a:ext cx="88520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Quadric surfaces as representative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irst concer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“Definition of the distance of a poi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to a quadric surfa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ypes of dista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quared)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lgebraic dista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qq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erpendicular dista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ject to the constra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words,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Q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s the distance between </a:t>
            </a: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and the closest to </a:t>
            </a: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point that lies in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4264-6CC2-4935-B07D-8FEF9F8D402A}" type="slidenum">
              <a:t>23</a:t>
            </a:fld>
          </a:p>
        </p:txBody>
      </p:sp>
    </p:spTree>
  </p:cSld>
  <p:transition>
    <p:random/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0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Quadric surfaces as representative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adial dista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only wh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hyperellipsoidal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hyperellipsoidal, the representative equation can beco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center of the ellipse and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 positive definite symmetric matrix defining major axis, minor axis and orient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the following is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||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ject to the constra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In word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intersection point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tween the line segment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determ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quared Euclidean distance between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compu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8769-9398-44D0-A4C8-7409EA9D4206}" type="slidenum">
              <a:t>24</a:t>
            </a:fld>
          </a:p>
        </p:txBody>
      </p:sp>
    </p:spTree>
  </p:cSld>
  <p:transition>
    <p:random/>
  </p:transition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Quadric surfaces as representative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quared)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ormalized radial dista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only wh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hyperellipsoidal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((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ahoma"/>
              </a:rPr>
              <a:t>Example 3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sider two ellipses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, centered at </a:t>
            </a:r>
            <a:r>
              <a:rPr b="0" i="1" lang="en-US" sz="19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=[0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0]</a:t>
            </a:r>
            <a:r>
              <a:rPr b="0" i="1" lang="en-US" sz="19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, with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diag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0.25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=diag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1/16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¼)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, respectively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be a point in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moving from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4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0)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-4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0)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, with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gt;0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03280" y="2935440"/>
            <a:ext cx="6048360" cy="337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8EC6-E4E2-452B-9AC2-5DB5EA0AD859}" type="slidenum">
              <a:t>25</a:t>
            </a:fld>
          </a:p>
        </p:txBody>
      </p:sp>
    </p:spTree>
  </p:cSld>
  <p:transition>
    <p:random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8000" y="4581360"/>
            <a:ext cx="885672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53000" indent="-279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 not vary a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v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53000" indent="-279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be used as an approxim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h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hyperellipsoi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547640" y="1117440"/>
            <a:ext cx="4319640" cy="33609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9280" y="54936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Quadric surfaces as representatives (co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7BB8-785B-4DDA-A4D8-9F0F034CCE44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08000" y="189000"/>
            <a:ext cx="8856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Quadric surfaces as representative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uzzy Shell Clustering Algorith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daptive Fuzzy C-Shells (AFCS)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recovers hyperellipsoidal clus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the result of the minimization of the cost fun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respec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’s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CS stems from GFAS, with the “parameter updating” being as follow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meter updating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171880" indent="-34308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ve with respect to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following equ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268360" y="2436840"/>
                <a:ext cx="30243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r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916360" y="5038560"/>
                <a:ext cx="316836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r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c</m:t>
                                </m:r>
                              </m:e>
                            </m:ba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556000" y="5857920"/>
                <a:ext cx="396072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r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c</m:t>
                                </m:r>
                              </m:e>
                            </m:ba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c</m:t>
                                </m:r>
                              </m:e>
                            </m:ba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O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97F3-4143-4A46-BBBD-89FC74980AED}" type="slidenum">
              <a:t>27</a:t>
            </a:fld>
          </a:p>
        </p:txBody>
      </p:sp>
    </p:spTree>
  </p:cSld>
  <p:transition>
    <p:random/>
  </p:transition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qual to the resulting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Example 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Thick dots represent the points of the data set. Thin dots represent (a) the initial estimates and (b) the final estimates of the ellip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74880" y="569880"/>
                <a:ext cx="37767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φ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857240" y="1000080"/>
                <a:ext cx="32194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187280" y="3397320"/>
            <a:ext cx="7561440" cy="296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A22B-6D74-46EC-9D5B-3FD76FF31DFE}" type="slidenum">
              <a:t>28</a:t>
            </a:fld>
          </a:p>
        </p:txBody>
      </p:sp>
    </p:spTree>
  </p:cSld>
  <p:transition>
    <p:random/>
  </p:transition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Quadric surfaces as representative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uzzy C Ellipsoidal Shells (FCES)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recovers hyperellipsoidal clus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the result of the minimization of the cost fun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CES stems from GFAS. Setting the derivative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respect to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  equal to zero, the “parameter updating” part of the algorithm follow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uzzy C Quadric Shells (FCQS)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recovers general hyperquadric shap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the result of the minimization of the cost fun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ject to constraints such 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124000" y="1989000"/>
                <a:ext cx="33116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403280" y="5276880"/>
                <a:ext cx="64087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sSubSup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p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p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,</m:t>
                    </m:r>
                    <m:sSubSup>
                      <m:e/>
                      <m:sub/>
                      <m:sup/>
                    </m:sSubSup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p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24D7-29F4-4C53-878F-5E55EF44BEF1}" type="slidenum">
              <a:t>29</a:t>
            </a:fld>
          </a:p>
        </p:txBody>
      </p:sp>
    </p:spTree>
  </p:cSld>
  <p:transition>
    <p:random/>
  </p:transition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08000" y="0"/>
            <a:ext cx="8856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ixture Decomposition (MD) sche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re, each vect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belongs to a single clu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a certain prob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D schemes rely on 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Bayesian framewor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vecto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ppointed to clust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eve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luster labeling information is available for the data vec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 priori cluster probabilit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also unkn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olution: Adoption of th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M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-ste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l-GR" sz="2000" spc="-1" strike="noStrike" baseline="30000">
                <a:solidFill>
                  <a:srgbClr val="000000"/>
                </a:solidFill>
                <a:latin typeface="Times New Roman"/>
              </a:rPr>
              <a:t>Τ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parameter vector corresponding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a priori probability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258920" y="4475160"/>
                <a:ext cx="59770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;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4975-E55F-4269-955C-D9C91E57167B}" type="slidenum">
              <a:t>3</a:t>
            </a:fld>
          </a:p>
        </p:txBody>
      </p:sp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63960" indent="-363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Quadric surfaces as representative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ii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v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7936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CQS stems from GFAS. Setting the derivative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respect to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 equal to zero and taking into account the constraints,  the “parameter updating” part of the algorithm follow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71480" indent="-323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odified Fuzzy C Quadric Shells (MFCQS)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7936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recovers hyperquadric shap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7936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results from the GFAS scheme w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2720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grade of membership of a vecto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a cluster is determined using 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erpendicular dista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2720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updating of the parameters of the representatives is carried out using the parameter updating part of FCQS (where 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lgebraic dista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used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348000" y="765000"/>
                <a:ext cx="12952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716360" y="1413000"/>
                <a:ext cx="3311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|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k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k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A015-9C91-4187-AF65-D0FDD0120DD3}" type="slidenum">
              <a:t>30</a:t>
            </a:fld>
          </a:p>
        </p:txBody>
      </p:sp>
    </p:spTree>
  </p:cSld>
  <p:transition>
    <p:random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Hyperplanes as representat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gorithms that recover hyperplanar clus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uzzy c-varieties (FCV)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based on the minimization of the distances of the vector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hyperpla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Disadvantage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t tends to recover very long clusters and, thus,  collinear distinct clusters may be merged to a single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Gustafson-Kessel (GK)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planar cluster is represented by a cente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a covariance matrix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.e., 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distance between a point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cluster is defined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G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|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/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GK algorithm is derived via the minimization of the cost fun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050920" y="5877000"/>
                <a:ext cx="31687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K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K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643E-3F3E-4D31-9802-816F10C3C69D}" type="slidenum">
              <a:t>31</a:t>
            </a:fld>
          </a:p>
        </p:txBody>
      </p:sp>
    </p:spTree>
  </p:cSld>
  <p:transition>
    <p:random/>
  </p:transition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Clustering – Hyperplanes as representative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GK algorithm stems from GFAS. Setting the derivative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G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respect to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 equal to zero, the “parameter updating” part of the algorithm becom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Example 5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411280" y="1628640"/>
                <a:ext cx="18734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340000" y="2792520"/>
                <a:ext cx="39607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c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c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908000" y="4146480"/>
            <a:ext cx="5185080" cy="26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F4DB-8B7B-41D0-A3AE-9624F59FA44C}" type="slidenum">
              <a:t>32</a:t>
            </a:fld>
          </a:p>
        </p:txBody>
      </p:sp>
    </p:spTree>
  </p:cSld>
  <p:transition>
    <p:random/>
  </p:transition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e first case, the clusters are well separated and the GK-algorithm recovers them correct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e second case, the clusters are not well separated and the GK-algorithm fails to recover them correct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906560" y="519120"/>
            <a:ext cx="511344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AE9E-923C-43A5-AC32-8257873EA6F4}" type="slidenum">
              <a:t>33</a:t>
            </a:fld>
          </a:p>
        </p:txBody>
      </p:sp>
    </p:spTree>
  </p:cSld>
  <p:transition>
    <p:random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ossibilistic Clust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like fuzzy clustering, the constraints 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 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[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,…,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stic clustering algorithms result from the optimization of cost functions li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η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suitably chosen positive constants (see below).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term is inserted in order to avoid the trivial zero solution for th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’ 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other choices for the second term of the cost function are also possible (see below)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ting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e obtai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403280" y="1916280"/>
                <a:ext cx="273708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,</m:t>
                    </m:r>
                    <m:sSubSup>
                      <m:e/>
                      <m:sub/>
                      <m:sup/>
                    </m:sSubSup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403280" y="3213000"/>
                <a:ext cx="432108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q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932360" y="5229360"/>
                <a:ext cx="25192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d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D342-2763-4ED4-89F9-C1D783352FAF}" type="slidenum">
              <a:t>34</a:t>
            </a:fld>
          </a:p>
        </p:txBody>
      </p:sp>
    </p:spTree>
  </p:cSld>
  <p:transition>
    <p:random/>
  </p:transition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ossibilistic clustering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eneralized Possibilistic Algorithmic Scheme (GPA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η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 the initial estimates of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698920" y="3616200"/>
                <a:ext cx="30970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d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EE29-25DA-4515-A5BD-A49008036A19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ossibilistic clustering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Generalized Possibilistic Algorithmic Scheme (GPAS) (co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rameter updating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ol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respect to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set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qual to the computed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til a termination criterion is m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-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||&lt;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y be employed as a termination condi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d on GPAS, a possibilistic algorithm can be derived, for each fuzzy clustering algorithm derived previous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627280" y="1773360"/>
                <a:ext cx="30243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B676-EBB5-4E96-B6A4-8A05934E3EDE}" type="slidenum">
              <a:t>36</a:t>
            </a:fld>
          </a:p>
        </p:txBody>
      </p:sp>
    </p:spTree>
  </p:cSld>
  <p:transition>
    <p:random/>
  </p:transition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885672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55960" indent="-255960">
              <a:lnSpc>
                <a:spcPct val="85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ossibilistic clustering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1720" indent="-1933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wo observ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-15696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ecomposition of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3333cc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Since for each vecto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independent from each other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be written a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rresponds to a different cluster and minimiz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respec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 can be carried out separately for eac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-15696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bout </a:t>
            </a:r>
            <a:r>
              <a:rPr b="0" i="1" lang="el-GR" sz="2000" spc="-1" strike="noStrike">
                <a:solidFill>
                  <a:srgbClr val="3333cc"/>
                </a:solidFill>
                <a:latin typeface="Times New Roman"/>
              </a:rPr>
              <a:t>η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’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42440" indent="-2192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determine the relative significance of the two term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42440" indent="-2192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are related to the size and the “shape”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42440" indent="-2192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determined as follow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734120" indent="-2192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 the GFAS algorithm and after its convergence estimate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η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7341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50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734120" indent="-21924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 the GPAS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276720" y="1332000"/>
                <a:ext cx="15112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338560" y="1995480"/>
                <a:ext cx="35287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q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556000" y="5403960"/>
                <a:ext cx="216036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869080" y="5432400"/>
                <a:ext cx="18716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1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E296-F37A-42F0-B61E-95A1EBBF8671}" type="slidenum">
              <a:t>37</a:t>
            </a:fld>
          </a:p>
        </p:txBody>
      </p:sp>
    </p:spTree>
  </p:cSld>
  <p:transition>
    <p:random/>
  </p:transition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1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1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8000" y="43920"/>
            <a:ext cx="885672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ossibilistic clustering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value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ossibilistic cluster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mply almost equal contributions of all vectors to all clus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uzzy cluster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mply increased sharing of the vectors among all clus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he mode-seeking prope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like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GMDA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GFA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hich ar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artition algorithm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they terminate with the predetermined number of clusters no matter how many clusters are naturally formed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GPA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mode-seeking algorith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it searches for dense regions of vector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antage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number of clusters need not be a priori know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number of clusters in GPA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s greater than the true number of clust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some representatives will coincide with others.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and not all) of the clusters will be captur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B802-AD7D-45E9-860A-70F045BFD13F}" type="slidenum">
              <a:t>38</a:t>
            </a:fld>
          </a:p>
        </p:txBody>
      </p:sp>
    </p:spTree>
  </p:cSld>
  <p:transition>
    <p:random/>
  </p:transition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vector belong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xclusivel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a single cluster. This implies tha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}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at is, it can be seen as an extreme special case of the fuzzy algorithmic schem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ever, now,  the cost fun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not differentiab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respect to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pite that, the two-step optimization procedure (with respec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 and with respect to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) adopted in GFAS is applied also here, taking into account that, for fixed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,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 that minimiz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chose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187280" y="1609560"/>
                <a:ext cx="136872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268360" y="3429000"/>
                <a:ext cx="23036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763640" y="5538960"/>
                <a:ext cx="583416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sSubSup>
                                <m:e/>
                                <m:sub/>
                                <m:sup/>
                              </m:sSubSup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d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in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m</m:t>
                                  </m:r>
                                </m:sub>
                              </m:sSub>
                              <m:r>
                                <m:t xml:space="preserve">d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sSubSup>
                                <m:e/>
                                <m:sub/>
                                <m:sup/>
                              </m:sSubSup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</m:e>
                          </m:mr>
                        </m:m>
                        <m:r>
                          <m:t xml:space="preserve">,</m:t>
                        </m:r>
                        <m:sSubSup>
                          <m:e/>
                          <m:sub/>
                          <m:sup/>
                        </m:sSub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A866-04AB-41AF-A89E-99426B9DDC9D}" type="slidenum">
              <a:t>39</a:t>
            </a:fld>
          </a:p>
        </p:txBody>
      </p:sp>
    </p:spTree>
  </p:cSld>
  <p:transition>
    <p:random/>
  </p:transition>
  <p:timing>
    <p:tnLst>
      <p:par>
        <p:cTn id="1379" dur="indefinite" restart="never" nodeType="tmRoot">
          <p:childTnLst>
            <p:seq>
              <p:cTn id="1380" dur="indefinite" nodeType="mainSeq">
                <p:childTnLst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-ste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r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i="1" lang="el-GR" sz="20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specifically, the M-step results i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or </a:t>
            </a:r>
            <a:r>
              <a:rPr b="0" i="1" lang="el-GR" sz="2000" spc="-1" strike="noStrike" u="sng">
                <a:solidFill>
                  <a:srgbClr val="3333cc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’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*) Provided that all pairs of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18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l-GR" sz="18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re functionally independen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’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**) Taking into account the constraint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+…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, the EM algorithm for this case may be stated as follow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741320" y="2620800"/>
                <a:ext cx="4415040" cy="7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;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;</m:t>
                                </m:r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e>
                            </m:nary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∗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629080" y="4459320"/>
                <a:ext cx="26636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**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4AF7-CFF9-4BAE-A6B0-031509DD67F1}" type="slidenum">
              <a:t>4</a:t>
            </a:fld>
          </a:p>
        </p:txBody>
      </p:sp>
    </p:spTree>
  </p:cSld>
  <p:transition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Generalized Hard Algorithmic Scheme (GH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 initial estimates for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termination of the partit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=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411280" y="3138480"/>
                <a:ext cx="633744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sSubSup>
                                <m:e/>
                                <m:sub/>
                                <m:sup/>
                              </m:sSubSup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d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in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m</m:t>
                                  </m:r>
                                </m:sub>
                              </m:sSub>
                              <m:r>
                                <m:t xml:space="preserve">d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sSubSup>
                                <m:e/>
                                <m:sub/>
                                <m:sup/>
                              </m:sSubSup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</m:e>
                          </m:mr>
                        </m:m>
                        <m:r>
                          <m:t xml:space="preserve">,</m:t>
                        </m:r>
                        <m:sSubSup>
                          <m:e/>
                          <m:sub/>
                          <m:sup/>
                        </m:sSub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CBA3-A797-4847-B2CB-076BD0E62EE9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Generalized Hard Algorithmic Scheme (GHAS) (cont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rameter updating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ol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respect to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set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qual to the computed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til a termination criterion is m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e update of each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only the vectors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 whic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u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HAS may terminate when ei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||&lt;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mains unchanged for two successive itera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411280" y="1589040"/>
                <a:ext cx="28083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BE0B-720E-440A-8043-A034862193D6}" type="slidenum">
              <a:t>41</a:t>
            </a:fld>
          </a:p>
        </p:txBody>
      </p:sp>
    </p:spTree>
  </p:cSld>
  <p:transition>
    <p:random/>
  </p:transition>
  <p:timing>
    <p:tnLst>
      <p:par>
        <p:cTn id="1433" dur="indefinite" restart="never" nodeType="tmRoot">
          <p:childTnLst>
            <p:seq>
              <p:cTn id="1434" dur="indefinite" nodeType="mainSeq">
                <p:childTnLst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More 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or each hard clustering algorithm there exists a corresponding fuzzy clustering algorith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The updating equations for the parameter vectors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hard clustering algorithms are obtained from their fuzzy counterparts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 clustering algorithms are not as robust as the fuzzy clustering algorithms when other than point representatives are u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wo-step optimization procedure in GHA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oes not necessarily lead to a local minim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FDA7-72FF-4E97-8683-77417D25060B}" type="slidenum">
              <a:t>42</a:t>
            </a:fld>
          </a:p>
        </p:txBody>
      </p:sp>
    </p:spTree>
  </p:cSld>
  <p:transition>
    <p:random/>
  </p:transition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08000" y="-2700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he Isodata or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-Means or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-Means algorith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General com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a special case of GHAS w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nt representatives are u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quared Euclidean distance is employ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st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comes n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ying GHAS in this case, it turns out that it converges to a minimum of the cost func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data recovers clusters that are as compact as possi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other choices of the distance (including the Euclidean), the algorithm converges but not necessarily to a minimum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050920" y="2637000"/>
                <a:ext cx="3600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C1B9-DA45-458A-92E6-F77A42F8CCD3}" type="slidenum">
              <a:t>43</a:t>
            </a:fld>
          </a:p>
        </p:txBody>
      </p:sp>
    </p:spTree>
  </p:cSld>
  <p:transition>
    <p:random/>
  </p:transition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14120" y="73080"/>
            <a:ext cx="8778600" cy="65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he Isodata or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-Means or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-Means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arbitrary initial estimates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 the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 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the closest representative, say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fo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rameter updating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termine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 the mean of the vectors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(i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til no change in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 s occurs between two successive iter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Example 6(a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The k-means algorithm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dentifies successfully the clusters in the data set of example 1(a). The confusion matrix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348000" y="5516640"/>
                <a:ext cx="194472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94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9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917D-BB13-4FC8-8892-46F0F9571BDA}" type="slidenum">
              <a:t>44</a:t>
            </a:fld>
          </a:p>
        </p:txBody>
      </p:sp>
    </p:spTree>
  </p:cSld>
  <p:transition>
    <p:random/>
  </p:transition>
  <p:timing>
    <p:tnLst>
      <p:par>
        <p:cTn id="1527" dur="indefinite" restart="never" nodeType="tmRoot">
          <p:childTnLst>
            <p:seq>
              <p:cTn id="1528" dur="indefinite" nodeType="mainSeq">
                <p:childTnLst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08000" y="72720"/>
            <a:ext cx="8856720" cy="67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– k-mean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Example 6(b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(i) Consider tw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imensional Gaussian distribution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Σ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Σ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[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[8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.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(ii) Generat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oints from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ribution 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oints from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ribution. (iii)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initialize randomly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 (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convergence the large group has been split into two clus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s right part has been assigned to the same cluster with the points of the small group (see figure below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ndicates that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k-means cannot deal accurately with clusters having significantly different siz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547640" y="4221000"/>
            <a:ext cx="5834160" cy="25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408B-4C15-4BB8-960E-0319226AE36F}" type="slidenum">
              <a:t>45</a:t>
            </a:fld>
          </a:p>
        </p:txBody>
      </p:sp>
    </p:spTree>
  </p:cSld>
  <p:transition>
    <p:random/>
  </p:transition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– k-mean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-means recovers compact clus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equential vers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k-means, where the updating of the representatives takes place immediately after the identification of the representative that lies closer to the current input vecto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have also been propo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variant of the k-means results if the number of vectors in each cluster is constrain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prior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putational complexity of the k-means is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Nmq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number of iterations required for convergence. In practice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significantly less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us,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k-means becomes eligible for processing large data se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Further 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drawbacks of the original k-means accompanied with the variants of the k-means that deal with them are discussed nex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CFA0-BDE9-4A5C-9C63-2EBCEF9396EA}" type="slidenum">
              <a:t>46</a:t>
            </a:fld>
          </a:p>
        </p:txBody>
      </p:sp>
    </p:spTree>
  </p:cSld>
  <p:transition>
    <p:random/>
  </p:transition>
  <p:timing>
    <p:tnLst>
      <p:par>
        <p:cTn id="1565" dur="indefinite" restart="never" nodeType="tmRoot">
          <p:childTnLst>
            <p:seq>
              <p:cTn id="1566" dur="indefinite" nodeType="mainSeq">
                <p:childTnLst>
                  <p:par>
                    <p:cTn id="1567" fill="hold">
                      <p:stCondLst>
                        <p:cond delay="0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8000" y="73080"/>
            <a:ext cx="8856720" cy="65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– k-mean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rawback 1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ifferent initial partitions may lead k-means to produ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ifferent final clusterings, each one corresponding to a different local minimu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ategies for facing drawback 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run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a sequential algorithm (discussed previously) to produce initial estimates for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ition randomly the data set in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bsets and use their means as initial estimates for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 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run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different partition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run k-means for each one of them and select the best result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 the representatives iteratively, one at a time, by running k-mean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imes. It is claimed that convergence is independent of the initial estimates of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 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ilization of tools from stochastic optimization techniques (simulated annealing, genetic algorithms etc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E1FA-3867-4274-9A52-E187CE0938E2}" type="slidenum">
              <a:t>47</a:t>
            </a:fld>
          </a:p>
        </p:txBody>
      </p:sp>
    </p:spTree>
  </p:cSld>
  <p:transition>
    <p:random/>
  </p:transition>
  <p:timing>
    <p:tnLst>
      <p:par>
        <p:cTn id="1599" dur="indefinite" restart="never" nodeType="tmRoot">
          <p:childTnLst>
            <p:seq>
              <p:cTn id="1600" dur="indefinite" nodeType="mainSeq">
                <p:childTnLst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– k - mean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rawback 2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nowledge of the number of clust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is required a prior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ategies for facing drawback 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ploy splitting, merging and discarding operations of the clusters resulting from k-mea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 a sequential algorithm many times for different thresholds of dissimilarity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ot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ersus the number of clusters and identify the largest plateau in the graph and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qual to the value that corresponds to this plateau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9CDB-EF4B-44AB-9897-D56BCBAA063C}" type="slidenum">
              <a:t>48</a:t>
            </a:fld>
          </a:p>
        </p:txBody>
      </p:sp>
    </p:spTree>
  </p:cSld>
  <p:transition>
    <p:random/>
  </p:transition>
  <p:timing>
    <p:tnLst>
      <p:par>
        <p:cTn id="1649" dur="indefinite" restart="never" nodeType="tmRoot">
          <p:childTnLst>
            <p:seq>
              <p:cTn id="1650" dur="indefinite" nodeType="mainSeq">
                <p:childTnLst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– k - mean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rawback 3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-means is sensitive to outliers and nois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ategies for facing drawback 3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card all “small” clusters (they are likely to be formed by outlier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a k-medoids algorithm (see below), where a cluster is represented by one of its poi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rawback 4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-means is not suitable for data with nominal (categorical) coordinat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ategies for facing drawback 4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a k-medoids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52C8-491F-411F-8D37-642023E75168}" type="slidenum">
              <a:t>49</a:t>
            </a:fld>
          </a:p>
        </p:txBody>
      </p:sp>
    </p:spTree>
  </p:cSld>
  <p:transition>
    <p:random/>
  </p:transition>
  <p:timing>
    <p:tnLst>
      <p:par>
        <p:cTn id="1681" dur="indefinite" restart="never" nodeType="tmRoot">
          <p:childTnLst>
            <p:seq>
              <p:cTn id="1682" dur="indefinite" nodeType="mainSeq">
                <p:childTnLst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14480" y="188640"/>
            <a:ext cx="88502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Generalized Mixture Decomposition Algorithmic Scheme (GMDA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initial estimates,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N, 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 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qual to the solution of the equ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respect to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m                     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til convergence, with respect to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s achiev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547640" y="2276640"/>
                <a:ext cx="4248360" cy="80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;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124000" y="3724200"/>
                <a:ext cx="43196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θ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087640" y="5237280"/>
                <a:ext cx="306072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3002-1DBC-490F-B82D-87C2A63EE5A9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k-Medoids Algorith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cluster is represented by a vector selected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mo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lement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edoi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uster conta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s medo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vector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th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e not used as medoids in other clus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e closer to its medoid than the medoids representing other clus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 the set of medoids of all clusters,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set of indices of the poin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constitute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-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set of indices of the points that are not medoi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taining the set of medoids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best represents the data se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equivalent to minimizing the following cost fun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90D0-4F40-4553-9DC3-F6E5F085FF22}" type="slidenum">
              <a:t>50</a:t>
            </a:fld>
          </a:p>
        </p:txBody>
      </p:sp>
    </p:spTree>
  </p:cSld>
  <p:transition>
    <p:random/>
  </p:transition>
  <p:timing>
    <p:tnLst>
      <p:par>
        <p:cTn id="1717" dur="indefinite" restart="never" nodeType="tmRoot">
          <p:childTnLst>
            <p:seq>
              <p:cTn id="1718" dur="indefinite" nodeType="mainSeq">
                <p:childTnLst>
                  <p:par>
                    <p:cTn id="1719" fill="hold">
                      <p:stCondLst>
                        <p:cond delay="0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k-Medoids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195640" y="1066680"/>
                <a:ext cx="28080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Θ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476360" y="2100240"/>
                <a:ext cx="525636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sSubSup>
                                <m:e/>
                                <m:sub/>
                                <m:sup/>
                              </m:sSubSup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d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in</m:t>
                                  </m:r>
                                </m:e>
                                <m:sub>
                                  <m:r>
                                    <m:t xml:space="preserve">q</m:t>
                                  </m:r>
                                  <m:r>
                                    <m:t xml:space="preserve">∈</m:t>
                                  </m:r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Θ</m:t>
                                      </m:r>
                                    </m:sub>
                                  </m:sSub>
                                </m:sub>
                              </m:sSub>
                              <m:r>
                                <m:t xml:space="preserve">d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q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sSubSup>
                                <m:e/>
                                <m:sub/>
                                <m:sup/>
                              </m:sSubSup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  <m:sSubSup>
                                <m:e/>
                                <m:sub/>
                                <m:sup/>
                              </m:sSubSup>
                            </m:e>
                          </m:mr>
                        </m:m>
                        <m:r>
                          <m:t xml:space="preserve">,</m:t>
                        </m:r>
                        <m:sSubSup>
                          <m:e/>
                          <m:sub/>
                          <m:sup/>
                        </m:sSub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D7A5-5411-4C0A-BE52-75A06F20FCC5}" type="slidenum">
              <a:t>51</a:t>
            </a:fld>
          </a:p>
        </p:txBody>
      </p:sp>
    </p:spTree>
  </p:cSld>
  <p:transition>
    <p:random/>
  </p:transition>
  <p:timing>
    <p:tnLst>
      <p:par>
        <p:cTn id="1759" dur="indefinite" restart="never" nodeType="tmRoot">
          <p:childTnLst>
            <p:seq>
              <p:cTn id="1760" dur="indefinite" nodeType="mainSeq">
                <p:childTnLst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ing clusters with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mean</a:t>
            </a:r>
            <a:r>
              <a:rPr b="0" lang="el-GR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malu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v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presenting clusters with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medoi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908000" y="1341360"/>
          <a:ext cx="4608360" cy="5076720"/>
        </p:xfrm>
        <a:graphic>
          <a:graphicData uri="http://schemas.openxmlformats.org/drawingml/2006/table">
            <a:tbl>
              <a:tblPr/>
              <a:tblGrid>
                <a:gridCol w="2160720"/>
                <a:gridCol w="24476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an Val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doi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1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Suited only for continuous doma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1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Suited for either cont. or discrete doma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2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Algorithms using means are sensitive to outli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2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Algorithms using medoids  are less sensitive to outli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3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he mean possess a clear geometrical and statistical mea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3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he medoid has not a clear geometrical mea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4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Algorithms using means are not computationally dema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4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Algorithms using medoids are more computationally dema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126F-87C9-42CD-8F2F-F5D060A8DCDF}" type="slidenum">
              <a:t>52</a:t>
            </a:fld>
          </a:p>
        </p:txBody>
      </p:sp>
    </p:spTree>
  </p:cSld>
  <p:transition>
    <p:random/>
  </p:transition>
  <p:timing>
    <p:tnLst>
      <p:par>
        <p:cTn id="1775" dur="indefinite" restart="never" nodeType="tmRoot">
          <p:childTnLst>
            <p:seq>
              <p:cTn id="1776" dur="indefinite" nodeType="mainSeq">
                <p:childTnLst>
                  <p:par>
                    <p:cTn id="1777" fill="hold">
                      <p:stCondLst>
                        <p:cond delay="0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546200" y="3846600"/>
            <a:ext cx="6121440" cy="26067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08000" y="115920"/>
            <a:ext cx="885672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k-Medoids Algorithms (co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Example 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(It illustrates the first two points in the above comparis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) The five-point two-dimensional set stems from the discrete domai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{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Its medoid is the circled point and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ts m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 point, which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oes not belong to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b)  In the six-point two-dimensional set , the poin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9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be considered as an outlier. Whil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he outlier affects significantly the m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set,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t does not affect its medoi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4D7E-446E-4D64-A14F-85105E3387E8}" type="slidenum">
              <a:t>53</a:t>
            </a:fld>
          </a:p>
        </p:txBody>
      </p:sp>
    </p:spTree>
  </p:cSld>
  <p:transition>
    <p:random/>
  </p:transition>
  <p:timing>
    <p:tnLst>
      <p:par>
        <p:cTn id="1783" dur="indefinite" restart="never" nodeType="tmRoot">
          <p:childTnLst>
            <p:seq>
              <p:cTn id="1784" dur="indefinite" nodeType="mainSeq">
                <p:childTnLst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08000" y="115920"/>
            <a:ext cx="885672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- k-Medoids Algorithms (co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Algorithms to be consi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M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itionin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oi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RA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usterin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L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plica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RANS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usterin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g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plications based 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R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miz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r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he PAM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number of clust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requir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prior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efinitions-prelimin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wo sets of medoids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each one consisting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are called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eighbo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f they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ha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et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medoids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 can hav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eighb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note the neighbor o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results i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-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places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 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083E-B653-4E6A-8BD3-20E2AA4219F6}" type="slidenum">
              <a:t>54</a:t>
            </a:fld>
          </a:p>
        </p:txBody>
      </p:sp>
    </p:spTree>
  </p:cSld>
  <p:transition>
    <p:random/>
  </p:transition>
  <p:timing>
    <p:tnLst>
      <p:par>
        <p:cTn id="1803" dur="indefinite" restart="never" nodeType="tmRoot">
          <p:childTnLst>
            <p:seq>
              <p:cTn id="1804" dur="indefinite" nodeType="mainSeq">
                <p:childTnLst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1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2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8000" y="72720"/>
            <a:ext cx="8856720" cy="67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- k-Medoids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he PAM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termination o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that best represents th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te a set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doids, randomly selected out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) Determine the neighb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-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mong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-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eighbors o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 which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mi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l-GR" sz="2000" spc="-1" strike="noStrike" baseline="-44000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, 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44000">
                <a:solidFill>
                  <a:srgbClr val="000000"/>
                </a:solidFill>
                <a:latin typeface="Times New Roman"/>
              </a:rPr>
              <a:t>X-</a:t>
            </a:r>
            <a:r>
              <a:rPr b="0" i="1" lang="el-GR" sz="2000" spc="-1" strike="noStrike" baseline="-44000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 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negative th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128320" indent="-33588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lace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y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128320" indent="-33588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 to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ssignment of points to clus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ign each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-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the cluster represented by the closest to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doi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omputation of </a:t>
            </a:r>
            <a:r>
              <a:rPr b="0" i="1" lang="el-GR" sz="2000" spc="-1" strike="noStrike">
                <a:solidFill>
                  <a:srgbClr val="3333cc"/>
                </a:solidFill>
                <a:latin typeface="Times New Roman"/>
              </a:rPr>
              <a:t>Δ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It is defined 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difference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sulting from the (possible) assignment of the vecto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the cluster it currently belongs to another, as a consequence of the replacement o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y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219640" y="4784760"/>
                <a:ext cx="18003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6BA0-610F-48A1-B6C5-B57B430CE1E0}" type="slidenum">
              <a:t>55</a:t>
            </a:fld>
          </a:p>
        </p:txBody>
      </p:sp>
    </p:spTree>
  </p:cSld>
  <p:transition>
    <p:random/>
  </p:transition>
  <p:timing>
    <p:tnLst>
      <p:par>
        <p:cTn id="1853" dur="indefinite" restart="never" nodeType="tmRoot">
          <p:childTnLst>
            <p:seq>
              <p:cTn id="1854" dur="indefinite" nodeType="mainSeq">
                <p:childTnLst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8000" y="217080"/>
            <a:ext cx="9036000" cy="64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- k-Medoids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he PAM algorithm (co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omputation of </a:t>
            </a: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u="sng" baseline="-25000">
                <a:solidFill>
                  <a:srgbClr val="3333cc"/>
                </a:solidFill>
                <a:uFillTx/>
                <a:latin typeface="Times New Roman"/>
              </a:rPr>
              <a:t>h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longs to the cluster represented by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notes the second closest to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presentative)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Th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i 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longs to the cluster represented by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notes the second closest to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presentative)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Th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ij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(&gt;&lt;)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924360" y="4653000"/>
          <a:ext cx="2174760" cy="176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24360" y="4653000"/>
                    <a:ext cx="2174760" cy="17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4659480" y="2133720"/>
          <a:ext cx="1712880" cy="1671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59480" y="2133720"/>
                    <a:ext cx="1712880" cy="16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6732720" y="4863960"/>
          <a:ext cx="2084400" cy="1013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732720" y="4863960"/>
                    <a:ext cx="208440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A79A-E7A8-41AF-B29F-5901B4521536}" type="slidenum">
              <a:t>56</a:t>
            </a:fld>
          </a:p>
        </p:txBody>
      </p:sp>
    </p:spTree>
  </p:cSld>
  <p:transition>
    <p:random/>
  </p:transition>
  <p:timing>
    <p:tnLst>
      <p:par>
        <p:cTn id="1911" dur="indefinite" restart="never" nodeType="tmRoot">
          <p:childTnLst>
            <p:seq>
              <p:cTn id="1912" dur="indefinite" nodeType="mainSeq">
                <p:childTnLst>
                  <p:par>
                    <p:cTn id="1913" fill="hold">
                      <p:stCondLst>
                        <p:cond delay="0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4480" y="189000"/>
            <a:ext cx="885024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- k-Medoids Algorithms (co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he PAM algorithm (co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omputation of </a:t>
            </a: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C</a:t>
            </a:r>
            <a:r>
              <a:rPr b="0" i="1" lang="en-US" sz="2000" spc="-1" strike="noStrike" u="sng" baseline="-25000">
                <a:solidFill>
                  <a:srgbClr val="3333cc"/>
                </a:solidFill>
                <a:uFillTx/>
                <a:latin typeface="Times New Roman"/>
              </a:rPr>
              <a:t>h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(cont.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not represented by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notes the closest to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doid)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i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not represented by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notes the closest to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doid)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ij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297320" y="1844640"/>
          <a:ext cx="121140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97320" y="1844640"/>
                    <a:ext cx="12114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4805280" y="4608360"/>
          <a:ext cx="2503440" cy="191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5280" y="4608360"/>
                    <a:ext cx="250344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0806-8934-47A2-95A0-FDBBFDF286C1}" type="slidenum">
              <a:t>57</a:t>
            </a:fld>
          </a:p>
        </p:txBody>
      </p:sp>
    </p:spTree>
  </p:cSld>
  <p:transition>
    <p:random/>
  </p:transition>
  <p:timing>
    <p:tnLst>
      <p:par>
        <p:cTn id="1949" dur="indefinite" restart="never" nodeType="tmRoot">
          <p:childTnLst>
            <p:seq>
              <p:cTn id="1950" dur="indefinite" nodeType="mainSeq">
                <p:childTnLst>
                  <p:par>
                    <p:cTn id="1951" fill="hold">
                      <p:stCondLst>
                        <p:cond delay="0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08000" y="404640"/>
            <a:ext cx="885672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- k-Medoids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he PAM algorithm (co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mental results show the PAM works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atisfactorily with small data se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-2667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s computational complexity per iteration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-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Unsuitable for large data se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E39F-20A1-40DB-BFF0-CDBF07A2F5C4}" type="slidenum">
              <a:t>58</a:t>
            </a:fld>
          </a:p>
        </p:txBody>
      </p:sp>
    </p:spTree>
  </p:cSld>
  <p:transition>
    <p:random/>
  </p:transition>
  <p:timing>
    <p:tnLst>
      <p:par>
        <p:cTn id="1983" dur="indefinite" restart="never" nodeType="tmRoot">
          <p:childTnLst>
            <p:seq>
              <p:cTn id="1984" dur="indefinite" nodeType="mainSeq">
                <p:childTnLst>
                  <p:par>
                    <p:cTn id="1985" fill="hold">
                      <p:stCondLst>
                        <p:cond delay="0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4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8000" y="43920"/>
            <a:ext cx="8856720" cy="681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Hard Clustering Algorithms - k-Medoids Algorithms (co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he CLARA algorith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more suitable for large data se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trate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aw randomly a samp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siz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the entire data se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 the PAM algorithm to determine 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best represent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place o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represent the entire data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rationa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uming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´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has been selected in a way representative of the statistical distribution of the data poin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ll be a good approximation o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hich would have been produced if PAM were run 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algorith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aw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ample subsets of siz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deno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΄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…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΄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typical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΄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+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 PAM on each one of them and identify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΄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,…,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΄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the set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΄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minimiz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d on the entire data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340000" y="5877000"/>
                <a:ext cx="36003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'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A114-7A90-4B1B-B079-05799F4FD665}" type="slidenum">
              <a:t>59</a:t>
            </a:fld>
          </a:p>
        </p:txBody>
      </p:sp>
    </p:spTree>
  </p:cSld>
  <p:transition>
    <p:random/>
  </p:transition>
  <p:timing>
    <p:tnLst>
      <p:par>
        <p:cTn id="1999" dur="indefinite" restart="never" nodeType="tmRoot">
          <p:childTnLst>
            <p:seq>
              <p:cTn id="2000" dur="indefinite" nodeType="mainSeq">
                <p:childTnLst>
                  <p:par>
                    <p:cTn id="2001" fill="hold">
                      <p:stCondLst>
                        <p:cond delay="0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2" dur="5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9" dur="5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7" dur="500" fill="hold"/>
                                        <p:tgtEl>
                                          <p:spTgt spid="1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8" dur="500" fill="hold"/>
                                        <p:tgtEl>
                                          <p:spTgt spid="1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termination condition for GMDAS i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)-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|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n appropriate vector norm and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 small user-defined consta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bove scheme is guaranteed 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onverge to a global or a local maximum of the loglikelihood func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ce the algorithm has converged,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í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’s are assigned to clusters according to the Bayes ru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9C1E-E680-493E-87E0-076B103BFAAF}" type="slidenum">
              <a:t>6</a:t>
            </a:fld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08000" y="0"/>
            <a:ext cx="8856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Hard Clustering Algorithms - k-Medoids Algorithms (co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The CLARANS algorith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 is more suitable for large data set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 follows the philosophy of PAM with the difference that only a fractio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&lt;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-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f the neighbors of the current set of medoids is considere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 performs several runs 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starting from different initial conditions fo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ahoma"/>
              </a:rPr>
              <a:t>The algorithm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lize randomly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) Select randomly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neighbors of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* If the present neighbor of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is better than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in terms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,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th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- Set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qual to its neighb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- Go to (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* End I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 F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t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 For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the best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l-G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respect to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,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sed on this set of medoids assign each vector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o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cluster whose representative is closest to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69BD-DD91-4529-8A15-6C384ABB936A}" type="slidenum">
              <a:t>60</a:t>
            </a:fld>
          </a:p>
        </p:txBody>
      </p:sp>
    </p:spTree>
  </p:cSld>
  <p:transition>
    <p:random/>
  </p:transition>
  <p:timing>
    <p:tnLst>
      <p:par>
        <p:cTn id="2063" dur="indefinite" restart="never" nodeType="tmRoot">
          <p:childTnLst>
            <p:seq>
              <p:cTn id="2064" dur="indefinite" nodeType="mainSeq">
                <p:childTnLst>
                  <p:par>
                    <p:cTn id="2065" fill="hold">
                      <p:stCondLst>
                        <p:cond delay="0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2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8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9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3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4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5" dur="5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1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1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1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1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1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1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1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6" dur="500" fill="hold"/>
                                        <p:tgtEl>
                                          <p:spTgt spid="1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18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18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3" dur="500" fill="hold"/>
                                        <p:tgtEl>
                                          <p:spTgt spid="18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18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12320" y="475920"/>
            <a:ext cx="903132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rd Clustering Algorithms - k-Medoids Algorithms (co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3960" indent="-1890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he CLARANS algorithm (co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3960" indent="-18900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9640" indent="-168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RANS depends 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Typically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9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max(0.12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-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9640" indent="-168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pproach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-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ARANS approaches PAM and the complexity increa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9640" indent="-168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RANS can also be described in terms of graph theory concep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9640" indent="-168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RANS unravels better quality clusters than CLA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9640" indent="-168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some cases, CLARA is significantly faster than CLARA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9640" indent="-168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RANS retains its quadratic computational nature and thus it is not appropriate for very large data se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1C03-0B68-44FE-B991-AA8D10034E37}" type="slidenum">
              <a:t>61</a:t>
            </a:fld>
          </a:p>
        </p:txBody>
      </p:sp>
    </p:spTree>
  </p:cSld>
  <p:transition>
    <p:random/>
  </p:transition>
  <p:timing>
    <p:tnLst>
      <p:par>
        <p:cTn id="2145" dur="indefinite" restart="never" nodeType="tmRoot">
          <p:childTnLst>
            <p:seq>
              <p:cTn id="2146" dur="indefinite" nodeType="mainSeq">
                <p:childTnLst>
                  <p:par>
                    <p:cTn id="2147" fill="hold">
                      <p:stCondLst>
                        <p:cond delay="0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5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0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3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7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8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2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5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7640" y="115560"/>
            <a:ext cx="8785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ompact and Hyperellipsoidal Clus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is case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ach cluster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is modeled by a normal distribution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l-GR" sz="2000" spc="-1" strike="noStrike" u="sng">
                <a:solidFill>
                  <a:srgbClr val="ff0000"/>
                </a:solidFill>
                <a:uFillTx/>
                <a:latin typeface="Times New Roman"/>
              </a:rPr>
              <a:t>μ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l-GR" sz="2000" spc="-1" strike="noStrike">
                <a:solidFill>
                  <a:srgbClr val="ff0000"/>
                </a:solidFill>
                <a:latin typeface="Times New Roman"/>
              </a:rPr>
              <a:t>Σ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sists of the parameters of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he (independent) parameters of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…,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this case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. (1) in GMDAS is replaced b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. (2) in GMDAS is replaced by the equ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763640" y="2179800"/>
                <a:ext cx="41767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p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−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μ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−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μ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116000" y="3770280"/>
                <a:ext cx="57610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;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Θ</m:t>
                        </m:r>
                      </m:e>
                    </m:ba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μ</m:t>
                                </m:r>
                              </m:e>
                            </m:ba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μ</m:t>
                                </m:r>
                              </m:e>
                            </m:ba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μ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μ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004760" y="5530680"/>
                <a:ext cx="234324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μ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708360" y="5543640"/>
                <a:ext cx="38880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μ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μ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Θ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2A8D-F479-4DD3-820A-D5531B601123}" type="slidenum">
              <a:t>7</a:t>
            </a:fld>
          </a:p>
        </p:txBody>
      </p:sp>
    </p:spTree>
  </p:cSld>
  <p:transition>
    <p:random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20800" indent="-28584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2868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bove scheme 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omputationally very demand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ince it requires the inversion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variance matrices at each iteration step. Two ways to deal with this problem ar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2868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use of a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ingle covariance matrix for all clust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2868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use of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ifferent diagonal covariance matr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0800" indent="-28584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Example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(a) Consider three two-dimensional normal distributions with mean valu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0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=[1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1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=[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5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5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μ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=[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0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covariance matr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0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0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0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0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ective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0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0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ectors stem from each distribution. These form the data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476360" y="4149720"/>
                <a:ext cx="62643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sSubSup>
                      <m:e/>
                      <m:sub/>
                      <m:sup/>
                    </m:sSubSup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sSubSup>
                      <m:e/>
                      <m:sub/>
                      <m:sup/>
                    </m:sSubSup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CC9C-D298-46C8-AEE1-8B1E21434DBD}" type="slidenum">
              <a:t>8</a:t>
            </a:fld>
          </a:p>
        </p:txBody>
      </p:sp>
    </p:spTree>
  </p:cSld>
  <p:transition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5800" y="333360"/>
            <a:ext cx="7270920" cy="3247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5280" y="389556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usion matrix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700360" y="4076640"/>
          <a:ext cx="5687640" cy="1726920"/>
        </p:xfrm>
        <a:graphic>
          <a:graphicData uri="http://schemas.openxmlformats.org/drawingml/2006/table">
            <a:tbl>
              <a:tblPr/>
              <a:tblGrid>
                <a:gridCol w="1990440"/>
                <a:gridCol w="1208880"/>
                <a:gridCol w="1244160"/>
                <a:gridCol w="1244160"/>
              </a:tblGrid>
              <a:tr h="44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uster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uster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uster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st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dis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nd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dis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rd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dis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181800" y="5985000"/>
            <a:ext cx="78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algorithm reveals accurately the underlying struc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84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data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45080" y="3278160"/>
            <a:ext cx="20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ults of GM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7B2F-ECAD-43EB-988E-2A55F6308B2A}" type="slidenum">
              <a:t>9</a:t>
            </a:fld>
          </a:p>
        </p:txBody>
      </p:sp>
    </p:spTree>
  </p:cSld>
  <p:transition>
    <p:random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2T18:14:25Z</dcterms:created>
  <dc:creator>Jim</dc:creator>
  <dc:description/>
  <dc:language>en-US</dc:language>
  <cp:lastModifiedBy>ST</cp:lastModifiedBy>
  <dcterms:modified xsi:type="dcterms:W3CDTF">2006-12-22T11:29:34Z</dcterms:modified>
  <cp:revision>859</cp:revision>
  <dc:subject/>
  <dc:title>PowerPoint Presentation</dc:title>
</cp:coreProperties>
</file>