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86E-74F2-43DF-9EDE-5392152A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3A53-FD5B-4D4C-ABC4-CDCE486C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90E6-7EE8-4D5E-B98F-317178FC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5D3D-8F3B-4915-9688-E2B4C09F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F320-1B17-44D0-B64A-1984F9DE0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BD8-DC8E-41AB-9563-D699D095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4BA7-7DFF-427C-94D9-BC4CE036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03A4-AA4A-4411-872A-FD917369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6D3-EAE9-44F8-8AE0-D7FD2126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F9BE-26E6-49BE-8073-160550C6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7580-F27E-471C-9D1D-44C19028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F63-4CBC-4349-8164-CBA79635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74CF4-6DE0-42E7-8DC5-AEAE3873A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FDesig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Miroslav Lutovac, Dejan Tosic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ttenuation plot: passband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95280" y="139068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52280" y="2514600"/>
            <a:ext cx="2057400" cy="1371600"/>
          </a:xfrm>
          <a:prstGeom prst="wedgeRectCallout">
            <a:avLst>
              <a:gd name="adj1" fmla="val 94907"/>
              <a:gd name="adj2" fmla="val 236689"/>
            </a:avLst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chang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5410080"/>
            <a:ext cx="1143000" cy="381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dit specifica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47840" y="2038320"/>
            <a:ext cx="4648320" cy="4438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895480" y="3733920"/>
            <a:ext cx="190512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2438280"/>
            <a:ext cx="990360" cy="4572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edesign: Click D1, Click Pas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95280" y="1314360"/>
            <a:ext cx="6553440" cy="5391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80880" y="617220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7848360" y="548640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52880" y="1600200"/>
            <a:ext cx="76212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2743200"/>
            <a:ext cx="761760" cy="6858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4648320"/>
            <a:ext cx="2971800" cy="914400"/>
          </a:xfrm>
          <a:prstGeom prst="wedgeRoundRectCallout">
            <a:avLst>
              <a:gd name="adj1" fmla="val 57532"/>
              <a:gd name="adj2" fmla="val 148787"/>
              <a:gd name="adj3" fmla="val 16667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o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zoom the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Times New Roman"/>
              </a:rPr>
              <a:t>Zoom</a:t>
            </a: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 zooms attenuation plo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5280" y="139068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4876920"/>
            <a:ext cx="2971800" cy="609480"/>
          </a:xfrm>
          <a:prstGeom prst="wedgeRoundRectCallout">
            <a:avLst>
              <a:gd name="adj1" fmla="val 57532"/>
              <a:gd name="adj2" fmla="val 210675"/>
              <a:gd name="adj3" fmla="val 16667"/>
            </a:avLst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frequency r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4343400"/>
            <a:ext cx="2666880" cy="914400"/>
          </a:xfrm>
          <a:prstGeom prst="wedgeRoundRectCallout">
            <a:avLst>
              <a:gd name="adj1" fmla="val 69819"/>
              <a:gd name="adj2" fmla="val 157120"/>
              <a:gd name="adj3" fmla="val 16667"/>
            </a:avLst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number of plot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hoose the AFDesign folde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471680" y="2638440"/>
          <a:ext cx="620064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1680" y="2638440"/>
                    <a:ext cx="620064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811680" y="2819520"/>
            <a:ext cx="3500280" cy="758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Run AFDesig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86080" y="2057400"/>
          <a:ext cx="2505240" cy="33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2057400"/>
                    <a:ext cx="2505240" cy="33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895480" y="4495680"/>
            <a:ext cx="27432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ANALOG desig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61960" y="1971720"/>
          <a:ext cx="6220080" cy="29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1971720"/>
                    <a:ext cx="622008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4952880" y="4038480"/>
            <a:ext cx="236232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View example specifica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4876920"/>
            <a:ext cx="2206800" cy="1527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xample AFDesign specificat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23880" y="2666880"/>
            <a:ext cx="2286000" cy="1752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2590920"/>
            <a:ext cx="3809880" cy="1828800"/>
          </a:xfrm>
          <a:prstGeom prst="wedgeRoundRectCallout">
            <a:avLst>
              <a:gd name="adj1" fmla="val -135583"/>
              <a:gd name="adj2" fmla="val 148351"/>
              <a:gd name="adj3" fmla="val 16667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desig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a design butt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ample, 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ign alternative 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MATLAB Command window shows the design summary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828800" y="1749600"/>
          <a:ext cx="5475240" cy="48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749600"/>
                    <a:ext cx="5475240" cy="48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numD, denD are transfer function numerator and denominator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048040"/>
          <a:ext cx="8218440" cy="41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048040"/>
                    <a:ext cx="8218440" cy="41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228600" y="2057400"/>
            <a:ext cx="1523880" cy="304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962520"/>
            <a:ext cx="1523880" cy="304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1752480"/>
            <a:ext cx="5410440" cy="82548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use variables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m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p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or further calc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ttenuation plot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fter you click design button D1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553440" cy="539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438280" y="3884760"/>
            <a:ext cx="4341960" cy="987120"/>
          </a:xfrm>
          <a:prstGeom prst="wedgeRoundRectCallout">
            <a:avLst>
              <a:gd name="adj1" fmla="val 61518"/>
              <a:gd name="adj2" fmla="val 125402"/>
              <a:gd name="adj3" fmla="val 16667"/>
            </a:avLst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ee passband, transition, stop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9:56:34Z</dcterms:created>
  <dc:creator>Dejan Tosic</dc:creator>
  <dc:description/>
  <dc:language>en-US</dc:language>
  <cp:lastModifiedBy>Dejan Tosic</cp:lastModifiedBy>
  <dcterms:modified xsi:type="dcterms:W3CDTF">2005-02-28T22:27:14Z</dcterms:modified>
  <cp:revision>27</cp:revision>
  <dc:subject/>
  <dc:title>AFDesign</dc:title>
</cp:coreProperties>
</file>