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BB94-9E7B-41D1-9AA2-B73BFA59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86A5-D094-468C-8034-22FCFBD2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AE3C-F884-4902-8969-5903730D1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204E-0959-4039-AD09-48E5152E9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91AF-A250-4ED6-B56D-9B2167AD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D5A8-F218-4DE3-970A-18F6DB5E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64BC-67CA-43D9-BED4-32092735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9322-48C0-48A3-B910-90586A2F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37FB-A974-4166-8A29-A9297F78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6720-F2B6-4723-9D78-6DE8C1E1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28B9-779D-4BE6-8E0E-0B2E27FD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1D47-68DD-4133-B9C9-EF3D93D9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0335-4BB6-4814-B8FE-527E95CCF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DrawFil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iroslav Lutovac, Dejan Tosic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450040" y="5391000"/>
          <a:ext cx="3514680" cy="11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50040" y="5391000"/>
                    <a:ext cx="351468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5965920" y="1844640"/>
          <a:ext cx="1342800" cy="10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65920" y="1844640"/>
                    <a:ext cx="1342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Let’s draw inpu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439272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he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In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button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591120" indent="-591120"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oint and click where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nput node should appear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591120" indent="-591120"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ew element appears on the schematic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67280" y="2349360"/>
            <a:ext cx="2305080" cy="358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435640" y="3429000"/>
          <a:ext cx="3591000" cy="120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35640" y="3429000"/>
                    <a:ext cx="359100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4572000" y="3429000"/>
            <a:ext cx="2305080" cy="28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5445000"/>
            <a:ext cx="194328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Example RLC schematic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68360" y="1851120"/>
          <a:ext cx="1554120" cy="200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51120"/>
                    <a:ext cx="1554120" cy="20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2666880" y="1844640"/>
            <a:ext cx="3810240" cy="936720"/>
          </a:xfrm>
          <a:prstGeom prst="wedgeRoundRectCallout">
            <a:avLst>
              <a:gd name="adj1" fmla="val -68375"/>
              <a:gd name="adj2" fmla="val 115930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h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EW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button to start a new schem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262400" y="3500280"/>
          <a:ext cx="3981600" cy="27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2400" y="3500280"/>
                    <a:ext cx="398160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50920" y="4941720"/>
            <a:ext cx="3673440" cy="1727280"/>
          </a:xfrm>
          <a:prstGeom prst="wedgeRoundRectCallout">
            <a:avLst>
              <a:gd name="adj1" fmla="val 131287"/>
              <a:gd name="adj2" fmla="val -72611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raw the schematic;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use the buttons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RND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V)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and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6732720" y="2852640"/>
          <a:ext cx="2181240" cy="19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720" y="2852640"/>
                    <a:ext cx="218124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24000" y="1809720"/>
          <a:ext cx="1180800" cy="161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1809720"/>
                    <a:ext cx="118080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Delete the OUT elemen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1844640"/>
            <a:ext cx="3810240" cy="936720"/>
          </a:xfrm>
          <a:prstGeom prst="wedgeRoundRectCallout">
            <a:avLst>
              <a:gd name="adj1" fmla="val -79833"/>
              <a:gd name="adj2" fmla="val 18305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h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LETE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button to delete an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3789360"/>
            <a:ext cx="4321080" cy="1368360"/>
          </a:xfrm>
          <a:prstGeom prst="wedgeRoundRectCallout">
            <a:avLst>
              <a:gd name="adj1" fmla="val 113263"/>
              <a:gd name="adj2" fmla="val -56263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near the node of the element you want to delete. The element appears in g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397400" y="5608800"/>
          <a:ext cx="4638600" cy="113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97400" y="5608800"/>
                    <a:ext cx="463860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08000" y="5734080"/>
            <a:ext cx="3024000" cy="936720"/>
          </a:xfrm>
          <a:prstGeom prst="wedgeRoundRectCallout">
            <a:avLst>
              <a:gd name="adj1" fmla="val 89578"/>
              <a:gd name="adj2" fmla="val 13560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he left mouse button to de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5364000" y="4098960"/>
          <a:ext cx="3695760" cy="27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4098960"/>
                    <a:ext cx="369576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6724800" y="2060640"/>
          <a:ext cx="2095200" cy="146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24800" y="2060640"/>
                    <a:ext cx="2095200" cy="14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Edit C1 elemen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1844640"/>
            <a:ext cx="3810240" cy="936720"/>
          </a:xfrm>
          <a:prstGeom prst="wedgeRoundRectCallout">
            <a:avLst>
              <a:gd name="adj1" fmla="val -81583"/>
              <a:gd name="adj2" fmla="val -18643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h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DIT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button to change element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3213000"/>
            <a:ext cx="4321440" cy="1368360"/>
          </a:xfrm>
          <a:prstGeom prst="wedgeRoundRectCallout">
            <a:avLst>
              <a:gd name="adj1" fmla="val 123069"/>
              <a:gd name="adj2" fmla="val -94777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near the node of the element you want to edit.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element appears in g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5661000"/>
            <a:ext cx="3024360" cy="936720"/>
          </a:xfrm>
          <a:prstGeom prst="wedgeRoundRectCallout">
            <a:avLst>
              <a:gd name="adj1" fmla="val 130893"/>
              <a:gd name="adj2" fmla="val 39662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yp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\it C}_1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to change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1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66"/>
                </a:solidFill>
                <a:latin typeface="Courier New"/>
              </a:rPr>
              <a:t>C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24000" y="1874880"/>
          <a:ext cx="933480" cy="126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1874880"/>
                    <a:ext cx="93348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755640" y="4797360"/>
            <a:ext cx="3384720" cy="576360"/>
          </a:xfrm>
          <a:prstGeom prst="wedgeRoundRectCallout">
            <a:avLst>
              <a:gd name="adj1" fmla="val 83115"/>
              <a:gd name="adj2" fmla="val 13634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hange the color to ‘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24360" y="1628640"/>
            <a:ext cx="4057560" cy="2581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8028000" y="4200480"/>
          <a:ext cx="942840" cy="265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28000" y="4200480"/>
                    <a:ext cx="94284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109440" y="476280"/>
          <a:ext cx="933480" cy="2647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9440" y="476280"/>
                    <a:ext cx="93348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1640" y="6091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Save the schematic to file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429000"/>
            <a:ext cx="3817800" cy="936720"/>
          </a:xfrm>
          <a:prstGeom prst="wedgeRoundRectCallout">
            <a:avLst>
              <a:gd name="adj1" fmla="val -31703"/>
              <a:gd name="adj2" fmla="val -100509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h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ave as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button to save schematic to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5157720"/>
            <a:ext cx="4321080" cy="647640"/>
          </a:xfrm>
          <a:prstGeom prst="wedgeRoundRectCallout">
            <a:avLst>
              <a:gd name="adj1" fmla="val 59222"/>
              <a:gd name="adj2" fmla="val -247305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ype the name of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00360" y="5921280"/>
            <a:ext cx="4824360" cy="936720"/>
          </a:xfrm>
          <a:prstGeom prst="wedgeRoundRectCallout">
            <a:avLst>
              <a:gd name="adj1" fmla="val 62865"/>
              <a:gd name="adj2" fmla="val -19324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h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PEN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button to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pen existing schematic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8000" y="1916280"/>
            <a:ext cx="5410080" cy="47815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Combine schematic with other plots</a:t>
            </a: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19640" y="2349360"/>
            <a:ext cx="3816360" cy="863640"/>
          </a:xfrm>
          <a:prstGeom prst="wedgeRectCallout">
            <a:avLst>
              <a:gd name="adj1" fmla="val -53245"/>
              <a:gd name="adj2" fmla="val 119300"/>
            </a:avLst>
          </a:prstGeom>
          <a:solidFill>
            <a:srgbClr val="dfffff"/>
          </a:solidFill>
          <a:ln w="38160">
            <a:solidFill>
              <a:srgbClr val="000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subplot(2,1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dfirtdfa(0,0,4,5,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What is DrawFilt?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DrawFil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is a MATLAB toolbox for creating schematics of filters and system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y mouse point-and-click you draw schematics in MATLAB figure window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chematics are saved as M-files that can be called as standalone MATLAB func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Use these functions in your MATLAB scripts to illustrate or document the filter realization on which you work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How to install DrawFilt?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DrawFil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is distributed in compressed form as the file DF28.zip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compress DF28.zip with path names;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r example, if you decompress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DrawFil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in the folder C:\afd, you obtai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800000"/>
                </a:solidFill>
                <a:latin typeface="Courier New"/>
              </a:rPr>
              <a:t>C:\afd\DrawFil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800000"/>
                </a:solidFill>
                <a:latin typeface="Courier New"/>
              </a:rPr>
              <a:t>C:\afd\DrawFilt\album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Add DrawFilt to MATLAB path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DrawFil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directory (folder) has to be appended to the MATLAB path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r example, add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DrawFil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to the MATLAB path with the command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Courier New"/>
              </a:rPr>
              <a:t>path(path,'C:\afd\DrawFilt'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79280" y="2662200"/>
          <a:ext cx="8669520" cy="23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62200"/>
                    <a:ext cx="8669520" cy="23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hange to the working folder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80000" y="3174840"/>
            <a:ext cx="4392360" cy="758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452600" y="2355840"/>
          <a:ext cx="621504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2355840"/>
                    <a:ext cx="621504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Run DrawFil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13160" y="3809880"/>
            <a:ext cx="27432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7960" y="42840"/>
            <a:ext cx="866808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Let’s draw resistor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482436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he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button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oint and click where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rst node should appea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oint and click where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node should appea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You can draw only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orizontal or vertical elemen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537160" y="1700280"/>
          <a:ext cx="357192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37160" y="1700280"/>
                    <a:ext cx="35719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3995640" y="2276640"/>
            <a:ext cx="165600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508720" y="3619440"/>
            <a:ext cx="3571920" cy="110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5445000" y="5459400"/>
          <a:ext cx="3591000" cy="12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45000" y="5459400"/>
                    <a:ext cx="359100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4932360" y="3213000"/>
            <a:ext cx="208764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340000" y="3933720"/>
            <a:ext cx="547200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564000" y="1844640"/>
          <a:ext cx="5514840" cy="117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1844640"/>
                    <a:ext cx="551484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3635280" y="3716280"/>
          <a:ext cx="5372280" cy="127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3716280"/>
                    <a:ext cx="537228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835440" y="5573880"/>
          <a:ext cx="5200560" cy="109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35440" y="5573880"/>
                    <a:ext cx="520056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Prompts tell you what to do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2268000"/>
            <a:ext cx="3168720" cy="41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a button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RESISTOR 1st node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RESISTOR 2nd nod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2637000"/>
            <a:ext cx="4103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43280" y="3716280"/>
            <a:ext cx="4465440" cy="79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87640" y="5300640"/>
            <a:ext cx="4464000" cy="1081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9:56:34Z</dcterms:created>
  <dc:creator>Miroslav Lutovac, Dejan Tosic</dc:creator>
  <dc:description/>
  <dc:language>en-US</dc:language>
  <cp:lastModifiedBy>nn</cp:lastModifiedBy>
  <dcterms:modified xsi:type="dcterms:W3CDTF">2005-03-05T03:18:54Z</dcterms:modified>
  <cp:revision>53</cp:revision>
  <dc:subject/>
  <dc:title>DrawFilt</dc:title>
</cp:coreProperties>
</file>