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602-2714-487C-94D3-3780FAD7B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9C2-B0B0-46F7-807B-59C29702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9C90-AFE7-4FD4-AD3B-AB0C9269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0EE-2111-4494-89D0-398D4C0DF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99A-F8FC-4858-8737-7BE2BDFA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F852-1C1A-452A-8317-64EDFF12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809-25ED-409E-ABAD-DF5262D5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9CB-DAD7-4C92-B853-6F2FD4DF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3B04-4230-4151-953E-BCB50398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CC7-EB91-46EA-A25F-1D0B162E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7DA6-5B77-4DFD-9A13-7A2928E7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FAB-B758-47B3-A8F2-61B55909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5C0B-A7B5-46D7-A464-21ADA597D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Analog and Digital Filter Design </a:t>
            </a:r>
            <a:br>
              <a:rPr sz="4000"/>
            </a:b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Review Systems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1000"/>
            <a:ext cx="644040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iroslav Lutovac and Dejan Tos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nalysis and desig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investigation of the properties and the behavior (response)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esig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f a system is the choice and arrangement of systems components to perform a specific task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analy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ccomplished by modifying the characteristics of an existing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sign by synthe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we define the form of the system directly from its specifica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ock diagra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 pictorial representation of a system that provides a method for characterizing the relationships among the componen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ingle block with one input and one output is the simplest form of the block diagra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rior of the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ctang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ing the block contains (a) component name,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b) component description, or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) the symbol for the mathematical operation to be performed on input to yiel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rrow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represent th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rection of signal flow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541840" y="5516640"/>
          <a:ext cx="299088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1840" y="5516640"/>
                    <a:ext cx="299088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Elements of block diagra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90560" y="1432080"/>
          <a:ext cx="5762880" cy="113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1432080"/>
                    <a:ext cx="5762880" cy="113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39640" y="2860560"/>
            <a:ext cx="3876840" cy="2800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037120" y="3533760"/>
            <a:ext cx="3638520" cy="11905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8000" y="5950080"/>
            <a:ext cx="2089080" cy="431640"/>
          </a:xfrm>
          <a:prstGeom prst="wedgeRoundRectCallout">
            <a:avLst>
              <a:gd name="adj1" fmla="val 41032"/>
              <a:gd name="adj2" fmla="val -31654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Summ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86560" y="5950080"/>
            <a:ext cx="2089080" cy="431640"/>
          </a:xfrm>
          <a:prstGeom prst="wedgeRoundRectCallout">
            <a:avLst>
              <a:gd name="adj1" fmla="val -39439"/>
              <a:gd name="adj2" fmla="val -319851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Takeoff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8280" cy="8575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Interconnections of block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43640" y="1413000"/>
            <a:ext cx="2449440" cy="64908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casc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08000" y="4622760"/>
            <a:ext cx="5371920" cy="219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419640" y="2565360"/>
            <a:ext cx="5638680" cy="2152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06200" y="3141720"/>
            <a:ext cx="2449800" cy="649080"/>
          </a:xfrm>
          <a:prstGeom prst="wedgeRoundRectCallout">
            <a:avLst>
              <a:gd name="adj1" fmla="val 102430"/>
              <a:gd name="adj2" fmla="val 18949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43640" y="5587920"/>
            <a:ext cx="2449440" cy="649440"/>
          </a:xfrm>
          <a:prstGeom prst="wedgeRoundRectCallout">
            <a:avLst>
              <a:gd name="adj1" fmla="val -120449"/>
              <a:gd name="adj2" fmla="val 23106"/>
              <a:gd name="adj3" fmla="val 16667"/>
            </a:avLst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Arial"/>
              </a:rPr>
              <a:t>Blocks connected in parall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Stat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some systems, the output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depends not only on the input appli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but also on the input applied befor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stat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information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that, together with in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determines uniquely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Dynamical equ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set of equations that describes unique relations between the input, output, and 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laxed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relaxed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t time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the concept of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ergy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pplicable, the system is said to be relaxed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no energy is stored in the system at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system is said to b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zero-inpu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the output for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  <a:ea typeface="Arial"/>
              </a:rPr>
              <a:t>≥ </a:t>
            </a:r>
            <a:r>
              <a:rPr b="0" i="1" lang="en-US" sz="3200" spc="-1" strike="noStrike">
                <a:solidFill>
                  <a:srgbClr val="000066"/>
                </a:solidFill>
                <a:latin typeface="Arial"/>
              </a:rPr>
              <a:t>t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solely and uniquely determined by the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ausality and stability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system is called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caus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the output depends only on the present and past values of the in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itively,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one that will remain at rest unless excited by an external source and will return to rest if all excitations are remov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BIBO stabl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ounded-input bounded-output) if every bounded input produces a bounded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-invariant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relaxed system is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time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f a time shift in the input signal causes a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ime shift in the output sign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 the case of discrete-time digital systems, we often use the term </a:t>
            </a:r>
            <a:br>
              <a:rPr sz="3200"/>
            </a:b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shift-invariant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nstead of time-invaria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aracteristics and parameters of a time-invariant system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o not chang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with tim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Linear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sider a relaxed system in which there is one independent variabl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linear 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system which has the property that if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t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produces an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ut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 +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for any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arbitrary constan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Principle of superposition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 response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of a linear system due to several inputs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, …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acting simultaneously is equal to the sum of the responses of each input acting alon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y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response due to the input 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66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, the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987640" y="4724280"/>
                <a:ext cx="311328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finition of a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 propert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Linear time-invariant (LTI) syste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sponse of LTI syste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onvolution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MATLAB exercis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Linear time-invariant (LTI)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5240" y="2616120"/>
            <a:ext cx="4133520" cy="1533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590840" y="5157720"/>
            <a:ext cx="5962320" cy="1419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50920" y="1790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ntinuous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ordinary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stant coefficien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tial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292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crete-time system is </a:t>
            </a: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LTI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if its input-output relationship can be described by the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near constant coefficient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ifferenc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Response of an LTI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re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inpu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input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Forced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zero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) is the solution of the differential equation when the state is zer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otal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e sum of the free response and the forced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tal response can be viewed, also, as the sum of the steady-state response and transient respons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Steady-state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does not approach zero as time approaches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Transient respons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s that part of the total response which approaches zero as time goes to infinity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Procedure for analyzing a system</a:t>
            </a:r>
            <a:endParaRPr b="0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equations 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 each system compon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hoose a model for representing the system (e.g., block diagram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rmulate the system model by appropriately connected the component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termine the system characteristic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continuous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integra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808280" y="4773600"/>
                <a:ext cx="547200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τ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dτ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ransient system specifications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tep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of an LTI system to a unit step input when the state is zero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Overshoo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Delay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Rise 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1" i="1" lang="en-US" sz="2800" spc="-1" strike="noStrike">
                <a:solidFill>
                  <a:srgbClr val="000066"/>
                </a:solidFill>
                <a:latin typeface="Arial"/>
              </a:rPr>
              <a:t>Settling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68360" y="3746520"/>
            <a:ext cx="3762360" cy="2419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88000" y="3765600"/>
            <a:ext cx="378144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42472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Unit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impulse respons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the output of a discrete-time LTI system to a unit impulse input when the state is zer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f we know the input and impulse response of a causal LTI system, the forced response can be found by the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convolution su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909800" y="4848120"/>
                <a:ext cx="5270400" cy="16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ν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ν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δ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1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628640"/>
            <a:ext cx="439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inline('exp(-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inline('sin(t).*(t&gt;0)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 = inline('exp(-(t-tau)).*(…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t-tau)&gt;0).*sin(tau).*(tau&gt;0)', 'tau', 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=inline('0.5*(exp(-t)-cos(t)+sin(t)).*(t&gt;0)','t'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1 = 0; t2 = 6; TR = [t1, t2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1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plot(h, TR, 2e-3, 1, ':b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x, TR, 2e-3, 1, '-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ff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impulse response', 'input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i = t1:0.2:t2; y = [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or i = 1:length(ti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[y, quad(u,0,ti(i),1e-8,0,ti(i))]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nd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2,1,2); plot(ti, y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t'); ylabel('forced response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old on; fplot(r, TR, 2e-2, 1, 'or')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legend('numerical', 'exact'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4745160" y="1700280"/>
          <a:ext cx="4219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5160" y="1700280"/>
                    <a:ext cx="4219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MATLAB exercise 2.5, page 62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1640" y="1744560"/>
            <a:ext cx="3024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k = 0:15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h = ((0.7).^k).*(k&gt;=0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 = (k&gt;=0) - (k&gt;=4);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 = conv(h,x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 = c(1:length(x)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1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h,'g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h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2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x,'b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x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2]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ubplot(3,1,3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tem(k,y,'r'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label('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ylabel('y_k','FontSize',14); </a:t>
            </a:r>
            <a:br>
              <a:rPr sz="1600"/>
            </a:b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axis([k(1) k(end) -1 3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8480" y="1341360"/>
            <a:ext cx="4457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91880"/>
            <a:ext cx="8496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rawing systems in MATLAB with DrawFilt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2240" y="936720"/>
            <a:ext cx="752472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Further reading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8720" y="2565360"/>
            <a:ext cx="5688000" cy="2669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. D. Lutovac, D. V. Tošić, B. L. Ev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Filter Design for Signal Processing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Using MATLAB and Math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ntice Hall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pper Saddle  River, New Jersey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SBN 0-201-36130-2, (c)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77080" y="2924280"/>
            <a:ext cx="1542960" cy="1885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042920" y="573408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http://kondor.etf.bg.ac.yu/~lutovac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What is a system?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ign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physical quantity, or quality, which conveys informa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stems take one or more signals as input, perform operations on the signals, and produce one or more signals as outpu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is a group of related parts working together, or an ordered set of ideas, methods, or ways of work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efinition of a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mplementation point-of-view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an arrangement of physical components connected or related in such a manner as to form and/or act as an entire uni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gnal processing perspectiv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can be viewed as any process that results in the transformation of signals, in which systems act on signals in prescribed way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thematic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a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s a mapping of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put signals onto </a:t>
            </a:r>
            <a:r>
              <a:rPr b="0" i="1" lang="en-US" sz="28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utput signals; the mapping carries out a transformation on the input signals according to a set of rule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Basic definitions 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Single-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S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nly one input and only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Multivariable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IM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ystem) ha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than one input or more than one outpu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Input-output relationshi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external description) is an equation that describes the relation between the input and the output of a system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Black box conce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the knowledge of the internal structure of a system is unavailable; the only access to the system is by means of the input ports and the output port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ime response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One-dimensional syst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 required for processing a signal that is a function of the single independent variabl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assume that the independent variable is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im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ven in cases where the independent variable is a physical quantity other than tim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Time respons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s the output signal as a function of time, following the application of a set of prescribed input signals, under specified operating conditio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28760" y="1685880"/>
            <a:ext cx="8286480" cy="3486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486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Continuous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: the input and output signals are continuous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54864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Discrete-time syst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has discrete-time input and output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8120" y="1766880"/>
            <a:ext cx="82677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Digital system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discrete-time system is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digital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f it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es on discrete-time signals whose amplitudes are quantized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zation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maps each continuous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mplitude level into a numbe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digital system employs digital hardwar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explicitly in the form of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gic circuit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implicitly when the operations on the signals are executed by writing a 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er program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22:06:30Z</dcterms:created>
  <dc:creator>Miroslav Lutovac and Dejan Tosic</dc:creator>
  <dc:description/>
  <dc:language>en-US</dc:language>
  <cp:lastModifiedBy>nn</cp:lastModifiedBy>
  <dcterms:modified xsi:type="dcterms:W3CDTF">2005-01-16T23:56:01Z</dcterms:modified>
  <cp:revision>135</cp:revision>
  <dc:subject>Analog and Digital  Filter Design</dc:subject>
  <dc:title>Review Systems</dc:title>
</cp:coreProperties>
</file>