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EF4D-87EB-4553-B057-C0E73819C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5990-72BA-4E88-9A5B-771A5FF5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AF8C-19A3-4912-BE74-6F049551A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A177-51C9-4B29-BA97-C98747632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2FFE-7C4A-4D6B-B7C8-58565C20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7DC2-1ECE-4B45-B46D-A5B91654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DBA2-3627-4D95-BDAB-3317BAF0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2895-5BA2-4599-B43B-60C0F77D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4A5D-5353-4AD4-9FE1-3920CC6A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961E-27D0-463F-A805-44D26573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E1B0-8C11-43A9-891D-1768BF73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EBB0-C6FF-457F-A259-DC9BA286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89DB-310E-4C27-98AD-B1FFE0059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1.png"/><Relationship Id="rId9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Fourier series, transform, and FF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Gibbs phenomen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48428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When a sudden change of amplitude occurs in a signal and the attempt is made to represent it by a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ite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number of terms in a Fourier series, the overshoot at the corners (at the points of abrupt change) is always found. As the number of terms is increased, the overshoot is still found; this is called the </a:t>
            </a:r>
            <a:r>
              <a:rPr b="1" i="1" lang="en-US" sz="1800" spc="-1" strike="noStrike">
                <a:solidFill>
                  <a:srgbClr val="800000"/>
                </a:solidFill>
                <a:latin typeface="Arial"/>
              </a:rPr>
              <a:t>Gibbs phenomenon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39640" y="3573360"/>
          <a:ext cx="2895840" cy="22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573360"/>
                    <a:ext cx="289584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5508720" y="3552840"/>
          <a:ext cx="2867040" cy="2324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8720" y="3552840"/>
                    <a:ext cx="286704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3851280" y="4437000"/>
            <a:ext cx="1368360" cy="503280"/>
          </a:xfrm>
          <a:prstGeom prst="rightArrow">
            <a:avLst>
              <a:gd name="adj1" fmla="val 50000"/>
              <a:gd name="adj2" fmla="val 67972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88000" y="5157720"/>
            <a:ext cx="289080" cy="3589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236000" y="5157720"/>
            <a:ext cx="288720" cy="3589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78560" y="3933720"/>
            <a:ext cx="289080" cy="3589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54920" y="3933720"/>
            <a:ext cx="289080" cy="3589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43640" y="3933720"/>
            <a:ext cx="289080" cy="3589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3933720"/>
            <a:ext cx="289080" cy="358920"/>
          </a:xfrm>
          <a:prstGeom prst="ellipse">
            <a:avLst/>
          </a:prstGeom>
          <a:noFill/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mplitude, phase, power spectrum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155736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 graphical representation of a periodic signal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produced by drawing a series of vertical lines at intervals on a horizontal axis, where the intervals represent an increase of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35640" y="31338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mplitude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421488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hase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4360" y="3040200"/>
          <a:ext cx="412416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040200"/>
                    <a:ext cx="41241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684360" y="4181400"/>
          <a:ext cx="3828960" cy="542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4181400"/>
                    <a:ext cx="382896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573120" y="5111640"/>
          <a:ext cx="6446880" cy="981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3120" y="5111640"/>
                    <a:ext cx="6446880" cy="9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7162920" y="544500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ower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xample spectru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68200" y="1841400"/>
          <a:ext cx="3943440" cy="432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200" y="1841400"/>
                    <a:ext cx="394344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4422600" y="1393920"/>
          <a:ext cx="4686480" cy="541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2600" y="1393920"/>
                    <a:ext cx="4686480" cy="54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ourier transfor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68360" y="1844640"/>
          <a:ext cx="5162400" cy="95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5162400" cy="95256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66560" y="3341520"/>
          <a:ext cx="6250320" cy="10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6560" y="3341520"/>
                    <a:ext cx="6250320" cy="109548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1044720" y="5734080"/>
          <a:ext cx="3305160" cy="97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44720" y="5734080"/>
                    <a:ext cx="330516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6156360" y="1989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urier trans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93080" y="35082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verse Fourier trans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5080" y="605808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fficient existence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47640" y="4933800"/>
            <a:ext cx="61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variable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is called a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continuous frequency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pectrum of </a:t>
            </a:r>
            <a:r>
              <a:rPr b="0" i="1" lang="en-US" sz="4400" spc="-1" strike="noStrike">
                <a:solidFill>
                  <a:srgbClr val="8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(</a:t>
            </a:r>
            <a:r>
              <a:rPr b="0" i="1" lang="en-US" sz="4400" spc="-1" strike="noStrike">
                <a:solidFill>
                  <a:srgbClr val="8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4360" y="1341360"/>
            <a:ext cx="882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lots of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j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)|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arg(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j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))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versus </a:t>
            </a:r>
            <a:r>
              <a:rPr b="0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re called the </a:t>
            </a:r>
            <a:br>
              <a:rPr sz="2400"/>
            </a:b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amplitude spectrum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phase spectrum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of 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, respec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585720" y="2276640"/>
          <a:ext cx="797400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5720" y="2276640"/>
                    <a:ext cx="79740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roperti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7874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niqu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29480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omogene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43639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5661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fferent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528480" y="6064200"/>
                <a:ext cx="1090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36" name=""/>
          <p:cNvGraphicFramePr/>
          <p:nvPr/>
        </p:nvGraphicFramePr>
        <p:xfrm>
          <a:off x="2843280" y="1650960"/>
          <a:ext cx="4734000" cy="5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1650960"/>
                    <a:ext cx="4734000" cy="5144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3059280" y="2587680"/>
          <a:ext cx="4333680" cy="105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2587680"/>
                    <a:ext cx="4333680" cy="105732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1547640" y="4017960"/>
          <a:ext cx="7418520" cy="106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47640" y="4017960"/>
                    <a:ext cx="7418520" cy="106668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2408400" y="5386320"/>
          <a:ext cx="5619600" cy="1067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08400" y="5386320"/>
                    <a:ext cx="5619600" cy="10670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Parseval's theorem and energy spectral density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348000" y="4365720"/>
          <a:ext cx="241956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4365720"/>
                    <a:ext cx="2419560" cy="56196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1835280" y="2506680"/>
          <a:ext cx="546732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2506680"/>
                    <a:ext cx="5467320" cy="106668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179280" y="5589720"/>
            <a:ext cx="2016360" cy="503280"/>
          </a:xfrm>
          <a:prstGeom prst="wedgeRoundRectCallout">
            <a:avLst>
              <a:gd name="adj1" fmla="val 43305"/>
              <a:gd name="adj2" fmla="val -515300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otal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08720" y="6094440"/>
            <a:ext cx="3311280" cy="503280"/>
          </a:xfrm>
          <a:prstGeom prst="wedgeRoundRectCallout">
            <a:avLst>
              <a:gd name="adj1" fmla="val -106041"/>
              <a:gd name="adj2" fmla="val -296055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nergy spectral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247920" y="4581360"/>
                <a:ext cx="2619360" cy="11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jω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Frequency response of 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continuous-time system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2133720"/>
            <a:ext cx="1008360" cy="647640"/>
          </a:xfrm>
          <a:prstGeom prst="rect">
            <a:avLst/>
          </a:prstGeom>
          <a:solidFill>
            <a:srgbClr val="808080"/>
          </a:solidFill>
          <a:ln w="3816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42920" y="2421000"/>
            <a:ext cx="50472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54200" y="2421000"/>
            <a:ext cx="50508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68360" y="2205000"/>
                <a:ext cx="4795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203640" y="2205000"/>
                <a:ext cx="5047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24000" y="292428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Relaxed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LTI system described by linear constant-coefficients differential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042920" y="6164280"/>
            <a:ext cx="50472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54200" y="6164280"/>
            <a:ext cx="50508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36520" y="5948280"/>
                <a:ext cx="781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103560" y="5948280"/>
                <a:ext cx="70632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j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1547640" y="5805360"/>
            <a:ext cx="1008360" cy="648000"/>
          </a:xfrm>
          <a:prstGeom prst="rect">
            <a:avLst/>
          </a:prstGeom>
          <a:solidFill>
            <a:srgbClr val="808080"/>
          </a:solidFill>
          <a:ln w="3816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(j</a:t>
            </a:r>
            <a:r>
              <a:rPr b="1" lang="en-US" sz="1800" spc="-1" strike="noStrike">
                <a:solidFill>
                  <a:srgbClr val="ffffcc"/>
                </a:solidFill>
                <a:latin typeface="Symbol"/>
                <a:ea typeface="Symbol"/>
              </a:rPr>
              <a:t></a:t>
            </a:r>
            <a:r>
              <a:rPr b="1" lang="en-US" sz="1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00720" y="5229360"/>
            <a:ext cx="38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19640" y="6093000"/>
            <a:ext cx="3780000" cy="574560"/>
          </a:xfrm>
          <a:prstGeom prst="wedgeRoundRectCallout">
            <a:avLst>
              <a:gd name="adj1" fmla="val -91453"/>
              <a:gd name="adj2" fmla="val -150828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Frequency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890960" y="1773360"/>
          <a:ext cx="3210120" cy="10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90960" y="1773360"/>
                    <a:ext cx="321012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555920" y="3357720"/>
          <a:ext cx="6040440" cy="113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55920" y="3357720"/>
                    <a:ext cx="604044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screte Fourier transform (DFT)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nd FF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ier seri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ier transfor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F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ATLAB ff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ATLAB freqz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916360" y="1700280"/>
          <a:ext cx="5867280" cy="5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1700280"/>
                    <a:ext cx="586728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403280" y="5589720"/>
          <a:ext cx="6335640" cy="50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5589720"/>
                    <a:ext cx="63356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3132000" y="3284640"/>
          <a:ext cx="2819520" cy="104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2000" y="3284640"/>
                    <a:ext cx="2819520" cy="10476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6877080" y="2649600"/>
          <a:ext cx="1485720" cy="923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77080" y="2649600"/>
                    <a:ext cx="148572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179280" y="2565360"/>
            <a:ext cx="1944720" cy="720720"/>
          </a:xfrm>
          <a:prstGeom prst="wedgeRoundRectCallout">
            <a:avLst>
              <a:gd name="adj1" fmla="val 104449"/>
              <a:gd name="adj2" fmla="val -90087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ite-length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237440" y="4581360"/>
            <a:ext cx="1079640" cy="576360"/>
          </a:xfrm>
          <a:prstGeom prst="wedgeRoundRectCallout">
            <a:avLst>
              <a:gd name="adj1" fmla="val -243824"/>
              <a:gd name="adj2" fmla="val 124930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D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4653000"/>
            <a:ext cx="2160720" cy="431640"/>
          </a:xfrm>
          <a:prstGeom prst="wedgeRoundRectCallout">
            <a:avLst>
              <a:gd name="adj1" fmla="val 81152"/>
              <a:gd name="adj2" fmla="val -200000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2971800" y="4289400"/>
          <a:ext cx="3200400" cy="18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4289400"/>
                    <a:ext cx="3200400" cy="18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Inverse discrete Fourier transform (IDFT)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005280" y="2324160"/>
          <a:ext cx="313344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05280" y="2324160"/>
                    <a:ext cx="3133440" cy="11048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179280" y="5084640"/>
            <a:ext cx="2089080" cy="720720"/>
          </a:xfrm>
          <a:prstGeom prst="wedgeRoundRectCallout">
            <a:avLst>
              <a:gd name="adj1" fmla="val 93768"/>
              <a:gd name="adj2" fmla="val -90087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screte Fourier transform p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F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919080" y="1463760"/>
          <a:ext cx="730728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9080" y="1463760"/>
                    <a:ext cx="730728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arseval's identity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714760" y="3184560"/>
          <a:ext cx="3714480" cy="120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4760" y="3184560"/>
                    <a:ext cx="3714480" cy="12096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Frequency response of </a:t>
            </a: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discrete-time system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47640" y="2133720"/>
            <a:ext cx="1008360" cy="647640"/>
          </a:xfrm>
          <a:prstGeom prst="rect">
            <a:avLst/>
          </a:prstGeom>
          <a:solidFill>
            <a:srgbClr val="808080"/>
          </a:solidFill>
          <a:ln w="38160">
            <a:solidFill>
              <a:srgbClr val="80808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42920" y="2421000"/>
            <a:ext cx="50472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54200" y="2421000"/>
            <a:ext cx="505080" cy="0"/>
          </a:xfrm>
          <a:prstGeom prst="line">
            <a:avLst/>
          </a:prstGeom>
          <a:ln w="38160">
            <a:solidFill>
              <a:srgbClr val="808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68280" y="2179800"/>
                <a:ext cx="6811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3103560" y="2179800"/>
                <a:ext cx="7063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324000" y="292428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Relaxed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LTI system described by linear constant-coefficients difference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00720" y="5229360"/>
            <a:ext cx="38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40360" y="5445000"/>
            <a:ext cx="4859280" cy="1008360"/>
          </a:xfrm>
          <a:prstGeom prst="wedgeRoundRectCallout">
            <a:avLst>
              <a:gd name="adj1" fmla="val -65287"/>
              <a:gd name="adj2" fmla="val -52518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system transforms the input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y multiplying each member of the input DFT with the factor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H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1800" spc="-1" strike="noStrike" baseline="-25000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1800" spc="-1" strike="noStrike" baseline="-25000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799160" y="1662120"/>
          <a:ext cx="3733560" cy="119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9160" y="1662120"/>
                    <a:ext cx="373356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3792600" y="3429000"/>
          <a:ext cx="5172120" cy="12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92600" y="3429000"/>
                    <a:ext cx="517212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539640" y="3749760"/>
          <a:ext cx="2762280" cy="220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3749760"/>
                    <a:ext cx="2762280" cy="220032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5364000" y="4881600"/>
          <a:ext cx="2238480" cy="419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64000" y="4881600"/>
                    <a:ext cx="22384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gital frequency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835280" y="1628640"/>
                <a:ext cx="161424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849320" y="2924280"/>
                <a:ext cx="142740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268280" y="5908680"/>
                <a:ext cx="33037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jθ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z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jθ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5076720" y="1628640"/>
            <a:ext cx="3240360" cy="432000"/>
          </a:xfrm>
          <a:prstGeom prst="wedgeRoundRectCallout">
            <a:avLst>
              <a:gd name="adj1" fmla="val -91254"/>
              <a:gd name="adj2" fmla="val 83824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gital angular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859280" y="2852640"/>
            <a:ext cx="2233800" cy="432000"/>
          </a:xfrm>
          <a:prstGeom prst="wedgeRoundRectCallout">
            <a:avLst>
              <a:gd name="adj1" fmla="val -109842"/>
              <a:gd name="adj2" fmla="val 83824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igital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84720" y="5668920"/>
            <a:ext cx="2664000" cy="432000"/>
          </a:xfrm>
          <a:prstGeom prst="wedgeRoundRectCallout">
            <a:avLst>
              <a:gd name="adj1" fmla="val -100180"/>
              <a:gd name="adj2" fmla="val 83824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requency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890720" y="4308480"/>
                <a:ext cx="146376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4932360" y="4221000"/>
            <a:ext cx="2894040" cy="720720"/>
          </a:xfrm>
          <a:prstGeom prst="wedgeRoundRectCallout">
            <a:avLst>
              <a:gd name="adj1" fmla="val -96680"/>
              <a:gd name="adj2" fmla="val 32379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rmalized  frequency (MATLA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TLAB freqz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120680" y="1488960"/>
          <a:ext cx="690408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0680" y="1488960"/>
                    <a:ext cx="690408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ourier seri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eriodic signal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onsinusoidal periodic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signals play an important part in signal processing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ory of nonsinusoidal periodic signals is based upon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esolving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them into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nusoidal compon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ccording to the principle of superposition, we can find the steady-state response of an LTI system to an arbitrary periodic input by applying the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hasor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method to harmonic compon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ectionally continuous sign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nsider a real signal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real variabl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that satisfies the following conditions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=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; that is, the signal is periodic having a period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defined in the interval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&lt;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&lt;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/d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re sectionally continuous in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&lt;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&lt; </a:t>
            </a:r>
            <a:r>
              <a:rPr b="0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940360" y="2792520"/>
          <a:ext cx="1486080" cy="92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2792520"/>
                    <a:ext cx="148608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finition of Fourier seri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42920" y="2133720"/>
            <a:ext cx="288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16720" y="4148280"/>
            <a:ext cx="2016000" cy="718920"/>
          </a:xfrm>
          <a:prstGeom prst="wedgeRoundRectCallout">
            <a:avLst>
              <a:gd name="adj1" fmla="val -60078"/>
              <a:gd name="adj2" fmla="val -133884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fundamental angular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14520" y="1557360"/>
          <a:ext cx="615312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14520" y="1557360"/>
                    <a:ext cx="6153120" cy="110484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411120" y="3073320"/>
          <a:ext cx="4305240" cy="301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120" y="3073320"/>
                    <a:ext cx="4305240" cy="30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3274920" y="6093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process of resolving a signal into its Fourier series is called </a:t>
            </a: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pectral analysis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or harmonic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435640" y="5229360"/>
            <a:ext cx="2016000" cy="718920"/>
          </a:xfrm>
          <a:prstGeom prst="wedgeRoundRectCallout">
            <a:avLst>
              <a:gd name="adj1" fmla="val -60865"/>
              <a:gd name="adj2" fmla="val -163907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Fourier coeffic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2997360"/>
            <a:ext cx="360360" cy="2736720"/>
          </a:xfrm>
          <a:custGeom>
            <a:avLst/>
            <a:gdLst>
              <a:gd name="textAreaLeft" fmla="*/ 0 w 360360"/>
              <a:gd name="textAreaRight" fmla="*/ 129960 w 360360"/>
              <a:gd name="textAreaTop" fmla="*/ 71280 h 2736720"/>
              <a:gd name="textAreaBottom" fmla="*/ 2665440 h 27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omplex Form of Fourier Serie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062160" y="1876320"/>
          <a:ext cx="3019680" cy="10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62160" y="1876320"/>
                    <a:ext cx="3019680" cy="104796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2590920" y="3346560"/>
          <a:ext cx="3962160" cy="10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3346560"/>
                    <a:ext cx="396216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3395520" y="4724280"/>
          <a:ext cx="2352960" cy="1981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95520" y="4724280"/>
                    <a:ext cx="235296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arseval's Identity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768240" y="2271600"/>
          <a:ext cx="7608960" cy="12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240" y="2271600"/>
                    <a:ext cx="7608960" cy="122868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3500280" y="4149720"/>
          <a:ext cx="2143440" cy="133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0280" y="4149720"/>
                    <a:ext cx="2143440" cy="13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754200" y="5950080"/>
            <a:ext cx="76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f the signal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represents an electric current or voltage across a resistor, the expression is proportional to the resistor average power over a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Harmonics of periodic signal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049400" y="1628640"/>
          <a:ext cx="70470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9400" y="1628640"/>
                    <a:ext cx="7047000" cy="1143000"/>
                  </a:xfrm>
                  <a:prstGeom prst="rect">
                    <a:avLst/>
                  </a:prstGeom>
                  <a:ln w="9360">
                    <a:solidFill>
                      <a:srgbClr val="ff9900"/>
                    </a:solidFill>
                    <a:miter/>
                  </a:ln>
                  <a:effectLst>
                    <a:outerShdw dist="107932" dir="189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2509920" y="3357720"/>
          <a:ext cx="4124160" cy="242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920" y="3357720"/>
                    <a:ext cx="4124160" cy="24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6804000" y="3141720"/>
            <a:ext cx="2016000" cy="503280"/>
          </a:xfrm>
          <a:prstGeom prst="wedgeRoundRectCallout">
            <a:avLst>
              <a:gd name="adj1" fmla="val -122361"/>
              <a:gd name="adj2" fmla="val 43375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dc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948360" y="5445000"/>
            <a:ext cx="2016360" cy="503280"/>
          </a:xfrm>
          <a:prstGeom prst="wedgeRoundRectCallout">
            <a:avLst>
              <a:gd name="adj1" fmla="val -66694"/>
              <a:gd name="adj2" fmla="val -249055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ac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5950080"/>
            <a:ext cx="2016360" cy="503280"/>
          </a:xfrm>
          <a:prstGeom prst="wedgeRoundRectCallout">
            <a:avLst>
              <a:gd name="adj1" fmla="val 79527"/>
              <a:gd name="adj2" fmla="val -362620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th harmo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nn</cp:lastModifiedBy>
  <dcterms:modified xsi:type="dcterms:W3CDTF">2005-01-23T04:09:31Z</dcterms:modified>
  <cp:revision>261</cp:revision>
  <dc:subject>Analog and Digital  Filter Design</dc:subject>
  <dc:title>Fourier series, transform, and FFT</dc:title>
</cp:coreProperties>
</file>