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47B-6E2A-487F-9FAF-45137F44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227-0F1E-4B05-A67E-9CBEEDCE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4C8-A410-4F86-AD53-237FC58A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BBE-F8E8-402D-94F1-AF5143FF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531-F4E6-44CB-9A17-FB67E27E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D9D-E6FE-4B9A-9AF5-3854B00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587-3AB5-4494-B172-EBF2EB99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C27-BB7A-4A19-A87F-B96A0745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374-4B6B-4B6C-AC06-6D66398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916-70F2-47D3-B4E3-42A3E8A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F58-208E-47F4-B76A-0A85B8B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098-A4EF-47A9-8B7D-48EA095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DC51-FB94-4174-ABD0-9D9C59B2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ystem transfer function,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es and zeros, pole-zero pair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268280"/>
          <a:ext cx="48290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8280"/>
                    <a:ext cx="48290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8000" y="2006640"/>
            <a:ext cx="403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 = roots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roots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lot(real(z),imag(z),'ro',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l(p),imag(p),'b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-1 0.1 -2.5 2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real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imaginary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33640" y="4365720"/>
          <a:ext cx="50767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4365720"/>
                    <a:ext cx="50767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579680"/>
          <a:ext cx="558180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579680"/>
                    <a:ext cx="55818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71720" y="2924280"/>
          <a:ext cx="340056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1720" y="2924280"/>
                    <a:ext cx="340056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24720" y="5084640"/>
          <a:ext cx="1314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084640"/>
                    <a:ext cx="13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348000" y="5445000"/>
          <a:ext cx="24480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5445000"/>
                    <a:ext cx="2448000" cy="914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pole-zero pai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76600" y="2133720"/>
          <a:ext cx="3790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133720"/>
                    <a:ext cx="3790800" cy="15811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33880" y="4062240"/>
          <a:ext cx="26762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3880" y="4062240"/>
                    <a:ext cx="2676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50920" y="5300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duce the sensitivity of a transfer function with respect to deviations of the coefficient values, it is preferable to represent the transfer function by a product of the first-order and second-order transf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001960"/>
          <a:ext cx="704664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1960"/>
                    <a:ext cx="704664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48360" y="1616040"/>
          <a:ext cx="3733560" cy="13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33560" cy="1381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11280" y="1828800"/>
          <a:ext cx="704052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28800"/>
                    <a:ext cx="70405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9280" y="1557360"/>
          <a:ext cx="3772080" cy="14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557360"/>
                    <a:ext cx="3772080" cy="1467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3880" y="1835280"/>
          <a:ext cx="69548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835280"/>
                    <a:ext cx="69548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67280" y="1557360"/>
          <a:ext cx="378144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557360"/>
                    <a:ext cx="3781440" cy="1666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38240" y="1700280"/>
          <a:ext cx="6954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700280"/>
                    <a:ext cx="6954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48360" y="4149720"/>
          <a:ext cx="38196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149720"/>
                    <a:ext cx="3819600" cy="1542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673280"/>
          <a:ext cx="656460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73280"/>
                    <a:ext cx="6564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76720" y="2289240"/>
          <a:ext cx="393408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289240"/>
                    <a:ext cx="3934080" cy="1571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867280" y="5805360"/>
          <a:ext cx="298152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805360"/>
                    <a:ext cx="2981520" cy="857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08000" y="2060640"/>
          <a:ext cx="70088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060640"/>
                    <a:ext cx="70088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mplitude equaliz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264280" y="1301760"/>
          <a:ext cx="377172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1301760"/>
                    <a:ext cx="37717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and the first-order and the second-order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 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-factors with zeros that are as close as possible to th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s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z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le-zero-gain represen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s, roo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, zplane, tf2pzk, tf2s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 criter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dynamic r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 a ratio of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a) the maximum magnitude response computed over the whole frequency range to (b) the minimum magnitude response in the passb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signal-to-noise rat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inimal sensi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discrete-time LTI system described by means of a linear constant-coefficients difference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e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5495760"/>
          <a:ext cx="191484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5760"/>
                    <a:ext cx="1914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781440" y="5734080"/>
          <a:ext cx="43909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5734080"/>
                    <a:ext cx="4390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38320" y="1700280"/>
          <a:ext cx="326736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8320" y="1700280"/>
                    <a:ext cx="3267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76600" y="4641840"/>
          <a:ext cx="19908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6600" y="4641840"/>
                    <a:ext cx="1990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86320" y="4005360"/>
          <a:ext cx="19713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6320" y="4005360"/>
                    <a:ext cx="1971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14720" y="2894040"/>
          <a:ext cx="471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894040"/>
                    <a:ext cx="471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00360" y="1751040"/>
          <a:ext cx="372420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751040"/>
                    <a:ext cx="37242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55935"/>
              <a:gd name="adj2" fmla="val 5784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2865"/>
              <a:gd name="adj2" fmla="val 5171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can be expressed in terms of 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 baseline="30000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73000" y="2008080"/>
          <a:ext cx="739944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2008080"/>
                    <a:ext cx="7399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1280" y="5194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quotient of two polynomials is called a rational function and the highest power in the polynomials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ration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3933720"/>
            <a:ext cx="5472000" cy="1008000"/>
          </a:xfrm>
          <a:prstGeom prst="cloudCallout">
            <a:avLst>
              <a:gd name="adj1" fmla="val 27574"/>
              <a:gd name="adj2" fmla="val -12732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presentation is preferred in the DSP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freqz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63520" y="2492280"/>
          <a:ext cx="6818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492280"/>
                    <a:ext cx="6818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pla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13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plane(B,A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66840" y="2744640"/>
          <a:ext cx="48103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744640"/>
                    <a:ext cx="4810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zpk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z,p,k] = tf2zp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08480" y="2476440"/>
          <a:ext cx="236376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476440"/>
                    <a:ext cx="236376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so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os = tf2so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38280" y="2614680"/>
          <a:ext cx="6067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2614680"/>
                    <a:ext cx="6067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64000" y="4797360"/>
          <a:ext cx="251460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797360"/>
                    <a:ext cx="2514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3520" y="4702320"/>
          <a:ext cx="3228840" cy="74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520" y="4702320"/>
                    <a:ext cx="32288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24000" y="5589720"/>
          <a:ext cx="380988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589720"/>
                    <a:ext cx="3809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57520" y="1546200"/>
          <a:ext cx="5628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546200"/>
                    <a:ext cx="5628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819520" y="2919240"/>
          <a:ext cx="3504960" cy="10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19240"/>
                    <a:ext cx="3504960" cy="1019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4920" y="4365720"/>
          <a:ext cx="90630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365720"/>
                    <a:ext cx="9063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895480" y="5373720"/>
          <a:ext cx="3353040" cy="11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373720"/>
                    <a:ext cx="3353040" cy="1171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50920" y="2565360"/>
          <a:ext cx="5811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811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3080" y="1650960"/>
          <a:ext cx="89996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1650960"/>
                    <a:ext cx="8999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92720" y="4292640"/>
          <a:ext cx="326700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292640"/>
                    <a:ext cx="3267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6840" y="1441440"/>
          <a:ext cx="89517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41440"/>
                    <a:ext cx="89517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565360"/>
          <a:ext cx="5811840" cy="39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58118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2637000"/>
          <a:ext cx="5943600" cy="40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594360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5160" y="1484280"/>
          <a:ext cx="7751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1484280"/>
                    <a:ext cx="775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87700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2565360"/>
          <a:ext cx="59832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9832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04840" y="1557360"/>
          <a:ext cx="87328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40" y="1557360"/>
                    <a:ext cx="8732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2492280"/>
          <a:ext cx="59054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5905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58920" y="1413000"/>
          <a:ext cx="60958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413000"/>
                    <a:ext cx="6095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443640" y="3125880"/>
          <a:ext cx="23814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125880"/>
                    <a:ext cx="2381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87700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the first-order and the second-order polynom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th zeros that are as close as possible to thos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continuous-time LTI system described by means of a linear constant-coefficients differential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frequenc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j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00280" y="5516640"/>
          <a:ext cx="7516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516640"/>
                    <a:ext cx="7516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38320" y="1916280"/>
          <a:ext cx="326736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16280"/>
                    <a:ext cx="32673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84520" y="4573440"/>
          <a:ext cx="1924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4573440"/>
                    <a:ext cx="1924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643200" y="4005360"/>
          <a:ext cx="18576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4005360"/>
                    <a:ext cx="1857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43040" y="1650960"/>
          <a:ext cx="4057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1650960"/>
                    <a:ext cx="405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85840" y="2781360"/>
          <a:ext cx="49723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2781360"/>
                    <a:ext cx="4972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62384"/>
              <a:gd name="adj2" fmla="val 433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9314"/>
              <a:gd name="adj2" fmla="val 55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6240" y="1468440"/>
          <a:ext cx="484848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468440"/>
                    <a:ext cx="48484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2457360"/>
            <a:ext cx="33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0.1:0.01:1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 = freqs(B,A,w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 = abs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angle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1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log(w,M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Magnitude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H = freqs(B,A,w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2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milogx(w,P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hase (rad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\omeg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66880" y="1614600"/>
          <a:ext cx="1904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1614600"/>
                    <a:ext cx="1904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9T01:38:51Z</dcterms:modified>
  <cp:revision>323</cp:revision>
  <dc:subject>Analog and Digital  Filter Design</dc:subject>
  <dc:title>System transfer function, poles and zeros, pole-zero pairing</dc:title>
</cp:coreProperties>
</file>