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E3E-573E-4540-AC84-D1E7CDD0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EF1-2B5D-407C-A3B3-F5AFCF32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482-AC3F-419D-A9C6-31137EAA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6CA-EF20-4C5B-9B99-18A2BBEE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C28-0D7B-4D14-8667-A0CE9B9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E97-C040-4FCB-AFBC-73A0392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343-4514-4386-97CC-B0313F2F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907-4176-466A-ADA6-3E83EF0B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73E-C007-40AD-B156-A22D5EA8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1D3-FAE0-4C97-B941-ECE3430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75F-4002-4680-B70C-FAA51A3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1D0-E915-4850-94E1-598B5FD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C32C-5DED-4CFD-B4B9-479FFEC3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ig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1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2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2: Realization - Cascade of programmable biqu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3: Study of imperfections - Sensitivity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LAB script Lecture07design.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ascade of programmable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nsitivity analysi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03T22:57:43Z</dcterms:modified>
  <cp:revision>369</cp:revision>
  <dc:subject>Analog and Digital  Filter Design</dc:subject>
  <dc:title>Design of an analog filter</dc:title>
</cp:coreProperties>
</file>