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C21-2585-4ADB-BFE1-4D89FA56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43C-6CCA-4167-B98E-00F7F088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997-FAAC-4E85-8035-8C4EF7FC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697-0396-4220-A0E7-0AB27E1F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FBD-7CF3-4FF2-A4BB-0D10B3B6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AED-C45C-46C4-A91D-B004A50D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BED-87CD-442C-AD27-872D4B62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A9A-449A-4FC3-8846-3E5057BF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ECD-0374-4297-B4B1-18220464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BD2-31D8-4D79-B7B1-D12F2E98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1EC-C9E9-4421-8698-D05A9D41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9C5-5F2F-480A-8895-59BAFAEF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37B9-E7D1-4287-AC3F-90919BF7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rogrammable analog ch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30800" y="69840"/>
            <a:ext cx="4705200" cy="443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403280" y="321300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p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iqua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iqua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57400" y="271440"/>
          <a:ext cx="6831000" cy="63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71440"/>
                    <a:ext cx="68310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with 3 biqu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4113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57360" y="2309760"/>
            <a:ext cx="4229280" cy="223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use Anadigm c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39760" y="266760"/>
          <a:ext cx="686592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66760"/>
                    <a:ext cx="68659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of one 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94160" y="44280"/>
            <a:ext cx="4714920" cy="481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0" y="4428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03280" y="325116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ss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94160" y="44280"/>
            <a:ext cx="4714920" cy="48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080" y="4428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03280" y="325116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p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er and gai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rat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95480" y="266760"/>
          <a:ext cx="69548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266760"/>
                    <a:ext cx="69548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with 2 biqu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360" y="13320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30800" y="115920"/>
            <a:ext cx="4705200" cy="4438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15880" y="321300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ss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20:22:52Z</dcterms:created>
  <dc:creator>Miroslav Lutovac and Dejan Tosic</dc:creator>
  <dc:description/>
  <dc:language>en-US</dc:language>
  <cp:lastModifiedBy>nn</cp:lastModifiedBy>
  <dcterms:modified xsi:type="dcterms:W3CDTF">2005-02-03T23:23:58Z</dcterms:modified>
  <cp:revision>26</cp:revision>
  <dc:subject>Analog and Digital  Filter Design</dc:subject>
  <dc:title>Implementation of an analog filter</dc:title>
</cp:coreProperties>
</file>