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1794-EB4A-49FA-B0D3-0F4011986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C1D7-C9DB-429D-BD61-35E52E762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2E11-EEE0-427F-99B0-96F0B5F94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84F8-7F90-4F8F-BA09-9B75356D1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296A-21EA-4CB4-940B-17B889CE8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4458-E918-4476-9409-7D1F7249C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A5B0-2DA7-43F3-BAA4-43D08207E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E10E-238C-4373-A6F7-3D7BF3104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AD61-3FA5-4F3B-9542-04F6CE58E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0E1F-7557-4EB2-B36B-BA3327D7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B6D8-DA20-44DF-ACCF-68FDA894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7D76-7AEC-40FA-9C9B-C22ACC7B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17754-1D88-4F88-BEC8-D9CA1F82A1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.png"/><Relationship Id="rId1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Analog and Digital Filter Design </a:t>
            </a:r>
            <a:br>
              <a:rPr sz="3200"/>
            </a:b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Specification of an analog filter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221000"/>
            <a:ext cx="644040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iroslav Lutovac and Dejan Tosic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Magnitude-tolerance specification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44720" y="6308640"/>
            <a:ext cx="7056360" cy="3682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e assume that the maximal value of the magnitude response is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490760" y="1566720"/>
          <a:ext cx="6164280" cy="372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0760" y="1566720"/>
                    <a:ext cx="6164280" cy="372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2338560" y="5384880"/>
          <a:ext cx="4466880" cy="78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38560" y="5384880"/>
                    <a:ext cx="4466880" cy="78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Magnitude-ripple specific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495440" y="1504800"/>
          <a:ext cx="6153120" cy="384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5440" y="1504800"/>
                    <a:ext cx="6153120" cy="384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2724120" y="5430960"/>
          <a:ext cx="3695760" cy="59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24120" y="5430960"/>
                    <a:ext cx="369576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Attenuation-limit specific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44720" y="6308640"/>
            <a:ext cx="7056360" cy="3682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e assume that the maximal value of the magnitude response is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638360" y="1438200"/>
          <a:ext cx="5867280" cy="398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8360" y="1438200"/>
                    <a:ext cx="5867280" cy="398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2643120" y="5568840"/>
          <a:ext cx="3857760" cy="52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43120" y="5568840"/>
                    <a:ext cx="385776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Gain-limit specific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044720" y="6308640"/>
            <a:ext cx="7056360" cy="3682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e assume that the maximal value of the magnitude response is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590840" y="1457280"/>
          <a:ext cx="5962320" cy="394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0840" y="1457280"/>
                    <a:ext cx="5962320" cy="39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2633760" y="5459400"/>
          <a:ext cx="3876480" cy="56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33760" y="5459400"/>
                    <a:ext cx="387648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Characteristic-function-limit specification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44720" y="6308640"/>
            <a:ext cx="7056360" cy="3682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e assume that the maximal value of the magnitude response is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619280" y="1628640"/>
          <a:ext cx="5905440" cy="360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628640"/>
                    <a:ext cx="5905440" cy="36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2509920" y="5416560"/>
          <a:ext cx="4124160" cy="67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920" y="5416560"/>
                    <a:ext cx="4124160" cy="67644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We convert all specs into characteristic-function-limit spec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08000" y="1773360"/>
          <a:ext cx="2467080" cy="156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773360"/>
                    <a:ext cx="2467080" cy="15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3203640" y="1484280"/>
          <a:ext cx="2657520" cy="159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1484280"/>
                    <a:ext cx="2657520" cy="15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6307200" y="1844640"/>
          <a:ext cx="2657520" cy="1666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07200" y="1844640"/>
                    <a:ext cx="265752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108000" y="5013360"/>
          <a:ext cx="2533680" cy="1752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8000" y="5013360"/>
                    <a:ext cx="253368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6516720" y="5084640"/>
          <a:ext cx="2523960" cy="1657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16720" y="5084640"/>
                    <a:ext cx="252396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2535120" y="3500280"/>
          <a:ext cx="3981600" cy="2343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535120" y="3500280"/>
                    <a:ext cx="3981600" cy="234324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1258920" y="2637000"/>
            <a:ext cx="1081080" cy="1655640"/>
          </a:xfrm>
          <a:prstGeom prst="line">
            <a:avLst/>
          </a:prstGeom>
          <a:ln w="76320">
            <a:solidFill>
              <a:srgbClr val="ff99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1258920" y="4797360"/>
            <a:ext cx="1081080" cy="1224000"/>
          </a:xfrm>
          <a:prstGeom prst="line">
            <a:avLst/>
          </a:prstGeom>
          <a:ln w="76320">
            <a:solidFill>
              <a:srgbClr val="ff99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6805080" y="4797360"/>
            <a:ext cx="1079640" cy="1224000"/>
          </a:xfrm>
          <a:prstGeom prst="line">
            <a:avLst/>
          </a:prstGeom>
          <a:ln w="76320">
            <a:solidFill>
              <a:srgbClr val="ff99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6804000" y="2637000"/>
            <a:ext cx="936720" cy="1655640"/>
          </a:xfrm>
          <a:prstGeom prst="line">
            <a:avLst/>
          </a:prstGeom>
          <a:ln w="76320">
            <a:solidFill>
              <a:srgbClr val="ff99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0" y="2421000"/>
            <a:ext cx="0" cy="1008000"/>
          </a:xfrm>
          <a:prstGeom prst="line">
            <a:avLst/>
          </a:prstGeom>
          <a:ln w="76320">
            <a:solidFill>
              <a:srgbClr val="ff99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76720" y="6093000"/>
            <a:ext cx="251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e pp.247-248 for conversion formu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Prototype elliptic approxim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671480" y="1419120"/>
          <a:ext cx="5801040" cy="401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1480" y="1419120"/>
                    <a:ext cx="5801040" cy="40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3095640" y="5641920"/>
          <a:ext cx="2952720" cy="66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95640" y="5641920"/>
                    <a:ext cx="2952720" cy="66672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Elliptic design parameter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the elliptic rational function; it is a ratio of two polynomials in real variable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the </a:t>
            </a:r>
            <a:r>
              <a:rPr b="0" i="1" lang="en-US" sz="3200" spc="-1" strike="noStrike">
                <a:solidFill>
                  <a:srgbClr val="800000"/>
                </a:solidFill>
                <a:latin typeface="Arial"/>
              </a:rPr>
              <a:t>order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of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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s the </a:t>
            </a:r>
            <a:r>
              <a:rPr b="0" i="1" lang="en-US" sz="3200" spc="-1" strike="noStrike">
                <a:solidFill>
                  <a:srgbClr val="800000"/>
                </a:solidFill>
                <a:latin typeface="Arial"/>
              </a:rPr>
              <a:t>selectivity facto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s the </a:t>
            </a:r>
            <a:r>
              <a:rPr b="0" i="1" lang="en-US" sz="3200" spc="-1" strike="noStrike">
                <a:solidFill>
                  <a:srgbClr val="800000"/>
                </a:solidFill>
                <a:latin typeface="Arial"/>
              </a:rPr>
              <a:t>ripple facto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the </a:t>
            </a:r>
            <a:r>
              <a:rPr b="0" i="1" lang="en-US" sz="3200" spc="-1" strike="noStrike">
                <a:solidFill>
                  <a:srgbClr val="800000"/>
                </a:solidFill>
                <a:latin typeface="Arial"/>
              </a:rPr>
              <a:t>actual passband edg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095640" y="5589720"/>
            <a:ext cx="2952720" cy="666720"/>
          </a:xfrm>
          <a:prstGeom prst="rect">
            <a:avLst/>
          </a:prstGeom>
          <a:ln w="9360">
            <a:solidFill>
              <a:srgbClr val="ff99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graphicFrame>
        <p:nvGraphicFramePr>
          <p:cNvPr id="141" name=""/>
          <p:cNvGraphicFramePr/>
          <p:nvPr/>
        </p:nvGraphicFramePr>
        <p:xfrm>
          <a:off x="6732720" y="5516640"/>
          <a:ext cx="1600200" cy="838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32720" y="5516640"/>
                    <a:ext cx="16002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esign spac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2552760" y="3495600"/>
          <a:ext cx="4038480" cy="58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2760" y="3495600"/>
                    <a:ext cx="403848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1433520" y="4241880"/>
          <a:ext cx="6276960" cy="206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33520" y="4241880"/>
                    <a:ext cx="627696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755640" y="1989000"/>
          <a:ext cx="2876400" cy="495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5640" y="1989000"/>
                    <a:ext cx="287640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5003640" y="2131920"/>
            <a:ext cx="3745080" cy="1152720"/>
          </a:xfrm>
          <a:prstGeom prst="wedgeRoundRectCallout">
            <a:avLst>
              <a:gd name="adj1" fmla="val -87305"/>
              <a:gd name="adj2" fmla="val -38152"/>
              <a:gd name="adj3" fmla="val 16667"/>
            </a:avLst>
          </a:prstGeom>
          <a:solidFill>
            <a:srgbClr val="ffffcc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set of all quadruples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, for a given specification, is called the </a:t>
            </a: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design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esign exampl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FDesign D5 alternativ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mportance of analog filter specificatio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Ways in presenting the specificatio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Basic filter functions: frequency response, attenuation, gain, characteristic function …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rototype elliptic approximatio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Elliptic design parameter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Design spac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ATLAB design example Lecture12.m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Given specific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Design a lowpass filter that satisfies the following specification: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p = 3000 Hz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s = 3225 Hz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p = 0.2 dB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s = 40 dB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esign specific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n real life, practical element values are significant to about 3 digits, temperature changes element values, etc., so we choose a more restrictive specification: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p = 3000 Hz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s = 3225 Hz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p = 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0.05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dB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s = 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45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dB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esign strategy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hoose RLC singly terminated ladder realization with complex zero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xplore two design alternatives: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Matlab default design D3a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Minimal Q-factor design D5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Use AFDesign to find transfer func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mpute element values (see previous lectures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ound element values to 3 digits of precis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Validate desig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Matlab default design is D3a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990880" y="1484280"/>
          <a:ext cx="3162240" cy="49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0880" y="1484280"/>
                    <a:ext cx="3162240" cy="49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3a respons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866960" y="1600200"/>
            <a:ext cx="541008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5 respons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866960" y="1600200"/>
            <a:ext cx="541008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866960" y="1600200"/>
            <a:ext cx="5410080" cy="478152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3a violates given specific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451640" y="3213000"/>
            <a:ext cx="1584360" cy="1152720"/>
          </a:xfrm>
          <a:prstGeom prst="wedgeRectCallout">
            <a:avLst>
              <a:gd name="adj1" fmla="val -107814"/>
              <a:gd name="adj2" fmla="val 112532"/>
            </a:avLst>
          </a:prstGeom>
          <a:solidFill>
            <a:srgbClr val="ffffcc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3a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(red) violates 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given spec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79280" y="5229360"/>
            <a:ext cx="1513080" cy="1152360"/>
          </a:xfrm>
          <a:prstGeom prst="wedgeRectCallout">
            <a:avLst>
              <a:gd name="adj1" fmla="val 187564"/>
              <a:gd name="adj2" fmla="val -128925"/>
            </a:avLst>
          </a:prstGeom>
          <a:solidFill>
            <a:srgbClr val="ffffcc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5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(blue) satisfies 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given spec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Element value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866960" y="1600200"/>
            <a:ext cx="5410080" cy="4781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2" name=""/>
          <p:cNvGraphicFramePr/>
          <p:nvPr/>
        </p:nvGraphicFramePr>
        <p:xfrm>
          <a:off x="879480" y="1341360"/>
          <a:ext cx="1676520" cy="295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79480" y="1341360"/>
                    <a:ext cx="1676520" cy="2952720"/>
                  </a:xfrm>
                  <a:prstGeom prst="rect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7020000" y="3141720"/>
          <a:ext cx="1790640" cy="3600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020000" y="3141720"/>
                    <a:ext cx="1790640" cy="360036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urther reading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28720" y="2565360"/>
            <a:ext cx="5688000" cy="2669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. D. Lutovac, D. V. Tošić, B. L. Ev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Filter Design for Signal Processing </a:t>
            </a:r>
            <a:br>
              <a:rPr sz="2400"/>
            </a:b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Using MATLAB and Mathema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entice Hall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pper Saddle  River, New Jersey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SBN 0-201-36130-2, (c)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877080" y="2924280"/>
            <a:ext cx="1542960" cy="18856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042920" y="573408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http://kondor.etf.bg.ac.yu/~lutovac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Importance of filter specific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Usually, the filter specification is give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n many cases the designer has to establish the specification by himself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pecification is the most important prerequisite for the filter desig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f the specification is too restrictive (e.g., very low passband and stopband tolerances, narrow transition region), the filter may not be feasible!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How to choose specification?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 proper selection of the specification must be done according to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e nature of signals (i.e., frequency bands and the corresponding levels of the desired and undesired signals or noise)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e available hardware (element tolerances, parasitic effects, etc.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re are several ways in presenting the analog filter specificatio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Magnitude and phase respons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620800" y="2084400"/>
          <a:ext cx="3895920" cy="120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0800" y="2084400"/>
                    <a:ext cx="389592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08000" y="3627360"/>
            <a:ext cx="3313080" cy="505080"/>
          </a:xfrm>
          <a:prstGeom prst="wedgeRoundRectCallout">
            <a:avLst>
              <a:gd name="adj1" fmla="val 64662"/>
              <a:gd name="adj2" fmla="val 136162"/>
              <a:gd name="adj3" fmla="val 16667"/>
            </a:avLst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gnitude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9280" y="5068800"/>
            <a:ext cx="2594160" cy="505080"/>
          </a:xfrm>
          <a:prstGeom prst="wedgeRoundRectCallout">
            <a:avLst>
              <a:gd name="adj1" fmla="val 93208"/>
              <a:gd name="adj2" fmla="val 142138"/>
              <a:gd name="adj3" fmla="val 16667"/>
            </a:avLst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hase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08000" y="1536840"/>
          <a:ext cx="3267000" cy="52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8000" y="1536840"/>
                    <a:ext cx="326700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5697360" y="1593720"/>
          <a:ext cx="3267360" cy="466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97360" y="1593720"/>
                    <a:ext cx="3267360" cy="4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3995640" y="3916440"/>
                <a:ext cx="2484360" cy="13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3995640" y="5716440"/>
                <a:ext cx="252900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η</m:t>
                    </m:r>
                    <m:r>
                      <m:t xml:space="preserve">−</m:t>
                    </m:r>
                    <m:r>
                      <m:t xml:space="preserve">ζ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requency respons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3481560" y="2060640"/>
                <a:ext cx="217008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108000" y="1557360"/>
            <a:ext cx="2881440" cy="503280"/>
          </a:xfrm>
          <a:prstGeom prst="wedgeRoundRectCallout">
            <a:avLst>
              <a:gd name="adj1" fmla="val 65263"/>
              <a:gd name="adj2" fmla="val 150629"/>
              <a:gd name="adj3" fmla="val 16667"/>
            </a:avLst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ransfer fun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4572000" y="5734080"/>
                <a:ext cx="412596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Φ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>
            <a:off x="179280" y="6237360"/>
            <a:ext cx="3313080" cy="504720"/>
          </a:xfrm>
          <a:prstGeom prst="wedgeRoundRectCallout">
            <a:avLst>
              <a:gd name="adj1" fmla="val 79708"/>
              <a:gd name="adj2" fmla="val -60064"/>
              <a:gd name="adj3" fmla="val 16667"/>
            </a:avLst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requency respon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06200" y="3429000"/>
            <a:ext cx="3313440" cy="504720"/>
          </a:xfrm>
          <a:prstGeom prst="wedgeRoundRectCallout">
            <a:avLst>
              <a:gd name="adj1" fmla="val -2421"/>
              <a:gd name="adj2" fmla="val 134907"/>
              <a:gd name="adj3" fmla="val 16667"/>
            </a:avLst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gnitude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372360" y="3284640"/>
            <a:ext cx="2593800" cy="504720"/>
          </a:xfrm>
          <a:prstGeom prst="wedgeRoundRectCallout">
            <a:avLst>
              <a:gd name="adj1" fmla="val -60833"/>
              <a:gd name="adj2" fmla="val 148111"/>
              <a:gd name="adj3" fmla="val 16667"/>
            </a:avLst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hase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1187280" y="4508640"/>
                <a:ext cx="306072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5148360" y="4564080"/>
                <a:ext cx="341604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Loss and characteristic func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9280" y="1844640"/>
            <a:ext cx="2232000" cy="503280"/>
          </a:xfrm>
          <a:prstGeom prst="wedgeRoundRectCallout">
            <a:avLst>
              <a:gd name="adj1" fmla="val 68703"/>
              <a:gd name="adj2" fmla="val 147791"/>
              <a:gd name="adj3" fmla="val 16667"/>
            </a:avLst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oss fun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2935440" y="2131920"/>
                <a:ext cx="3238200" cy="13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2612880" y="4583160"/>
                <a:ext cx="390384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179280" y="3573360"/>
            <a:ext cx="2232000" cy="792360"/>
          </a:xfrm>
          <a:prstGeom prst="wedgeRoundRectCallout">
            <a:avLst>
              <a:gd name="adj1" fmla="val 56685"/>
              <a:gd name="adj2" fmla="val 159819"/>
              <a:gd name="adj3" fmla="val 16667"/>
            </a:avLst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haracteristic fun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Attenuation and gai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1844640"/>
            <a:ext cx="2232000" cy="503280"/>
          </a:xfrm>
          <a:prstGeom prst="wedgeRoundRectCallout">
            <a:avLst>
              <a:gd name="adj1" fmla="val 68703"/>
              <a:gd name="adj2" fmla="val 147791"/>
              <a:gd name="adj3" fmla="val 16667"/>
            </a:avLst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tenu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2247840" y="2997360"/>
                <a:ext cx="46134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179280" y="3986280"/>
            <a:ext cx="2232000" cy="503280"/>
          </a:xfrm>
          <a:prstGeom prst="wedgeRoundRectCallout">
            <a:avLst>
              <a:gd name="adj1" fmla="val 68703"/>
              <a:gd name="adj2" fmla="val 147791"/>
              <a:gd name="adj3" fmla="val 16667"/>
            </a:avLst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a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359080" y="5138640"/>
                <a:ext cx="43909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Magnitude-limit specific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638360" y="1552680"/>
          <a:ext cx="5867280" cy="375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8360" y="1552680"/>
                    <a:ext cx="5867280" cy="37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1044720" y="6308640"/>
            <a:ext cx="7056360" cy="3682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e assume that the maximal value of the magnitude response is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2343240" y="5492880"/>
          <a:ext cx="4457520" cy="60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3240" y="5492880"/>
                    <a:ext cx="445752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7T22:06:30Z</dcterms:created>
  <dc:creator>Miroslav Lutovac and Dejan Tosic</dc:creator>
  <dc:description/>
  <dc:language>en-US</dc:language>
  <cp:lastModifiedBy>nn</cp:lastModifiedBy>
  <dcterms:modified xsi:type="dcterms:W3CDTF">2005-03-04T02:51:52Z</dcterms:modified>
  <cp:revision>511</cp:revision>
  <dc:subject>Analog and Digital  Filter Design</dc:subject>
  <dc:title>Specification of an analog filter</dc:title>
</cp:coreProperties>
</file>