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77E-1573-490E-B187-8247AEFB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61C-7952-4E1E-9DE1-C294BE40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B3E-4421-472A-854E-1F2B8E7D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240-0190-4CDB-809F-C8CE78D7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828-8BD1-4329-9500-B8270728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1C1-5B1F-44B9-B6F9-25F56270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8AA-D5CE-445C-A7AD-7A3C8F39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480-CD71-4307-A97E-DBCB482E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B41-7664-45B3-8CF9-016C4B43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FF0-5E76-4657-9F17-EE5EF172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EB9-FE6C-47A9-A55C-E29A000B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DE0-194C-4D70-8CA5-018E2C1B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8D84-A4BB-45E7-BCF6-61A9DEC66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igital filters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R and IIR structure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3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38160"/>
            <a:ext cx="3024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80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0.9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0 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 = [1 -a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A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raw1stI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in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645000"/>
            <a:ext cx="1944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427640" y="1589040"/>
            <a:ext cx="4647960" cy="515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295800" y="2039760"/>
                <a:ext cx="2644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411280" y="2565360"/>
            <a:ext cx="2952720" cy="1366920"/>
          </a:xfrm>
          <a:prstGeom prst="wedgeRoundRectCallout">
            <a:avLst>
              <a:gd name="adj1" fmla="val 130912"/>
              <a:gd name="adj2" fmla="val 194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impulse response does not vanish after finite number of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FIR structur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rect form, Transposed form, Cascade form, Linear-phase, Symmetr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2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direct 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(Tapped delay line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posed direct 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-phase type 1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-phase type 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ymmetric FIR type 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view: Discrete-time system, Digital system,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finition of FIR and IIR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and IIR structu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DAtool design examp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ymmetric FIR type I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IIR structur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rect form, Transposed 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I 1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rect form II 2</a:t>
            </a:r>
            <a:r>
              <a:rPr b="0" lang="en-US" sz="44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direct form II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II 1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Transposed direct form II 2</a:t>
            </a:r>
            <a:r>
              <a:rPr b="0" lang="en-US" sz="40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66960" y="1671480"/>
            <a:ext cx="541008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der linear-phase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DAtool FIR 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6880" y="423720"/>
            <a:ext cx="7410240" cy="601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87640" y="3933720"/>
            <a:ext cx="1440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4920" y="3933720"/>
            <a:ext cx="165744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4508640"/>
            <a:ext cx="1656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view: Discrete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54864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as discrete-time input and outpu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8120" y="1766880"/>
            <a:ext cx="8267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le, Export …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2560" y="1614600"/>
            <a:ext cx="3011400" cy="362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1280" y="4726080"/>
            <a:ext cx="11509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02040" y="4562640"/>
          <a:ext cx="4991040" cy="19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02040" y="4562640"/>
                    <a:ext cx="499104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dit, Convert Structure …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544920" cy="33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5867280" y="1782720"/>
          <a:ext cx="3159360" cy="495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782720"/>
                    <a:ext cx="31593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76720" y="3213000"/>
            <a:ext cx="3959280" cy="792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88000" y="274680"/>
            <a:ext cx="3898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 example desig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4495680" cy="442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51280" y="2133720"/>
            <a:ext cx="5229360" cy="465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49400" y="4797360"/>
            <a:ext cx="3990960" cy="1568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view: Digital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screte-time syste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igit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es on discrete-time signals whose amplitudes are quantiz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z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ps each continuou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itude level into a nu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gital system employs digital hard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licitly in the form of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gic circui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mplicitly when the operations on the signals are executed by writing a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 progr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near time-invariant (LTI)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90840" y="2997360"/>
            <a:ext cx="5962320" cy="141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21400" y="1557360"/>
            <a:ext cx="683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rete-time system is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f its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put-output relationship can be described by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near constant coeffici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ifferenc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0880" y="4508640"/>
            <a:ext cx="79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utput sampl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ight depend on all input sampl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can be represented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40120" y="5568840"/>
                <a:ext cx="32623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1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1413000"/>
            <a:ext cx="30240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80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0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1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2 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b0 b1 b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 = 1/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sin(2*pi*f*k+pi/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1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F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lot(k,x,'go', k,y,'bo',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,x,'g-', k,y,'b-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input',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43400" cy="528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284640" y="3984480"/>
                <a:ext cx="3879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55640" y="393372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1484280"/>
            <a:ext cx="2303280" cy="1366920"/>
          </a:xfrm>
          <a:prstGeom prst="wedgeRoundRectCallout">
            <a:avLst>
              <a:gd name="adj1" fmla="val -109546"/>
              <a:gd name="adj2" fmla="val 123518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TLAB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lte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ommand corresponds to the symbol 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1000" y="2179800"/>
            <a:ext cx="591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ponse of a system to th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impulse sequence is called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unit impulse response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r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911320" y="4829040"/>
                <a:ext cx="32641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ample 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838160"/>
            <a:ext cx="302400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 = 16; k = 0:(N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0 = 1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1 = -1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2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= [b0 b1 b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filter(B,1,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FIR(0,0,4,5,10,'b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in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outpu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3429000"/>
            <a:ext cx="1944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46480" y="1374840"/>
            <a:ext cx="4962600" cy="5438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84640" y="1968480"/>
                <a:ext cx="3879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are FIR and IIR systems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discrete system is said to be a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I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ystem if its impulse response has zero-valued samples 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g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g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er numbe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lled the 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I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ystem is a discrete system with an infinit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= Finite Impulse Respons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= Infinite Impuls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3-12T03:49:56Z</dcterms:modified>
  <cp:revision>179</cp:revision>
  <dc:subject>Analog and Digital  Filter Design</dc:subject>
  <dc:title>Digital filters, FIR and IIR structures</dc:title>
</cp:coreProperties>
</file>