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5E3-C73F-41DD-B837-7CAAA9EB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D89-D616-42D4-ACCB-802A1353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062-AF81-4F1D-8755-3485FD63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E9E-324C-4295-9EE7-EA1BF289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E9C-64D0-43F2-95F0-51E8090A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9A6-3B83-487A-9281-373F0E34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E8B-4E2C-40D6-85BC-ACFBE851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178-4554-4D09-86D5-7BD2E9F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46F-1280-4412-BA0E-BB1EBD5A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685-D176-49FB-8CF4-D1E3E983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A79-EE51-45B7-B14F-C98DFAE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F37-B70D-4628-889A-CB84E1B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F180-11ED-4EBA-A7D2-18474A08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assical digital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413000"/>
            <a:ext cx="1655640" cy="718920"/>
          </a:xfrm>
          <a:prstGeom prst="wedgeRoundRectCallout">
            <a:avLst>
              <a:gd name="adj1" fmla="val -89884"/>
              <a:gd name="adj2" fmla="val 207837"/>
              <a:gd name="adj3" fmla="val 16667"/>
            </a:avLst>
          </a:prstGeom>
          <a:solidFill>
            <a:srgbClr val="3399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64000" y="2790720"/>
            <a:ext cx="4610160" cy="373392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2: Realization - Cascade of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3: Study of imperfections - Quant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FDAtool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63080" cy="541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360" y="465300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292640"/>
            <a:ext cx="3743280" cy="18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1848"/>
          <a:stretch/>
        </p:blipFill>
        <p:spPr>
          <a:xfrm>
            <a:off x="866880" y="1413000"/>
            <a:ext cx="7410240" cy="52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60360" y="616428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rt coefficients: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le, Expor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9330"/>
          <a:stretch/>
        </p:blipFill>
        <p:spPr>
          <a:xfrm>
            <a:off x="900000" y="1714680"/>
            <a:ext cx="7410600" cy="48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2009520" cy="2638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rect-form II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48872"/>
          <a:stretch/>
        </p:blipFill>
        <p:spPr>
          <a:xfrm>
            <a:off x="1042920" y="2421000"/>
            <a:ext cx="722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: Quantiz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2087640" cy="719280"/>
          </a:xfrm>
          <a:prstGeom prst="wedgeRoundRectCallout">
            <a:avLst>
              <a:gd name="adj1" fmla="val -167564"/>
              <a:gd name="adj2" fmla="val 222847"/>
              <a:gd name="adj3" fmla="val 16667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506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00720" y="544500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355920"/>
            <a:ext cx="180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53431"/>
          <a:stretch/>
        </p:blipFill>
        <p:spPr>
          <a:xfrm>
            <a:off x="471600" y="2492280"/>
            <a:ext cx="82008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3-21T02:00:47Z</dcterms:modified>
  <cp:revision>407</cp:revision>
  <dc:subject>Analog and Digital  Filter Design</dc:subject>
  <dc:title>Classical digital filter design</dc:title>
</cp:coreProperties>
</file>