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DD2-CB05-42AD-A25D-F235535A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5221-6881-466C-BCDC-5EE28972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C574-87DC-4DD4-9AAE-60300EF7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C079-1574-46ED-9E4F-A1B5E820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F295-BDB7-4CF7-9480-6C954DD9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B88F-A318-4D78-B4BA-4A8AFFEF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6F16-167E-473A-B9BB-80EEBFB8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2B01-BF91-4C6A-87F9-3B7DE720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C974-3F4C-44D1-9219-58D44828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F5E5-91BD-49A7-ADA7-D1D2C851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36E7-3333-4368-BF30-EE5F56F5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ABF7-7956-4E0D-A355-9C56E0E7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B802-BDE1-4B51-8119-522E768D9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600"/>
            </a:b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Finite precision effect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Limit cycles and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overflow oscillation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 the input sequence to a digital filter is a constant sequence or if it varies slowly, then the output sequence may oscilla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ose small-amplitude oscillations are caused by rounding errors, or truncating errors, and are called the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limit-cycle effec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verflows generated by additions can result in undesirable large-amplitude oscillations that are called the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overflow oscill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oth limit-cycle oscillations and overflow oscillations settle the filter into t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onlinea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ode of oper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ad band effec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 a result of roundoff operations, sometimes the output sequence can becom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sta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the output sequence does not follow the input sequence the phenomenon is called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dead band effec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ignal quantization err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 practical digital systems the input sequence can be of higher precision compared to the precision of the DSP syst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 the DSP system operates with B bits then we have to quantize the sequence to B bi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quantization erro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the difference between the higher precision sequence value and the value obtained after quantiz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oundoff noi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hen fixed-point arithmetic is used, and quantization to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bits is performed after each multiplication, the variance of output noise i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type of quantization is called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product quantiz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390840" y="3409920"/>
            <a:ext cx="23335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nite wordlength effects analysis example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 filt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pecification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859280" y="3359160"/>
            <a:ext cx="4038480" cy="3309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4000" y="1628640"/>
            <a:ext cx="5472000" cy="162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 = 22;             % Filter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 [0 0.4 0.5 1];  % Frequency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 = [1 1 0 0];      % Magnitude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 = [1 5];          % Weight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roxim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63640" y="2928960"/>
            <a:ext cx="5616720" cy="101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[b,err,res] = firgr(N,F,A,W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hfvt = fvtool(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2360" y="1557360"/>
            <a:ext cx="2232000" cy="1008000"/>
          </a:xfrm>
          <a:prstGeom prst="wedgeRoundRectCallout">
            <a:avLst>
              <a:gd name="adj1" fmla="val 34069"/>
              <a:gd name="adj2" fmla="val 89685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rg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utes the filter coefficient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5300640"/>
            <a:ext cx="4104000" cy="1008000"/>
          </a:xfrm>
          <a:prstGeom prst="wedgeRoundRectCallout">
            <a:avLst>
              <a:gd name="adj1" fmla="val -49226"/>
              <a:gd name="adj2" fmla="val -185592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vt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graphical user interface that allows you to analyze digital filters using the hand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f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al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5480" y="3071880"/>
            <a:ext cx="5301360" cy="101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H = dfilt.dffir(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et(H,'Arithmetic','fixed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4240" y="1484280"/>
            <a:ext cx="3292200" cy="397080"/>
          </a:xfrm>
          <a:prstGeom prst="wedgeRoundRectCallout">
            <a:avLst>
              <a:gd name="adj1" fmla="val 20037"/>
              <a:gd name="adj2" fmla="val 344564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direct-form FIR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3320" y="5734080"/>
            <a:ext cx="3345480" cy="397080"/>
          </a:xfrm>
          <a:prstGeom prst="wedgeRoundRectCallout">
            <a:avLst>
              <a:gd name="adj1" fmla="val 73000"/>
              <a:gd name="adj2" fmla="val -463949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fixed-point arithme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63360" y="1725480"/>
            <a:ext cx="3564000" cy="500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H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FilterStructure: 'Direct-Form FIR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Numerator: [1x23 doubl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oeff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oeffAutoScale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Signed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Input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InputFracLength: 15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utput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utputMode: 'AvoidOverflow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roductMode: 'FullPrecision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ccumMode: 'KeepMSB'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ccumWordLength: 40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astBeforeSum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RoundMode: 'convergent'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verflowMode: 'wrap'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0720" y="2274840"/>
            <a:ext cx="2016360" cy="2905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35640" y="1989000"/>
            <a:ext cx="3529080" cy="287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efficients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5960" y="1895400"/>
            <a:ext cx="7038720" cy="120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1 = copy(H); % Keep a copy of the origin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Bits1 = 8; % Use 8 bits for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H1,'CoeffWordLength',nBits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51480" y="3500280"/>
            <a:ext cx="4341240" cy="322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H1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ilterStructure: 'Direct-Form FIR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Numerator: [1x23 doubl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WordLength: 8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AutoScale: true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igned: true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5734080"/>
            <a:ext cx="2592360" cy="358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lot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240" y="1766880"/>
            <a:ext cx="731304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hfvt, 'Filters', [H, H1],'ShowReference','off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66960" y="2349360"/>
            <a:ext cx="5410080" cy="4276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418440" y="4005360"/>
            <a:ext cx="2622240" cy="397080"/>
          </a:xfrm>
          <a:prstGeom prst="wedgeRoundRectCallout">
            <a:avLst>
              <a:gd name="adj1" fmla="val -48259"/>
              <a:gd name="adj2" fmla="val 177898"/>
              <a:gd name="adj3" fmla="val 16667"/>
            </a:avLst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responses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nite wordlength effec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efficient quantiz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alizations v. s. quantiz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ole location for quantized coeffici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verflow arithmetic oper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imit cycles and overflow oscill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ad band effec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gnal quantization err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oundoff noi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TLAB examp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enerate input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90280" y="1766880"/>
            <a:ext cx="5118480" cy="2037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1 = 102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0:n1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1 = 1/8; f2 = 3/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sin(2*pi*f1*k) + sin(2*pi*f2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in = fi(x,true,8,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4320" y="5730840"/>
            <a:ext cx="6325560" cy="792360"/>
          </a:xfrm>
          <a:prstGeom prst="wedgeRoundRectCallout">
            <a:avLst>
              <a:gd name="adj1" fmla="val -60046"/>
              <a:gd name="adj2" fmla="val -300587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turns a fixed-point object with valu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igne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ord length 8, and fraction length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duct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8520" y="1413000"/>
            <a:ext cx="7724520" cy="78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2 = copy(H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H2,'ProductMode','KeepMSB','ProductWordLength', 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51480" y="2565360"/>
            <a:ext cx="4341240" cy="4199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H2 = FilterStructure: 'Direct-Form FIR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Numerator: [1x23 doubl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WordLength: 8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AutoScale: true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igned: true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putWordLength: 16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putFracLength: 15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OutputWordLength: 16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OutputMode: 'AvoidOverflow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ductMode: 'KeepMSB'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ductWordLength: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6381720"/>
            <a:ext cx="2592360" cy="358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cessing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9320" y="3873600"/>
            <a:ext cx="2923920" cy="78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1 = filter(H1,x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2 = filter(H2,x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5410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pectrum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866960" y="1574640"/>
            <a:ext cx="5410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chematic and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57400" y="1484280"/>
            <a:ext cx="68292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nite wordlength effects analysis example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IR direct-form I filt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5289480" cy="3743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pecification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1413000"/>
            <a:ext cx="6624720" cy="162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 = 9;         % Filter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 0.5;       % Cutoff frequ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p = 0.01;     % Maximum passband atten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 = 40;       % Minimum stopband atten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roxim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2928960"/>
            <a:ext cx="5616720" cy="212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[z,p,k] = ellip(N,Ap,As,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[b,a]   = ellip(N,Ap,As,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H = dfilt.df1(b,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hfvt = fvtool(H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2360" y="1773360"/>
            <a:ext cx="3167280" cy="792000"/>
          </a:xfrm>
          <a:prstGeom prst="wedgeRoundRectCallout">
            <a:avLst>
              <a:gd name="adj1" fmla="val -925"/>
              <a:gd name="adj2" fmla="val 160018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l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utes the fil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5661000"/>
            <a:ext cx="4103640" cy="1008000"/>
          </a:xfrm>
          <a:prstGeom prst="wedgeRoundRectCallout">
            <a:avLst>
              <a:gd name="adj1" fmla="val -56537"/>
              <a:gd name="adj2" fmla="val -113620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vt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graphical user interface that allows you to analyze digital filters using the hand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f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al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5480" y="3071880"/>
            <a:ext cx="5301360" cy="101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H = dfilt.df1(b,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et(H,'Arithmetic','fixed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9840" y="1484280"/>
            <a:ext cx="2962800" cy="397080"/>
          </a:xfrm>
          <a:prstGeom prst="wedgeRoundRectCallout">
            <a:avLst>
              <a:gd name="adj1" fmla="val 20027"/>
              <a:gd name="adj2" fmla="val 344564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direct-form I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3320" y="5734080"/>
            <a:ext cx="3345480" cy="397080"/>
          </a:xfrm>
          <a:prstGeom prst="wedgeRoundRectCallout">
            <a:avLst>
              <a:gd name="adj1" fmla="val 73000"/>
              <a:gd name="adj2" fmla="val -463949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fixed-point arithme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82360" y="1413000"/>
            <a:ext cx="3564000" cy="527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H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FilterStructure: 'Direct-Form I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Numerator: [1x10 doubl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Denominator: [1x10 doubl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oeff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oeffAutoScale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Signed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Input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InputFracLength: 15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utput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utputFracLength: 15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roductMode: 'FullPrecision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ccumMode: 'KeepMSB'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ccumWordLength: 40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astBeforeSum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RoundMode: 'convergent'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verflowMode: 'wrap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6000" y="1989000"/>
            <a:ext cx="2519280" cy="21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19640" y="1700280"/>
            <a:ext cx="352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efficients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557360"/>
            <a:ext cx="8497800" cy="120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1 = copy(H); % Keep a copy of the origin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H1,'Arithmetic','fixed','CoeffWordLength',1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 Use 12 bits for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51840" y="3500280"/>
            <a:ext cx="4234680" cy="257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H1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ilterStructure: 'Direct-Form I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Numerator: [1x10 doubl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Denominator: [1x10 doubl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WordLength: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2360" y="5734080"/>
            <a:ext cx="2592360" cy="358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nite wordlength effect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 custom fixed-point implementations of digital filters, such as VLSI or FPGA implementations, t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duction of accurac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aves in chip area and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ncreases processing spee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s reduction requires analysis and optimization of t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nite wordlength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properti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efficient quantiz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ounding or truncation of intermediate result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rithmetic overflow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25560" y="2349360"/>
            <a:ext cx="5410440" cy="4276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lot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5240" y="1766880"/>
            <a:ext cx="731304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hfvt, 'Filters', [H, H1],'ShowReference','off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13680" y="2565360"/>
            <a:ext cx="2622240" cy="397080"/>
          </a:xfrm>
          <a:prstGeom prst="wedgeRoundRectCallout">
            <a:avLst>
              <a:gd name="adj1" fmla="val -107101"/>
              <a:gd name="adj2" fmla="val 269018"/>
              <a:gd name="adj3" fmla="val 16667"/>
            </a:avLst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responses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enerate input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88480" y="1766880"/>
            <a:ext cx="5941440" cy="2454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1 = 102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0:n1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1 = 1/8; f2 = 340/102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 = 1/(2^4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Am*sin(2*pi*f1*k) + Am*sin(2*pi*f2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in = fi(x,true,64,6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14320" y="5730840"/>
            <a:ext cx="6325560" cy="792360"/>
          </a:xfrm>
          <a:prstGeom prst="wedgeRoundRectCallout">
            <a:avLst>
              <a:gd name="adj1" fmla="val -58995"/>
              <a:gd name="adj2" fmla="val -239462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turns a fixed-point object with valu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igne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ord length 64, and fraction length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duct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8160" y="1341360"/>
            <a:ext cx="7861680" cy="78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2 = copy(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H2,'ProductMode','KeepMSB','ProductWordLength', 14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97920" y="2276640"/>
            <a:ext cx="4127760" cy="452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H2 = FilterStructure: 'Direct-Form I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Numerator: [1x10 doubl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Denominator: [1x10 doubl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WordLength: 32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AutoScale: true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igned: true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putWordLength: 16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putFracLength: 15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OutputWordLength: 16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OutputFracLength: 15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ductMode: 'KeepMSB'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ductWordLength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6443640"/>
            <a:ext cx="2592360" cy="358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cessing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9320" y="3873600"/>
            <a:ext cx="2923920" cy="78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1 = filter(H,x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2 = filter(H2,x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492360" y="1268280"/>
            <a:ext cx="54104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pectrum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66960" y="1484280"/>
            <a:ext cx="5410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chematic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410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nite wordlength effects analysis example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IR direct-form II filt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al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5480" y="3071880"/>
            <a:ext cx="5301360" cy="101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H = dfilt.df2(b,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et(H,'Arithmetic','fixed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4200" y="1484280"/>
            <a:ext cx="3032640" cy="397080"/>
          </a:xfrm>
          <a:prstGeom prst="wedgeRoundRectCallout">
            <a:avLst>
              <a:gd name="adj1" fmla="val 20013"/>
              <a:gd name="adj2" fmla="val 344564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direct-form II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3320" y="5734080"/>
            <a:ext cx="3345480" cy="397080"/>
          </a:xfrm>
          <a:prstGeom prst="wedgeRoundRectCallout">
            <a:avLst>
              <a:gd name="adj1" fmla="val 73000"/>
              <a:gd name="adj2" fmla="val -463949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fixed-point arithme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82360" y="1413000"/>
            <a:ext cx="3564000" cy="527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H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FilterStructure: 'Direct-Form II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Numerator: [1x10 doubl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Denominator: [1x10 doubl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oeff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oeffAutoScale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Signed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Input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InputFracLength: 15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utput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utputFracLength: 15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roductMode: 'FullPrecision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ccumMode: 'KeepMSB'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ccumWordLength: 40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astBeforeSum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RoundMode: 'convergent'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verflowMode: 'wrap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6000" y="1989000"/>
            <a:ext cx="2519280" cy="21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1700280"/>
            <a:ext cx="352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cessing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9320" y="3873600"/>
            <a:ext cx="2923920" cy="78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1 = filter(H,x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2 = filter(H2,x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54280" y="1647720"/>
            <a:ext cx="54104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pectrum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866960" y="1574640"/>
            <a:ext cx="5410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efficient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use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coefficient sensitivit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to denote the sensitivity of the transfer function (or frequency response, or magnitude response, or phase response) to its coefficients or parame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Quantized filter coefficient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ake the transfer function different from the ideal one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with infinite-precision coefficient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differences can be predicted by the coefficient sensitivity analysis of a filt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chematic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66960" y="1574640"/>
            <a:ext cx="5410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flow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866960" y="1574640"/>
            <a:ext cx="5410080" cy="4734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62080" y="1484280"/>
            <a:ext cx="2830320" cy="989640"/>
          </a:xfrm>
          <a:prstGeom prst="wedgeRoundRectCallout">
            <a:avLst>
              <a:gd name="adj1" fmla="val 109555"/>
              <a:gd name="adj2" fmla="val 274472"/>
              <a:gd name="adj3" fmla="val 16667"/>
            </a:avLst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Overflow occurs w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input signal h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arg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imit cycl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866960" y="1503360"/>
            <a:ext cx="5410080" cy="4734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069880" y="6165720"/>
            <a:ext cx="3884040" cy="368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cture17IIRdf2limitcycle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ad band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866960" y="1484280"/>
            <a:ext cx="5410080" cy="4734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0600" y="6165720"/>
            <a:ext cx="36097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cture17IIRdf2deadband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alizations v. s.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ny filter realizations can be found for a given transfer fun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 we assume that the coefficients are exact, all realizations exhibit the same performanc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 coefficients are quantized then performances of the realized filter can differ from the performances of the filter with exact coeffici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arious filter realizations have different amount of degradation after coefficient quantiz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scade v. s. allpass IIR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4000680" cy="2667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3971880" cy="2657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610080" y="5734080"/>
            <a:ext cx="1923840" cy="504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124080" y="1773360"/>
            <a:ext cx="2895840" cy="647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1280" y="5805360"/>
            <a:ext cx="18730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cade re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5280" y="5775480"/>
            <a:ext cx="18730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lpass  re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Pole location for quantized coefficients 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6200" y="5805360"/>
            <a:ext cx="187344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rect form re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5775480"/>
            <a:ext cx="187344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sari-Liu  re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03440" y="2133720"/>
            <a:ext cx="3076560" cy="2904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48360" y="2108160"/>
            <a:ext cx="3009960" cy="2905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022400" y="5157720"/>
            <a:ext cx="2685960" cy="362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075280" y="5157720"/>
            <a:ext cx="3457440" cy="3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flow arithmetic operation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fixed-point arithmetic the result of an arithmetic operation (for example, adding) can exceed the allowed range of numeric values which we call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overflow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n, a new value from allowed range of numbers must be used for representing the resul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In practice, two rules of replacements are used: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24160" y="2046240"/>
            <a:ext cx="6295680" cy="3038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0720" y="5348160"/>
            <a:ext cx="55314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 the result of an arithmetic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1680" y="6089760"/>
            <a:ext cx="71089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 the number that belongs to the permitted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MIROSLAV</cp:lastModifiedBy>
  <dcterms:modified xsi:type="dcterms:W3CDTF">2005-04-12T23:35:05Z</dcterms:modified>
  <cp:revision>568</cp:revision>
  <dc:subject>Analog and Digital  Filter Design</dc:subject>
  <dc:title>Finite precision effects</dc:title>
</cp:coreProperties>
</file>