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403-0CF6-4A71-9526-C826BB24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8F6-FBC0-44AB-9303-8C26259B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739-EEAC-47C4-96EA-648EDDC2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408-0616-46F9-AEAC-68A53A49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535-7D08-49F0-9B2E-7BAB1CAA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405-594D-4B1B-A921-02318039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803-9F7B-4F80-8A9E-0ACDF8F1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985-1978-4278-81ED-068ECF3A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79A-EE00-42AC-BECD-E6DD1C56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6CD-DEBE-405D-84BF-CB47AFA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F84-EBB1-484D-AB7D-E134F267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FE8-4CDC-49FA-B703-39B9A2F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D463-2A20-440A-9E6B-FD39F510F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igital filter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R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nn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mm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lackma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quiripple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of FIR filters can be accomplished throug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v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tho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iterative method is known as the weighted-Chebyshev method; an error function is formulated in terms of linear combination of cosine functions and is then minimized by using a very efficient multivariable optimization algorithm known as the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Reme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xchange algorith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convergence is achieved, the error function becom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plitude of the error in different frequency bands is controlled by applyin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ight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error fun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80000" y="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65520" y="4413240"/>
          <a:ext cx="4543560" cy="240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4413240"/>
                    <a:ext cx="45435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16000" y="61326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mez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esigns a linear-phase FIR filter using th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rks-McClell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gorith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24360" y="404280"/>
            <a:ext cx="15937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strained Equiripple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firceqrip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4552920" y="4467240"/>
          <a:ext cx="4591080" cy="23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2920" y="4467240"/>
                    <a:ext cx="45910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east squares and related techniqu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ed on approach of minimizing, in some specified manner, the mean squared error between the transfer function of the filter and the frequency characteristics of a desired filter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 approaches exist: unweighted list squares, frequency sampling, weighted list squares, and eigen filter metho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80360" y="-360"/>
            <a:ext cx="1512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square linear-phase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562640" y="4457880"/>
          <a:ext cx="4581360" cy="24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2640" y="4457880"/>
                    <a:ext cx="45813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3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square linear-phase FIR filter design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r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920" y="13176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th-norm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495680" y="4476600"/>
          <a:ext cx="46483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476600"/>
                    <a:ext cx="46483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33920" y="5876640"/>
            <a:ext cx="2601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aximally fl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54000"/>
            <a:ext cx="7410600" cy="6039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FIR Butterworth filter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xfl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desig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ing Filter Design Toolbo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filt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is characterized by a unit sample response that has a finite dur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 advantage of FIR filters compared to IIR counterparts is that FIR filters can be designed with exactly linear pha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hase is important for applications where phase distortion due to nonlinear phase can degrade performance (e.g., data transmission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of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indowing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quiripple 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ast squares and related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rogramming (LP) and mixed integer linear programming (MILP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utationally efficient FIR filters using periodic subfilters as building block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indowing techniq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of the earliest 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efficients can be obtained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sed 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is no need for solving complex optimization probl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st frequently used window functions are Bartlett, Hann, Hamming, Blackman, and Kais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17269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0920" y="0"/>
          <a:ext cx="7093080" cy="677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709308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0" y="4365720"/>
            <a:ext cx="1368360" cy="2421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869000"/>
            <a:ext cx="165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ilter Design Toolbox window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89520" y="1052640"/>
          <a:ext cx="421956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1052640"/>
                    <a:ext cx="421956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9280" y="177336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ain role of the window is to damp out the effects of the Gibbs phenomenon that results from truncation of an infinit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Kais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rtlet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4-29T01:15:25Z</dcterms:modified>
  <cp:revision>217</cp:revision>
  <dc:subject>Analog and Digital  Filter Design</dc:subject>
  <dc:title>Digital filters, FIR filter design</dc:title>
</cp:coreProperties>
</file>